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481-7BC7-41B9-86C9-FC0DB486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E60-AC70-4856-9654-861FBA6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A53-B0E3-4AE9-B377-7FE3C43B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0C7-F3AD-4003-A973-BB14FC3D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A45-5709-4007-A9DE-E1B10607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039-2FAF-4024-BBA8-1FD9A49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A78-74F1-43CD-8BC4-88DA961F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160-48CA-4EDE-B0E1-A2CBACD8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ED2-264B-4095-B69B-9DD23330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D93-7902-4592-91FE-1B6B97F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835-8C2E-4568-A020-D34CBDD2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4D0-4F44-4307-B4BE-7D13BD4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E16-4F53-4F50-A577-247C2957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324000" y="260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西师大版六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08000" y="249228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试   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5"/>
          <p:cNvGrpSpPr/>
          <p:nvPr/>
        </p:nvGrpSpPr>
        <p:grpSpPr>
          <a:xfrm>
            <a:off x="150840" y="0"/>
            <a:ext cx="3492000" cy="1842840"/>
            <a:chOff x="150840" y="0"/>
            <a:chExt cx="3492000" cy="1842840"/>
          </a:xfrm>
        </p:grpSpPr>
        <p:sp>
          <p:nvSpPr>
            <p:cNvPr id="75" name="AutoShape 14"/>
            <p:cNvSpPr/>
            <p:nvPr/>
          </p:nvSpPr>
          <p:spPr>
            <a:xfrm>
              <a:off x="150840" y="0"/>
              <a:ext cx="34920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8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77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Rectangle 19"/>
            <p:cNvSpPr/>
            <p:nvPr/>
          </p:nvSpPr>
          <p:spPr>
            <a:xfrm>
              <a:off x="729360" y="457920"/>
              <a:ext cx="97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阅读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22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81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Rectangle 23"/>
            <p:cNvSpPr/>
            <p:nvPr/>
          </p:nvSpPr>
          <p:spPr>
            <a:xfrm>
              <a:off x="952560" y="457920"/>
              <a:ext cx="156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探究性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2"/>
          <p:cNvSpPr/>
          <p:nvPr/>
        </p:nvSpPr>
        <p:spPr>
          <a:xfrm>
            <a:off x="611280" y="1989000"/>
            <a:ext cx="7777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从孙中山的两次说话中你体会到了什么？说说你对孙中山和宋庆龄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多次写到宋庆龄的笑，请用“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—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画出来，有感情的读一读，你从中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有精彩的场面描写，找出来读一读，从这些场面描写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book10"/>
          <p:cNvPicPr/>
          <p:nvPr/>
        </p:nvPicPr>
        <p:blipFill>
          <a:blip r:embed="rId5"/>
          <a:stretch/>
        </p:blipFill>
        <p:spPr>
          <a:xfrm>
            <a:off x="7072200" y="357120"/>
            <a:ext cx="16002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3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428760" y="0"/>
            <a:ext cx="4518720" cy="2214360"/>
            <a:chOff x="428760" y="0"/>
            <a:chExt cx="4518720" cy="2214360"/>
          </a:xfrm>
        </p:grpSpPr>
        <p:sp>
          <p:nvSpPr>
            <p:cNvPr id="88" name="AutoShape 7"/>
            <p:cNvSpPr/>
            <p:nvPr/>
          </p:nvSpPr>
          <p:spPr>
            <a:xfrm>
              <a:off x="428760" y="0"/>
              <a:ext cx="443124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428760" y="0"/>
              <a:ext cx="4416840" cy="2201760"/>
              <a:chOff x="428760" y="0"/>
              <a:chExt cx="4416840" cy="2201760"/>
            </a:xfrm>
          </p:grpSpPr>
          <p:pic>
            <p:nvPicPr>
              <p:cNvPr id="90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Rectangle 12"/>
            <p:cNvSpPr/>
            <p:nvPr/>
          </p:nvSpPr>
          <p:spPr>
            <a:xfrm>
              <a:off x="1294560" y="550440"/>
              <a:ext cx="97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阅读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428760" y="0"/>
              <a:ext cx="4518720" cy="2201760"/>
              <a:chOff x="428760" y="0"/>
              <a:chExt cx="4518720" cy="2201760"/>
            </a:xfrm>
          </p:grpSpPr>
          <p:pic>
            <p:nvPicPr>
              <p:cNvPr id="94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000" y="0"/>
                <a:ext cx="4416480" cy="220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Rectangle 16"/>
            <p:cNvSpPr/>
            <p:nvPr/>
          </p:nvSpPr>
          <p:spPr>
            <a:xfrm>
              <a:off x="999000" y="550440"/>
              <a:ext cx="3103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zh-CN" sz="4800" spc="-1" strike="noStrike">
                  <a:solidFill>
                    <a:srgbClr val="ff0000"/>
                  </a:solidFill>
                  <a:latin typeface="Calibri"/>
                </a:rPr>
                <a:t>导学归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2"/>
          <p:cNvSpPr/>
          <p:nvPr/>
        </p:nvSpPr>
        <p:spPr>
          <a:xfrm>
            <a:off x="714240" y="285840"/>
            <a:ext cx="408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00" descr="D:\图片1\眼睛.gif"/>
          <p:cNvPicPr/>
          <p:nvPr/>
        </p:nvPicPr>
        <p:blipFill>
          <a:blip r:embed="rId6"/>
          <a:stretch/>
        </p:blipFill>
        <p:spPr>
          <a:xfrm>
            <a:off x="7667640" y="836640"/>
            <a:ext cx="914400" cy="522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611280" y="2852640"/>
            <a:ext cx="74880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完课文，你有什么收获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从内容上我知道了：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从写作方法上我学会了：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8"/>
          <p:cNvGrpSpPr/>
          <p:nvPr/>
        </p:nvGrpSpPr>
        <p:grpSpPr>
          <a:xfrm>
            <a:off x="428760" y="0"/>
            <a:ext cx="4518720" cy="2214360"/>
            <a:chOff x="428760" y="0"/>
            <a:chExt cx="4518720" cy="2214360"/>
          </a:xfrm>
        </p:grpSpPr>
        <p:sp>
          <p:nvSpPr>
            <p:cNvPr id="101" name="AutoShape 7"/>
            <p:cNvSpPr/>
            <p:nvPr/>
          </p:nvSpPr>
          <p:spPr>
            <a:xfrm>
              <a:off x="428760" y="0"/>
              <a:ext cx="443124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1"/>
            <p:cNvGrpSpPr/>
            <p:nvPr/>
          </p:nvGrpSpPr>
          <p:grpSpPr>
            <a:xfrm>
              <a:off x="428760" y="0"/>
              <a:ext cx="4416840" cy="2201760"/>
              <a:chOff x="428760" y="0"/>
              <a:chExt cx="4416840" cy="2201760"/>
            </a:xfrm>
          </p:grpSpPr>
          <p:pic>
            <p:nvPicPr>
              <p:cNvPr id="103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Rectangle 12"/>
            <p:cNvSpPr/>
            <p:nvPr/>
          </p:nvSpPr>
          <p:spPr>
            <a:xfrm>
              <a:off x="1294560" y="550440"/>
              <a:ext cx="97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阅读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5"/>
            <p:cNvGrpSpPr/>
            <p:nvPr/>
          </p:nvGrpSpPr>
          <p:grpSpPr>
            <a:xfrm>
              <a:off x="428760" y="0"/>
              <a:ext cx="4518720" cy="2201760"/>
              <a:chOff x="428760" y="0"/>
              <a:chExt cx="4518720" cy="2201760"/>
            </a:xfrm>
          </p:grpSpPr>
          <p:pic>
            <p:nvPicPr>
              <p:cNvPr id="107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60" y="0"/>
                <a:ext cx="4416840" cy="22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000" y="0"/>
                <a:ext cx="4416480" cy="220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6"/>
            <p:cNvSpPr/>
            <p:nvPr/>
          </p:nvSpPr>
          <p:spPr>
            <a:xfrm>
              <a:off x="999000" y="550440"/>
              <a:ext cx="34286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zh-CN" sz="4800" spc="-1" strike="noStrike">
                  <a:solidFill>
                    <a:srgbClr val="ff0000"/>
                  </a:solidFill>
                  <a:latin typeface="Calibri"/>
                </a:rPr>
                <a:t>梳理与反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2"/>
          <p:cNvSpPr/>
          <p:nvPr/>
        </p:nvSpPr>
        <p:spPr>
          <a:xfrm>
            <a:off x="714240" y="285840"/>
            <a:ext cx="408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39640" y="2492280"/>
            <a:ext cx="770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试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篇课文按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顺序，抓住人物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赞扬了宋庆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---------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如果你是试飞现场的一名记者，你最想捕捉到那一个镜头？并为你的镜头配上题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精彩的场面描写能增强文章的表达效果，请选择生活中的一个活动镜头写下来，注意抓住场面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5"/>
          <p:cNvGrpSpPr/>
          <p:nvPr/>
        </p:nvGrpSpPr>
        <p:grpSpPr>
          <a:xfrm>
            <a:off x="150840" y="0"/>
            <a:ext cx="3492000" cy="1842840"/>
            <a:chOff x="150840" y="0"/>
            <a:chExt cx="3492000" cy="1842840"/>
          </a:xfrm>
        </p:grpSpPr>
        <p:sp>
          <p:nvSpPr>
            <p:cNvPr id="45" name="AutoShape 14"/>
            <p:cNvSpPr/>
            <p:nvPr/>
          </p:nvSpPr>
          <p:spPr>
            <a:xfrm>
              <a:off x="150840" y="0"/>
              <a:ext cx="34920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8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47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Rectangle 19"/>
            <p:cNvSpPr/>
            <p:nvPr/>
          </p:nvSpPr>
          <p:spPr>
            <a:xfrm>
              <a:off x="729360" y="457920"/>
              <a:ext cx="97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阅读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2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51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Rectangle 23"/>
            <p:cNvSpPr/>
            <p:nvPr/>
          </p:nvSpPr>
          <p:spPr>
            <a:xfrm>
              <a:off x="952560" y="457920"/>
              <a:ext cx="156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探究性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4"/>
          <p:cNvSpPr/>
          <p:nvPr/>
        </p:nvSpPr>
        <p:spPr>
          <a:xfrm>
            <a:off x="611280" y="1989000"/>
            <a:ext cx="7777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从孙中山的两次说话中你体会到了什么？说说你对孙中山和宋庆龄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多次写到宋庆龄的笑，请用“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—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画出来，有感情地读一读，你从中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有精彩的场面描写，找出来读一读，从这些场面描写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404640"/>
            <a:ext cx="85676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总统，这太危险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飞行员一样危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这毕竟是试飞，能不能换一个人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然，‘万一’是存在的，夫人已经做好了准备，她说‘万一失事也是值得的，因为这是我们自己制造的飞机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68360" y="342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150840" y="0"/>
            <a:ext cx="3492000" cy="1842840"/>
            <a:chOff x="150840" y="0"/>
            <a:chExt cx="3492000" cy="1842840"/>
          </a:xfrm>
        </p:grpSpPr>
        <p:sp>
          <p:nvSpPr>
            <p:cNvPr id="58" name="AutoShape 14"/>
            <p:cNvSpPr/>
            <p:nvPr/>
          </p:nvSpPr>
          <p:spPr>
            <a:xfrm>
              <a:off x="150840" y="0"/>
              <a:ext cx="34920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8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60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Rectangle 19"/>
            <p:cNvSpPr/>
            <p:nvPr/>
          </p:nvSpPr>
          <p:spPr>
            <a:xfrm>
              <a:off x="729360" y="457920"/>
              <a:ext cx="97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阅读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2"/>
            <p:cNvGrpSpPr/>
            <p:nvPr/>
          </p:nvGrpSpPr>
          <p:grpSpPr>
            <a:xfrm>
              <a:off x="150840" y="0"/>
              <a:ext cx="3480840" cy="1832400"/>
              <a:chOff x="150840" y="0"/>
              <a:chExt cx="3480840" cy="1832400"/>
            </a:xfrm>
          </p:grpSpPr>
          <p:pic>
            <p:nvPicPr>
              <p:cNvPr id="64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840" y="0"/>
                <a:ext cx="3480840" cy="183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Rectangle 23"/>
            <p:cNvSpPr/>
            <p:nvPr/>
          </p:nvSpPr>
          <p:spPr>
            <a:xfrm>
              <a:off x="952560" y="457920"/>
              <a:ext cx="156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探究性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2"/>
          <p:cNvSpPr/>
          <p:nvPr/>
        </p:nvSpPr>
        <p:spPr>
          <a:xfrm>
            <a:off x="611280" y="1989000"/>
            <a:ext cx="7777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从孙中山的两次说话中你体会到了什么？说说你对孙中山和宋庆龄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多次写到宋庆龄的笑，请用“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—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画出来，有感情地读一读，你从中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_GB2312"/>
              </a:rPr>
              <a:t>课文中有精彩的场面描写，找出来读一读，从这些场面描写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ok10"/>
          <p:cNvPicPr/>
          <p:nvPr/>
        </p:nvPicPr>
        <p:blipFill>
          <a:blip r:embed="rId5"/>
          <a:stretch/>
        </p:blipFill>
        <p:spPr>
          <a:xfrm>
            <a:off x="7072200" y="357120"/>
            <a:ext cx="16002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155736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人们劝说孙中山的时候，宋庆龄和黄光锐已经登上了没有舱盖的机舱，人们看到黄光锐帮夫人系好安全带，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夫人微微笑了笑，挥手向人们致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11280" y="155736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飞机在机场上空盘旋两圈后，突然拔高，朝碧空飞去。只见飞机像一只雄鹰在空中做出各种特技表演动作：俯冲、后翻、拔高、侧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飞机冲向低空时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人们还能清晰的看到宋庆龄微笑着向人们招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332000" y="162864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宋庆龄和黄光锐一起走向飞机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她谈笑自如，亲切的向大家招手致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此时此刻，人们觉得宋庆龄更加美丽了。许多中外记者把摄像机镜头对准了走下飞机的宋庆龄和黄光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042920" y="2133720"/>
            <a:ext cx="66247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宋庆龄激动地抓住孙中山的双臂，兴奋地说：“先生，我们有了自己制造的飞机！自己的！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2276640"/>
            <a:ext cx="66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宋庆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激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抓住孙中山的双臂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兴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说：“先生，我们有了自己制造的飞机！自己的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0:48:32Z</dcterms:created>
  <dc:creator/>
  <dc:description/>
  <dc:language>en-US</dc:language>
  <cp:lastModifiedBy>Administrator</cp:lastModifiedBy>
  <dcterms:modified xsi:type="dcterms:W3CDTF">2016-12-12T06:28:24Z</dcterms:modified>
  <cp:revision>1</cp:revision>
  <dc:subject/>
  <dc:title/>
</cp:coreProperties>
</file>