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coin.wav" ContentType="audio/x-wav"/>
  <Override PartName="/ppt/media/image4.png" ContentType="image/png"/>
  <Override PartName="/ppt/media/image8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A16-4FB9-49E8-8184-C9C61ADD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780-6E50-4804-9FBA-7C5BA375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E10-641F-47D2-B864-DDB31257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C6B-7989-4C84-8691-F7D913BF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913-D4ED-45A1-ADC3-C3A00475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C16-67CC-4784-802E-775BA163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C2F-AF9C-4A2B-9914-B1A4F248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6EA-723D-4435-8AB7-B4B08F71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042-66EA-4100-8F8E-6B28B61C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053-13EA-443D-8D99-6AE40C4F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449-C3D9-4B30-9C64-3A884C2D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7F6-7A29-4654-8A08-FFEAF247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6936-7D09-4F72-84DF-30CECB3168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u=2978721855,3302369038&amp;fm=0&amp;gp=0"/>
          <p:cNvPicPr/>
          <p:nvPr/>
        </p:nvPicPr>
        <p:blipFill>
          <a:blip r:embed="rId1"/>
          <a:stretch/>
        </p:blipFill>
        <p:spPr>
          <a:xfrm>
            <a:off x="3273480" y="3932280"/>
            <a:ext cx="2919240" cy="434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2176560" y="2066760"/>
            <a:ext cx="29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3270240" y="1892160"/>
            <a:ext cx="33098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提灯女神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11280" y="7160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68"/>
                </a:solidFill>
                <a:latin typeface="Arial"/>
              </a:rPr>
              <a:t>西师大版语文十一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077920" y="2039760"/>
            <a:ext cx="646200" cy="5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8533800" y="595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oi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1065240" y="6206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家人反对是因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43680" y="1773360"/>
            <a:ext cx="615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</a:rPr>
              <a:t>因为南丁格尔出身贵族，父母希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</a:rPr>
              <a:t>她能从事高雅的职业，在文学和音乐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</a:rPr>
              <a:t>面有所建树，而护士在当时是个让人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</a:rPr>
              <a:t>不起的职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8318520" y="6237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3680" y="1773360"/>
            <a:ext cx="115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-957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时的护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-104760" y="549360"/>
            <a:ext cx="90694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在当时英国贵族的观念中，与各式各样的病人打交道，是非常肮脏而危险的。人们对于医院、护士这样的字眼避而不谈，认为这是很可怕的事情。那个时代，做护士的都是些没有文化、地位低下的妇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813440" y="6308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03680" y="1773360"/>
            <a:ext cx="115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79280" y="765000"/>
            <a:ext cx="90010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南丁格尔有一个坚定的信念，她认为，一个人若是能用自己的劳动减轻别人的痛苦，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使他们的身体恢复健康，就是人生最大的幸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08000" y="4508640"/>
            <a:ext cx="96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这句反映了南丁格尔的幸福观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从中感受到她的崇高和伟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8102520" y="5661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什么南丁格尔要选择做护士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25440" y="1343160"/>
            <a:ext cx="87836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5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因为她有坚定的信念——一个人若是能用自己的劳动去减轻别人的痛苦，使他们的身体恢复健康，就是人生最大的幸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因为她热爱护士的工作：精心照顾小动物、用生命和爱心照顾伤病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173800" y="6093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52360" y="1422720"/>
            <a:ext cx="864072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当时，前线医院的条件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十分恶劣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，所有的走廊都开设成了病房。病床一个挨一个，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拥挤不堪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，墙壁与地板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沾满血迹和污渍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臭气熏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天。晴天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灰尘飞扬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，雨天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满地泥浆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老鼠成群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到处流窜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54160" y="537372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表现出前线医院条件的恶劣，为下文做铺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958880" y="6093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252360" y="2293920"/>
            <a:ext cx="8640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-33480" y="333360"/>
            <a:ext cx="9139320" cy="30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她协助医生做手术，为伤员清洗伤口，替士兵写信，安慰重伤员，调整饮食，清洗衣物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她把伤病员的生命看的比自己的生命还宝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4365720"/>
            <a:ext cx="9180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场面描写使南丁格尔献身工作的形象更加丰满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03088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12720" y="2328120"/>
            <a:ext cx="82803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333399"/>
                </a:solidFill>
                <a:latin typeface="黑体"/>
                <a:ea typeface="黑体"/>
              </a:rPr>
              <a:t>一个人若是能用自己的劳动去减轻别人的痛苦，使他们的身体恢复健康，就是人生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最大的幸福</a:t>
            </a:r>
            <a:r>
              <a:rPr b="1" lang="zh-CN" sz="54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886520" y="6021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324000" y="8294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她把伤员的生命看得比自己的生命还宝贵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96720" y="2708280"/>
            <a:ext cx="87836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让我们看到了一个有高度责任感、勇敢、忘我工作的南丁格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886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36360" y="260280"/>
            <a:ext cx="91076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夜幕降临后，她还提着一盏小小的油灯，沿着崎岖的小路，在病区巡回，逐床查看伤病员。她那修长美丽的身影映照在墙上，许多士兵以亲吻她的身影来表示对她的敬意，并尊称他为“提灯女神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8000" y="4005360"/>
            <a:ext cx="9144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（说明了提灯女神这个称呼的来历，“提灯女神”表达了伤病员对南丁格尔的敬爱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813440" y="6308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IMAG1261015568259333"/>
          <p:cNvPicPr/>
          <p:nvPr/>
        </p:nvPicPr>
        <p:blipFill>
          <a:blip r:embed="rId1"/>
          <a:stretch/>
        </p:blipFill>
        <p:spPr>
          <a:xfrm>
            <a:off x="1962000" y="1627200"/>
            <a:ext cx="3621240" cy="6357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674640" y="620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68"/>
                </a:solidFill>
                <a:latin typeface="Arial"/>
              </a:rPr>
              <a:t>克里米亚战争中的南丁格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588000" y="1125360"/>
            <a:ext cx="2376720" cy="3141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南丁格尔来到前线救护后，伤员的死亡率由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40%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下降到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2%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oi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492000" y="301320"/>
            <a:ext cx="88203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南丁格尔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20—19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英国护理学家，现代护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职业创始人，国际红十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创始人之一。克里米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争结束后，她长期在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度英国贫民区从事医疗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南丁格尔2"/>
          <p:cNvPicPr/>
          <p:nvPr/>
        </p:nvPicPr>
        <p:blipFill>
          <a:blip r:embed="rId1"/>
          <a:stretch/>
        </p:blipFill>
        <p:spPr>
          <a:xfrm>
            <a:off x="884160" y="566640"/>
            <a:ext cx="2382840" cy="5773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189080" y="3716280"/>
            <a:ext cx="734544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工作。生前曾获英王爱德华八世授予的荣誉勋章、德国十字勋章等。她逝世后，为了表示对她的敬仰，世人把她的生日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）定为国际护士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533800" y="595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oin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白衣天使的来历与含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因为护士身穿白衣，圣洁美丽，为病人带去温暖、爱意和美丽，甘于奉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7813440" y="6308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66"/>
                </a:solidFill>
                <a:latin typeface="Arial"/>
                <a:ea typeface="黑体"/>
              </a:rPr>
              <a:t>南丁格尔的主要贡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15400" y="1844640"/>
            <a:ext cx="467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6666"/>
                </a:solidFill>
                <a:latin typeface="黑体"/>
                <a:ea typeface="黑体"/>
              </a:rPr>
              <a:t>．改革军队的卫生保健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898640" y="3286080"/>
            <a:ext cx="50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6666"/>
                </a:solidFill>
                <a:latin typeface="黑体"/>
                <a:ea typeface="黑体"/>
              </a:rPr>
              <a:t>．创建世界上第一所护士学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68360" y="4437000"/>
            <a:ext cx="854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6666"/>
                </a:solidFill>
                <a:latin typeface="黑体"/>
                <a:ea typeface="黑体"/>
              </a:rPr>
              <a:t>．撰写大量关于医护工作的文章和教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7813440" y="6308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692360" y="1343160"/>
            <a:ext cx="748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黑体"/>
              </a:rPr>
              <a:t>关于南丁格尔奖章，你都有哪些了解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黑体"/>
              </a:rPr>
              <a:t>你知道关于我国的南丁格尔奖章的情况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7958160" y="5518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xinsrc_6f63c7e8b78f4f768a218ef2e1004ffd"/>
          <p:cNvPicPr/>
          <p:nvPr/>
        </p:nvPicPr>
        <p:blipFill>
          <a:blip r:embed="rId1"/>
          <a:stretch/>
        </p:blipFill>
        <p:spPr>
          <a:xfrm>
            <a:off x="2057400" y="1676520"/>
            <a:ext cx="3641760" cy="4267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4"/>
          <p:cNvSpPr/>
          <p:nvPr/>
        </p:nvSpPr>
        <p:spPr>
          <a:xfrm>
            <a:off x="228600" y="2590920"/>
            <a:ext cx="2057400" cy="1371600"/>
          </a:xfrm>
          <a:prstGeom prst="wedgeEllipseCallout">
            <a:avLst>
              <a:gd name="adj1" fmla="val 94828"/>
              <a:gd name="adj2" fmla="val 11168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ahoma"/>
              </a:rPr>
              <a:t>南丁格尔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866680" y="2430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Verdana"/>
              </a:rPr>
              <a:t>南丁格尔奖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72200" y="2133720"/>
            <a:ext cx="2590920" cy="2895480"/>
          </a:xfrm>
          <a:prstGeom prst="wedgeRoundRectCallout">
            <a:avLst>
              <a:gd name="adj1" fmla="val -73222"/>
              <a:gd name="adj2" fmla="val -87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作为各国优秀护士的最高荣誉奖，每两年颁发一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813440" y="6021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oin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1219320" y="3808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Verdana"/>
              </a:rPr>
              <a:t>我国南丁格尔奖章获得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6aed01b4ca855b0ae51332e"/>
          <p:cNvPicPr/>
          <p:nvPr/>
        </p:nvPicPr>
        <p:blipFill>
          <a:blip r:embed="rId1"/>
          <a:stretch/>
        </p:blipFill>
        <p:spPr>
          <a:xfrm>
            <a:off x="6948360" y="3068640"/>
            <a:ext cx="2016360" cy="2664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324000" y="134136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自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98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迄今，我国已有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5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位护士荣获南丁格尔奖章。第一个获得者——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王琇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中华护理学会荣誉理事长</a:t>
            </a:r>
            <a:r>
              <a:rPr b="0" lang="zh-CN" sz="4400" spc="-1" strike="noStrike">
                <a:solidFill>
                  <a:srgbClr val="99cc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030880" y="6021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oin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229600" cy="439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2003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年非典那年获得南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丁格尔奖章的我国有</a:t>
            </a:r>
            <a:r>
              <a:rPr b="1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名护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士，其中就包括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已殉职的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叶欣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91138622766e2ae0d7cae2d0"/>
          <p:cNvPicPr/>
          <p:nvPr/>
        </p:nvPicPr>
        <p:blipFill>
          <a:blip r:embed="rId1">
            <a:grayscl/>
          </a:blip>
          <a:stretch/>
        </p:blipFill>
        <p:spPr>
          <a:xfrm>
            <a:off x="5869080" y="2565360"/>
            <a:ext cx="2879640" cy="3808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8102520" y="6093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oin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92040" y="189000"/>
            <a:ext cx="942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提灯女神”指的是（      ）国的（           ），她是（             ）的创始人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91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国际红十字会决定设立（                  ），以表彰那些志愿献身护理学并作出卓越贡献的各国优秀护理工作者。为了表示对她的敬仰，世人把她的生日（     ）月（      ）日定为国际护士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321600" y="26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195200" y="98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南丁格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913720" y="981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现代护士职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275840" y="2421000"/>
            <a:ext cx="234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南丁格尔奖章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836720" y="4365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429440" y="44370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7886520" y="587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nightngale9"/>
          <p:cNvPicPr/>
          <p:nvPr/>
        </p:nvPicPr>
        <p:blipFill>
          <a:blip r:embed="rId1"/>
          <a:stretch/>
        </p:blipFill>
        <p:spPr>
          <a:xfrm>
            <a:off x="6066000" y="1212840"/>
            <a:ext cx="2676240" cy="80168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>
            <a:off x="0" y="1700280"/>
            <a:ext cx="5029200" cy="15127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南丁格尔献身护理事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终身未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826920" y="3141720"/>
            <a:ext cx="4800600" cy="19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1910</a:t>
            </a:r>
            <a:r>
              <a:rPr b="1" lang="zh-CN" sz="32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年南丁格尔逝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246320" y="795240"/>
            <a:ext cx="39621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南丁格尔墓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oin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WordArt 4" descr=""/>
          <p:cNvPicPr/>
          <p:nvPr/>
        </p:nvPicPr>
        <p:blipFill>
          <a:blip r:embed="rId1"/>
          <a:stretch/>
        </p:blipFill>
        <p:spPr>
          <a:xfrm>
            <a:off x="1176480" y="324000"/>
            <a:ext cx="5602320" cy="633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187280" y="765000"/>
            <a:ext cx="331344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18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手提一盏油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步轻轻地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过一个病房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一个病房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巡视的目光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这跳动的火苗一样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燃烧着关爱、细心和责任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不是一盏普通的油灯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你点燃的那一刻起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5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某个夜晚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就一直亮着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半世纪的岁月并不遥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昨天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些白衣天使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被你的光辉指引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平凡的日子里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雕刻时光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427640" y="1052640"/>
            <a:ext cx="333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随你的脚步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们在生命的田野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默耕耘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铲除疾病的荒草碎石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一点点播种下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和健康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辛劳和汗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诠释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敬业和奉献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盏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照亮每一间充满病痛的病房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照亮每一个病人的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丁格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字与精神一样不朽的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高高地站在世界屋脊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美的那一道风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457200" y="2286000"/>
            <a:ext cx="3733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6666"/>
                </a:solidFill>
                <a:latin typeface="Arial"/>
              </a:rPr>
              <a:t>年轻时的南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6666"/>
                </a:solidFill>
                <a:latin typeface="Arial"/>
              </a:rPr>
              <a:t>丁格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年輕時代的南丁格爾"/>
          <p:cNvPicPr/>
          <p:nvPr/>
        </p:nvPicPr>
        <p:blipFill>
          <a:blip r:embed="rId1"/>
          <a:stretch/>
        </p:blipFill>
        <p:spPr>
          <a:xfrm>
            <a:off x="5256360" y="1125360"/>
            <a:ext cx="2842920" cy="4172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8533800" y="595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oi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79280" y="1917360"/>
            <a:ext cx="482256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提灯女神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南丁格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50920" y="3141720"/>
            <a:ext cx="482256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也被誉为“光明的天使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提著油燈巡視病房"/>
          <p:cNvPicPr/>
          <p:nvPr/>
        </p:nvPicPr>
        <p:blipFill>
          <a:blip r:embed="rId1"/>
          <a:stretch/>
        </p:blipFill>
        <p:spPr>
          <a:xfrm>
            <a:off x="5796000" y="1852560"/>
            <a:ext cx="2557440" cy="3814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8533800" y="595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oi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-104760" y="476280"/>
            <a:ext cx="9715320" cy="65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药膏   歧视   污渍   崎岖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表彰  卓越  英镑  佛罗伦萨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歪歪扭扭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臭气熏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12720" y="5373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101080" y="220500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s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6560" y="1173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g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340000" y="117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q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10108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572000" y="220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b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50920" y="2133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zh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908000" y="220500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5364000" y="26028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z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8533800" y="595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395280" y="1052640"/>
            <a:ext cx="821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-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介绍南丁格尔的出生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部分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-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写南丁格尔毅然选择护士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业，在护士这个岗位上用自己的努力和生命、智慧和爱心作出杰出的贡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部分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写南丁格尔的影响以及人们纪念南丁格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533800" y="595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4360" y="-95400"/>
            <a:ext cx="269892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导学提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9001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通读课文，课文主要讲了南丁格尔的哪些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南丁格尔的家人为什么反对她做护士？南丁格尔不顾家人反对毅然选择护士这个职业的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从文中找出“提灯女神”和“白衣天使”这两个称呼的来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品读课文，说说文中那些语段最令你感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你认为南丁格尔是一个什么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南丁格尔的主要贡献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533800" y="595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67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67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67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67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3"/>
          <p:cNvSpPr/>
          <p:nvPr/>
        </p:nvSpPr>
        <p:spPr>
          <a:xfrm>
            <a:off x="7236000" y="5589720"/>
            <a:ext cx="898200" cy="647640"/>
          </a:xfrm>
          <a:custGeom>
            <a:avLst/>
            <a:gdLst>
              <a:gd name="textAreaLeft" fmla="*/ 41760 w 898200"/>
              <a:gd name="textAreaRight" fmla="*/ 856440 w 8982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9952" h="21600">
                <a:moveTo>
                  <a:pt x="0" y="0"/>
                </a:moveTo>
                <a:lnTo>
                  <a:pt x="29952" y="0"/>
                </a:lnTo>
                <a:lnTo>
                  <a:pt x="29952" y="21600"/>
                </a:lnTo>
                <a:lnTo>
                  <a:pt x="0" y="21600"/>
                </a:lnTo>
                <a:close/>
              </a:path>
              <a:path fill="lightenLess" w="29952" h="21600">
                <a:moveTo>
                  <a:pt x="0" y="0"/>
                </a:moveTo>
                <a:lnTo>
                  <a:pt x="29952" y="0"/>
                </a:lnTo>
                <a:lnTo>
                  <a:pt x="28552" y="1400"/>
                </a:lnTo>
                <a:lnTo>
                  <a:pt x="1400" y="1400"/>
                </a:lnTo>
                <a:close/>
              </a:path>
              <a:path fill="darken" w="29952" h="21600">
                <a:moveTo>
                  <a:pt x="29952" y="0"/>
                </a:moveTo>
                <a:lnTo>
                  <a:pt x="29952" y="21600"/>
                </a:lnTo>
                <a:lnTo>
                  <a:pt x="28552" y="20200"/>
                </a:lnTo>
                <a:lnTo>
                  <a:pt x="28552" y="1400"/>
                </a:lnTo>
                <a:close/>
              </a:path>
              <a:path fill="darkenLess" w="29952" h="21600">
                <a:moveTo>
                  <a:pt x="2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52" y="20200"/>
                </a:lnTo>
                <a:close/>
              </a:path>
              <a:path fill="lighten" w="2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52" h="21600">
                <a:moveTo>
                  <a:pt x="7970" y="10800"/>
                </a:moveTo>
                <a:lnTo>
                  <a:pt x="21982" y="3794"/>
                </a:lnTo>
                <a:lnTo>
                  <a:pt x="21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提灯女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58640" y="1600200"/>
            <a:ext cx="987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35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课文介绍了南丁格尔的哪些事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5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精心照料动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5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喜欢扮演护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5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毅然选择护士职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5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在前线照顾伤病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5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8102160" y="6165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oin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0" y="907920"/>
            <a:ext cx="8928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长大后的南丁格尔，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精通英、法、意、德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国语言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从法国巴黎大学毕业后，在选择职业时，她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放弃了豪华的生活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去医院当了一名护士。当时，护士这个职业是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让人看不起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，她的选择遭到了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全家人的反对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4000" y="26028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5" descr=""/>
          <p:cNvPicPr/>
          <p:nvPr/>
        </p:nvPicPr>
        <p:blipFill>
          <a:blip r:embed="rId1"/>
          <a:stretch/>
        </p:blipFill>
        <p:spPr>
          <a:xfrm>
            <a:off x="92160" y="103320"/>
            <a:ext cx="2101680" cy="536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9640" y="573408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中看出做这个决定不容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8533800" y="595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oin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0:37:48Z</dcterms:created>
  <dc:creator/>
  <dc:description/>
  <dc:language>en-US</dc:language>
  <cp:lastModifiedBy>Administrator</cp:lastModifiedBy>
  <cp:lastPrinted>1899-12-30T00:00:00Z</cp:lastPrinted>
  <dcterms:modified xsi:type="dcterms:W3CDTF">2016-12-12T06:18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