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chimes.wav" ContentType="audio/x-wav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DAB1-07C8-4805-AF23-6D804922A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233D-0BA6-456E-A866-486899F5B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D1A0-7118-4A5A-AC24-82C3AF4E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04E1-9C09-4D6B-8917-E8A63DB3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B95-7B1D-4190-A0C4-944C75DC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2DF-9FFD-4F0A-B282-16F65687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4B6-E7C2-40E7-8DAF-95249AF1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B64-1443-4580-87FC-ABA19E31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6F6-6E19-4029-B1D3-763D748A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321-14D2-40BB-BC71-0DEF05A3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47C-9C21-4343-9057-065BA307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B5F-D324-44CA-883A-4F831B8B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2F9-21FA-4C05-800E-46816B08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021-AAF3-47DD-A4CD-61476EC1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9D32-B2F7-487E-A0CD-3CB38A84F5BD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3"/>
          <p:cNvSpPr/>
          <p:nvPr/>
        </p:nvSpPr>
        <p:spPr>
          <a:xfrm>
            <a:off x="3419640" y="321300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华文中宋"/>
              </a:rPr>
              <a:t>矛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7"/>
          <p:cNvSpPr txBox="1"/>
          <p:nvPr/>
        </p:nvSpPr>
        <p:spPr>
          <a:xfrm>
            <a:off x="2987640" y="1484280"/>
            <a:ext cx="30942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古文两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12720" y="549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作业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读一读，说说句子的意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盾之坚，物莫能陷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矛之利，于物无不陷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子之矛，陷子之盾，何如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填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故事告诫人们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24000" y="3862440"/>
            <a:ext cx="136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563c1"/>
                </a:solidFill>
                <a:uFillTx/>
                <a:latin typeface="Times New Roman"/>
                <a:hlinkClick r:id="rId1" action="ppaction://hlinksldjump"/>
              </a:rPr>
              <a:t>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256360" y="3862440"/>
            <a:ext cx="12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611280" y="1125360"/>
            <a:ext cx="8281800" cy="47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盾之坚，物莫能陷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（我的盾坚固得很，什么东西都穿不透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吾矛之利，于物无不陷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（我的矛锋利得很，什么东西都穿得透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子之矛，陷子之盾，何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（用您自己的矛戳您自己的盾，会怎么样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843280" y="2708280"/>
            <a:ext cx="345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44546a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隶书"/>
              </a:rPr>
              <a:t>再见！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100000">
                    <a:srgbClr val="44546a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038"/>
          <p:cNvSpPr/>
          <p:nvPr/>
        </p:nvSpPr>
        <p:spPr>
          <a:xfrm>
            <a:off x="689760" y="1981080"/>
            <a:ext cx="789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39"/>
          <p:cNvSpPr/>
          <p:nvPr/>
        </p:nvSpPr>
        <p:spPr>
          <a:xfrm>
            <a:off x="1619280" y="765000"/>
            <a:ext cx="6400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韩非，战国末期的哲学家、法家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代表人物。他死后，后人搜集其遗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并加入别人评论韩非学说的文章而编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韩非子</a:t>
            </a:r>
            <a:r>
              <a:rPr b="1" lang="en-US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一书。韩非善于用寓言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来阐述观点，说明问题。在他的著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里，留下了许多情节简单，含义深刻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小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9"/>
          <p:cNvSpPr/>
          <p:nvPr/>
        </p:nvSpPr>
        <p:spPr>
          <a:xfrm>
            <a:off x="457200" y="380880"/>
            <a:ext cx="8001000" cy="5715000"/>
          </a:xfrm>
          <a:prstGeom prst="verticalScroll">
            <a:avLst>
              <a:gd name="adj" fmla="val 12500"/>
            </a:avLst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2340000" y="11970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文言文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1187280" y="2133720"/>
            <a:ext cx="701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把课文读正确，读流利，读出感情。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1258920" y="3346560"/>
            <a:ext cx="6697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对照注释，借助工具书，理解句子，弄懂课文内容，讲讲这个寓言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弄懂寓言故事告诉人们什么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7"/>
          <p:cNvSpPr/>
          <p:nvPr/>
        </p:nvSpPr>
        <p:spPr>
          <a:xfrm>
            <a:off x="826920" y="342900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鬻 ：卖。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808200" y="306864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 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Text Box 32"/>
          <p:cNvSpPr/>
          <p:nvPr/>
        </p:nvSpPr>
        <p:spPr>
          <a:xfrm>
            <a:off x="468360" y="69228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ù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áo  dùn     yù    w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鬻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矛     盾       誉     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971800" y="53352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d7d31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0"/>
            <a:ext cx="8458200" cy="75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矛与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楚人有鬻（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ù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盾与矛者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誉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之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曰：“吾盾之坚，物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莫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也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”又誉其矛曰：“吾矛之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于物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无不陷也。”或曰：“以子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矛，陷子之盾，何如？”其人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应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" y="2743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指他的矛和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084720" y="278136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68360" y="36450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表示语气，可不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395280" y="4653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于，介词，可不译。物，东西。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981080" y="1523880"/>
            <a:ext cx="4876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362320" y="2057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514600" y="2743200"/>
            <a:ext cx="39625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438280" y="44956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438280" y="5257800"/>
            <a:ext cx="4062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自相矛盾"/>
          <p:cNvPicPr/>
          <p:nvPr/>
        </p:nvPicPr>
        <p:blipFill>
          <a:blip r:embed="rId1"/>
          <a:stretch/>
        </p:blipFill>
        <p:spPr>
          <a:xfrm>
            <a:off x="1763640" y="1628640"/>
            <a:ext cx="5580000" cy="4184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3"/>
          <p:cNvSpPr/>
          <p:nvPr/>
        </p:nvSpPr>
        <p:spPr>
          <a:xfrm>
            <a:off x="2771640" y="69228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谁来复述一下课文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9280" y="792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黑体"/>
              </a:rPr>
              <a:t>讨论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卖矛又卖盾的人可笑在哪里？帮那个人总结一下教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现实生活中有没有这样的事情？请举例说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195640" y="4221000"/>
            <a:ext cx="43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748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总结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与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的是一个人同时夸耀自己所卖的矛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盾，因自相抵触而不能自圆其说，告诫人们说话、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要实事求是，不要言过其实，自相矛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则寓言讽刺了那些说话不顾事实，把事物夸大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绝对的程度，使自己陷入自相矛盾、尴尬境地的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7"/>
          <p:cNvSpPr txBox="1"/>
          <p:nvPr/>
        </p:nvSpPr>
        <p:spPr>
          <a:xfrm>
            <a:off x="1020600" y="963720"/>
            <a:ext cx="3276720" cy="2590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rnd" w="324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latin typeface="宋体"/>
              </a:rPr>
              <a:t>想一想，写一写</a:t>
            </a:r>
            <a:endParaRPr b="1" lang="en-US" sz="6000" spc="1" strike="noStrike">
              <a:ln cap="rnd" w="324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78" name="Picture 28" descr="思考2"/>
          <p:cNvPicPr/>
          <p:nvPr/>
        </p:nvPicPr>
        <p:blipFill>
          <a:blip r:embed="rId1"/>
          <a:stretch/>
        </p:blipFill>
        <p:spPr>
          <a:xfrm>
            <a:off x="2050920" y="1268280"/>
            <a:ext cx="1008360" cy="9572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9"/>
          <p:cNvSpPr/>
          <p:nvPr/>
        </p:nvSpPr>
        <p:spPr>
          <a:xfrm>
            <a:off x="0" y="297180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0"/>
          <p:cNvSpPr/>
          <p:nvPr/>
        </p:nvSpPr>
        <p:spPr>
          <a:xfrm>
            <a:off x="971640" y="4365720"/>
            <a:ext cx="75610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1"/>
          <p:cNvSpPr/>
          <p:nvPr/>
        </p:nvSpPr>
        <p:spPr>
          <a:xfrm>
            <a:off x="971640" y="5013360"/>
            <a:ext cx="76341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2"/>
          <p:cNvSpPr/>
          <p:nvPr/>
        </p:nvSpPr>
        <p:spPr>
          <a:xfrm>
            <a:off x="971640" y="5661000"/>
            <a:ext cx="75610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3"/>
          <p:cNvSpPr/>
          <p:nvPr/>
        </p:nvSpPr>
        <p:spPr>
          <a:xfrm>
            <a:off x="755640" y="3141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完这篇课文，你有什么感想呢？试着写一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7T15:11:11Z</dcterms:created>
  <dc:creator/>
  <dc:description/>
  <dc:language>en-US</dc:language>
  <cp:lastModifiedBy>Administrator</cp:lastModifiedBy>
  <cp:lastPrinted>2001-04-01T12:05:35Z</cp:lastPrinted>
  <dcterms:modified xsi:type="dcterms:W3CDTF">2016-12-12T06:10:4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4000000000001024120</vt:lpwstr>
  </property>
</Properties>
</file>