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991-9035-45D4-B703-8F46BE1E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B9B-33C1-4324-B397-74C7B50E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266-80C1-4853-AD18-697B8652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C957-1BBA-425A-A486-3FC556C0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043-D966-4656-AE6B-D720D3D4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3F5-4BE2-4F90-9462-63EE2ECA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021-3297-49B9-AD5B-1EA3CF9E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7A9-7F2F-4DE0-B61D-CE71BCBB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64C-5DCF-437B-B22E-4DC4335B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986-DB63-4ABC-8F82-79D08A84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7E2-1932-49AB-8018-D76E3EDE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676-AA5F-4385-AA81-DC9752E9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82B7-3F81-4696-B7BB-79E351978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rcRect l="4640" t="978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2340000" y="2205000"/>
            <a:ext cx="4289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司马光救友</a:t>
            </a:r>
            <a:endParaRPr b="1" lang="en-US" sz="60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simaguangzagang.mp3" descr=""/>
          <p:cNvPicPr/>
          <p:nvPr/>
        </p:nvPicPr>
        <p:blipFill>
          <a:blip r:embed="rId2"/>
          <a:stretch/>
        </p:blipFill>
        <p:spPr>
          <a:xfrm>
            <a:off x="853272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08000" y="40464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西师大版  六年级语文上册   第八单元第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9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课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3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4"/>
          <p:cNvSpPr/>
          <p:nvPr/>
        </p:nvSpPr>
        <p:spPr>
          <a:xfrm>
            <a:off x="468360" y="2060640"/>
            <a:ext cx="8496360" cy="4537080"/>
          </a:xfrm>
          <a:prstGeom prst="roundRect">
            <a:avLst>
              <a:gd name="adj" fmla="val 16653"/>
            </a:avLst>
          </a:prstGeom>
          <a:solidFill>
            <a:srgbClr val="bbe0e3">
              <a:alpha val="46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39640" y="2133720"/>
            <a:ext cx="8070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生七岁，与群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戏于庭，一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登瓮，足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跌没水中，众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皆弃去，光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持石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击瓮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破之，水迸，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得活。</a:t>
            </a:r>
            <a:endParaRPr b="1" lang="en-US" sz="5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771640" y="620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8459640" y="836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AutoShape 16"/>
          <p:cNvSpPr/>
          <p:nvPr/>
        </p:nvSpPr>
        <p:spPr>
          <a:xfrm>
            <a:off x="2484360" y="299880"/>
            <a:ext cx="4822920" cy="1224000"/>
          </a:xfrm>
          <a:prstGeom prst="roundRect">
            <a:avLst>
              <a:gd name="adj" fmla="val 16667"/>
            </a:avLst>
          </a:prstGeom>
          <a:solidFill>
            <a:srgbClr val="bbe0e3">
              <a:alpha val="6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2771640" y="47628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司马光救友</a:t>
            </a:r>
            <a:endParaRPr b="1" lang="en-US" sz="6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5805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Oval 3"/>
          <p:cNvSpPr/>
          <p:nvPr/>
        </p:nvSpPr>
        <p:spPr>
          <a:xfrm>
            <a:off x="6593040" y="3637080"/>
            <a:ext cx="2550960" cy="1663560"/>
          </a:xfrm>
          <a:prstGeom prst="ellipse">
            <a:avLst/>
          </a:prstGeom>
          <a:solidFill>
            <a:srgbClr val="bbe0e3">
              <a:alpha val="5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468360" y="620640"/>
            <a:ext cx="8351640" cy="1008000"/>
          </a:xfrm>
          <a:prstGeom prst="ellipse">
            <a:avLst/>
          </a:prstGeom>
          <a:solidFill>
            <a:srgbClr val="bbe0e3">
              <a:alpha val="35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光生七岁，与群儿戏于庭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9640" y="5589720"/>
            <a:ext cx="7991640" cy="792000"/>
          </a:xfrm>
          <a:prstGeom prst="rect">
            <a:avLst/>
          </a:prstGeom>
          <a:solidFill>
            <a:srgbClr val="bbe0e3">
              <a:alpha val="59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5661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７岁的司马光和一群小朋友在院子里做游戏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029360" y="4508640"/>
            <a:ext cx="17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于：在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6732720" y="3213000"/>
            <a:ext cx="241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庭：院子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24000" y="476280"/>
            <a:ext cx="856908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生七岁，与群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戏于庭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Picture 5" descr="U_6702~1"/>
          <p:cNvPicPr/>
          <p:nvPr/>
        </p:nvPicPr>
        <p:blipFill>
          <a:blip r:embed="rId2"/>
          <a:stretch/>
        </p:blipFill>
        <p:spPr>
          <a:xfrm>
            <a:off x="1692360" y="2341440"/>
            <a:ext cx="3585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2"/>
          <p:cNvSpPr/>
          <p:nvPr/>
        </p:nvSpPr>
        <p:spPr>
          <a:xfrm>
            <a:off x="539640" y="333360"/>
            <a:ext cx="8064720" cy="1150920"/>
          </a:xfrm>
          <a:prstGeom prst="ellipse">
            <a:avLst/>
          </a:prstGeom>
          <a:solidFill>
            <a:srgbClr val="bbe0e3">
              <a:alpha val="65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083480" y="476280"/>
            <a:ext cx="138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一儿登瓮，足跌没水中。</a:t>
            </a:r>
            <a:endParaRPr b="1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24000" y="2637000"/>
            <a:ext cx="2447640" cy="388764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5280" y="2637000"/>
            <a:ext cx="144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瓮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足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跌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没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1403280" y="2637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缸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1187280" y="4653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落、掉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539640" y="260280"/>
            <a:ext cx="8280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登瓮，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跌没水中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1670760" y="5621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淹没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1547640" y="3645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AutoShape 19"/>
          <p:cNvSpPr/>
          <p:nvPr/>
        </p:nvSpPr>
        <p:spPr>
          <a:xfrm>
            <a:off x="3348000" y="3933720"/>
            <a:ext cx="5545080" cy="2087640"/>
          </a:xfrm>
          <a:prstGeom prst="roundRect">
            <a:avLst>
              <a:gd name="adj" fmla="val 16667"/>
            </a:avLst>
          </a:prstGeom>
          <a:solidFill>
            <a:srgbClr val="bbe0e3">
              <a:alpha val="6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孩子爬到水缸上去玩，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不小心失足掉进缸中被淹着了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val 5"/>
          <p:cNvSpPr/>
          <p:nvPr/>
        </p:nvSpPr>
        <p:spPr>
          <a:xfrm>
            <a:off x="684360" y="0"/>
            <a:ext cx="7200720" cy="1224000"/>
          </a:xfrm>
          <a:prstGeom prst="ellipse">
            <a:avLst/>
          </a:prstGeom>
          <a:solidFill>
            <a:srgbClr val="bbe0e3">
              <a:alpha val="7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众皆弃去，光持石击瓮破之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1844640"/>
            <a:ext cx="3348000" cy="4464000"/>
          </a:xfrm>
          <a:prstGeom prst="rect">
            <a:avLst/>
          </a:prstGeom>
          <a:solidFill>
            <a:srgbClr val="ffffff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332000" y="2852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989000"/>
            <a:ext cx="7192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皆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弃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持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：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61928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116000" y="29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放弃、扔掉"/>
              </a:rPr>
              <a:t>放弃、扔掉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1776240" y="3933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拿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2127960" y="5013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、敲打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085000" y="3354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其他孩子都放弃而离开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4140360" y="3921120"/>
            <a:ext cx="43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有司马光拿着石头把水缸砸破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Oval 15"/>
          <p:cNvSpPr/>
          <p:nvPr/>
        </p:nvSpPr>
        <p:spPr>
          <a:xfrm>
            <a:off x="468360" y="0"/>
            <a:ext cx="7920000" cy="14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众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皆弃去，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持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击瓮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破之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239360" y="1673280"/>
            <a:ext cx="295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水迸，儿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得活。</a:t>
            </a:r>
            <a:endParaRPr b="1" lang="en-US" sz="6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45920" y="34290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迸：像外溅出或喷射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得活：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042920" y="396540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得救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017880" y="4740120"/>
            <a:ext cx="5400720" cy="505080"/>
          </a:xfrm>
          <a:prstGeom prst="rect">
            <a:avLst/>
          </a:prstGeom>
          <a:solidFill>
            <a:srgbClr val="bbe0e3">
              <a:alpha val="62000"/>
            </a:srgbClr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水流出来了，小孩得救了。</a:t>
            </a:r>
            <a:endParaRPr b="1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044440" y="76500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复述、背诵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1042920" y="198900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光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生七岁，与群儿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戏于庭，一儿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登瓮，足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跌没水中，众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皆弃去，光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持石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击瓮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破之，水迸，儿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6600"/>
                </a:solidFill>
                <a:latin typeface="Arial"/>
              </a:rPr>
              <a:t>得活。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02:37:26Z</dcterms:created>
  <dc:creator/>
  <dc:description/>
  <dc:language>en-US</dc:language>
  <cp:lastModifiedBy>Administrator</cp:lastModifiedBy>
  <dcterms:modified xsi:type="dcterms:W3CDTF">2016-12-12T06:06:43Z</dcterms:modified>
  <cp:revision>1</cp:revision>
  <dc:subject/>
  <dc:title/>
</cp:coreProperties>
</file>