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010-471B-4F53-A43A-85620A9D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D74-02D4-4031-AA36-2206F28E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F5D-F365-4E11-A4D8-764C5D20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0B3-F41D-4D84-AE2F-2E9D94C1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CCB-9297-4386-ADB9-C448BC33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1AB-8930-40E7-862C-C970C85C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F8F-4178-4A4C-A313-096F4683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CAE-4DDB-42EF-9DAA-DD4F7C75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929-EAC2-4336-B682-FFF259EA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0C5-E742-4789-9AB7-BCE29A75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3DE-27A1-49A6-A9C9-811F752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45F-259B-4EA8-95FF-39C596B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7E4F-9507-4D6B-80F8-1C3646D8887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0" r="0" b="7162"/>
          <a:stretch/>
        </p:blipFill>
        <p:spPr>
          <a:xfrm>
            <a:off x="1116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913280" y="2139840"/>
            <a:ext cx="2560680" cy="606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944720" y="2139840"/>
            <a:ext cx="2419200" cy="5907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2509920" y="692280"/>
            <a:ext cx="39607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巨人的花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b05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84360" y="2492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围墙拆除了，春天回来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333360"/>
            <a:ext cx="20574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 文 学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UP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244000" y="5157720"/>
            <a:ext cx="41724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dow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72440" y="5805360"/>
            <a:ext cx="403200" cy="503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178000" y="87156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完成表格</a:t>
            </a:r>
            <a:r>
              <a:rPr b="0" lang="en-US" sz="3200" spc="-1" strike="noStrike">
                <a:solidFill>
                  <a:srgbClr val="5b9bd5"/>
                </a:solidFill>
                <a:latin typeface="Arial"/>
                <a:ea typeface="黑体"/>
              </a:rPr>
              <a:t>(</a:t>
            </a:r>
            <a:r>
              <a:rPr b="0" lang="zh-CN" sz="3200" spc="-1" strike="noStrike">
                <a:solidFill>
                  <a:srgbClr val="5b9bd5"/>
                </a:solidFill>
                <a:latin typeface="Arial"/>
                <a:ea typeface="黑体"/>
              </a:rPr>
              <a:t>对比</a:t>
            </a:r>
            <a:r>
              <a:rPr b="0" lang="en-US" sz="3200" spc="-1" strike="noStrike">
                <a:solidFill>
                  <a:srgbClr val="5b9bd5"/>
                </a:solidFill>
                <a:latin typeface="Arial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973880" y="2089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d7d31"/>
                </a:solidFill>
                <a:latin typeface="Arial"/>
              </a:rPr>
              <a:t>巨人花园的变化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781360"/>
          <a:ext cx="6096240" cy="2448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d7d31"/>
                          </a:solidFill>
                          <a:latin typeface="Arial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d7d31"/>
                          </a:solidFill>
                          <a:latin typeface="Arial"/>
                        </a:rPr>
                        <a:t>具体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29"/>
          <p:cNvSpPr/>
          <p:nvPr/>
        </p:nvSpPr>
        <p:spPr>
          <a:xfrm>
            <a:off x="4067280" y="2781360"/>
            <a:ext cx="8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一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5364000" y="2852640"/>
            <a:ext cx="8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6372360" y="28526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从那以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403280" y="981000"/>
            <a:ext cx="74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作业超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１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积累词句，把故事讲给家人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２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拇指姑娘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发挥自己的想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把巨人的大写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几个人合作，编成课本剧演一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练习或作业"/>
          <p:cNvPicPr/>
          <p:nvPr/>
        </p:nvPicPr>
        <p:blipFill>
          <a:blip r:embed="rId1"/>
          <a:stretch/>
        </p:blipFill>
        <p:spPr>
          <a:xfrm>
            <a:off x="395280" y="981000"/>
            <a:ext cx="1000080" cy="7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990720" y="1523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洋  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200400" y="1523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允 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181480" y="1523880"/>
            <a:ext cx="21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围  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914400" y="2666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告示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391520" y="1523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喧 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289400" y="388620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76720" y="2743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增  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257800" y="2743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训  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467480" y="2743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覆 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066680" y="3962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凝 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124080" y="396252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火辣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410080" y="39625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冷 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7391520" y="396252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脸 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066680" y="51814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愉 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76720" y="5181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拆  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600200" y="1219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124080" y="1219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ǔ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23888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u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38862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ā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525780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ù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58672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ù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7848720" y="36576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7956720" y="364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i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32004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ā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5334120" y="5105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叱 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5364000" y="4797360"/>
            <a:ext cx="13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7391520" y="5181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凋 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1"/>
          <p:cNvSpPr/>
          <p:nvPr/>
        </p:nvSpPr>
        <p:spPr>
          <a:xfrm>
            <a:off x="7164360" y="4797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ā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3"/>
          <p:cNvSpPr/>
          <p:nvPr/>
        </p:nvSpPr>
        <p:spPr>
          <a:xfrm>
            <a:off x="755640" y="3333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字词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50920" y="333360"/>
            <a:ext cx="20574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 文 学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771640" y="9079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阅读课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1628640"/>
            <a:ext cx="801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巨人旅行回来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孩子们在花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态度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24000" y="3068640"/>
            <a:ext cx="85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很生气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允许你们到这儿来玩的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滚出去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4365720"/>
            <a:ext cx="84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没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巨人的花园变成什么样了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39640" y="5157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巨人的花园里仍然是冬天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狂风大作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雪花飞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755640" y="155736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春天终于来了，村子里又开出美丽的鲜花，不时传来小鸟的欢叫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但不知为什么，巨人的花园里仍然是冬天，天天狂风大作，雪花飞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50920" y="333360"/>
            <a:ext cx="20574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 文 学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684360" y="19890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巨人裹着毯子，还瑟瑟发抖。他想：“今年的春天为什么这么冷，这么荒凉呀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50920" y="333360"/>
            <a:ext cx="20574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 文 学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627280" y="69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阅读课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11280" y="1557360"/>
            <a:ext cx="78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从围墙的破损处进了花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花园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春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巨人还是什么态度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95280" y="25909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2781360"/>
            <a:ext cx="758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发脾气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不容易才盼来春天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们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胡闹。滚出去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71640" y="4292640"/>
            <a:ext cx="75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的行动使巨人明白了什么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9640" y="5013360"/>
            <a:ext cx="7334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不禁抱住了那个孩子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唤来寒冬的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那颗任性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冷酷的心啊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50920" y="333360"/>
            <a:ext cx="20574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 文 学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042920" y="1341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喂！你赶快滚出去！”小男孩没有拔腿逃跑，却用他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会说话的眼睛凝视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巨人。不知怎么，巨人看着他的眼神，心里感到火辣辣的。这个小男孩在树下一伸手，桃树马上绽出绿芽，开出许多美丽的花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50920" y="333360"/>
            <a:ext cx="20574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 文 学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971640" y="1557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噢！是这么回事呀！”巨人终于明白，没有孩子的地方就没有春天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不禁抱住了那个孩子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唤来寒冬的，是我那颗任性、冷酷的心啊！要不是你提醒，春天将永远被我赶走了。谢谢你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333360"/>
            <a:ext cx="20574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 文 学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2268360" y="907920"/>
            <a:ext cx="45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阅读课文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143000" y="16002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55640" y="1700280"/>
            <a:ext cx="7989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巨人把花园给了孩子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巨人的生活变的怎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了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26920" y="2852640"/>
            <a:ext cx="7656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巨人生活在漂亮的花园和孩子们的中间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无比的幸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187280" y="414972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了这篇童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懂得了什么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826920" y="4941720"/>
            <a:ext cx="799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待人不要任性和冷酷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乐应当与大家分享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己才会得到快乐与幸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50920" y="333360"/>
            <a:ext cx="205740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 文 学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0:15:32Z</dcterms:created>
  <dc:creator/>
  <dc:description/>
  <dc:language>en-US</dc:language>
  <cp:lastModifiedBy>Administrator</cp:lastModifiedBy>
  <dcterms:modified xsi:type="dcterms:W3CDTF">2016-12-12T06:00:01Z</dcterms:modified>
  <cp:revision>1</cp:revision>
  <dc:subject/>
  <dc:title/>
</cp:coreProperties>
</file>