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gif" ContentType="image/gif"/>
  <Override PartName="/ppt/media/image13.jpeg" ContentType="image/jpeg"/>
  <Override PartName="/ppt/media/image3.wmf" ContentType="image/x-wmf"/>
  <Override PartName="/ppt/media/image4.png" ContentType="image/png"/>
  <Override PartName="/ppt/media/image1.jpeg" ContentType="image/jpeg"/>
  <Override PartName="/ppt/media/image2.jpeg" ContentType="image/jpeg"/>
  <Override PartName="/ppt/media/chimes.wav" ContentType="audio/x-wav"/>
  <Override PartName="/ppt/media/image5.jpeg" ContentType="image/jpeg"/>
  <Override PartName="/ppt/media/image11.gif" ContentType="image/gif"/>
  <Override PartName="/ppt/media/image14.wmf" ContentType="image/x-wmf"/>
  <Override PartName="/ppt/media/image6.png" ContentType="image/png"/>
  <Override PartName="/ppt/media/image7.jpeg" ContentType="image/jpeg"/>
  <Override PartName="/ppt/media/image8.gif" ContentType="image/gi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DFF-2F09-4B4F-BB1C-33C19FBD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2F9-B009-4712-86BD-DDFC6696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3B6-0BE7-479C-8334-E0C0C0142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D4D3-5AEE-4A64-9A78-50DE0376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404-5A29-4584-BED4-AB17A9D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B869-B5E7-480F-BC08-3D84C41B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2146-6B0F-44B0-9F6F-400CAC16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60E-E272-4300-9B5D-D1BDE647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D3D-6760-478D-AFAD-9C7819B0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6802-BABB-4E4C-8117-05F9778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CE4-2D5D-48A0-A402-53F11B17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8A5-DA99-40A8-A1F9-6D4CF841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117-D81E-435E-9563-FBF0D02AF14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将相和封面"/>
          <p:cNvPicPr/>
          <p:nvPr/>
        </p:nvPicPr>
        <p:blipFill>
          <a:blip r:embed="rId1"/>
          <a:stretch/>
        </p:blipFill>
        <p:spPr>
          <a:xfrm>
            <a:off x="1763640" y="1700280"/>
            <a:ext cx="5545080" cy="3771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2987640" y="692280"/>
            <a:ext cx="822960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32 </a:t>
            </a:r>
            <a:r>
              <a:rPr b="1" lang="zh-CN" sz="4400" spc="-1" strike="noStrike">
                <a:solidFill>
                  <a:srgbClr val="000000"/>
                </a:solidFill>
                <a:latin typeface="Calibri Light"/>
              </a:rPr>
              <a:t>将相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将相和"/>
          <p:cNvPicPr/>
          <p:nvPr/>
        </p:nvPicPr>
        <p:blipFill>
          <a:blip r:embed="rId1"/>
          <a:stretch/>
        </p:blipFill>
        <p:spPr>
          <a:xfrm>
            <a:off x="4211640" y="1413000"/>
            <a:ext cx="3036960" cy="4105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35280" y="1413000"/>
            <a:ext cx="4130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璧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611280" y="1341360"/>
            <a:ext cx="7848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ed7d31"/>
                </a:solidFill>
                <a:latin typeface="Verdana"/>
              </a:rPr>
              <a:t>完壁归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_____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51120" y="28321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依仗强势，要骗取和氏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67880" y="41608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和氏璧完好无损地被送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26920" y="551808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到赵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26920" y="1652760"/>
            <a:ext cx="788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他理直气壮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我看您并不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交付十五个城，所以把和氏璧拿了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来。您要是强逼我，我的脑袋和璧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一块儿撞碎在这柱子上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58640" y="977760"/>
            <a:ext cx="9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华文新魏"/>
              </a:rPr>
              <a:t>从下面的话可以看出蔺相如是怎样一个人？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749400" y="566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勇敢机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550600" y="566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619280" y="163512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理直气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himes.wav"/>
      </p:stSnd>
    </p:sndAc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684360" y="98100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到了举行典礼那一天，蔺相如进宫见了秦王，大大方方地说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和氏璧已经送回赵国去了。您如果有诚意的话，先把十五个城叫给我国，我国马上把和氏璧送来，决不失信。不然，您杀了我也没用，天下的人都知道秦国是从来不讲信用的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Arial Narrow"/>
                <a:ea typeface="黑体"/>
              </a:rPr>
              <a:t>秦王没有办法，只得客客气气地送蔺相如回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17000" y="5627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373200" y="56275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Verdana"/>
              </a:rPr>
              <a:t>不畏强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348000" y="148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大大方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1" name="chimes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1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836640"/>
            <a:ext cx="323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Narrow"/>
                <a:ea typeface="黑体"/>
              </a:rPr>
              <a:t>课堂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900000" y="1700280"/>
            <a:ext cx="727416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蔺相如之所以说这块璧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儿小毛病，骗回和氏璧，是因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967040" y="350028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看出秦王的骗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7080" y="4475160"/>
            <a:ext cx="777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之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联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个故事说一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200622515502158262"/>
          <p:cNvPicPr/>
          <p:nvPr/>
        </p:nvPicPr>
        <p:blipFill>
          <a:blip r:embed="rId1"/>
          <a:stretch/>
        </p:blipFill>
        <p:spPr>
          <a:xfrm>
            <a:off x="2556000" y="2421000"/>
            <a:ext cx="4362480" cy="2952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700360" y="1197000"/>
            <a:ext cx="388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渑池之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92000" y="2492280"/>
            <a:ext cx="83520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蔺相如看秦王这样侮辱赵王，</a:t>
            </a: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生气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极了。他</a:t>
            </a:r>
            <a:r>
              <a:rPr b="1" lang="zh-CN" sz="2100" spc="-1" strike="noStrike">
                <a:solidFill>
                  <a:srgbClr val="ff3300"/>
                </a:solidFill>
                <a:latin typeface="Calibri"/>
              </a:rPr>
              <a:t>走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到秦王面前，说：“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</a:rPr>
              <a:t>请您为赵王击缶。”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秦王拒绝了。蔺相如</a:t>
            </a:r>
            <a:r>
              <a:rPr b="1" lang="zh-CN" sz="2100" spc="-1" strike="noStrike">
                <a:solidFill>
                  <a:srgbClr val="0000ff"/>
                </a:solidFill>
                <a:latin typeface="Calibri"/>
              </a:rPr>
              <a:t>再要求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，秦王还是拒绝。蔺相如说：“</a:t>
            </a:r>
            <a:r>
              <a:rPr b="1" lang="zh-CN" sz="2100" spc="-1" strike="noStrike" u="sng">
                <a:solidFill>
                  <a:srgbClr val="ff3300"/>
                </a:solidFill>
                <a:uFillTx/>
                <a:latin typeface="Calibri"/>
              </a:rPr>
              <a:t>您跟我现在只有五步远。您不答应，我就跟您拼了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</a:rPr>
              <a:t>！”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700360" y="476280"/>
            <a:ext cx="2951280" cy="825120"/>
          </a:xfrm>
          <a:prstGeom prst="rect">
            <a:avLst/>
          </a:prstGeom>
          <a:solidFill>
            <a:srgbClr val="ed7d3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渑池之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200312262141952757"/>
          <p:cNvPicPr/>
          <p:nvPr/>
        </p:nvPicPr>
        <p:blipFill>
          <a:blip r:embed="rId1"/>
          <a:stretch/>
        </p:blipFill>
        <p:spPr>
          <a:xfrm>
            <a:off x="3708360" y="134136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>
            <a:hlinkClick r:id="rId2" action="ppaction://hlinksldjump"/>
          </p:cNvPr>
          <p:cNvSpPr/>
          <p:nvPr/>
        </p:nvSpPr>
        <p:spPr>
          <a:xfrm>
            <a:off x="6372360" y="1052640"/>
            <a:ext cx="8636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>
            <a:hlinkClick r:id="rId3" action="ppaction://hlinksldjump"/>
          </p:cNvPr>
          <p:cNvSpPr/>
          <p:nvPr/>
        </p:nvSpPr>
        <p:spPr>
          <a:xfrm>
            <a:off x="1303200" y="1052640"/>
            <a:ext cx="9651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56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import52548_3"/>
          <p:cNvPicPr/>
          <p:nvPr/>
        </p:nvPicPr>
        <p:blipFill>
          <a:blip r:embed="rId1"/>
          <a:stretch/>
        </p:blipFill>
        <p:spPr>
          <a:xfrm>
            <a:off x="1258920" y="1773360"/>
            <a:ext cx="4314960" cy="3671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7551000" y="32130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20059180627600"/>
          <p:cNvPicPr/>
          <p:nvPr/>
        </p:nvPicPr>
        <p:blipFill>
          <a:blip r:embed="rId2"/>
          <a:stretch/>
        </p:blipFill>
        <p:spPr>
          <a:xfrm>
            <a:off x="7164360" y="1844640"/>
            <a:ext cx="1311480" cy="1360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图片2"/>
          <p:cNvPicPr/>
          <p:nvPr/>
        </p:nvPicPr>
        <p:blipFill>
          <a:blip r:embed="rId3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Object 2"/>
          <p:cNvGraphicFramePr/>
          <p:nvPr/>
        </p:nvGraphicFramePr>
        <p:xfrm>
          <a:off x="2070000" y="2852640"/>
          <a:ext cx="572472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0000" y="2852640"/>
                    <a:ext cx="572472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3"/>
          <p:cNvSpPr/>
          <p:nvPr/>
        </p:nvSpPr>
        <p:spPr>
          <a:xfrm>
            <a:off x="4284720" y="4959360"/>
            <a:ext cx="165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9640" y="1916280"/>
            <a:ext cx="83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ed7d31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 后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187280" y="3068640"/>
            <a:ext cx="71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约赵王在渑池相会，想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703840" y="4221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秦王吃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39640" y="4221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赵国便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620280"/>
            <a:ext cx="79866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能正确读写“完璧归赵、负荆请罪”等词语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正确流利、有感情地朗读课文，理解课文内容，分清事情的前因后果，领悟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故事之间的内在联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体会人物的爱国思想和他们各自的美好品质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8360" y="2205000"/>
            <a:ext cx="813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0" lang="zh-CN" sz="4000" spc="-1" strike="noStrike">
                <a:solidFill>
                  <a:srgbClr val="ff3300"/>
                </a:solidFill>
                <a:latin typeface="Verdana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是一个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224600" y="37749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勇敢、随机应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042920" y="1052640"/>
            <a:ext cx="748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蔺相如为什么逼秦王击缶？表现了他什么性格特点？秦王击缶后，为什么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不敢拿赵王怎么样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08000" y="692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（因为秦王让赵王为他鼓瑟，并且让人记录下来，这实际上是秦王侮辱赵王，贬低了赵国的地位，所以蔺相如为了维护国家的荣誉，为了维护赵王与赵国的尊严，逼秦王为赵王击缶。表现了蔺相如为了国家的荣誉，不畏强暴、机智勇敢的高尚品质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755640" y="1268280"/>
            <a:ext cx="77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（秦王击缶后，不敢拿赵王怎么样，是因为廉颇大将军已经在边境上做好了抵御秦兵的准备，秦王只好放赵王回去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26920" y="134136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上秦赵两国是打了平手，还是分出了胜负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971640" y="191628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应该算秦王败了，因为是他先挑衅，但没成功，还令自己很没面子，所以应该算败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YW00044"/>
          <p:cNvPicPr/>
          <p:nvPr/>
        </p:nvPicPr>
        <p:blipFill>
          <a:blip r:embed="rId1"/>
          <a:stretch/>
        </p:blipFill>
        <p:spPr>
          <a:xfrm>
            <a:off x="2124000" y="2276640"/>
            <a:ext cx="5040360" cy="33908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484360" y="90792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 Narrow"/>
                <a:ea typeface="华文行楷"/>
              </a:rPr>
              <a:t>负荆请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60020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738360" y="124308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ed7d31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这个故事的前因是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_______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            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，结果是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2239200" y="2392200"/>
            <a:ext cx="470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廉颇看到蔺相如职位比自己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5076720" y="3522600"/>
            <a:ext cx="25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负荆请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5400" y="348156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Verdana"/>
              </a:rPr>
              <a:t>很不服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539640" y="836640"/>
            <a:ext cx="784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蔺相如对廉颇的傲慢无礼是怎么做的？他为什么要这样做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534680" y="3573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9640" y="3573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蔺相如先是对廉颇避让。他避让廉颇并非害怕他，而是为了国家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74312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826920" y="213372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ed7d31"/>
                </a:solidFill>
                <a:latin typeface="Verdana"/>
              </a:rPr>
              <a:t>负荆请罪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可以看出蔺相如是一个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_____________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071440" y="45086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识大体，胸怀宽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258920" y="338292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以国家利益为重，顾大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682640" y="2025360"/>
            <a:ext cx="44625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璧                      诺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怯                      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缶                       拒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宋体"/>
              </a:rPr>
              <a:t>卿　　　　　　　　　　　　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835280" y="328464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836720" y="213372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b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741760" y="21128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和氏璧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5219640" y="213372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nuò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443640" y="2133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许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130560" y="3284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胆怯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826920" y="85572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1835280" y="4437000"/>
            <a:ext cx="17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fǒu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435640" y="443376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ù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6408720" y="44337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拒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5364000" y="3284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s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6443640" y="3284640"/>
            <a:ext cx="18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鼓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3095640" y="43657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击缶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92360" y="54450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qī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3095640" y="544212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上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995120" y="1677960"/>
            <a:ext cx="514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廉颇为什么向蔺相如负荆请罪？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023840" y="372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11280" y="328464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可以看出廉颇是一个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Verdana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936160" y="37688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勇于改过，以国利益为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923840" y="1125360"/>
            <a:ext cx="525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完璧归赵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渑池之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与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负荆请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之间有什么联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852200" y="350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答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00000" y="35002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三个故事各有情节，但又紧密联系。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发展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完璧归赵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渑池之会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的结果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负荆请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</a:rPr>
              <a:t> 的起因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0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900000" y="1125360"/>
            <a:ext cx="77058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从这几个小故事中可以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出蔺相如是一个怎样的人？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颇呢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26920" y="1557360"/>
            <a:ext cx="75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黑体"/>
                <a:ea typeface="黑体"/>
              </a:rPr>
              <a:t>蔺相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对事件能深思熟虑，随机应变，对秦王不顾生死，敢于斗争，对廉颇能顾全大局，忍辱退让，一切以国家利益为重。因为他为维护赵国利益一再立下功劳，先后被封为上大夫，上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826920" y="1341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黑体"/>
                <a:ea typeface="黑体"/>
              </a:rPr>
              <a:t>廉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黑体"/>
                <a:ea typeface="黑体"/>
              </a:rPr>
              <a:t>能服从赵王的调遣带兵奔赴边界作好抵御秦兵的准备，使秦王不敢轻举妄动，虽然计较个人得失和蔺相如闹不团结，但知错就改，并负荆上蔺相如府上请罪，性格坦率。此后能和蔺相如一起同心协力保卫赵国。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2209320" y="1341360"/>
            <a:ext cx="426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Verdana"/>
              </a:rPr>
              <a:t>作业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复述“负荆请罪”这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Verdana"/>
              </a:rPr>
              <a:t>故事给家长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639468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6d5bf1"/>
                </a:solidFill>
                <a:latin typeface="Calibri Light"/>
                <a:ea typeface="华文中宋"/>
              </a:rPr>
              <a:t>想象说话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7640" y="2133360"/>
            <a:ext cx="8854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果当时老百姓看到这一幕，他们会说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这件事情传到秦王或赵王耳朵里，他们可能说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廉颇的手下看到他负荆请罪，又有什么感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看到这动人的一幕，回想生活中和他人相处的点点滴滴，又有什么想说的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1773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  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          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                                           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12000" y="23493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5876280" y="1700280"/>
            <a:ext cx="21913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ahoma"/>
              </a:rPr>
              <a:t>忠贞爱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234000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ahoma"/>
              </a:rPr>
              <a:t>勇敢机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284720" y="162864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5bf1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6d5bf1"/>
                </a:solidFill>
                <a:latin typeface="Tahoma"/>
              </a:rPr>
              <a:t>足智多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4653360" y="256536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6666ff"/>
                </a:solidFill>
                <a:latin typeface="Tahoma"/>
              </a:rPr>
              <a:t>临危不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68360" y="227664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3c1"/>
                </a:solidFill>
                <a:latin typeface="Tahoma"/>
              </a:rPr>
              <a:t>蔺相如</a:t>
            </a:r>
            <a:r>
              <a:rPr b="1" lang="en-US" sz="3200" spc="-1" strike="noStrike">
                <a:solidFill>
                  <a:srgbClr val="0563c1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39640" y="414972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563c1"/>
                </a:solidFill>
                <a:latin typeface="Tahoma"/>
              </a:rPr>
              <a:t>廉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2670120" y="3500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ahoma"/>
              </a:rPr>
              <a:t>顾全大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4140360" y="836640"/>
            <a:ext cx="19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4653360" y="357336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d5bf1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6d5bf1"/>
                </a:solidFill>
                <a:latin typeface="Tahoma"/>
              </a:rPr>
              <a:t>忍辱退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670120" y="4221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ahoma"/>
              </a:rPr>
              <a:t>知错就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4580280" y="4292640"/>
            <a:ext cx="17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546a"/>
                </a:solidFill>
                <a:latin typeface="Tahoma"/>
              </a:rPr>
              <a:t>----</a:t>
            </a:r>
            <a:r>
              <a:rPr b="1" lang="zh-CN" sz="3200" spc="-1" strike="noStrike">
                <a:solidFill>
                  <a:srgbClr val="44546a"/>
                </a:solidFill>
                <a:latin typeface="Tahoma"/>
              </a:rPr>
              <a:t>豪爽直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1559160" y="4221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63c1"/>
                </a:solidFill>
                <a:latin typeface="Arial"/>
              </a:rPr>
              <a:t>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3556800" y="666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563c1"/>
                </a:solidFill>
                <a:latin typeface="Arial"/>
              </a:rPr>
              <a:t>将相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11280" y="206064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　    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司马迁（前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45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或前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35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～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?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）西汉史学家，文学家。字子长，夏阳（今陕西韩城西南）人。生于汉景帝中元五年（前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45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），一说生于汉武帝建元六年（前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35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），卒年不可考。元封三年（公元前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08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年）司马迁继承其父司马谈之职，任太史令，掌管天文历法及皇家图籍，因而得尽读史官所藏图书。因替投降匈奴的李陵辩护，获罪下狱，受腐刑。出狱后任中书令，继续发愤著书，终于完成了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史记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的撰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700360" y="119700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Arial"/>
                <a:ea typeface="黑体"/>
              </a:rPr>
              <a:t>司马迁与</a:t>
            </a:r>
            <a:r>
              <a:rPr b="1" lang="en-US" sz="2800" spc="-1" strike="noStrike">
                <a:solidFill>
                  <a:srgbClr val="ed7d31"/>
                </a:solidFill>
                <a:latin typeface="Arial"/>
                <a:ea typeface="黑体"/>
              </a:rPr>
              <a:t>《</a:t>
            </a:r>
            <a:r>
              <a:rPr b="1" lang="zh-CN" sz="2800" spc="-1" strike="noStrike">
                <a:solidFill>
                  <a:srgbClr val="ed7d31"/>
                </a:solidFill>
                <a:latin typeface="Arial"/>
                <a:ea typeface="黑体"/>
              </a:rPr>
              <a:t>史记</a:t>
            </a:r>
            <a:r>
              <a:rPr b="1" lang="en-US" sz="2800" spc="-1" strike="noStrike">
                <a:solidFill>
                  <a:srgbClr val="ed7d31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8" descr="拓展延伸"/>
          <p:cNvPicPr/>
          <p:nvPr/>
        </p:nvPicPr>
        <p:blipFill>
          <a:blip r:embed="rId1"/>
          <a:stretch/>
        </p:blipFill>
        <p:spPr>
          <a:xfrm>
            <a:off x="250920" y="260280"/>
            <a:ext cx="2160360" cy="14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11280" y="69228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史记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最初没有固定书名，或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太史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书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，或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太史公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，也省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太史公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。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史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本来是古代史书的通称，从三国开始，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史记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由通称逐渐成为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太史公书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的专名。全书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130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篇，包括十二本纪、八书、十表、三十世家、七十列传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个部分，共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52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万字。记载了从黄帝到汉武帝太初年间长达三千年的政治、经济和文化的历史，比较全面而深刻地反映了我国古代的社会面貌，对后世史学研究有深远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   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《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史记</a:t>
            </a:r>
            <a:r>
              <a:rPr b="1" lang="en-US" sz="2800" spc="-1" strike="noStrike">
                <a:solidFill>
                  <a:srgbClr val="0563c1"/>
                </a:solidFill>
                <a:latin typeface="隶书"/>
                <a:ea typeface="隶书"/>
              </a:rPr>
              <a:t>》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既是历史的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“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实录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  <a:ea typeface="隶书"/>
              </a:rPr>
              <a:t>”</a:t>
            </a:r>
            <a:r>
              <a:rPr b="1" lang="zh-CN" sz="2800" spc="-1" strike="noStrike">
                <a:solidFill>
                  <a:srgbClr val="0563c1"/>
                </a:solidFill>
                <a:latin typeface="隶书"/>
                <a:ea typeface="隶书"/>
              </a:rPr>
              <a:t>，同时具有相当高的文学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3276720" y="2133720"/>
            <a:ext cx="1224000" cy="1224000"/>
            <a:chOff x="3276720" y="2133720"/>
            <a:chExt cx="1224000" cy="1224000"/>
          </a:xfrm>
        </p:grpSpPr>
        <p:sp>
          <p:nvSpPr>
            <p:cNvPr id="62" name="Rectangle 4"/>
            <p:cNvSpPr/>
            <p:nvPr/>
          </p:nvSpPr>
          <p:spPr>
            <a:xfrm>
              <a:off x="32767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5"/>
            <p:cNvSpPr/>
            <p:nvPr/>
          </p:nvSpPr>
          <p:spPr>
            <a:xfrm flipH="1">
              <a:off x="32767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6"/>
            <p:cNvSpPr/>
            <p:nvPr/>
          </p:nvSpPr>
          <p:spPr>
            <a:xfrm>
              <a:off x="3889080" y="216396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7"/>
          <p:cNvGrpSpPr/>
          <p:nvPr/>
        </p:nvGrpSpPr>
        <p:grpSpPr>
          <a:xfrm>
            <a:off x="4500360" y="2133720"/>
            <a:ext cx="1224000" cy="1224000"/>
            <a:chOff x="4500360" y="2133720"/>
            <a:chExt cx="1224000" cy="1224000"/>
          </a:xfrm>
        </p:grpSpPr>
        <p:sp>
          <p:nvSpPr>
            <p:cNvPr id="66" name="Rectangle 8"/>
            <p:cNvSpPr/>
            <p:nvPr/>
          </p:nvSpPr>
          <p:spPr>
            <a:xfrm>
              <a:off x="4500720" y="2133720"/>
              <a:ext cx="122364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H="1">
              <a:off x="4500360" y="2745720"/>
              <a:ext cx="122364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>
              <a:off x="5112720" y="216396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5724360" y="2133720"/>
            <a:ext cx="1224000" cy="1224000"/>
            <a:chOff x="5724360" y="2133720"/>
            <a:chExt cx="1224000" cy="1224000"/>
          </a:xfrm>
        </p:grpSpPr>
        <p:sp>
          <p:nvSpPr>
            <p:cNvPr id="70" name="Rectangle 12"/>
            <p:cNvSpPr/>
            <p:nvPr/>
          </p:nvSpPr>
          <p:spPr>
            <a:xfrm>
              <a:off x="572436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 flipH="1">
              <a:off x="572436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>
              <a:off x="6336720" y="216396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15"/>
          <p:cNvGrpSpPr/>
          <p:nvPr/>
        </p:nvGrpSpPr>
        <p:grpSpPr>
          <a:xfrm>
            <a:off x="2050920" y="2133720"/>
            <a:ext cx="1224000" cy="1224000"/>
            <a:chOff x="2050920" y="2133720"/>
            <a:chExt cx="1224000" cy="1224000"/>
          </a:xfrm>
        </p:grpSpPr>
        <p:sp>
          <p:nvSpPr>
            <p:cNvPr id="74" name="Rectangle 16"/>
            <p:cNvSpPr/>
            <p:nvPr/>
          </p:nvSpPr>
          <p:spPr>
            <a:xfrm>
              <a:off x="2050920" y="213372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>
              <a:off x="2050920" y="274572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8"/>
            <p:cNvSpPr/>
            <p:nvPr/>
          </p:nvSpPr>
          <p:spPr>
            <a:xfrm>
              <a:off x="2663280" y="216396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19"/>
          <p:cNvSpPr/>
          <p:nvPr/>
        </p:nvSpPr>
        <p:spPr>
          <a:xfrm>
            <a:off x="2050920" y="2168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赵璧召诺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41"/>
          <p:cNvGrpSpPr/>
          <p:nvPr/>
        </p:nvGrpSpPr>
        <p:grpSpPr>
          <a:xfrm>
            <a:off x="2700360" y="3860640"/>
            <a:ext cx="1224000" cy="1224000"/>
            <a:chOff x="2700360" y="3860640"/>
            <a:chExt cx="1224000" cy="1224000"/>
          </a:xfrm>
        </p:grpSpPr>
        <p:sp>
          <p:nvSpPr>
            <p:cNvPr id="79" name="Rectangle 42"/>
            <p:cNvSpPr/>
            <p:nvPr/>
          </p:nvSpPr>
          <p:spPr>
            <a:xfrm>
              <a:off x="2700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43"/>
            <p:cNvSpPr/>
            <p:nvPr/>
          </p:nvSpPr>
          <p:spPr>
            <a:xfrm flipH="1">
              <a:off x="2700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4"/>
            <p:cNvSpPr/>
            <p:nvPr/>
          </p:nvSpPr>
          <p:spPr>
            <a:xfrm>
              <a:off x="3312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5"/>
          <p:cNvGrpSpPr/>
          <p:nvPr/>
        </p:nvGrpSpPr>
        <p:grpSpPr>
          <a:xfrm>
            <a:off x="1474920" y="3860640"/>
            <a:ext cx="1224000" cy="1224000"/>
            <a:chOff x="1474920" y="3860640"/>
            <a:chExt cx="1224000" cy="1224000"/>
          </a:xfrm>
        </p:grpSpPr>
        <p:sp>
          <p:nvSpPr>
            <p:cNvPr id="83" name="Rectangle 46"/>
            <p:cNvSpPr/>
            <p:nvPr/>
          </p:nvSpPr>
          <p:spPr>
            <a:xfrm>
              <a:off x="147492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7"/>
            <p:cNvSpPr/>
            <p:nvPr/>
          </p:nvSpPr>
          <p:spPr>
            <a:xfrm flipH="1">
              <a:off x="147492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8"/>
            <p:cNvSpPr/>
            <p:nvPr/>
          </p:nvSpPr>
          <p:spPr>
            <a:xfrm>
              <a:off x="208728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9"/>
          <p:cNvGrpSpPr/>
          <p:nvPr/>
        </p:nvGrpSpPr>
        <p:grpSpPr>
          <a:xfrm>
            <a:off x="5148360" y="3860640"/>
            <a:ext cx="1224000" cy="1224000"/>
            <a:chOff x="5148360" y="3860640"/>
            <a:chExt cx="1224000" cy="1224000"/>
          </a:xfrm>
        </p:grpSpPr>
        <p:sp>
          <p:nvSpPr>
            <p:cNvPr id="87" name="Rectangle 50"/>
            <p:cNvSpPr/>
            <p:nvPr/>
          </p:nvSpPr>
          <p:spPr>
            <a:xfrm>
              <a:off x="5148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1"/>
            <p:cNvSpPr/>
            <p:nvPr/>
          </p:nvSpPr>
          <p:spPr>
            <a:xfrm flipH="1">
              <a:off x="5148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5760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53"/>
          <p:cNvGrpSpPr/>
          <p:nvPr/>
        </p:nvGrpSpPr>
        <p:grpSpPr>
          <a:xfrm>
            <a:off x="3924360" y="3860640"/>
            <a:ext cx="1224000" cy="1224000"/>
            <a:chOff x="3924360" y="3860640"/>
            <a:chExt cx="1224000" cy="1224000"/>
          </a:xfrm>
        </p:grpSpPr>
        <p:sp>
          <p:nvSpPr>
            <p:cNvPr id="91" name="Rectangle 54"/>
            <p:cNvSpPr/>
            <p:nvPr/>
          </p:nvSpPr>
          <p:spPr>
            <a:xfrm>
              <a:off x="3924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5"/>
            <p:cNvSpPr/>
            <p:nvPr/>
          </p:nvSpPr>
          <p:spPr>
            <a:xfrm flipH="1">
              <a:off x="3924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6"/>
            <p:cNvSpPr/>
            <p:nvPr/>
          </p:nvSpPr>
          <p:spPr>
            <a:xfrm>
              <a:off x="4536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57"/>
          <p:cNvGrpSpPr/>
          <p:nvPr/>
        </p:nvGrpSpPr>
        <p:grpSpPr>
          <a:xfrm>
            <a:off x="6372360" y="3860640"/>
            <a:ext cx="1224000" cy="1224000"/>
            <a:chOff x="6372360" y="3860640"/>
            <a:chExt cx="1224000" cy="1224000"/>
          </a:xfrm>
        </p:grpSpPr>
        <p:sp>
          <p:nvSpPr>
            <p:cNvPr id="95" name="Rectangle 58"/>
            <p:cNvSpPr/>
            <p:nvPr/>
          </p:nvSpPr>
          <p:spPr>
            <a:xfrm>
              <a:off x="6372360" y="38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9"/>
            <p:cNvSpPr/>
            <p:nvPr/>
          </p:nvSpPr>
          <p:spPr>
            <a:xfrm flipH="1">
              <a:off x="6372360" y="44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0"/>
            <p:cNvSpPr/>
            <p:nvPr/>
          </p:nvSpPr>
          <p:spPr>
            <a:xfrm>
              <a:off x="6984720" y="38908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61"/>
          <p:cNvSpPr/>
          <p:nvPr/>
        </p:nvSpPr>
        <p:spPr>
          <a:xfrm>
            <a:off x="1546200" y="3860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怯瑟拒诸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85" descr="生字学习"/>
          <p:cNvPicPr/>
          <p:nvPr/>
        </p:nvPicPr>
        <p:blipFill>
          <a:blip r:embed="rId1"/>
          <a:stretch/>
        </p:blipFill>
        <p:spPr>
          <a:xfrm>
            <a:off x="468360" y="189000"/>
            <a:ext cx="2028600" cy="17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468360" y="1413000"/>
            <a:ext cx="820908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563c1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我国历史上的一个时期（前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</a:rPr>
              <a:t>475—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前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</a:rPr>
              <a:t>221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）。当时，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较强的国家有七个，即秦、楚、齐、赵、燕、魏、韩，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战国七雄”。七雄并峙，战火频繁。秦国是最强的一个。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国地处函谷关以西，其余六国在函谷关以东。赵国的东面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富强的齐国，西面是强大的秦国。赵国处在两大强国之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完璧归赵”的故事发生在秦国全力进攻楚国的时候。秦国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能集中更多兵力对付赵国，主要是用威胁的手段占赵国的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70836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Arial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773360"/>
            <a:ext cx="7993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官职，分别分为上、中、下三等，上大夫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最高一级的大夫。上卿是诸侯下面最高的官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廉颇在赵惠文王十六年（前</a:t>
            </a:r>
            <a:r>
              <a:rPr b="1" lang="en-US" sz="2800" spc="-1" strike="noStrike">
                <a:solidFill>
                  <a:srgbClr val="0563c1"/>
                </a:solidFill>
                <a:latin typeface="Arial"/>
              </a:rPr>
              <a:t>283</a:t>
            </a: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年）的时候，因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齐有功，已经被提升为上卿。蔺相如也做上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但由于是文官，上朝集会时，位置在廉颇的右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秦汉以前以右为尊，所以课文中说蔺相如的职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563c1"/>
                </a:solidFill>
                <a:latin typeface="Arial"/>
              </a:rPr>
              <a:t>比廉颇高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132000" y="6206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7d31"/>
                </a:solidFill>
                <a:latin typeface="Arial"/>
                <a:ea typeface="黑体"/>
              </a:rPr>
              <a:t>大夫、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324000" y="1052640"/>
            <a:ext cx="8569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和氏璧是一块宝玉的名称，有一段不平凡的来历。相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在春秋时期的楚国，有个叫卞和的人，在楚山中拾到一块玉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（即未经过加工的美玉），把它奉献给了楚厉王。厉王就叫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别玉的专家来鉴定，鉴定的结果说是石头。厉王大怒，认为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和在欺骗戏弄自己，就以欺君之罪名，砍掉了卞和的左脚。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久，厉王死了，武王即位，卞和又把这块玉璞奉献给武王。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王也叫辨别玉的专家来鉴定，结果同样说是石头，武王又以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君之罪砍掉卞和的右脚。武王死后，文王即位。卞和抱着玉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到楚山下大哭，一直哭了三天三夜。眼泪哭干了，最后哭出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3635280" y="33336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d7d31"/>
                </a:solidFill>
                <a:latin typeface="Arial"/>
                <a:ea typeface="黑体"/>
              </a:rPr>
              <a:t>和氏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539640" y="981000"/>
            <a:ext cx="79916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63c1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文王听说后，就派人问他，说：“天下被砍掉脚的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很多，都没有这样痛哭，你为什么哭得这样悲伤呢</a:t>
            </a:r>
            <a:r>
              <a:rPr b="1" lang="en-US" sz="2400" spc="-1" strike="noStrike">
                <a:solidFill>
                  <a:srgbClr val="0563c1"/>
                </a:solidFill>
                <a:latin typeface="Arial"/>
              </a:rPr>
              <a:t>?”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卞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回答说：“我不是为我的脚被砍掉而悲伤、痛哭，我所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伤的是有人竟把宝玉说成是石头，给忠贞的人扣上欺骗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罪名。”文王于是就派人对这块玉璞进行加工，果然是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块罕见的宝玉。于是就把这块宝玉命名为“和氏璧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由于这块宝玉的珍奇，加之来历的不平凡，因此，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成了世间所公认的至宝，价值连城。这也是秦王不惜以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563c1"/>
                </a:solidFill>
                <a:latin typeface="Arial"/>
              </a:rPr>
              <a:t>五座城为诱饵来骗取“和氏璧”的原因所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1"/>
          <p:cNvSpPr txBox="1"/>
          <p:nvPr/>
        </p:nvSpPr>
        <p:spPr>
          <a:xfrm>
            <a:off x="2050920" y="213372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395280" y="1268280"/>
            <a:ext cx="266400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无价之宝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绝口不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攻无不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战无不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同心协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渑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340000" y="1197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物品特别珍贵，用多少钱也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268360" y="234468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因回避而不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68360" y="29941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攻城夺地，没有拿不下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2195640" y="357336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形容强大无比。每战必胜。攻无不克、战无不胜这两个成语多指善于打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195640" y="5084640"/>
            <a:ext cx="59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协，合。团结一致，共同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1476360" y="57340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地名，在今河南渑池县境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468360" y="1125360"/>
            <a:ext cx="36003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璧归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负荆请罪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332000" y="11970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璧，古代玉器的一种，平圆形，中间有孔。本课的和氏璧，指的是用楚国人卞和发现的一块玉制成的璧。“完璧归赵”指把和氏璧完好无损地送回赵国。这个成语现在常用来比喻把东西完好无损地归还原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116000" y="429264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            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  <a:ea typeface="楷体_GB2312"/>
              </a:rPr>
              <a:t>负，背着。荆，荆条，用来打人的东西。本课指廉颇光着上身，背着荆条，到蔺相如家请罪。这个成语现用来表示向人认错赔罪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1268280"/>
            <a:ext cx="7559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速读课文，讨论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书上画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别指谁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②本文主要讲了一个什么故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5292720" y="981000"/>
            <a:ext cx="385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指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思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字可以推想出什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797080" y="3716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同心协力，保卫赵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732720" y="90792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廉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962760" y="19922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蔺相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2" descr="20070620112606308"/>
          <p:cNvPicPr/>
          <p:nvPr/>
        </p:nvPicPr>
        <p:blipFill>
          <a:blip r:embed="rId1"/>
          <a:srcRect l="4630" t="2738" r="15237" b="16549"/>
          <a:stretch/>
        </p:blipFill>
        <p:spPr>
          <a:xfrm>
            <a:off x="177840" y="1628640"/>
            <a:ext cx="4373640" cy="3384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2" name="chimes.wav"/>
      </p:stSnd>
    </p:sndAc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826920" y="1125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文主要讲了廉颇和蔺相如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不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和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故事。这个故事发生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讲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个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334480" y="21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战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2217600" y="2781360"/>
            <a:ext cx="23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完璧归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716360" y="27576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渑池之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364400" y="3308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Narrow"/>
                <a:ea typeface="黑体"/>
              </a:rPr>
              <a:t>负荆请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  <p:sndAc>
      <p:stSnd>
        <p:snd r:embed="rId1" name="chimes.wav"/>
      </p:stSnd>
    </p:sndAc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Administrator</cp:lastModifiedBy>
  <dcterms:modified xsi:type="dcterms:W3CDTF">2016-12-12T05:45:09Z</dcterms:modified>
  <cp:revision>2</cp:revision>
  <dc:subject/>
  <dc:title/>
</cp:coreProperties>
</file>