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type.wav" ContentType="audio/x-wav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28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DE16-3EC3-4E29-B2EB-13DE503E1B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根据江泽民同志的题词导入课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0AE-3D4F-48D0-B79A-25FE1E25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017-B4E2-43CF-BD4B-CF46A5DF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04A-8AC0-4CA0-9E02-5DCC1F3C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116-BE25-4772-AF5B-15EB0126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F39-2AC7-4427-A348-8E1D81AF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321-37F6-4347-9F74-114A803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642-49F3-4A88-B791-4EBE2FC3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645-5FF0-432B-BBEE-845A094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0E4-D334-4778-A0D4-A59EED79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2E6-3EA8-4A88-A963-B8AF50E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891-9447-4C10-8234-61AC46AA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660-507D-4935-BE60-1F14F01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7926-161F-46D0-9BFA-7A4E2EC218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rcRect l="5803" t="1139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19320" y="211788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的百草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9880" y="42670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762120" y="5335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191120" y="533520"/>
            <a:ext cx="1371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黄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叫天子</a:t>
            </a:r>
            <a:r>
              <a:rPr b="0" lang="zh-CN" sz="54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　　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30456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80880" y="190512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也不必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3048120" y="838080"/>
            <a:ext cx="77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鸣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9" name="WordArt 8" descr="白色大理石"/>
          <p:cNvPicPr/>
          <p:nvPr/>
        </p:nvPicPr>
        <p:blipFill>
          <a:blip r:embed="rId1"/>
          <a:stretch/>
        </p:blipFill>
        <p:spPr>
          <a:xfrm>
            <a:off x="6381720" y="822240"/>
            <a:ext cx="1397160" cy="7938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>
            <a:off x="2666880" y="2590920"/>
            <a:ext cx="15382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肥胖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6629400" y="2286000"/>
            <a:ext cx="781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黑体"/>
              </a:rPr>
              <a:t>伏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ff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2362320" y="4267080"/>
            <a:ext cx="16142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轻捷</a:t>
            </a:r>
            <a:endParaRPr b="1" lang="en-US" sz="2400" spc="1" strike="noStrike">
              <a:ln w="19080">
                <a:solidFill>
                  <a:srgbClr val="ff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6781680" y="4114800"/>
            <a:ext cx="1067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窜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762120" y="762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</a:rPr>
              <a:t>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971800" y="838080"/>
            <a:ext cx="1905120" cy="63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33"/>
                </a:solidFill>
                <a:latin typeface="Times New Roman"/>
              </a:rPr>
              <a:t>油蛉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33"/>
                </a:solidFill>
                <a:latin typeface="Times New Roman"/>
              </a:rPr>
              <a:t>蟋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33"/>
                </a:solidFill>
                <a:latin typeface="Times New Roman"/>
              </a:rPr>
              <a:t>蜈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33"/>
                </a:solidFill>
                <a:latin typeface="Times New Roman"/>
              </a:rPr>
              <a:t>斑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486400" y="762120"/>
            <a:ext cx="2530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Times New Roman"/>
              </a:rPr>
              <a:t>何首乌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Times New Roman"/>
              </a:rPr>
              <a:t>木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Times New Roman"/>
              </a:rPr>
              <a:t>覆盆子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0" y="2514600"/>
            <a:ext cx="2743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（单是 泥墙根一带，就有无限趣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>
            <a:hlinkClick r:id="" action="ppaction://hlinkshowjump?jump=nextslide"/>
          </p:cNvPr>
          <p:cNvSpPr/>
          <p:nvPr/>
        </p:nvSpPr>
        <p:spPr>
          <a:xfrm>
            <a:off x="8229600" y="662940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23040" y="5445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有哪些有趣的活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从百草园到三味书屋-皂夹树"/>
          <p:cNvPicPr/>
          <p:nvPr/>
        </p:nvPicPr>
        <p:blipFill>
          <a:blip r:embed="rId1"/>
          <a:stretch/>
        </p:blipFill>
        <p:spPr>
          <a:xfrm>
            <a:off x="6737400" y="333360"/>
            <a:ext cx="2406600" cy="213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从百草园到三味书屋-桑椹"/>
          <p:cNvPicPr/>
          <p:nvPr/>
        </p:nvPicPr>
        <p:blipFill>
          <a:blip r:embed="rId2"/>
          <a:stretch/>
        </p:blipFill>
        <p:spPr>
          <a:xfrm>
            <a:off x="6300720" y="333360"/>
            <a:ext cx="2559240" cy="214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从百草园到三味书屋-覆盘子"/>
          <p:cNvPicPr/>
          <p:nvPr/>
        </p:nvPicPr>
        <p:blipFill>
          <a:blip r:embed="rId3"/>
          <a:stretch/>
        </p:blipFill>
        <p:spPr>
          <a:xfrm>
            <a:off x="6156360" y="3573360"/>
            <a:ext cx="259236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从百草园到三味书屋-何首乌藤和木莲藤"/>
          <p:cNvPicPr/>
          <p:nvPr/>
        </p:nvPicPr>
        <p:blipFill>
          <a:blip r:embed="rId4"/>
          <a:stretch/>
        </p:blipFill>
        <p:spPr>
          <a:xfrm>
            <a:off x="3419640" y="3573360"/>
            <a:ext cx="2474640" cy="223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3_11445"/>
          <p:cNvPicPr/>
          <p:nvPr/>
        </p:nvPicPr>
        <p:blipFill>
          <a:blip r:embed="rId5"/>
          <a:stretch/>
        </p:blipFill>
        <p:spPr>
          <a:xfrm>
            <a:off x="971640" y="33336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1619280" y="27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石井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84720" y="2781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皂夹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236000" y="2781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桑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877080" y="5950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覆盆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何首乌"/>
          <p:cNvPicPr/>
          <p:nvPr/>
        </p:nvPicPr>
        <p:blipFill>
          <a:blip r:embed="rId6"/>
          <a:stretch/>
        </p:blipFill>
        <p:spPr>
          <a:xfrm>
            <a:off x="900000" y="3573360"/>
            <a:ext cx="2360880" cy="2232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2"/>
          <p:cNvSpPr/>
          <p:nvPr/>
        </p:nvSpPr>
        <p:spPr>
          <a:xfrm>
            <a:off x="1547640" y="60102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何首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140360" y="59500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木莲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blinds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1101"/>
          <p:cNvPicPr/>
          <p:nvPr/>
        </p:nvPicPr>
        <p:blipFill>
          <a:blip r:embed="rId1"/>
          <a:stretch/>
        </p:blipFill>
        <p:spPr>
          <a:xfrm>
            <a:off x="6761160" y="3213000"/>
            <a:ext cx="206064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无标题"/>
          <p:cNvPicPr/>
          <p:nvPr/>
        </p:nvPicPr>
        <p:blipFill>
          <a:blip r:embed="rId2"/>
          <a:stretch/>
        </p:blipFill>
        <p:spPr>
          <a:xfrm>
            <a:off x="1403280" y="333360"/>
            <a:ext cx="14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云雀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227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蟋蟀"/>
          <p:cNvPicPr/>
          <p:nvPr/>
        </p:nvPicPr>
        <p:blipFill>
          <a:blip r:embed="rId4"/>
          <a:stretch/>
        </p:blipFill>
        <p:spPr>
          <a:xfrm>
            <a:off x="4788000" y="-314280"/>
            <a:ext cx="2448000" cy="263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从百草园到三味书屋-蜈蚣"/>
          <p:cNvPicPr/>
          <p:nvPr/>
        </p:nvPicPr>
        <p:blipFill>
          <a:blip r:embed="rId5"/>
          <a:stretch/>
        </p:blipFill>
        <p:spPr>
          <a:xfrm>
            <a:off x="3708360" y="3141720"/>
            <a:ext cx="2879640" cy="259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从百草园到三味书屋-油蛉"/>
          <p:cNvPicPr/>
          <p:nvPr/>
        </p:nvPicPr>
        <p:blipFill>
          <a:blip r:embed="rId6"/>
          <a:stretch/>
        </p:blipFill>
        <p:spPr>
          <a:xfrm>
            <a:off x="2916360" y="333360"/>
            <a:ext cx="190800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1"/>
          <p:cNvPicPr/>
          <p:nvPr/>
        </p:nvPicPr>
        <p:blipFill>
          <a:blip r:embed="rId7"/>
          <a:stretch/>
        </p:blipFill>
        <p:spPr>
          <a:xfrm>
            <a:off x="684360" y="2924280"/>
            <a:ext cx="2879640" cy="2724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2627280" y="234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鸣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47640" y="5661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黄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5867280" y="227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蟋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7667640" y="2276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云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427640" y="59500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蜈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559640" y="587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斑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blinds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885160" cy="113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66"/>
                </a:solidFill>
                <a:latin typeface="Arial"/>
              </a:rPr>
              <a:t>课文阅读与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11280" y="1557360"/>
            <a:ext cx="8208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这些景物是通过什么句式有机地连在一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9640" y="2852640"/>
            <a:ext cx="78487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用了两个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不必说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和一个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单是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把诸多景物连在一起，先写整体，后写局部（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泥墙根一带的无限趣味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），将百草园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春、夏、秋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2060"/>
                </a:solidFill>
                <a:latin typeface="隶书"/>
              </a:rPr>
              <a:t>三季中的各种动、植物都描绘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gradient5"/>
          <p:cNvPicPr/>
          <p:nvPr/>
        </p:nvPicPr>
        <p:blipFill>
          <a:blip r:embed="rId1"/>
          <a:stretch/>
        </p:blipFill>
        <p:spPr>
          <a:xfrm>
            <a:off x="914400" y="1371600"/>
            <a:ext cx="254160" cy="260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676520" y="1447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不必说”为了撇开一些东西，是为了突出“单是”的内容。既然“单是”这一点已经趣味无穷了，那么园中的乐趣比比皆是了。这样写，突出了百草园的无穷乐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8480" y="761760"/>
            <a:ext cx="88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66"/>
                </a:solidFill>
                <a:latin typeface="Arial"/>
              </a:rPr>
              <a:t>课文阅读与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6765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两个“不必说”在描写对象和描写顺序上有何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38080" y="2813040"/>
            <a:ext cx="731520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第一个</a:t>
            </a:r>
            <a:r>
              <a:rPr b="0" lang="zh-CN" sz="3600" spc="-1" strike="noStrike">
                <a:solidFill>
                  <a:srgbClr val="58e085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不必说</a:t>
            </a:r>
            <a:r>
              <a:rPr b="0" lang="zh-CN" sz="3600" spc="-1" strike="noStrike">
                <a:solidFill>
                  <a:srgbClr val="58e085"/>
                </a:solidFill>
                <a:latin typeface="宋体"/>
                <a:ea typeface="隶书"/>
              </a:rPr>
              <a:t>”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，写的是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静物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，莱畦</a:t>
            </a:r>
            <a:r>
              <a:rPr b="0" lang="en-US" sz="3600" spc="-1" strike="noStrike">
                <a:solidFill>
                  <a:srgbClr val="58e085"/>
                </a:solidFill>
                <a:latin typeface="宋体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石井栏</a:t>
            </a:r>
            <a:r>
              <a:rPr b="0" lang="en-US" sz="3600" spc="-1" strike="noStrike">
                <a:solidFill>
                  <a:srgbClr val="58e085"/>
                </a:solidFill>
                <a:latin typeface="宋体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皂荚树</a:t>
            </a:r>
            <a:r>
              <a:rPr b="0" lang="en-US" sz="3600" spc="-1" strike="noStrike">
                <a:solidFill>
                  <a:srgbClr val="58e085"/>
                </a:solidFill>
                <a:latin typeface="宋体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桑椹，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由低到高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第二个</a:t>
            </a:r>
            <a:r>
              <a:rPr b="0" lang="zh-CN" sz="3600" spc="-1" strike="noStrike">
                <a:solidFill>
                  <a:srgbClr val="58e085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不必说</a:t>
            </a:r>
            <a:r>
              <a:rPr b="0" lang="zh-CN" sz="3600" spc="-1" strike="noStrike">
                <a:solidFill>
                  <a:srgbClr val="58e085"/>
                </a:solidFill>
                <a:latin typeface="宋体"/>
                <a:ea typeface="隶书"/>
              </a:rPr>
              <a:t>”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，写的是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动物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，鸣蝉</a:t>
            </a:r>
            <a:r>
              <a:rPr b="0" lang="en-US" sz="3600" spc="-1" strike="noStrike">
                <a:solidFill>
                  <a:srgbClr val="58e085"/>
                </a:solidFill>
                <a:latin typeface="宋体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黄蜂</a:t>
            </a:r>
            <a:r>
              <a:rPr b="0" lang="en-US" sz="3600" spc="-1" strike="noStrike">
                <a:solidFill>
                  <a:srgbClr val="58e085"/>
                </a:solidFill>
                <a:latin typeface="宋体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叫天子，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由高到低</a:t>
            </a:r>
            <a:r>
              <a:rPr b="0" lang="zh-CN" sz="3600" spc="-1" strike="noStrike">
                <a:solidFill>
                  <a:srgbClr val="58e085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gradient5"/>
          <p:cNvPicPr/>
          <p:nvPr/>
        </p:nvPicPr>
        <p:blipFill>
          <a:blip r:embed="rId1"/>
          <a:stretch/>
        </p:blipFill>
        <p:spPr>
          <a:xfrm>
            <a:off x="228600" y="762120"/>
            <a:ext cx="254160" cy="2602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"/>
          <p:cNvGrpSpPr/>
          <p:nvPr/>
        </p:nvGrpSpPr>
        <p:grpSpPr>
          <a:xfrm>
            <a:off x="5638680" y="685800"/>
            <a:ext cx="76320" cy="1066680"/>
            <a:chOff x="5638680" y="685800"/>
            <a:chExt cx="76320" cy="1066680"/>
          </a:xfrm>
        </p:grpSpPr>
        <p:sp>
          <p:nvSpPr>
            <p:cNvPr id="145" name="Line 4"/>
            <p:cNvSpPr/>
            <p:nvPr/>
          </p:nvSpPr>
          <p:spPr>
            <a:xfrm>
              <a:off x="5638680" y="685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>
              <a:off x="5715000" y="685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685800" y="762120"/>
            <a:ext cx="4724280" cy="761760"/>
            <a:chOff x="685800" y="762120"/>
            <a:chExt cx="4724280" cy="761760"/>
          </a:xfrm>
        </p:grpSpPr>
        <p:sp>
          <p:nvSpPr>
            <p:cNvPr id="148" name="Text Box 7"/>
            <p:cNvSpPr/>
            <p:nvPr/>
          </p:nvSpPr>
          <p:spPr>
            <a:xfrm>
              <a:off x="762120" y="91404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不必说 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……</a:t>
              </a:r>
              <a:r>
                <a:rPr b="1" lang="zh-CN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也不必说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……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685800" y="762120"/>
              <a:ext cx="4724280" cy="761760"/>
            </a:xfrm>
            <a:prstGeom prst="rect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5943600" y="762120"/>
            <a:ext cx="2731680" cy="795240"/>
            <a:chOff x="5943600" y="762120"/>
            <a:chExt cx="2731680" cy="795240"/>
          </a:xfrm>
        </p:grpSpPr>
        <p:sp>
          <p:nvSpPr>
            <p:cNvPr id="151" name="Rectangle 10"/>
            <p:cNvSpPr/>
            <p:nvPr/>
          </p:nvSpPr>
          <p:spPr>
            <a:xfrm>
              <a:off x="5943600" y="762120"/>
              <a:ext cx="2731680" cy="795240"/>
            </a:xfrm>
            <a:prstGeom prst="rect">
              <a:avLst/>
            </a:prstGeom>
            <a:noFill/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6044760" y="906480"/>
              <a:ext cx="25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单是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黑体"/>
                </a:rPr>
                <a:t>……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2"/>
          <p:cNvGrpSpPr/>
          <p:nvPr/>
        </p:nvGrpSpPr>
        <p:grpSpPr>
          <a:xfrm>
            <a:off x="2743200" y="1600200"/>
            <a:ext cx="4038480" cy="609480"/>
            <a:chOff x="2743200" y="1600200"/>
            <a:chExt cx="4038480" cy="609480"/>
          </a:xfrm>
        </p:grpSpPr>
        <p:sp>
          <p:nvSpPr>
            <p:cNvPr id="154" name="Line 13"/>
            <p:cNvSpPr/>
            <p:nvPr/>
          </p:nvSpPr>
          <p:spPr>
            <a:xfrm>
              <a:off x="2743200" y="1600200"/>
              <a:ext cx="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6781680" y="1600200"/>
              <a:ext cx="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AutoShape 15"/>
          <p:cNvSpPr/>
          <p:nvPr/>
        </p:nvSpPr>
        <p:spPr>
          <a:xfrm>
            <a:off x="2057400" y="2209680"/>
            <a:ext cx="1295280" cy="609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6172200" y="2209680"/>
            <a:ext cx="1295280" cy="609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局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3352680" y="259092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37339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写作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21932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静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352680" y="3352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5364000" y="3357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731520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静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1066680" y="3962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菜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990720" y="4495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石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1066680" y="49784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皂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1042920" y="54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桑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276720" y="3962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鸣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3276720" y="4978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叫天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3276720" y="4470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黄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5292720" y="4076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油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5292720" y="4508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蟋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5292720" y="5013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蜈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52578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斑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4"/>
          <p:cNvSpPr/>
          <p:nvPr/>
        </p:nvSpPr>
        <p:spPr>
          <a:xfrm>
            <a:off x="6705720" y="386064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何首乌和木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6588000" y="45086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覆盆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1676520" y="1371600"/>
            <a:ext cx="1820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8000"/>
                </a:solidFill>
                <a:latin typeface="Times New Roman"/>
              </a:rPr>
              <a:t>︷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775480" y="1371600"/>
            <a:ext cx="199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8000"/>
                </a:solidFill>
                <a:latin typeface="Times New Roman"/>
              </a:rPr>
              <a:t>︷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762120" y="41148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-2981880" y="3809880"/>
            <a:ext cx="359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低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40"/>
          <p:cNvSpPr/>
          <p:nvPr/>
        </p:nvSpPr>
        <p:spPr>
          <a:xfrm>
            <a:off x="324000" y="429264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1"/>
          <p:cNvSpPr/>
          <p:nvPr/>
        </p:nvSpPr>
        <p:spPr>
          <a:xfrm>
            <a:off x="4381560" y="41911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68040 h 1066680"/>
              <a:gd name="textAreaBottom" fmla="*/ 9986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02"/>
                  <a:pt x="10800" y="4404"/>
                </a:cubicBezTo>
                <a:lnTo>
                  <a:pt x="10800" y="6396"/>
                </a:lnTo>
                <a:cubicBezTo>
                  <a:pt x="10800" y="8598"/>
                  <a:pt x="16200" y="10800"/>
                  <a:pt x="21600" y="10800"/>
                </a:cubicBezTo>
                <a:cubicBezTo>
                  <a:pt x="16200" y="10800"/>
                  <a:pt x="10800" y="13002"/>
                  <a:pt x="10800" y="15204"/>
                </a:cubicBezTo>
                <a:lnTo>
                  <a:pt x="10800" y="17196"/>
                </a:lnTo>
                <a:cubicBezTo>
                  <a:pt x="10800" y="193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>
            <a:off x="4800600" y="43434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4629600" y="3778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4645440" y="5257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>
            <a:off x="2362320" y="3657600"/>
            <a:ext cx="838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>
            <a:off x="6324480" y="3657600"/>
            <a:ext cx="838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0" y="537372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8"/>
          <p:cNvSpPr/>
          <p:nvPr/>
        </p:nvSpPr>
        <p:spPr>
          <a:xfrm>
            <a:off x="1295280" y="62784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9"/>
          <p:cNvSpPr/>
          <p:nvPr/>
        </p:nvSpPr>
        <p:spPr>
          <a:xfrm>
            <a:off x="1600200" y="601992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0"/>
          <p:cNvSpPr/>
          <p:nvPr/>
        </p:nvSpPr>
        <p:spPr>
          <a:xfrm>
            <a:off x="3492360" y="6021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>
            <a:off x="3780000" y="5589720"/>
            <a:ext cx="0" cy="431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6095880" y="6019920"/>
            <a:ext cx="5749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3"/>
          <p:cNvSpPr/>
          <p:nvPr/>
        </p:nvSpPr>
        <p:spPr>
          <a:xfrm>
            <a:off x="7093080" y="5084640"/>
            <a:ext cx="0" cy="576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4"/>
          <p:cNvSpPr/>
          <p:nvPr/>
        </p:nvSpPr>
        <p:spPr>
          <a:xfrm>
            <a:off x="6804000" y="5734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6516720" y="4365720"/>
            <a:ext cx="32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6"/>
          <p:cNvSpPr/>
          <p:nvPr/>
        </p:nvSpPr>
        <p:spPr>
          <a:xfrm>
            <a:off x="7956720" y="4797360"/>
            <a:ext cx="43164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7"/>
          <p:cNvSpPr/>
          <p:nvPr/>
        </p:nvSpPr>
        <p:spPr>
          <a:xfrm>
            <a:off x="8459640" y="4581360"/>
            <a:ext cx="3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6156360" y="4365720"/>
            <a:ext cx="360360" cy="431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9"/>
          <p:cNvSpPr/>
          <p:nvPr/>
        </p:nvSpPr>
        <p:spPr>
          <a:xfrm flipV="1">
            <a:off x="6156360" y="4653000"/>
            <a:ext cx="360360" cy="288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0186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形：高大、臃肿、小</a:t>
            </a: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球</a:t>
            </a: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静物</a:t>
            </a: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色：碧绿、紫红、菜花</a:t>
            </a:r>
            <a:r>
              <a:rPr b="1" lang="zh-CN" sz="1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景                   </a:t>
            </a: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味：（覆盆子）又酸又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物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形：肥胖、轻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动物</a:t>
            </a:r>
            <a:r>
              <a:rPr b="0" lang="zh-CN" sz="1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声：长吟、低唱、弹琴</a:t>
            </a:r>
            <a:r>
              <a:rPr b="1" lang="zh-CN" sz="1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动：伏、窜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771640" y="1989000"/>
            <a:ext cx="505080" cy="576360"/>
          </a:xfrm>
          <a:custGeom>
            <a:avLst/>
            <a:gdLst>
              <a:gd name="textAreaLeft" fmla="*/ 322920 w 505080"/>
              <a:gd name="textAreaRight" fmla="*/ 505440 w 505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2916360" y="38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547640" y="2349360"/>
            <a:ext cx="368640" cy="1656000"/>
          </a:xfrm>
          <a:custGeom>
            <a:avLst/>
            <a:gdLst>
              <a:gd name="textAreaLeft" fmla="*/ 235440 w 368640"/>
              <a:gd name="textAreaRight" fmla="*/ 369000 w 368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460600" y="6602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了事物哪些方面的特点来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095880" y="4572000"/>
            <a:ext cx="2178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味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116760" y="3657600"/>
            <a:ext cx="2178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116760" y="2941560"/>
            <a:ext cx="2178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视觉、触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116760" y="2057400"/>
            <a:ext cx="2178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视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2057400" y="365760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长吟、弹琴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979560" y="365760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声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057400" y="454176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又酸又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979560" y="454176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味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057400" y="2941560"/>
            <a:ext cx="4059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光滑、高大、肥胖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979560" y="2941560"/>
            <a:ext cx="1077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形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2124000" y="206064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碧绿、紫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979560" y="205740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颜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979560" y="294156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79560" y="365760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2057400" y="2057400"/>
            <a:ext cx="0" cy="33685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979560" y="2057400"/>
            <a:ext cx="73152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979560" y="2057400"/>
            <a:ext cx="0" cy="33685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8294760" y="2057400"/>
            <a:ext cx="0" cy="33685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990720" y="5410080"/>
            <a:ext cx="73152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979560" y="454176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116760" y="2057400"/>
            <a:ext cx="0" cy="33685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143000" y="11430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隶书"/>
              </a:rPr>
              <a:t>比喻、拟人、排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768240" y="5805360"/>
            <a:ext cx="83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准确的形容、准确地表述动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7652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24360" y="7650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979640" y="191628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311640" y="333360"/>
            <a:ext cx="583236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作者简介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鲁迅，原名周树人，浙江省绍兴市人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他是我国伟大的文学家、思想家、革命家</a:t>
            </a:r>
            <a:r>
              <a:rPr b="1" i="1" lang="zh-CN" sz="2800" spc="-1" strike="noStrike">
                <a:solidFill>
                  <a:srgbClr val="002060"/>
                </a:solidFill>
                <a:latin typeface="宋体"/>
              </a:rPr>
              <a:t> 。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著作有杂文集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二心集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、小说集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彷徨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呐喊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故事新编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、散文集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朝花夕拾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、散文诗集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野草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等。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1918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发表我国现代文学史上第一篇白话小说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——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狂人日记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1936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日病逝于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我们曾学过他写的散文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风筝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鲁迅画像"/>
          <p:cNvPicPr/>
          <p:nvPr/>
        </p:nvPicPr>
        <p:blipFill>
          <a:blip r:embed="rId1"/>
          <a:stretch/>
        </p:blipFill>
        <p:spPr>
          <a:xfrm>
            <a:off x="0" y="1195560"/>
            <a:ext cx="3346560" cy="3863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-9752040" y="1219320"/>
            <a:ext cx="30173760" cy="121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 </a:t>
            </a:r>
            <a:r>
              <a:rPr b="1" lang="zh-CN" sz="4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重点研读                     </a:t>
            </a:r>
            <a:endParaRPr b="1" lang="en-US" sz="4800" spc="1" strike="noStrike">
              <a:ln w="9360">
                <a:solidFill>
                  <a:srgbClr val="993366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                                                                                                </a:t>
            </a:r>
            <a:endParaRPr b="1" lang="en-US" sz="4800" spc="1" strike="noStrike">
              <a:ln w="9360">
                <a:solidFill>
                  <a:srgbClr val="993366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57200" y="838080"/>
            <a:ext cx="228600" cy="3049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332000" y="2708280"/>
            <a:ext cx="706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1.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的对象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的顺序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的情态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4.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的词语、句式运用上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5.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所调动的感官上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6.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所采用的修辞手法上看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9640" y="1360440"/>
            <a:ext cx="103759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认为作者描绘的百草园是美的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解说一下作者怎样写出它的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060"/>
                </a:solidFill>
                <a:latin typeface="Times New Roman"/>
                <a:ea typeface="隶书"/>
              </a:rPr>
              <a:t>作者是怎样描写百草园的的景物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762120"/>
            <a:ext cx="9144000" cy="62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.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的对象看：</a:t>
            </a: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华文楷体"/>
              </a:rPr>
              <a:t>有植物也有动物</a:t>
            </a:r>
            <a:r>
              <a:rPr b="0" lang="zh-CN" sz="2800" spc="-1" strike="noStrike">
                <a:solidFill>
                  <a:srgbClr val="002060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的顺序看：</a:t>
            </a: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华文楷体"/>
              </a:rPr>
              <a:t>先整体后局部</a:t>
            </a: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感觉的角度看：表现了儿童独特的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有好看的（视觉）、有好听的（听觉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有好玩的（触角）、有好吃的（味觉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4.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描写的词语、句式运用上看：</a:t>
            </a:r>
            <a:r>
              <a:rPr b="0" lang="zh-CN" sz="2800" spc="-1" strike="noStrike">
                <a:solidFill>
                  <a:srgbClr val="002060"/>
                </a:solidFill>
                <a:latin typeface="Arial"/>
                <a:ea typeface="华文楷体"/>
              </a:rPr>
              <a:t>用词十分生动、贴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运用了</a:t>
            </a: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华文楷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不必说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华文楷体"/>
              </a:rPr>
              <a:t>……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也不必说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华文楷体"/>
              </a:rPr>
              <a:t>……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单是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华文楷体"/>
              </a:rPr>
              <a:t>……”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的                   句式，强调园中佳趣比比皆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6.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仿宋_GB2312"/>
              </a:rPr>
              <a:t>从所采用的修辞手法上看：</a:t>
            </a: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有比喻、有拟人</a:t>
            </a:r>
            <a:r>
              <a:rPr b="0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wang"/>
          <p:cNvPicPr/>
          <p:nvPr/>
        </p:nvPicPr>
        <p:blipFill>
          <a:blip r:embed="rId1"/>
          <a:stretch/>
        </p:blipFill>
        <p:spPr>
          <a:xfrm>
            <a:off x="2195640" y="1557360"/>
            <a:ext cx="5208480" cy="329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0" y="6019920"/>
            <a:ext cx="89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雪    地面     短棒    竹筛    秕谷    长绳    人   鸟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380880"/>
            <a:ext cx="8381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精读第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自然段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187280" y="3645000"/>
            <a:ext cx="13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95280" y="299736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捕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956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55640" y="17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、捕鸟要具备什么条件？准备哪些工具？怎样捕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04920" y="12193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隶书"/>
              </a:rPr>
              <a:t>探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476360" y="400536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340000" y="494172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340000" y="3789360"/>
            <a:ext cx="1295280" cy="830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扫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3851280" y="386064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露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12"/>
          <p:cNvSpPr/>
          <p:nvPr/>
        </p:nvSpPr>
        <p:spPr>
          <a:xfrm>
            <a:off x="5148360" y="386064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支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6443640" y="386064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撒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7848720" y="386064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2411280" y="4869000"/>
            <a:ext cx="1295640" cy="6858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牵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3780000" y="486900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5003640" y="4869000"/>
            <a:ext cx="1295640" cy="6858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8"/>
          <p:cNvSpPr/>
          <p:nvPr/>
        </p:nvSpPr>
        <p:spPr>
          <a:xfrm>
            <a:off x="6372360" y="486900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990720" y="11430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先写百草园冬天的“无味”，然后写下雪带来的乐趣，这是什么写法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914400" y="3276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表示捕鸟动作的词，说说这些词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990720" y="54864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齐声朗读这段文字，仔细品味它的妙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" descr="button105"/>
          <p:cNvPicPr/>
          <p:nvPr/>
        </p:nvPicPr>
        <p:blipFill>
          <a:blip r:embed="rId1"/>
          <a:stretch/>
        </p:blipFill>
        <p:spPr>
          <a:xfrm>
            <a:off x="457200" y="11430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6"/>
          <p:cNvGrpSpPr/>
          <p:nvPr/>
        </p:nvGrpSpPr>
        <p:grpSpPr>
          <a:xfrm>
            <a:off x="457200" y="2590920"/>
            <a:ext cx="7467480" cy="532800"/>
            <a:chOff x="457200" y="2590920"/>
            <a:chExt cx="7467480" cy="532800"/>
          </a:xfrm>
        </p:grpSpPr>
        <p:sp>
          <p:nvSpPr>
            <p:cNvPr id="259" name="Text Box 7"/>
            <p:cNvSpPr/>
            <p:nvPr/>
          </p:nvSpPr>
          <p:spPr>
            <a:xfrm>
              <a:off x="1066680" y="259092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以没有雪的无味来衬托下雪带来的乐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Picture 8" descr="button43"/>
            <p:cNvPicPr/>
            <p:nvPr/>
          </p:nvPicPr>
          <p:blipFill>
            <a:blip r:embed="rId2"/>
            <a:stretch/>
          </p:blipFill>
          <p:spPr>
            <a:xfrm>
              <a:off x="457200" y="266688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9" descr="button105"/>
          <p:cNvPicPr/>
          <p:nvPr/>
        </p:nvPicPr>
        <p:blipFill>
          <a:blip r:embed="rId3"/>
          <a:stretch/>
        </p:blipFill>
        <p:spPr>
          <a:xfrm>
            <a:off x="45720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"/>
          <p:cNvSpPr/>
          <p:nvPr/>
        </p:nvSpPr>
        <p:spPr>
          <a:xfrm>
            <a:off x="1047600" y="380988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930320" y="38098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728800" y="380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3516480" y="380988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4295880" y="380988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140440" y="3809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649920" y="38098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900760" y="38098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467480" y="38098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1066680" y="43434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九个表述动作的词，准确而生动地表现了雪地捕鸟的过程，写出了雪后捕鸟的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0" descr="button105"/>
          <p:cNvPicPr/>
          <p:nvPr/>
        </p:nvPicPr>
        <p:blipFill>
          <a:blip r:embed="rId4"/>
          <a:stretch/>
        </p:blipFill>
        <p:spPr>
          <a:xfrm>
            <a:off x="457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button43"/>
          <p:cNvPicPr/>
          <p:nvPr/>
        </p:nvPicPr>
        <p:blipFill>
          <a:blip r:embed="rId5"/>
          <a:stretch/>
        </p:blipFill>
        <p:spPr>
          <a:xfrm>
            <a:off x="457200" y="38862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22"/>
          <p:cNvGrpSpPr/>
          <p:nvPr/>
        </p:nvGrpSpPr>
        <p:grpSpPr>
          <a:xfrm>
            <a:off x="457200" y="2057400"/>
            <a:ext cx="7467480" cy="533520"/>
            <a:chOff x="457200" y="2057400"/>
            <a:chExt cx="7467480" cy="533520"/>
          </a:xfrm>
        </p:grpSpPr>
        <p:sp>
          <p:nvSpPr>
            <p:cNvPr id="275" name="Text Box 23"/>
            <p:cNvSpPr/>
            <p:nvPr/>
          </p:nvSpPr>
          <p:spPr>
            <a:xfrm>
              <a:off x="1066680" y="20574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先抑后扬，欲扬先抑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Picture 24" descr="button43"/>
            <p:cNvPicPr/>
            <p:nvPr/>
          </p:nvPicPr>
          <p:blipFill>
            <a:blip r:embed="rId6"/>
            <a:stretch/>
          </p:blipFill>
          <p:spPr>
            <a:xfrm>
              <a:off x="457200" y="21337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7" name="Picture 25" descr="button43"/>
          <p:cNvPicPr/>
          <p:nvPr/>
        </p:nvPicPr>
        <p:blipFill>
          <a:blip r:embed="rId7"/>
          <a:stretch/>
        </p:blipFill>
        <p:spPr>
          <a:xfrm>
            <a:off x="45720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611280" y="1905120"/>
            <a:ext cx="8208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两小段记叙，语序顺正而严格，绝不能任意这调换。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扫，露，支，撒，系，牵，看，拉，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等动词，准确、生动、真切写出捕鸟的全过程，也从中写出捕鸟时的兴奋惊喜之情，不点乐园，却乐在其中。对闰土父亲的描写中，则写出闰土父亲的善良，沉静，捕鸟经验丰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295280" y="762120"/>
            <a:ext cx="525780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华文琥珀"/>
              </a:rPr>
              <a:t>小结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华文琥珀"/>
              </a:rPr>
              <a:t>3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华文琥珀"/>
              </a:rPr>
              <a:t>、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华文琥珀"/>
              </a:rPr>
              <a:t>4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华文琥珀"/>
              </a:rPr>
              <a:t>段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28720" y="3809880"/>
            <a:ext cx="3743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观察百草园的景物（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80880" y="1752480"/>
            <a:ext cx="3708360" cy="2032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5105520" y="1600200"/>
            <a:ext cx="3705120" cy="2087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304920" y="38862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6172200" y="38098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雪地捕鸟</a:t>
            </a:r>
            <a:r>
              <a:rPr b="0" i="1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（</a:t>
            </a:r>
            <a:r>
              <a:rPr b="0" i="1" lang="en-US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-4</a:t>
            </a:r>
            <a:r>
              <a:rPr b="0" i="1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段</a:t>
            </a:r>
            <a:r>
              <a:rPr b="0" i="1" lang="en-US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5562720" y="3809880"/>
            <a:ext cx="457200" cy="528840"/>
          </a:xfrm>
          <a:prstGeom prst="upArrow">
            <a:avLst>
              <a:gd name="adj1" fmla="val 50000"/>
              <a:gd name="adj2" fmla="val 289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78000" y="533520"/>
            <a:ext cx="83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百草园中的生活，作者选写了哪些生活？表达了一种怎样的情感和心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395280" y="5300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表达了热爱大自然、好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喜欢自由快乐的感情和心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4419720" y="5943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4876920" y="5943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304920" y="304920"/>
            <a:ext cx="849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上面一系列动词任选三个并加以其他动词叙述某个游戏的过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描写蚂蚁搬家的经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" descr="11-27"/>
          <p:cNvPicPr/>
          <p:nvPr/>
        </p:nvPicPr>
        <p:blipFill>
          <a:blip r:embed="rId1"/>
          <a:stretch/>
        </p:blipFill>
        <p:spPr>
          <a:xfrm>
            <a:off x="7086600" y="4724280"/>
            <a:ext cx="1352520" cy="1781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goboy"/>
          <p:cNvPicPr/>
          <p:nvPr/>
        </p:nvPicPr>
        <p:blipFill>
          <a:blip r:embed="rId2"/>
          <a:stretch/>
        </p:blipFill>
        <p:spPr>
          <a:xfrm>
            <a:off x="685800" y="1981080"/>
            <a:ext cx="314280" cy="3636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1918440" y="679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布置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2"/>
          <p:cNvSpPr/>
          <p:nvPr/>
        </p:nvSpPr>
        <p:spPr>
          <a:xfrm>
            <a:off x="838080" y="1066680"/>
            <a:ext cx="79250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44600" y="277560"/>
            <a:ext cx="64548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    味   书   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3720" y="1599840"/>
            <a:ext cx="1295280" cy="47242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1000"/>
          </a:bodyPr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这是鲁迅上学的私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17"/>
          <p:cNvPicPr/>
          <p:nvPr/>
        </p:nvPicPr>
        <p:blipFill>
          <a:blip r:embed="rId1"/>
          <a:stretch/>
        </p:blipFill>
        <p:spPr>
          <a:xfrm>
            <a:off x="4572000" y="1219320"/>
            <a:ext cx="4419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8000" y="189000"/>
            <a:ext cx="8604360" cy="2043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朝花夕拾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》——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是一部散文集，共搜集了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篇文章，大部分作品是作者回忆自己童年、少年时代生活的。写本篇文章时鲁迅已经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多岁了。这部散文集题名为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朝花夕拾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意思是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早上的花到傍晚才拾取，比喻青少年时代的生活情景到晚年回忆，含蓄而富有诗意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从百草园到三味书屋-朝花夕拾"/>
          <p:cNvPicPr/>
          <p:nvPr/>
        </p:nvPicPr>
        <p:blipFill>
          <a:blip r:embed="rId1"/>
          <a:stretch/>
        </p:blipFill>
        <p:spPr>
          <a:xfrm>
            <a:off x="5508720" y="4292640"/>
            <a:ext cx="33462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"/>
              </a:rPr>
              <a:t>主题思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通过对百草园美好生活的回忆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表现儿童热爱自然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追求新鲜知识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天真幼稚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欢乐的心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266400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"/>
          <p:cNvPicPr/>
          <p:nvPr/>
        </p:nvPicPr>
        <p:blipFill>
          <a:blip r:embed="rId2"/>
          <a:stretch/>
        </p:blipFill>
        <p:spPr>
          <a:xfrm>
            <a:off x="5562720" y="4446720"/>
            <a:ext cx="3108240" cy="2411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476360" y="1844640"/>
            <a:ext cx="6248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         </a:t>
            </a:r>
            <a:r>
              <a:rPr b="1" i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选自</a:t>
            </a:r>
            <a:r>
              <a:rPr b="1" i="1" lang="en-US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</a:t>
            </a:r>
            <a:r>
              <a:rPr b="1" i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朝花夕拾</a:t>
            </a:r>
            <a:r>
              <a:rPr b="1" i="1" lang="en-US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》</a:t>
            </a:r>
            <a:r>
              <a:rPr b="1" i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，这是一篇回忆童年的散文， 写于</a:t>
            </a:r>
            <a:r>
              <a:rPr b="1" i="1" lang="en-US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1926</a:t>
            </a:r>
            <a:r>
              <a:rPr b="1" i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年，当时作者</a:t>
            </a:r>
            <a:r>
              <a:rPr b="1" i="1" lang="en-US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45</a:t>
            </a:r>
            <a:r>
              <a:rPr b="1" i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2692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他儿时喜欢的地方在哪里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492360" y="4221000"/>
            <a:ext cx="27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百草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95280" y="47628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隶书"/>
              </a:rPr>
              <a:t>为下列 红体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58920" y="155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zá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709080" y="1557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q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582160" y="1557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shè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885440" y="1557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lí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494520" y="2276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cu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65308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shān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74216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shuà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371240" y="2997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su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6160" y="299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shā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7741800" y="2997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443960" y="3789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b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3492360" y="37162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jì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7667640" y="593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561840" y="2997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hǎn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260720" y="22766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má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1187280" y="1913040"/>
            <a:ext cx="75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珊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人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        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谷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060"/>
                </a:solidFill>
                <a:latin typeface="Arial"/>
              </a:rPr>
              <a:t>课文阅读与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1484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百草园是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的乐园，文章是从哪些方面体现这一点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80880" y="2781360"/>
            <a:ext cx="876312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e085"/>
                </a:solidFill>
                <a:latin typeface="宋体"/>
              </a:rPr>
              <a:t>三个方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e085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58e085"/>
                </a:solidFill>
                <a:latin typeface="宋体"/>
              </a:rPr>
              <a:t>1)</a:t>
            </a:r>
            <a:r>
              <a:rPr b="1" lang="zh-CN" sz="3200" spc="-1" strike="noStrike">
                <a:solidFill>
                  <a:srgbClr val="58e085"/>
                </a:solidFill>
                <a:latin typeface="宋体"/>
              </a:rPr>
              <a:t>总说是“我”的乐园</a:t>
            </a:r>
            <a:r>
              <a:rPr b="1" lang="en-US" sz="3200" spc="-1" strike="noStrike">
                <a:solidFill>
                  <a:srgbClr val="58e085"/>
                </a:solidFill>
                <a:latin typeface="宋体"/>
              </a:rPr>
              <a:t>(1</a:t>
            </a:r>
            <a:r>
              <a:rPr b="1" lang="zh-CN" sz="3200" spc="-1" strike="noStrike">
                <a:solidFill>
                  <a:srgbClr val="58e085"/>
                </a:solidFill>
                <a:latin typeface="宋体"/>
              </a:rPr>
              <a:t>段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e085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58e085"/>
                </a:solidFill>
                <a:latin typeface="宋体"/>
                <a:ea typeface="宋体"/>
              </a:rPr>
              <a:t>）有趣的动植物</a:t>
            </a:r>
            <a:r>
              <a:rPr b="1" lang="en-US" sz="3200" spc="-1" strike="noStrike">
                <a:solidFill>
                  <a:srgbClr val="58e085"/>
                </a:solidFill>
                <a:latin typeface="宋体"/>
                <a:ea typeface="宋体"/>
              </a:rPr>
              <a:t>(2</a:t>
            </a:r>
            <a:r>
              <a:rPr b="1" lang="zh-CN" sz="3200" spc="-1" strike="noStrike">
                <a:solidFill>
                  <a:srgbClr val="58e085"/>
                </a:solidFill>
                <a:latin typeface="宋体"/>
                <a:ea typeface="宋体"/>
              </a:rPr>
              <a:t>段</a:t>
            </a:r>
            <a:r>
              <a:rPr b="1" lang="en-US" sz="3200" spc="-1" strike="noStrike">
                <a:solidFill>
                  <a:srgbClr val="58e085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58e085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e085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58e085"/>
                </a:solidFill>
                <a:latin typeface="宋体"/>
                <a:ea typeface="宋体"/>
              </a:rPr>
              <a:t>）雪地捕鸟（</a:t>
            </a:r>
            <a:r>
              <a:rPr b="1" lang="en-US" sz="3200" spc="-1" strike="noStrike">
                <a:solidFill>
                  <a:srgbClr val="58e085"/>
                </a:solidFill>
                <a:latin typeface="宋体"/>
                <a:ea typeface="宋体"/>
              </a:rPr>
              <a:t>3-4</a:t>
            </a:r>
            <a:r>
              <a:rPr b="1" lang="zh-CN" sz="3200" spc="-1" strike="noStrike">
                <a:solidFill>
                  <a:srgbClr val="58e085"/>
                </a:solidFill>
                <a:latin typeface="宋体"/>
                <a:ea typeface="宋体"/>
              </a:rPr>
              <a:t>段</a:t>
            </a:r>
            <a:r>
              <a:rPr b="1" lang="en-US" sz="3200" spc="-1" strike="noStrike">
                <a:solidFill>
                  <a:srgbClr val="58e085"/>
                </a:solidFill>
                <a:latin typeface="宋体"/>
                <a:ea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981000"/>
            <a:ext cx="8207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Arial"/>
              </a:rPr>
              <a:t>重点研读第二段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思考：课文写了百草园的哪些美好的景物？它们各抓住了静物、动物的什么特点来写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80880" y="609480"/>
            <a:ext cx="1676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春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666880" y="457200"/>
            <a:ext cx="1905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碧绿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6095880" y="457200"/>
            <a:ext cx="19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66ff33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菜畦</a:t>
            </a:r>
            <a:endParaRPr b="1" lang="en-US" sz="2400" spc="1" strike="noStrike">
              <a:ln cap="sq" w="12600">
                <a:solidFill>
                  <a:srgbClr val="66ff33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62320" y="2133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光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486400" y="19810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石井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09680" y="335268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黑体"/>
              </a:rPr>
              <a:t>高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562720" y="34290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皂荚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286000" y="48769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黑体"/>
              </a:rPr>
              <a:t>紫红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715000" y="50292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桑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-1109160" y="2590920"/>
            <a:ext cx="2861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必说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02:08:22Z</dcterms:created>
  <dc:creator/>
  <dc:description/>
  <dc:language>en-US</dc:language>
  <cp:lastModifiedBy>Administrator</cp:lastModifiedBy>
  <dcterms:modified xsi:type="dcterms:W3CDTF">2016-12-12T04:03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