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066A-466A-406F-B7CF-2B317448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EA14-B4DF-41CB-B5D5-874F909F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95B5-8002-4943-99E3-1B26380C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794-B2FD-4C6C-9C81-B35667C2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C07C-8985-425C-97E4-8E738BB0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CA5F-5C71-419C-A100-2280FAE5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614-53B6-4BB6-9AE1-5B2AAE6D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478E-5AF5-4769-899D-F3BCF246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F246-24FF-4332-87BC-410DFF2A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EEB5-8E1A-46AF-8C79-A55B76F5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AA77-F51E-42CB-86F9-502778FD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539-4F4F-4CE6-9A4E-BB3D9C35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DF46-22B5-4E4E-8F4F-2F6D98419E70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0" r="0" b="1598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0629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歌词二首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19280" y="2276640"/>
            <a:ext cx="6168960" cy="18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黑体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Calibri"/>
                <a:ea typeface="黑体"/>
              </a:rPr>
              <a:t>我的</a:t>
            </a:r>
            <a:r>
              <a:rPr b="1" lang="zh-CN" sz="6000" spc="-1" strike="noStrike">
                <a:solidFill>
                  <a:srgbClr val="ff0000"/>
                </a:solidFill>
                <a:latin typeface="Calibri"/>
                <a:ea typeface="黑体"/>
              </a:rPr>
              <a:t>中国心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黑体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755640" y="836280"/>
            <a:ext cx="809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080c"/>
                </a:solidFill>
                <a:latin typeface="Arial"/>
                <a:ea typeface="黑体"/>
              </a:rPr>
              <a:t>5.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长江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长城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黄山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黄河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借代什么？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重千斤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表现了什么？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84360" y="326304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长江”“长城”“黄山”“黄河”，都是能够代表祖国的“河山”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借代指祖国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。“重千斤”把不可以斤两计算的对祖国的感情用斤两来表现了出来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形象地表现祖国在海外游子心中的分量，表达强烈的爱国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632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黑体"/>
              </a:rPr>
              <a:t>6.</a:t>
            </a:r>
            <a:r>
              <a:rPr b="1" lang="zh-CN" sz="4400" spc="-1" strike="noStrike">
                <a:solidFill>
                  <a:srgbClr val="000000"/>
                </a:solidFill>
                <a:latin typeface="Calibri Light"/>
                <a:ea typeface="黑体"/>
              </a:rPr>
              <a:t>无论何时，无论何地。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黑体"/>
              </a:rPr>
              <a:t>从时间和空间两个方面，充分强调祖国在人们心中无法取代的地位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900000" y="9079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en-US" sz="36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澎湃着中华的声音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中的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澎湃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中华的声音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如何理解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3355200"/>
            <a:ext cx="77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澎湃”突出声音之响，“中华的声音”突出这是来自心中的声音，这是融在血液中的声音，是海外赤子永不改变的爱国之心的表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826920" y="1110600"/>
            <a:ext cx="860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080c"/>
                </a:solidFill>
                <a:latin typeface="黑体"/>
                <a:ea typeface="黑体"/>
              </a:rPr>
              <a:t>8.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歌词中直抒胸臆表达对祖国一片深情不可改变的句子有哪些？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1187280" y="3115080"/>
            <a:ext cx="7813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  <a:ea typeface="黑体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可是不管怎样，也改变不了我的中国心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无论何时，无论何地，心中一样亲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就算身在他乡，也改变不了我的中国心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45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 Light"/>
                <a:ea typeface="黑体"/>
              </a:rPr>
              <a:t>主旨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黑体"/>
              </a:rPr>
              <a:t>歌词通过一位海外游子的诉说，刻画了祖国的拳拳赤子之心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黑体"/>
              </a:rPr>
              <a:t>           —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3"/>
          <p:cNvSpPr/>
          <p:nvPr/>
        </p:nvSpPr>
        <p:spPr>
          <a:xfrm>
            <a:off x="3132000" y="314172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中国心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news_94_92689_8"/>
          <p:cNvPicPr/>
          <p:nvPr/>
        </p:nvPicPr>
        <p:blipFill>
          <a:blip r:embed="rId1"/>
          <a:stretch/>
        </p:blipFill>
        <p:spPr>
          <a:xfrm>
            <a:off x="2268360" y="1773360"/>
            <a:ext cx="5651640" cy="424944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0" y="0"/>
            <a:ext cx="3071880" cy="581400"/>
          </a:xfrm>
          <a:prstGeom prst="rect">
            <a:avLst/>
          </a:prstGeom>
          <a:noFill/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55a11"/>
                </a:solidFill>
                <a:latin typeface="Calibri"/>
              </a:rPr>
              <a:t>拓展延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news_94_92689_10"/>
          <p:cNvPicPr/>
          <p:nvPr/>
        </p:nvPicPr>
        <p:blipFill>
          <a:blip r:embed="rId1"/>
          <a:stretch/>
        </p:blipFill>
        <p:spPr>
          <a:xfrm>
            <a:off x="2627280" y="1484280"/>
            <a:ext cx="536436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news_94_92689_7"/>
          <p:cNvPicPr/>
          <p:nvPr/>
        </p:nvPicPr>
        <p:blipFill>
          <a:blip r:embed="rId1"/>
          <a:stretch/>
        </p:blipFill>
        <p:spPr>
          <a:xfrm>
            <a:off x="2843280" y="1484280"/>
            <a:ext cx="47718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矩形 1" descr=""/>
          <p:cNvPicPr/>
          <p:nvPr/>
        </p:nvPicPr>
        <p:blipFill>
          <a:blip r:embed="rId1"/>
          <a:stretch/>
        </p:blipFill>
        <p:spPr>
          <a:xfrm>
            <a:off x="0" y="1000080"/>
            <a:ext cx="4352760" cy="925560"/>
          </a:xfrm>
          <a:prstGeom prst="rect">
            <a:avLst/>
          </a:prstGeom>
          <a:ln w="0">
            <a:noFill/>
          </a:ln>
        </p:spPr>
      </p:pic>
      <p:pic>
        <p:nvPicPr>
          <p:cNvPr id="82" name="矩形 2" descr=""/>
          <p:cNvPicPr/>
          <p:nvPr/>
        </p:nvPicPr>
        <p:blipFill>
          <a:blip r:embed="rId2"/>
          <a:stretch/>
        </p:blipFill>
        <p:spPr>
          <a:xfrm>
            <a:off x="0" y="2359080"/>
            <a:ext cx="4548240" cy="920520"/>
          </a:xfrm>
          <a:prstGeom prst="rect">
            <a:avLst/>
          </a:prstGeom>
          <a:ln w="0">
            <a:noFill/>
          </a:ln>
        </p:spPr>
      </p:pic>
      <p:pic>
        <p:nvPicPr>
          <p:cNvPr id="83" name="矩形 3" descr=""/>
          <p:cNvPicPr/>
          <p:nvPr/>
        </p:nvPicPr>
        <p:blipFill>
          <a:blip r:embed="rId3"/>
          <a:stretch/>
        </p:blipFill>
        <p:spPr>
          <a:xfrm>
            <a:off x="3998880" y="901800"/>
            <a:ext cx="4645080" cy="1317600"/>
          </a:xfrm>
          <a:prstGeom prst="rect">
            <a:avLst/>
          </a:prstGeom>
          <a:ln w="0">
            <a:noFill/>
          </a:ln>
        </p:spPr>
      </p:pic>
      <p:sp>
        <p:nvSpPr>
          <p:cNvPr id="84" name="矩形 4"/>
          <p:cNvSpPr/>
          <p:nvPr/>
        </p:nvSpPr>
        <p:spPr>
          <a:xfrm>
            <a:off x="4357800" y="2357280"/>
            <a:ext cx="47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矩形 5" descr=""/>
          <p:cNvPicPr/>
          <p:nvPr/>
        </p:nvPicPr>
        <p:blipFill>
          <a:blip r:embed="rId4"/>
          <a:stretch/>
        </p:blipFill>
        <p:spPr>
          <a:xfrm>
            <a:off x="3005280" y="3932280"/>
            <a:ext cx="29685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54936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唱一唱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1640" y="162864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在品味歌词的基础上，再次聆听歌曲，会唱的同学跟着哼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700360" y="342900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我的中国心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843280" y="1052640"/>
            <a:ext cx="244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858af5ed3491e53a62d09f93"/>
          <p:cNvPicPr/>
          <p:nvPr/>
        </p:nvPicPr>
        <p:blipFill>
          <a:blip r:embed="rId1"/>
          <a:srcRect l="0" t="0" r="0" b="-108"/>
          <a:stretch/>
        </p:blipFill>
        <p:spPr>
          <a:xfrm>
            <a:off x="6486480" y="0"/>
            <a:ext cx="2657520" cy="19954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779400" y="2090880"/>
            <a:ext cx="6240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河山只在我梦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祖国已多年未亲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是不管怎样也改变不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的中国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洋装虽然穿在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心依然是中国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的祖先早已把我的一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烙上中国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309680" y="7174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我的中国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332000" y="168444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Tahoma"/>
              </a:rPr>
              <a:t>词：黄霑     曲：王福龄     原唱：张明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956120" y="2125800"/>
            <a:ext cx="453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长江 长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黄山 黄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我心中重千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论何时  无论何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中一样亲 流在心里的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澎湃着中华的声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就算生在他乡也改变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的中国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张明敏-我的中国心.mp3" descr=""/>
          <p:cNvPicPr/>
          <p:nvPr/>
        </p:nvPicPr>
        <p:blipFill>
          <a:blip r:embed="rId2"/>
          <a:stretch/>
        </p:blipFill>
        <p:spPr>
          <a:xfrm>
            <a:off x="9144000" y="6300720"/>
            <a:ext cx="557280" cy="5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9166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59l"/>
          <p:cNvPicPr/>
          <p:nvPr/>
        </p:nvPicPr>
        <p:blipFill>
          <a:blip r:embed="rId1"/>
          <a:stretch/>
        </p:blipFill>
        <p:spPr>
          <a:xfrm>
            <a:off x="469800" y="1195560"/>
            <a:ext cx="2730600" cy="3168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3564000" y="1197000"/>
            <a:ext cx="547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80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c080c"/>
                </a:solidFill>
                <a:latin typeface="宋体"/>
              </a:rPr>
              <a:t>黄霑，原名黄湛森，</a:t>
            </a:r>
            <a:r>
              <a:rPr b="1" lang="en-US" sz="2800" spc="-1" strike="noStrike">
                <a:solidFill>
                  <a:srgbClr val="0c080c"/>
                </a:solidFill>
                <a:latin typeface="宋体"/>
              </a:rPr>
              <a:t>1941</a:t>
            </a:r>
            <a:r>
              <a:rPr b="1" lang="zh-CN" sz="2800" spc="-1" strike="noStrike">
                <a:solidFill>
                  <a:srgbClr val="0c080c"/>
                </a:solidFill>
                <a:latin typeface="宋体"/>
              </a:rPr>
              <a:t>年生于广州，</a:t>
            </a:r>
            <a:r>
              <a:rPr b="1" lang="en-US" sz="2800" spc="-1" strike="noStrike">
                <a:solidFill>
                  <a:srgbClr val="0c080c"/>
                </a:solidFill>
                <a:latin typeface="宋体"/>
              </a:rPr>
              <a:t>1949</a:t>
            </a:r>
            <a:r>
              <a:rPr b="1" lang="zh-CN" sz="2800" spc="-1" strike="noStrike">
                <a:solidFill>
                  <a:srgbClr val="0c080c"/>
                </a:solidFill>
                <a:latin typeface="宋体"/>
              </a:rPr>
              <a:t>年随父母移居香港，</a:t>
            </a:r>
            <a:r>
              <a:rPr b="1" lang="en-US" sz="2800" spc="-1" strike="noStrike">
                <a:solidFill>
                  <a:srgbClr val="0c080c"/>
                </a:solidFill>
                <a:latin typeface="宋体"/>
              </a:rPr>
              <a:t>1963</a:t>
            </a:r>
            <a:r>
              <a:rPr b="1" lang="zh-CN" sz="2800" spc="-1" strike="noStrike">
                <a:solidFill>
                  <a:srgbClr val="0c080c"/>
                </a:solidFill>
                <a:latin typeface="宋体"/>
              </a:rPr>
              <a:t>年毕业于香港大学中文系。香港著名作家、词曲作家。与金庸、倪匡、蔡澜一起被称为“香港四大才子”。又与倪匡、蔡澜一同被称为“香港三大名嘴”，写出</a:t>
            </a:r>
            <a:r>
              <a:rPr b="1" lang="en-US" sz="2800" spc="-1" strike="noStrike">
                <a:solidFill>
                  <a:srgbClr val="0c080c"/>
                </a:solidFill>
                <a:latin typeface="宋体"/>
              </a:rPr>
              <a:t>2000</a:t>
            </a:r>
            <a:r>
              <a:rPr b="1" lang="zh-CN" sz="2800" spc="-1" strike="noStrike">
                <a:solidFill>
                  <a:srgbClr val="0c080c"/>
                </a:solidFill>
                <a:latin typeface="宋体"/>
              </a:rPr>
              <a:t>多首歌曲，被称为“流行歌词总讲”。从事媒体工作数十年，有“鬼才”之称 。</a:t>
            </a:r>
            <a:r>
              <a:rPr b="1" lang="en-US" sz="2800" spc="-1" strike="noStrike">
                <a:solidFill>
                  <a:srgbClr val="0c080c"/>
                </a:solidFill>
                <a:latin typeface="宋体"/>
              </a:rPr>
              <a:t>2004</a:t>
            </a:r>
            <a:r>
              <a:rPr b="1" lang="zh-CN" sz="2800" spc="-1" strike="noStrike">
                <a:solidFill>
                  <a:srgbClr val="0c080c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c080c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c080c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0c080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c080c"/>
                </a:solidFill>
                <a:latin typeface="宋体"/>
              </a:rPr>
              <a:t>日因病逝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98600" y="333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55a11"/>
                </a:solidFill>
                <a:latin typeface="Arial"/>
                <a:ea typeface="黑体"/>
              </a:rPr>
              <a:t>作者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430200" y="620640"/>
            <a:ext cx="87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80c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982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年下半年，日本文部省在审定中小学教科书时，公然篡改日本帝国主义侵略中国的历史，这激起了中国人民及港澳同胞极大的愤慨，黄霑和王福龄合作创作了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我的中国心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。经香港歌手张明敏演唱后，在港澳同胞中引起强烈共鸣，纷纷传唱，表达他们的爱国之情。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984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月，英国时任首相撒切尔夫人来华访问，发表了</a:t>
            </a:r>
            <a:r>
              <a:rPr b="1" lang="zh-CN" sz="32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中英联合声明</a:t>
            </a:r>
            <a:r>
              <a:rPr b="1" lang="zh-CN" sz="32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，中国政府将于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997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日收回香港主权。这一年的春节联欢晚会上，张明敏凭一曲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我的中国心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第一个参加中国中央电视台春节联欢晚会的香港演员 ，并让这首歌曲红遍祖国的大江南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0" y="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55a11"/>
                </a:solidFill>
                <a:latin typeface="黑体"/>
                <a:ea typeface="黑体"/>
              </a:rPr>
              <a:t>歌曲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500040" y="1714680"/>
            <a:ext cx="8321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：自由地大声地读读本首歌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画：勾画出感人的句子和你喜爱的句子，在旁边作上你自己喜欢的符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问：对文章内容有什么疑问，标记出或者写下来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：与同学分享你喜欢的句子、交流你的疑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214200" y="642960"/>
            <a:ext cx="67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55a11"/>
                </a:solidFill>
                <a:latin typeface="黑体"/>
                <a:ea typeface="黑体"/>
              </a:rPr>
              <a:t>朗读课文，完成以下任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1619280" y="191628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080c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、歌曲中反复吟唱的主题词是什么？如何理解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440000" y="333360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中国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，也就是海外游子心中永远装着祖国，永远念着祖国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187280" y="62064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080c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这首歌以什么样的身份来吟唱？从哪些地方可以看出来？</a:t>
            </a:r>
            <a:r>
              <a:rPr b="0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177920" y="2060640"/>
            <a:ext cx="770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5723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海外游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河山只在我梦萦，祖国已多年未亲近”。“梦萦”“多年未亲近”，点明了游子的身份，包含着深深地思念和遗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88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c080c"/>
                </a:solidFill>
                <a:latin typeface="Calibri Light"/>
                <a:ea typeface="黑体"/>
              </a:rPr>
              <a:t>3.</a:t>
            </a:r>
            <a:r>
              <a:rPr b="1" lang="zh-CN" sz="3600" spc="-1" strike="noStrike">
                <a:solidFill>
                  <a:srgbClr val="0c080c"/>
                </a:solidFill>
                <a:latin typeface="Calibri Light"/>
                <a:ea typeface="黑体"/>
              </a:rPr>
              <a:t>洋装</a:t>
            </a:r>
            <a:r>
              <a:rPr b="1" lang="zh-CN" sz="3600" spc="-1" strike="noStrike">
                <a:solidFill>
                  <a:srgbClr val="ff0000"/>
                </a:solidFill>
                <a:latin typeface="Calibri Light"/>
                <a:ea typeface="黑体"/>
              </a:rPr>
              <a:t>虽然</a:t>
            </a:r>
            <a:r>
              <a:rPr b="1" lang="zh-CN" sz="3600" spc="-1" strike="noStrike">
                <a:solidFill>
                  <a:srgbClr val="0c080c"/>
                </a:solidFill>
                <a:latin typeface="Calibri Light"/>
                <a:ea typeface="黑体"/>
              </a:rPr>
              <a:t>穿在身，我心</a:t>
            </a:r>
            <a:r>
              <a:rPr b="1" lang="zh-CN" sz="3600" spc="-1" strike="noStrike">
                <a:solidFill>
                  <a:srgbClr val="ff0000"/>
                </a:solidFill>
                <a:latin typeface="Calibri Light"/>
                <a:ea typeface="黑体"/>
              </a:rPr>
              <a:t>依然</a:t>
            </a:r>
            <a:r>
              <a:rPr b="1" lang="zh-CN" sz="3600" spc="-1" strike="noStrike">
                <a:solidFill>
                  <a:srgbClr val="0c080c"/>
                </a:solidFill>
                <a:latin typeface="Calibri Light"/>
                <a:ea typeface="黑体"/>
              </a:rPr>
              <a:t>是中国心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3360" y="21337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黑体"/>
              </a:rPr>
              <a:t>      “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黑体"/>
              </a:rPr>
              <a:t>虽然”、“依然”在结构上呼应，在内容上对比，通过内外对比，写出海外游子身在海外，心系祖国的情怀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611280" y="1038960"/>
            <a:ext cx="80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080c"/>
                </a:solidFill>
                <a:latin typeface="Arial"/>
                <a:ea typeface="黑体"/>
              </a:rPr>
              <a:t>4.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早已把我的一切烙上中国印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中的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烙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字能否换成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盖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？为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187280" y="2796120"/>
            <a:ext cx="705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不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。“烙”准确而形象地表达了海外赤子跟祖国永远无法分离的骨肉关系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，而“盖”字程度远不及“烙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7:43:59Z</dcterms:created>
  <dc:creator/>
  <dc:description/>
  <dc:language>en-US</dc:language>
  <cp:lastModifiedBy>Administrator</cp:lastModifiedBy>
  <dcterms:modified xsi:type="dcterms:W3CDTF">2016-12-12T05:06:25Z</dcterms:modified>
  <cp:revision>2</cp:revision>
  <dc:subject/>
  <dc:title/>
</cp:coreProperties>
</file>