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56B-7C38-4CEA-AF7E-60A89C5E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B9B-4A8D-4C98-9C94-42EC099D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D77-FF2D-4FBD-822A-379B84F1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D66-E7F9-427C-B83B-61C7F0E2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8D4F-E942-4728-8B7B-A7AE35A7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2718-0549-4CE9-A69B-9A9719E8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FC6A-A69C-4D59-842E-BE5E052B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E85E-A4BA-4318-B59A-4E492156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F9DB-BC5F-4F39-81E0-5C41D4B8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7718-165F-484A-909F-FC73F593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37F9-C3A3-481E-8549-7CE8736C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0F9-FC43-4F65-903D-7CD2D8EC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C258-FF7E-4B95-8E44-61979722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8FBE-6361-4907-826F-8514DD93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19C4-F96F-4662-9379-49073B33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36A9-D323-4ECB-88F9-1E7303BA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DDAF-7EA8-4D08-BC6A-EABBDFCF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B02-B1ED-4AA0-8619-BDF62667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FD7-1743-4511-90BD-BA2C38DB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980-EEE8-4443-ACDC-D86B2BF0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3F6-21D6-4410-9D72-FE9A3265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5EB-E952-4952-AE11-A1A7E256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4E0-429B-410E-9016-5B009336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7A8-C669-4046-A860-D6A905B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663B-82C9-4A9F-8C99-1964F861F3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95B0-4754-4219-B2CB-D71593F59E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无标题ui"/>
          <p:cNvPicPr/>
          <p:nvPr/>
        </p:nvPicPr>
        <p:blipFill>
          <a:blip r:embed="rId1"/>
          <a:stretch/>
        </p:blipFill>
        <p:spPr>
          <a:xfrm>
            <a:off x="5410080" y="3809880"/>
            <a:ext cx="3200400" cy="2352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2590920" y="236232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狼牙山五壮士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304920" y="2209680"/>
            <a:ext cx="85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长马宝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沉着地指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斗，让敌人走近了，才下命令狠狠地打。副班长葛振林打一枪就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吼一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好象细小的枪口喷不完他的满腔怒火。战士宋学义扔手榴弹总要把胳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抡一个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好使出浑身力气。胡德林和胡福这两个小战士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脸绷得紧紧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全神贯注地瞄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敌人射击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4200" y="576000"/>
            <a:ext cx="802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习课文第三部分：引上绝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这段话中的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绝路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是什么意思？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85800" y="274464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默读思考：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摆在战士们面前的是两条什么路？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②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是如何选择的？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③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为什么要这样做？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④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体会到了什么？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画出令你感动的句子读一读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第四部分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峰歼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8569440" cy="26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43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由读第四段，边读边想象五壮士英勇杀敌的场面。找出体现五壮士壮举的语句，画上“</a:t>
            </a:r>
            <a:r>
              <a:rPr b="1" lang="en-US" sz="43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”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58320" y="685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跳下悬崖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51520" y="2087640"/>
            <a:ext cx="45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饱含情感的朗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—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949920" y="28494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我想读完之后会有一些成语跳入你的脑海里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是那些成语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18920" y="422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昂首挺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319120" y="4906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壮烈豪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071600" y="4373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坚强不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824440" y="4983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天动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272000" y="4145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壮山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xin_30060824145821807501"/>
          <p:cNvPicPr/>
          <p:nvPr/>
        </p:nvPicPr>
        <p:blipFill>
          <a:blip r:embed="rId1"/>
          <a:stretch/>
        </p:blipFill>
        <p:spPr>
          <a:xfrm>
            <a:off x="4876920" y="35812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571680" y="2209680"/>
            <a:ext cx="81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对狼牙山五壮士纪念碑，你一定有很多感慨。你想说些什么？请写下来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083600" y="6858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维拓展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30592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会本课的生字新词，理解课文内容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感情地朗读课文。背诵描写五壮士跳崖的部分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五壮士为了掩护群众和主力部队，抗击日寇的英雄气概和不畏牺牲的崇高精神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762120" y="60948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57200" y="2379600"/>
            <a:ext cx="80773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寇     雹子    葛正林    大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绷     崎岖    尸体      嗖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斩钉截铁      满腔怒火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2819520" y="10666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762120" y="60948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学习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996840" y="19591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ò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2547360" y="19573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á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4528080" y="19051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ě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7160400" y="19558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ǒ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892440" y="3276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ē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2655360" y="3276720"/>
            <a:ext cx="145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qí qū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4551120" y="327492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ī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683040" y="32767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ō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1531800" y="472428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zhǎ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2823840" y="47372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ié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矩形 11"/>
          <p:cNvSpPr/>
          <p:nvPr/>
        </p:nvSpPr>
        <p:spPr>
          <a:xfrm>
            <a:off x="5209920" y="4737240"/>
            <a:ext cx="14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qiā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大家用自己喜欢的方式读课文，勾画生字、新词，遇到不理解的字词联系上下文或使用工具书解决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狼牙山五壮士是哪五壮士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主要讲了一件什么事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括叙事性文章的大意，要抓住几个要点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时间、地点、人物、事情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457200" y="1936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指导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124080" y="1812960"/>
            <a:ext cx="4800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受任务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诱敌上山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上绝路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峰歼敌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—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下悬崖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—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62080" y="2225520"/>
            <a:ext cx="12776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狼牙山五壮士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左大括号 1"/>
          <p:cNvSpPr/>
          <p:nvPr/>
        </p:nvSpPr>
        <p:spPr>
          <a:xfrm>
            <a:off x="1981080" y="1976400"/>
            <a:ext cx="457200" cy="3370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3370320"/>
              <a:gd name="textAreaBottom" fmla="*/ 3358440 h 337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4"/>
                </a:cubicBezTo>
                <a:lnTo>
                  <a:pt x="10800" y="10556"/>
                </a:lnTo>
                <a:cubicBezTo>
                  <a:pt x="10800" y="10678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4"/>
                </a:cubicBezTo>
                <a:lnTo>
                  <a:pt x="10800" y="21356"/>
                </a:lnTo>
                <a:cubicBezTo>
                  <a:pt x="10800" y="2147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571680" y="63036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文结构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660960" y="182880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讲述了（       ）时期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八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军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（  ）连（  ）班的（  ）个战士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（                   ），诱敌上山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勇杀敌，最后把敌人引上（          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勇跳崖的故事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24280" y="1981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抗日战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382120" y="2819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287240" y="2819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573240" y="2819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523880" y="3657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掩护群众和连队转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943600" y="4419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狼牙山顶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652320" y="53352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内容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52320" y="2133720"/>
            <a:ext cx="82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秋，日寇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集中兵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我晋察冀根据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举进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96960" y="3211560"/>
            <a:ext cx="83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一个多月的英勇奋战，七连决定向龙王庙转移，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掩护群众和连队转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任务交给了六班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6960" y="4876920"/>
            <a:ext cx="809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通过事件背景的叙述写出了五壮士敌众我寡，临危受命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52320" y="53352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详解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496800" y="2514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—9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中哪个场景最让你感动？找出最能打动你的词句，进行圈画批注，谈谈你的体会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1374120" y="685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默读课文，思考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918720" y="457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痛击敌人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5440" y="1452600"/>
            <a:ext cx="87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长马宝玉沉着地指挥战斗，让敌人走近了，才下命令狠狠地打。副班长葛振林打一枪就大吼一声，好象细小的枪口喷不完他的满腔怒火。战士宋学义扔手榴弹总要把胳膊抡一个圈，好使出浑身力气。胡德林和胡福这两个小战士把脸绷得紧紧的，全神贯注地瞄准敌人射击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33280" y="491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34880" y="51134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哪些词语或短句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体现了五位壮士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英勇抗敌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2:43:29Z</dcterms:created>
  <dc:creator/>
  <dc:description/>
  <dc:language>en-US</dc:language>
  <cp:lastModifiedBy/>
  <dcterms:modified xsi:type="dcterms:W3CDTF">2016-10-19T05:38:32Z</dcterms:modified>
  <cp:revision>1</cp:revision>
  <dc:subject/>
  <dc:title/>
</cp:coreProperties>
</file>