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2A3-E425-4A25-BFF4-4344BD82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736-1D2C-4466-9D7F-DF65E15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0DC-12CB-4C2D-9A16-5D7479A6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8E1-9EC3-41A9-A56E-B88577B6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2DD-2576-4414-BCB9-0994F46C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1BD-A83E-4FF5-A24E-DC614D5E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443-431B-4CB3-A15E-B30DDBED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14E-3B12-45F7-BA00-16A239D5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71B-4CE9-4263-B422-8C66AC6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E3A-7541-436F-84DA-16FFAF0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3F6-2267-4EEC-B209-165872F9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FC2-8A37-4052-AE28-F97C4E7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E90E-CF4F-47EA-A4D5-E2B1961219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6817185162313251"/>
          <p:cNvPicPr/>
          <p:nvPr/>
        </p:nvPicPr>
        <p:blipFill>
          <a:blip r:embed="rId1"/>
          <a:stretch/>
        </p:blipFill>
        <p:spPr>
          <a:xfrm>
            <a:off x="5073480" y="1224000"/>
            <a:ext cx="3949920" cy="52927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2133720"/>
            <a:ext cx="4114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墨竹图题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500200" y="3578400"/>
            <a:ext cx="20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72880" y="1695600"/>
            <a:ext cx="5462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同学们课后搜集的有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的诗句，绘画作品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自己喜爱的方式赞美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a00607278_1"/>
          <p:cNvPicPr/>
          <p:nvPr/>
        </p:nvPicPr>
        <p:blipFill>
          <a:blip r:embed="rId1"/>
          <a:stretch/>
        </p:blipFill>
        <p:spPr>
          <a:xfrm>
            <a:off x="5867280" y="457200"/>
            <a:ext cx="27529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457200" y="54936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展训练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457200" y="54936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入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11280" y="155736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中国传统文化中，有古诗云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诗堪入画方称妙，画可融诗乃为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纵观历代文坛，诗书画三绝的名家，层出不穷。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图题诗则是诗坛画苑中一朵绚丽的花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今天，就让我们一道去感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板桥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竹图题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要表达的诗情画意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677880" y="213372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反复诵读诗歌，欣赏图画，理解图题诗的诗情画意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作者的胸怀和气概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培养高尚的审美情趣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7200" y="54936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826920" y="2708280"/>
            <a:ext cx="792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衙（</a:t>
            </a:r>
            <a:r>
              <a:rPr b="0" lang="en-US" sz="4000" spc="-1" strike="noStrike">
                <a:solidFill>
                  <a:srgbClr val="ff0000"/>
                </a:solidFill>
                <a:latin typeface="GB Pinyinok-C"/>
                <a:ea typeface="GB Pinyinok-C"/>
              </a:rPr>
              <a:t>y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斋（</a:t>
            </a:r>
            <a:r>
              <a:rPr b="0" lang="en-US" sz="4000" spc="-1" strike="noStrike">
                <a:solidFill>
                  <a:srgbClr val="ff0000"/>
                </a:solidFill>
                <a:latin typeface="GB Pinyinok-C"/>
                <a:ea typeface="GB Pinyinok-C"/>
              </a:rPr>
              <a:t>zhāi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燮（</a:t>
            </a:r>
            <a:r>
              <a:rPr b="0" lang="en-US" sz="4000" spc="-1" strike="noStrike">
                <a:solidFill>
                  <a:srgbClr val="ff0000"/>
                </a:solidFill>
                <a:latin typeface="GB Pinyinok-C"/>
                <a:ea typeface="GB Pinyinok-C"/>
              </a:rPr>
              <a:t>xi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57200" y="54936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字学词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403280" y="1165320"/>
            <a:ext cx="316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墨竹图题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清）郑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衙斋卧听萧萧竹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民间疾苦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些小吾曹州县吏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枝一叶总关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20071121835686207"/>
          <p:cNvPicPr/>
          <p:nvPr/>
        </p:nvPicPr>
        <p:blipFill>
          <a:blip r:embed="rId1"/>
          <a:stretch/>
        </p:blipFill>
        <p:spPr>
          <a:xfrm>
            <a:off x="5364000" y="457200"/>
            <a:ext cx="3351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房间里听着沙沙的竹叶声，好像是人民生活困苦潦倒的呜咽之声。只是我们这些小小的州县官吏，衙门卧室外竹子的一枝一叶，都牵动着我们的感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" y="54936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歌大意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250920" y="59220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句欣赏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08120" y="3057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是写竹，实则写人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诗人对百姓的仁爱之心，体恤之情，令人叹为观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作者以竹喻人，比喻新颖奇物，把一个铮铮铁骨的文人写得极入情理，表现了他的高标挺立、特立独行、充满爱民之气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4002480" y="2276640"/>
            <a:ext cx="22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“一枝一叶总关情”一句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635280" y="1233360"/>
            <a:ext cx="266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：细中有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叶：青翠欲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傲然挺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732720" y="1227240"/>
            <a:ext cx="223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立独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民如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标挺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004"/>
          <p:cNvPicPr/>
          <p:nvPr/>
        </p:nvPicPr>
        <p:blipFill>
          <a:blip r:embed="rId1"/>
          <a:stretch/>
        </p:blipFill>
        <p:spPr>
          <a:xfrm>
            <a:off x="179280" y="533520"/>
            <a:ext cx="3197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36520" y="1484280"/>
            <a:ext cx="5257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笔下的竹子有什么寓意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竹子象征了“有气节”，象征诗人“任而东南西北风”的气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a00537425"/>
          <p:cNvPicPr/>
          <p:nvPr/>
        </p:nvPicPr>
        <p:blipFill>
          <a:blip r:embed="rId1"/>
          <a:stretch/>
        </p:blipFill>
        <p:spPr>
          <a:xfrm>
            <a:off x="5730840" y="152280"/>
            <a:ext cx="3413160" cy="6705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57200" y="54936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情提升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2T15:20:16Z</dcterms:created>
  <dc:creator>李炜</dc:creator>
  <dc:description/>
  <dc:language>en-US</dc:language>
  <cp:lastModifiedBy>陈群</cp:lastModifiedBy>
  <dcterms:modified xsi:type="dcterms:W3CDTF">2014-06-13T02:58:42Z</dcterms:modified>
  <cp:revision>7</cp:revision>
  <dc:subject/>
  <dc:title>PowerPoint 演示文稿</dc:title>
</cp:coreProperties>
</file>