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4CA-5FBA-4809-8564-769AF04C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4C24-7ACC-47E2-8F9F-50A66E66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D53-75BB-4EBF-B2C5-B69242B2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216-265C-4EB9-858C-54E7D936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9C5E-B0DB-431D-B5FC-10034064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F40D-8327-4166-B668-157EC74A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51E4-E1D8-46C4-9316-7FA9008D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1A21-000B-49E5-89C2-9B157D36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8E46-52A9-4887-9C11-AF1BDA43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13CA-8A99-4A59-AD19-14C985C6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C9A6-2D4E-458D-A10F-4EB2B836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8DC-2D80-499B-9737-744CF057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0F00-EF1C-4204-8B81-766B697B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4DEC-0F04-4218-BFA9-60F5D5D6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9BE0-A923-4423-855C-06BF7CE1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4F54-8FDC-4F98-A561-1D92470F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3AA0-F02C-4115-9FB4-8BB8BDCC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E39B-4A13-4FA3-866E-A1F3A43B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2A8-7E95-4793-A91D-75A0D408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93F-DD34-4F11-A5C6-B35575B7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DDA-D985-488A-A0D0-C0A70CB4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AC5-B670-4CC6-82BD-0A39DA66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DE9-C95C-4711-B849-E780E2F0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628-14B4-4160-ABBF-6A5602B7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32CB-1A79-41A1-A5C0-3D13E566E71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53DF-4F34-4491-9B52-315AC9FEC94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slide" Target="slide4.xml"/><Relationship Id="rId7" Type="http://schemas.openxmlformats.org/officeDocument/2006/relationships/image" Target="../media/image6.png"/><Relationship Id="rId8" Type="http://schemas.openxmlformats.org/officeDocument/2006/relationships/slide" Target="slide12.xml"/><Relationship Id="rId9" Type="http://schemas.openxmlformats.org/officeDocument/2006/relationships/image" Target="../media/image7.png"/><Relationship Id="rId10" Type="http://schemas.openxmlformats.org/officeDocument/2006/relationships/slide" Target="slide12.xml"/><Relationship Id="rId11" Type="http://schemas.openxmlformats.org/officeDocument/2006/relationships/image" Target="../media/image7.png"/><Relationship Id="rId12" Type="http://schemas.openxmlformats.org/officeDocument/2006/relationships/slide" Target="slide7.xml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55640" y="907920"/>
            <a:ext cx="756144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大家下午好</a:t>
            </a: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!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1197000"/>
            <a:ext cx="1143000" cy="1523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14130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</a:rPr>
              <a:t>池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92360" y="1268280"/>
            <a:ext cx="1676520" cy="1524240"/>
          </a:xfrm>
          <a:prstGeom prst="flowChartMerg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12682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波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1268280"/>
            <a:ext cx="1219320" cy="1371600"/>
          </a:xfrm>
          <a:prstGeom prst="flowChartPunchedTap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7640" y="14842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</a:rPr>
              <a:t>浪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657600"/>
            <a:ext cx="7619760" cy="82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33cc"/>
                </a:solidFill>
                <a:latin typeface="Times New Roman"/>
              </a:rPr>
              <a:t>这些字都有（    ），   意思都和（     ）有关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6000" y="357336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氵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42210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</a:rPr>
              <a:t>水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2987640" y="0"/>
            <a:ext cx="3097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rnd" w="25560">
                  <a:solidFill>
                    <a:srgbClr val="ff66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小鱼的梦</a:t>
            </a:r>
            <a:endParaRPr b="1" lang="en-US" sz="2400" spc="1" strike="noStrike">
              <a:ln cap="rnd" w="25560">
                <a:solidFill>
                  <a:srgbClr val="ff66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805440" y="1774800"/>
            <a:ext cx="2880000" cy="5083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755640" y="1052640"/>
            <a:ext cx="7740720" cy="49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小鱼玩了一天水</a:t>
            </a:r>
            <a:r>
              <a:rPr b="1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,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池塘妈妈怀里睡。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天上星星落下来，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为他盖床珍珠被。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风儿唱起催眠曲，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波浪又把摇篮推。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    </a:t>
            </a:r>
            <a:r>
              <a:rPr b="1" lang="zh-CN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小鱼做了个甜甜的梦，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摆摆尾巴咂咂嘴。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59" name=""/>
          <p:cNvSpPr/>
          <p:nvPr/>
        </p:nvSpPr>
        <p:spPr>
          <a:xfrm>
            <a:off x="-479160" y="836640"/>
            <a:ext cx="23526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600200" indent="-228600" algn="ctr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ff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79160" y="2060640"/>
            <a:ext cx="23904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600200" indent="-228600" algn="ctr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479160" y="3284640"/>
            <a:ext cx="23904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600200" indent="-228600" algn="ctr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550800" y="4581360"/>
            <a:ext cx="23904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600200" indent="-228600" algn="ctr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124000" y="242100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小鱼 做了个甜甜的梦，它会梦到什么呢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604360" y="580716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87638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2070000" cy="3066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395280" y="3357720"/>
            <a:ext cx="8244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3c0079"/>
                  </a:outerShdw>
                </a:effectLst>
                <a:latin typeface="幼圆"/>
              </a:rPr>
              <a:t>用笔画画你心中小鱼的梦</a:t>
            </a:r>
            <a:endParaRPr b="1" lang="en-US" sz="2400" spc="1" strike="noStrike">
              <a:ln w="9360">
                <a:solidFill>
                  <a:srgbClr val="6600cc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3c0079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71" name=""/>
          <p:cNvSpPr/>
          <p:nvPr/>
        </p:nvSpPr>
        <p:spPr>
          <a:xfrm>
            <a:off x="5522760" y="1330200"/>
            <a:ext cx="2001960" cy="100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 algn="ctr">
              <a:spcBef>
                <a:spcPts val="3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908000" y="1268280"/>
            <a:ext cx="54007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谢谢指导</a:t>
            </a:r>
            <a:r>
              <a:rPr b="1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!</a:t>
            </a:r>
            <a:endParaRPr b="1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4176720" cy="27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596360" y="544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619280" y="5805360"/>
            <a:ext cx="752400" cy="863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5373720"/>
            <a:ext cx="1008000" cy="842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rot="19058400">
            <a:off x="2556000" y="5444640"/>
            <a:ext cx="1873080" cy="1057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 rot="19710000">
            <a:off x="4067280" y="5734080"/>
            <a:ext cx="1366560" cy="771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79280" y="4437000"/>
            <a:ext cx="1209960" cy="1011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4"/>
          <a:stretch/>
        </p:blipFill>
        <p:spPr>
          <a:xfrm>
            <a:off x="6732720" y="5084640"/>
            <a:ext cx="100476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404640"/>
            <a:ext cx="9144000" cy="6858000"/>
            <a:chOff x="0" y="404640"/>
            <a:chExt cx="9144000" cy="685800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0" y="4046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132000" y="1169640"/>
              <a:ext cx="1152720" cy="935280"/>
            </a:xfrm>
            <a:prstGeom prst="rect">
              <a:avLst/>
            </a:prstGeom>
            <a:solidFill>
              <a:srgbClr val="6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03640" y="3068640"/>
            <a:ext cx="1944720" cy="1496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84360" y="692280"/>
            <a:ext cx="78166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30166"/>
                  </a:outerShdw>
                </a:effectLst>
                <a:latin typeface="幼圆"/>
              </a:rPr>
              <a:t> 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30166"/>
                  </a:outerShdw>
                </a:effectLst>
                <a:latin typeface="幼圆"/>
              </a:rPr>
              <a:t>&lt;&lt;</a:t>
            </a: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30166"/>
                  </a:outerShdw>
                </a:effectLst>
                <a:latin typeface="幼圆"/>
              </a:rPr>
              <a:t>小鱼的梦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30166"/>
                  </a:outerShdw>
                </a:effectLst>
                <a:latin typeface="幼圆"/>
              </a:rPr>
              <a:t>&gt;&gt;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630166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79640" y="4508640"/>
            <a:ext cx="41972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新添一校   关红雨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4437000"/>
            <a:ext cx="4176720" cy="100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264360" y="1774800"/>
            <a:ext cx="2879640" cy="5083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-900000" y="1268280"/>
            <a:ext cx="7740360" cy="494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295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小鱼玩了一天水</a:t>
            </a:r>
            <a:r>
              <a:rPr b="1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295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,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295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295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池塘妈妈怀里睡。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295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295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天上星星落下来，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295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295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为他盖床珍珠被。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295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295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风儿唱起催眠曲，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295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295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波浪又把摇篮推。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295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295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    </a:t>
            </a:r>
            <a:r>
              <a:rPr b="1" lang="zh-CN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295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小鱼做了个甜甜的梦，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295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295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摆摆尾巴咂咂嘴。</a:t>
            </a:r>
            <a:endParaRPr b="1" lang="en-US" sz="2400" spc="1" strike="noStrike">
              <a:ln w="9360">
                <a:solidFill>
                  <a:srgbClr val="3366ff"/>
                </a:solidFill>
                <a:miter/>
              </a:ln>
              <a:solidFill>
                <a:srgbClr val="295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58920" y="260280"/>
            <a:ext cx="3097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rnd" w="25560">
                  <a:solidFill>
                    <a:srgbClr val="ff66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小鱼的梦</a:t>
            </a:r>
            <a:endParaRPr b="1" lang="en-US" sz="2400" spc="1" strike="noStrike">
              <a:ln cap="rnd" w="25560">
                <a:solidFill>
                  <a:srgbClr val="ff66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68360" y="2492280"/>
            <a:ext cx="5905440" cy="3744720"/>
            <a:chOff x="468360" y="2492280"/>
            <a:chExt cx="5905440" cy="3744720"/>
          </a:xfrm>
        </p:grpSpPr>
        <p:sp>
          <p:nvSpPr>
            <p:cNvPr id="109" name=""/>
            <p:cNvSpPr/>
            <p:nvPr/>
          </p:nvSpPr>
          <p:spPr>
            <a:xfrm>
              <a:off x="468360" y="2492280"/>
              <a:ext cx="108108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49800" y="3068280"/>
              <a:ext cx="172692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76720" y="3715920"/>
              <a:ext cx="187308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24360" y="5589360"/>
              <a:ext cx="244944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440" y="6237000"/>
              <a:ext cx="237492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6720" y="5013000"/>
              <a:ext cx="108108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4363920"/>
              <a:ext cx="187308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1440" y="5013000"/>
              <a:ext cx="108108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9800" y="6237000"/>
              <a:ext cx="172692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76720" y="2492280"/>
              <a:ext cx="1154160" cy="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567640" y="628164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984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973080" y="1052640"/>
            <a:ext cx="9901080" cy="440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>
              <a:spcBef>
                <a:spcPts val="4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ff"/>
                </a:solidFill>
                <a:latin typeface="Times New Roman"/>
              </a:rPr>
              <a:t> </a:t>
            </a:r>
            <a:r>
              <a:rPr b="1" lang="zh-CN" sz="7000" spc="-1" strike="noStrike">
                <a:solidFill>
                  <a:srgbClr val="ff9966"/>
                </a:solidFill>
                <a:latin typeface="Times New Roman"/>
              </a:rPr>
              <a:t>池   梦    篮    为   被  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  <a:p>
            <a:pPr marL="1600200" indent="-228600">
              <a:spcBef>
                <a:spcPts val="4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1" lang="zh-CN" sz="7000" spc="-1" strike="noStrike">
                <a:solidFill>
                  <a:srgbClr val="ff9966"/>
                </a:solidFill>
                <a:latin typeface="Times New Roman"/>
              </a:rPr>
              <a:t>曲   波   把     摇   推 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  <a:p>
            <a:pPr marL="1600200" indent="-228600">
              <a:spcBef>
                <a:spcPts val="4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1" lang="zh-CN" sz="7000" spc="-1" strike="noStrike">
                <a:solidFill>
                  <a:srgbClr val="ff9966"/>
                </a:solidFill>
                <a:latin typeface="Times New Roman"/>
              </a:rPr>
              <a:t>摆   甜    做    嘴   浪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612720" y="-531720"/>
            <a:ext cx="10296360" cy="7891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-684360" y="1268280"/>
            <a:ext cx="8496360" cy="37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0200" indent="-2286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66"/>
                </a:solidFill>
                <a:latin typeface="Times New Roman"/>
              </a:rPr>
              <a:t>梦          摇        被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1600200" indent="-2286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66"/>
                </a:solidFill>
                <a:latin typeface="Times New Roman"/>
              </a:rPr>
              <a:t>波         篮        推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1600200" indent="-2286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9966"/>
                </a:solidFill>
                <a:latin typeface="Times New Roman"/>
              </a:rPr>
              <a:t>摆      甜        嘴     浪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0"/>
            <a:ext cx="8610480" cy="6858000"/>
          </a:xfrm>
          <a:prstGeom prst="irregularSeal2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3124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推</a:t>
            </a:r>
            <a:endParaRPr b="0" lang="en-US" sz="2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0"/>
            <a:ext cx="8610480" cy="6858000"/>
          </a:xfrm>
          <a:prstGeom prst="irregularSeal2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1752480"/>
            <a:ext cx="3124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摆</a:t>
            </a:r>
            <a:endParaRPr b="0" lang="en-US" sz="2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0"/>
            <a:ext cx="8610480" cy="6858000"/>
          </a:xfrm>
          <a:prstGeom prst="irregularSeal2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1752480"/>
            <a:ext cx="3124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睡</a:t>
            </a:r>
            <a:endParaRPr b="0" lang="en-US" sz="2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1219320"/>
            <a:ext cx="1143000" cy="1523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3716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</a:rPr>
              <a:t>打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1125360"/>
            <a:ext cx="1676520" cy="1524240"/>
          </a:xfrm>
          <a:prstGeom prst="flowChartMerg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8000" y="9810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1125360"/>
            <a:ext cx="1218960" cy="1371600"/>
          </a:xfrm>
          <a:prstGeom prst="flowChartPunchedTap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12682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Times New Roman"/>
              </a:rPr>
              <a:t>摆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88000" y="1125360"/>
            <a:ext cx="1371600" cy="1371600"/>
          </a:xfrm>
          <a:prstGeom prst="flowChartExtra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14842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推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1413000"/>
            <a:ext cx="1219320" cy="1143000"/>
          </a:xfrm>
          <a:prstGeom prst="flowChartOnlineStorage">
            <a:avLst/>
          </a:pr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1413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ccff"/>
                </a:solidFill>
                <a:latin typeface="Times New Roman"/>
              </a:rPr>
              <a:t>找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657600"/>
            <a:ext cx="7619760" cy="82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ff33cc"/>
                </a:solidFill>
                <a:latin typeface="Times New Roman"/>
              </a:rPr>
              <a:t>这些字都有（    ），   意思都和（     ）有关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58128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ff"/>
                </a:solidFill>
                <a:latin typeface="Times New Roman"/>
              </a:rPr>
              <a:t>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43434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10982"/>
                </a:moveTo>
                <a:lnTo>
                  <a:pt x="17806" y="3976"/>
                </a:lnTo>
                <a:lnTo>
                  <a:pt x="1780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2:41:05Z</dcterms:created>
  <dc:creator>天极</dc:creator>
  <dc:description/>
  <dc:language>en-US</dc:language>
  <cp:lastModifiedBy>微软用户</cp:lastModifiedBy>
  <dcterms:modified xsi:type="dcterms:W3CDTF">2008-04-13T03:29:44Z</dcterms:modified>
  <cp:revision>65</cp:revision>
  <dc:subject/>
  <dc:title>小鱼的梦</dc:title>
</cp:coreProperties>
</file>