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63EA-D822-401D-A377-D413B8EB0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CE0E-D2A3-4B43-9A2C-B238C1AD3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9F90-6634-4709-A140-01EE4BC76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1BE5-C9DC-4801-B57C-8CB1AF921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2315-88BC-42F0-9C0A-ACDCFE1D0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8E30-89FC-4330-B2E9-0A0C35357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F4FD-D976-4BEA-A908-E7612C5B7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9B36-090F-4D26-929C-842CBFBE7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805D-2D65-41C6-A45F-70DEB4F8A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0F0F-CF76-4E7F-8FDE-DCE914770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2ADE-17E9-4BD9-B43E-08C46375B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CA04-4709-4C8A-BE94-8F80AB4E4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FDDF5-1CB6-4362-81B2-25880E0E126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2843280" y="2003400"/>
            <a:ext cx="39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夜莺之歌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d:\PROGRA~1\360se6\USERDA~1\Temp\B80674MT.jpg"/>
          <p:cNvPicPr/>
          <p:nvPr/>
        </p:nvPicPr>
        <p:blipFill>
          <a:blip r:embed="rId1"/>
          <a:stretch/>
        </p:blipFill>
        <p:spPr>
          <a:xfrm>
            <a:off x="2195640" y="3789360"/>
            <a:ext cx="1724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55680" y="2997360"/>
            <a:ext cx="861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这部分写了小夜莺引诱德国兵，并主动和敌人接近，巧妙地回答德国军官的盘问，取得敌人对他的信任，让他带路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 Box 18"/>
          <p:cNvSpPr/>
          <p:nvPr/>
        </p:nvSpPr>
        <p:spPr>
          <a:xfrm>
            <a:off x="503280" y="863640"/>
            <a:ext cx="817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好啦，好啦，带我们去吧。要是你带得对，我就把这个小东西送给你。要是你把我们到别处去，我就把你的脑袋扭下来。听懂了吗？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2"/>
          <p:cNvSpPr/>
          <p:nvPr/>
        </p:nvSpPr>
        <p:spPr>
          <a:xfrm>
            <a:off x="461880" y="415800"/>
            <a:ext cx="410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拓展应用：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1116000" y="1976400"/>
            <a:ext cx="641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读了这个故事，你一定有太多的感受，请把你的感受写下来吧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d:\PROGRA~1\360se6\USERDA~1\Temp\jiaoliu.jpg"/>
          <p:cNvPicPr/>
          <p:nvPr/>
        </p:nvPicPr>
        <p:blipFill>
          <a:blip r:embed="rId1"/>
          <a:stretch/>
        </p:blipFill>
        <p:spPr>
          <a:xfrm>
            <a:off x="4978440" y="391464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539640" y="476280"/>
            <a:ext cx="410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自学提示：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矩形 2"/>
          <p:cNvSpPr/>
          <p:nvPr/>
        </p:nvSpPr>
        <p:spPr>
          <a:xfrm>
            <a:off x="1042920" y="1916280"/>
            <a:ext cx="7201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课题入手，在文中寻找歌声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组共同分析歌声、探究歌声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人物外貌、语言、动作入手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析了解人物性格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461880" y="415800"/>
            <a:ext cx="410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词语积累：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矩形 2"/>
          <p:cNvSpPr/>
          <p:nvPr/>
        </p:nvSpPr>
        <p:spPr>
          <a:xfrm>
            <a:off x="714240" y="1773360"/>
            <a:ext cx="7705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沉寂  耷拉  盘问  轻蔑  埋伏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聚精会神   阻击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兴致勃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白桦   街坊   手榴弹   乌鸦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461880" y="415800"/>
            <a:ext cx="410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文结构：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2"/>
          <p:cNvSpPr/>
          <p:nvPr/>
        </p:nvSpPr>
        <p:spPr>
          <a:xfrm>
            <a:off x="1257480" y="1743120"/>
            <a:ext cx="66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文可以分为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部分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4859280" y="1700280"/>
            <a:ext cx="81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四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755640" y="3141720"/>
            <a:ext cx="66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部分（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—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然段）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790560" y="4221000"/>
            <a:ext cx="74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德国兵进村，看见了夜莺。（发生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790560" y="836640"/>
            <a:ext cx="66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二部分（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—3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然段）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696960" y="3359160"/>
            <a:ext cx="168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发 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左大括号 3"/>
          <p:cNvSpPr/>
          <p:nvPr/>
        </p:nvSpPr>
        <p:spPr>
          <a:xfrm>
            <a:off x="2120760" y="2098800"/>
            <a:ext cx="520920" cy="3166920"/>
          </a:xfrm>
          <a:custGeom>
            <a:avLst/>
            <a:gdLst>
              <a:gd name="textAreaLeft" fmla="*/ 333000 w 520920"/>
              <a:gd name="textAreaRight" fmla="*/ 521280 w 520920"/>
              <a:gd name="textAreaTop" fmla="*/ 13320 h 3166920"/>
              <a:gd name="textAreaBottom" fmla="*/ 3153600 h 316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8"/>
                  <a:pt x="10800" y="296"/>
                </a:cubicBezTo>
                <a:lnTo>
                  <a:pt x="10800" y="10504"/>
                </a:lnTo>
                <a:cubicBezTo>
                  <a:pt x="10800" y="10652"/>
                  <a:pt x="5400" y="10800"/>
                  <a:pt x="0" y="10800"/>
                </a:cubicBezTo>
                <a:cubicBezTo>
                  <a:pt x="5400" y="10800"/>
                  <a:pt x="10800" y="10948"/>
                  <a:pt x="10800" y="11096"/>
                </a:cubicBezTo>
                <a:lnTo>
                  <a:pt x="10800" y="21304"/>
                </a:lnTo>
                <a:cubicBezTo>
                  <a:pt x="10800" y="2145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4"/>
          <p:cNvSpPr/>
          <p:nvPr/>
        </p:nvSpPr>
        <p:spPr>
          <a:xfrm>
            <a:off x="2916360" y="2157480"/>
            <a:ext cx="446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—19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德国兵要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夜莺带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—2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在路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—2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接情报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1224000" y="1722600"/>
            <a:ext cx="66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部分（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3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然段）：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1440000" y="2782800"/>
            <a:ext cx="74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投入新战争。（尾声）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1" descr="C:\Users\weili11\AppData\Roaming\Tencent\Users\1039322466\QQ\WinTemp\RichOle\_$]E`2O7AYK$HK(N~9IUS8O.jpg"/>
          <p:cNvPicPr/>
          <p:nvPr/>
        </p:nvPicPr>
        <p:blipFill>
          <a:blip r:embed="rId1"/>
          <a:stretch/>
        </p:blipFill>
        <p:spPr>
          <a:xfrm>
            <a:off x="3059280" y="5005440"/>
            <a:ext cx="6084720" cy="18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/>
          <p:cNvSpPr/>
          <p:nvPr/>
        </p:nvSpPr>
        <p:spPr>
          <a:xfrm>
            <a:off x="461880" y="415800"/>
            <a:ext cx="410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文理解：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3851280" y="430200"/>
            <a:ext cx="3124080" cy="685800"/>
          </a:xfrm>
          <a:prstGeom prst="rect">
            <a:avLst/>
          </a:prstGeom>
          <a:solidFill>
            <a:srgbClr val="fcf722"/>
          </a:solidFill>
          <a:ln w="9360">
            <a:solidFill>
              <a:srgbClr val="008000"/>
            </a:solidFill>
            <a:prstDash val="sysDot"/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  <a:ea typeface="楷体_GB2312"/>
              </a:rPr>
              <a:t>夜莺</a:t>
            </a:r>
            <a:r>
              <a:rPr b="1" lang="zh-CN" sz="4000" spc="-1" strike="noStrike">
                <a:solidFill>
                  <a:srgbClr val="009999"/>
                </a:solidFill>
                <a:latin typeface="Calibri"/>
                <a:ea typeface="楷体_GB2312"/>
              </a:rPr>
              <a:t>的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  <a:ea typeface="楷体_GB2312"/>
              </a:rPr>
              <a:t>歌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203040" y="1817640"/>
            <a:ext cx="7850520" cy="24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3399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夜莺的歌声打破了夏日的沉寂。这歌声停了一会儿就又响起来，越来越有劲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ts val="3399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孩子有时候学夜莺唱，有时候学杜鹃叫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ts val="3399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夜莺还是兴致勃勃地唱着，但是那歌声的意思游击队早已知道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ts val="3399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孩子的嘴里飞出婉转的夜莺的歌声。这歌声，即使是听惯夜莺叫的人也分不出跟真的叫声有什么两样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7459200" y="40194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巧送情报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7459200" y="56196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再次诱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 Box 13"/>
          <p:cNvSpPr/>
          <p:nvPr/>
        </p:nvSpPr>
        <p:spPr>
          <a:xfrm>
            <a:off x="7535520" y="2205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引诱敌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7535520" y="30430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麻痹敌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1258920" y="1692360"/>
            <a:ext cx="469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谁教你这样吹哨子的？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1258920" y="3332160"/>
            <a:ext cx="60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村子里就剩下你一个吗？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18"/>
          <p:cNvSpPr/>
          <p:nvPr/>
        </p:nvSpPr>
        <p:spPr>
          <a:xfrm>
            <a:off x="6682320" y="7464600"/>
            <a:ext cx="91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好啦，好啦，带我们去吧。要是你带得对，我就把这个小东西送给你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要是你把我们带到别处去，我就把你的脑袋扭下来。听懂了吗？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517680" y="333360"/>
            <a:ext cx="808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找一找课文中敌人和小男孩的对话，从中能看到什么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1258920" y="2556000"/>
            <a:ext cx="70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我自己学的。我还会学杜鹃叫呢。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611280" y="4164120"/>
            <a:ext cx="79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“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怎么会就剩我一个？这里有麻雀 、乌鸦、猫头鹰，多着呢，夜莺倒是只有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个！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9"/>
          <p:cNvSpPr/>
          <p:nvPr/>
        </p:nvSpPr>
        <p:spPr>
          <a:xfrm>
            <a:off x="250920" y="1459080"/>
            <a:ext cx="837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“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人？战争一开始这里就没有人了。刚刚开火，村子就着火了，大家都喊：‘野兽来了，野兽来了’，就都跑了。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473040" y="4365720"/>
            <a:ext cx="84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“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怎么会不认识！那里有个磨坊，我常到磨坊附近的坝上去钓鱼。那儿的狗鱼可凶呢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能吃小鹅！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816120" y="476280"/>
            <a:ext cx="81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这个坏家伙！我是问你这里有没有人。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816120" y="3429000"/>
            <a:ext cx="780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喂，你认识往苏蒙塔斯村去的路吗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10T00:43:26Z</dcterms:created>
  <dc:creator>李炜</dc:creator>
  <dc:description/>
  <dc:language>en-US</dc:language>
  <cp:lastModifiedBy>Administrator</cp:lastModifiedBy>
  <dcterms:modified xsi:type="dcterms:W3CDTF">2016-10-19T03:57:23Z</dcterms:modified>
  <cp:revision>7</cp:revision>
  <dc:subject/>
  <dc:title>PowerPoint 演示文稿</dc:title>
</cp:coreProperties>
</file>