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7.png" ContentType="image/png"/>
  <Override PartName="/ppt/media/image10.gif" ContentType="image/gif"/>
  <Override PartName="/ppt/media/image5.gif" ContentType="image/gif"/>
  <Override PartName="/ppt/media/image1.gif" ContentType="image/gif"/>
  <Override PartName="/ppt/media/image4.wmf" ContentType="image/x-wmf"/>
  <Override PartName="/ppt/media/image2.jpeg" ContentType="image/jpeg"/>
  <Override PartName="/ppt/media/drumroll.wav" ContentType="audio/x-wav"/>
  <Override PartName="/ppt/media/image3.jpeg" ContentType="image/jpeg"/>
  <Override PartName="/ppt/media/type.wav" ContentType="audio/x-wav"/>
  <Override PartName="/ppt/media/image9.gif" ContentType="image/gif"/>
  <Override PartName="/ppt/media/camera.wav" ContentType="audio/x-wav"/>
  <Override PartName="/ppt/media/applause.wav" ContentType="audio/x-wav"/>
  <Override PartName="/ppt/media/image6.jpeg" ContentType="image/jpeg"/>
  <Override PartName="/ppt/media/chimes.wav" ContentType="audio/x-wav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CD8-AC8D-433B-B7F8-EFA919B34E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033-646E-4A5F-8F92-DD8F5799E9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F515-4896-4EFD-8CBB-360295E123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F33-8F88-4337-AD5D-D1E9D68D18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B69-8CAF-474A-9334-B99FACD77D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4E5F-DDE1-4734-B024-BB03AF8F3D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2860-FC58-4C5B-B876-56EDE76EDB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EC70-69CA-4D28-85F0-DB952C225C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FF7F-7F97-448A-BA54-27BF4AF831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06F8-40D1-4CD6-BD23-CA890E848C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7B6-99E6-49A3-96C5-1EE5C2F0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AB1-F52F-4601-AFDB-55D98544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F4F-B61F-498E-885E-4CF0E062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258-44A3-4099-8988-7D1282B3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C42-26AD-4050-B4A9-FDDB20B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965-753D-486B-B4AC-472EB8A4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A8A-C0FC-43D1-9047-05E45849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31F-74BF-4ABD-A287-017A5CF4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32E-6362-4C36-A7B3-594669F9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8CE-0462-41F9-AD1C-88E9F03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FD8-EB7B-4CE4-AA0B-00849CDE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CCF-ACA8-4DA9-B291-C8DBF37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C3D9-5519-437B-B7B4-8369A53CA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6" descr="ok-u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028"/>
          <p:cNvSpPr txBox="1"/>
          <p:nvPr/>
        </p:nvSpPr>
        <p:spPr>
          <a:xfrm>
            <a:off x="6248520" y="1752480"/>
            <a:ext cx="160020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莺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50" name="Text Box 1029"/>
          <p:cNvSpPr/>
          <p:nvPr/>
        </p:nvSpPr>
        <p:spPr>
          <a:xfrm>
            <a:off x="4697640" y="4038480"/>
            <a:ext cx="850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布   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N02097_"/>
          <p:cNvPicPr/>
          <p:nvPr/>
        </p:nvPicPr>
        <p:blipFill>
          <a:blip r:embed="rId2"/>
          <a:stretch/>
        </p:blipFill>
        <p:spPr>
          <a:xfrm>
            <a:off x="7645320" y="4800600"/>
            <a:ext cx="14986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209680" y="685800"/>
            <a:ext cx="4953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永生的鸟啊，你不会死去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饥饿的世代无法将你蹂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今夜，我偶尔听到的歌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曾使古代的帝王和村夫喜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或许这同样的歌声也曾激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露丝忧郁的心，使他不禁落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站在异邦的谷田里想着家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英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]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济慈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夜莺颂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：听读课文，扫除阅读中的字词障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：精读课文，练习做批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：品读课文，体会人与自然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：口头表达训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ok-r"/>
          <p:cNvPicPr/>
          <p:nvPr/>
        </p:nvPicPr>
        <p:blipFill>
          <a:blip r:embed="rId1"/>
          <a:stretch/>
        </p:blipFill>
        <p:spPr>
          <a:xfrm>
            <a:off x="6858000" y="5183280"/>
            <a:ext cx="2286000" cy="1674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990720" y="68580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教读方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391520" y="0"/>
          <a:ext cx="1752480" cy="16686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本科全书。生物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莺是这样说明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雀形目翁科的一亚种。本亚科鸟类体形短小或中等；嘴形尖细，有时微具缺刻；体羽大都为纯色，仅少数非洲种彩色较多。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，中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。是旧大陆著名的鸣禽，仅少数种类（如戴菊莺、北极莺）越过百令海峡，到达阿拉斯加，但冬季仍返回非律宾和马鲁古群岛越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799920"/>
            <a:ext cx="77724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松鼠是一种漂亮的小动物，驯良，乖巧，很讨人喜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它们面容清秀，眼睛闪闪发光，身体矫健，四肢轻快，非常敏捷，非常机警。玲珑的小面孔，衬上一条帽缨形的美丽的尾巴，显得格外漂亮；尾巴老是翘起来，一直翘到头上，身子就躲在尾巴底下歇凉。它们常常直竖着身子坐着，象人们用手一样，用前爪往嘴里送东西吃。可以说，松鼠最不象四足兽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布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松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松鼠”亦称“灰鼠，哺乳纲，松鼠科。体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-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。尾蓬松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-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。体毛灰色、暗褐色或赤褐色，腹面白色。冬季耳有毛簇，林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辞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380880" y="0"/>
            <a:ext cx="22100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比较阅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10"/>
          <p:cNvPicPr/>
          <p:nvPr/>
        </p:nvPicPr>
        <p:blipFill>
          <a:blip r:embed="rId1"/>
          <a:stretch/>
        </p:blipFill>
        <p:spPr>
          <a:xfrm>
            <a:off x="54864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小练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根据下边词语的意思，各写一段话，描述一种小动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示例：写小燕子的的“伶俐”：小燕子带了它的剪刀似的尾，在微风细雨中，或在阳光满地时，斜飞于旷亮的天空之上。它飞得那样灵活，有时，“唧”的一声，已由这里的稻田上，飞到那边的高柳之下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警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乖巧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驯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0" y="297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条黄狗站在院子里一动不动，竖起耳朵，瞪着眼睛向门口望着。只要听到一点声响，看到一点影子，就“汪汪”的叫起来好象报告主人，外面有动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p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905120" y="52578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自然中的每一个生物体都是各有特点，都是可爱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自然和人类本是和谐的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ok-r"/>
          <p:cNvPicPr/>
          <p:nvPr/>
        </p:nvPicPr>
        <p:blipFill>
          <a:blip r:embed="rId1"/>
          <a:stretch/>
        </p:blipFill>
        <p:spPr>
          <a:xfrm>
            <a:off x="6858000" y="5183280"/>
            <a:ext cx="2286000" cy="16747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"/>
          <p:cNvSpPr/>
          <p:nvPr/>
        </p:nvSpPr>
        <p:spPr>
          <a:xfrm>
            <a:off x="2666880" y="762120"/>
            <a:ext cx="685800" cy="4343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048120" y="914400"/>
            <a:ext cx="1523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听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精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品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800600" y="533520"/>
            <a:ext cx="3733920" cy="4190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562720" y="1287360"/>
            <a:ext cx="2438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初步认识了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接触到说明文的两种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体会了人与自然的和谐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2590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阅读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ock1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 rot="5400000">
            <a:off x="-419400" y="14857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华文行楷"/>
              </a:rPr>
              <a:t>试用生动性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74" name="WordArt 6"/>
          <p:cNvSpPr txBox="1"/>
          <p:nvPr/>
        </p:nvSpPr>
        <p:spPr>
          <a:xfrm rot="5400000">
            <a:off x="570960" y="3009960"/>
            <a:ext cx="42674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latin typeface="华文行楷"/>
              </a:rPr>
              <a:t>说明语言介绍它吧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07:08:46Z</dcterms:created>
  <dc:creator/>
  <dc:description/>
  <cp:keywords/>
  <dc:language>en-US</dc:language>
  <cp:lastModifiedBy/>
  <dcterms:modified xsi:type="dcterms:W3CDTF">2017-01-10T07:08:48Z</dcterms:modified>
  <cp:revision>1</cp:revision>
  <dc:subject/>
  <dc:title/>
</cp:coreProperties>
</file>