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448-D3F1-4682-889B-EF1C636E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D95-3761-4BCB-9FD7-6B3C9B51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DC3-0FA3-4842-BD45-3D7ED67D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8FD-3D1D-47BD-9C29-0647BB95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500-9FF9-485A-9792-B25EE33A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983-07FA-411E-A935-C50C6C96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0C9-D345-4F71-A295-7297CC50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E6C-84E8-41FD-A29D-F8632283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143-0ACE-46D1-AE46-C29346F0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15B-9992-4F09-BE09-350ABE7C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33B-C204-446C-B854-2876C997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B7D-2FDD-4813-889C-3BFA8D9B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A5B0-81D8-4CFD-80AB-CEFF5AFD91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59280" y="9874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江之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Users\weili11\AppData\Roaming\Tencent\Users\1039322466\QQ\WinTemp\RichOle\RD`YBVLIUL5H6~S11KYYTGD.jpg"/>
          <p:cNvPicPr/>
          <p:nvPr/>
        </p:nvPicPr>
        <p:blipFill>
          <a:blip r:embed="rId1"/>
          <a:stretch/>
        </p:blipFill>
        <p:spPr>
          <a:xfrm>
            <a:off x="369720" y="3141720"/>
            <a:ext cx="49546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卡通图片（赶快试一试吧！）"/>
          <p:cNvPicPr/>
          <p:nvPr/>
        </p:nvPicPr>
        <p:blipFill>
          <a:blip r:embed="rId1"/>
          <a:srcRect l="0" t="6623" r="0" b="9241"/>
          <a:stretch/>
        </p:blipFill>
        <p:spPr>
          <a:xfrm>
            <a:off x="250920" y="2924280"/>
            <a:ext cx="2908080" cy="36716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3780000" y="1197000"/>
            <a:ext cx="4068720" cy="1942920"/>
          </a:xfrm>
          <a:prstGeom prst="cloudCallout">
            <a:avLst>
              <a:gd name="adj1" fmla="val -95611"/>
              <a:gd name="adj2" fmla="val 45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Calibri"/>
              </a:rPr>
              <a:t>     </a:t>
            </a:r>
            <a:r>
              <a:rPr b="1" lang="zh-CN" sz="2800" spc="-1" strike="noStrike">
                <a:solidFill>
                  <a:srgbClr val="ff9900"/>
                </a:solidFill>
                <a:latin typeface="Calibri"/>
              </a:rPr>
              <a:t>你想对长江说些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547640" y="26028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d1303"/>
                </a:solidFill>
                <a:latin typeface="隶书"/>
                <a:ea typeface="隶书"/>
              </a:rPr>
              <a:t>长江之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455720" y="32464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6084720" y="4149720"/>
            <a:ext cx="2359080" cy="2421000"/>
            <a:chOff x="6084720" y="4149720"/>
            <a:chExt cx="2359080" cy="2421000"/>
          </a:xfrm>
        </p:grpSpPr>
        <p:pic>
          <p:nvPicPr>
            <p:cNvPr id="69" name="Picture 7" descr="卡通图片（找一找）"/>
            <p:cNvPicPr/>
            <p:nvPr/>
          </p:nvPicPr>
          <p:blipFill>
            <a:blip r:embed="rId2"/>
            <a:stretch/>
          </p:blipFill>
          <p:spPr>
            <a:xfrm>
              <a:off x="6084720" y="4149720"/>
              <a:ext cx="235908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8"/>
            <p:cNvSpPr/>
            <p:nvPr/>
          </p:nvSpPr>
          <p:spPr>
            <a:xfrm>
              <a:off x="6427800" y="4549680"/>
              <a:ext cx="160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说一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9" descr="拓展学习"/>
          <p:cNvPicPr/>
          <p:nvPr/>
        </p:nvPicPr>
        <p:blipFill>
          <a:blip r:embed="rId3"/>
          <a:stretch/>
        </p:blipFill>
        <p:spPr>
          <a:xfrm>
            <a:off x="324000" y="1125360"/>
            <a:ext cx="2295360" cy="5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736560" y="35244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程导入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长江流域图"/>
          <p:cNvPicPr/>
          <p:nvPr/>
        </p:nvPicPr>
        <p:blipFill>
          <a:blip r:embed="rId1"/>
          <a:stretch/>
        </p:blipFill>
        <p:spPr>
          <a:xfrm>
            <a:off x="127080" y="1276200"/>
            <a:ext cx="87138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747720" y="476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字学习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06600" y="2060640"/>
            <a:ext cx="820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哺（</a:t>
            </a:r>
            <a:r>
              <a:rPr b="0" lang="en-US" sz="32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bǔ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喂（不会取食的婴儿）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涤（</a:t>
            </a:r>
            <a:r>
              <a:rPr b="0" lang="en-US" sz="32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dí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埃（</a:t>
            </a:r>
            <a:r>
              <a:rPr b="0" lang="en-US" sz="32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āi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尘土、灰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礴（</a:t>
            </a:r>
            <a:r>
              <a:rPr b="0" lang="en-US" sz="32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bó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磅礴：气势盛大。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58920" y="1989000"/>
            <a:ext cx="6292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丰采：美好的仪表举止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依恋：留恋，舍不得离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荡涤：洗涤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尘埃：尘土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灌溉：把水输送到田里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747720" y="476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掌握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747720" y="476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初读感知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63720" y="2421000"/>
            <a:ext cx="7488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全诗表达的强烈感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诗歌中用到的比喻、拟人等手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747720" y="476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读体悟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782640" y="3332160"/>
            <a:ext cx="775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雪山”在祖国的最西部，“东海”在祖国的最东部，长江能从祖国的最西部走来，向祖国的最东部奔去，说明她的源泉是无穷的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07172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从雪山走来；你向东海奔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1027080" y="2781360"/>
            <a:ext cx="774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远古”是指很遥远的古代，长江从远古走来，向未来奔去，时间跨度很大，长江永远不会停息，所以说它是无穷的源泉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368360" y="126828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从远古走来；你向未来奔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981000" y="3000240"/>
            <a:ext cx="718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灌溉花的国土”，祖国的领土那么大，长江能将它们一起灌溉，所以说它是“无穷的源泉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推动新的时代”，长江能推动时代的发展，力量是无穷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133640" y="1125360"/>
            <a:ext cx="68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用纯洁的清流，灌溉花的国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用磅礴的力量，推动新的时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0560" y="1197000"/>
            <a:ext cx="3025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从雪山走来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向东海奔去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从远古走来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向未来奔去</a:t>
            </a:r>
            <a:r>
              <a:rPr b="1" lang="zh-CN" sz="4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00720" y="3789360"/>
            <a:ext cx="32414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乳汁   哺育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臂膀   挽起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清流   灌溉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力量   推动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826920" y="1197000"/>
            <a:ext cx="3241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穷的源泉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98560" y="3933720"/>
            <a:ext cx="3241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的情怀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922560" y="1413000"/>
            <a:ext cx="287640" cy="1584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3922560" y="3933720"/>
            <a:ext cx="358920" cy="1800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3:13:48Z</dcterms:created>
  <dc:creator/>
  <dc:description/>
  <dc:language>en-US</dc:language>
  <cp:lastModifiedBy/>
  <dcterms:modified xsi:type="dcterms:W3CDTF">2016-10-17T02:04:57Z</dcterms:modified>
  <cp:revision>3</cp:revision>
  <dc:subject/>
  <dc:title/>
</cp:coreProperties>
</file>