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B7A-7AE2-4573-8045-521C5926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B9C-A085-4F5C-9414-04BA6BCB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101-5F3A-4661-8E62-8F284808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446-588C-4FB3-A94E-0CB081C7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5FC-18EB-42E2-BB8F-3C40881C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1FB-15D6-4BEE-88D4-F8F0D6C4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092-EDE6-443A-B450-DDCA0ECC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B93-4465-4127-8D74-C7638585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98D-9203-4A3C-A1ED-3D2522F6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022-68D6-4068-8F3F-F609ECBD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3F6-7676-446E-84B0-27E60A06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D1B-A739-41A0-B8A7-65B61B5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6D93-9C67-46E3-94E8-B2E80CC91B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43080" y="1071720"/>
            <a:ext cx="65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尊敬普通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PROGRA~1\360se6\USERDA~1\Temp\120520~1.JPG"/>
          <p:cNvPicPr/>
          <p:nvPr/>
        </p:nvPicPr>
        <p:blipFill>
          <a:blip r:embed="rId1"/>
          <a:stretch/>
        </p:blipFill>
        <p:spPr>
          <a:xfrm>
            <a:off x="617400" y="2997360"/>
            <a:ext cx="358776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500040" y="2071800"/>
            <a:ext cx="837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识记生字词，理解课文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感情地朗读课文，把握作者的思想感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解尊敬天底下一切善良的普通人、一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切诚实的劳动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93560" y="47628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读提示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493560" y="47628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积累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755640" y="1844640"/>
            <a:ext cx="822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丑陋    企及    挫折    敌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浑浑噩噩  唉声叹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微不足道  饱经沧桑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493560" y="47628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感知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042920" y="1484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文章列举了各种普通人的平凡事迹，感悟到了一个极其简单但又不容易做到的道理：应该尊敬普通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913040" y="342900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观点：应该尊敬普通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879560" y="4114800"/>
            <a:ext cx="51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列举：各种各样的普通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1835280" y="503568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点明：尊敬善良的普通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6334920" y="3716280"/>
            <a:ext cx="210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道理简单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到不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837000" y="313884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敬普通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左大括号 10"/>
          <p:cNvSpPr/>
          <p:nvPr/>
        </p:nvSpPr>
        <p:spPr>
          <a:xfrm>
            <a:off x="1403280" y="3624120"/>
            <a:ext cx="432000" cy="18687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1868760"/>
              <a:gd name="textAreaBottom" fmla="*/ 1857600 h 186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6"/>
                </a:cubicBezTo>
                <a:lnTo>
                  <a:pt x="10800" y="10384"/>
                </a:lnTo>
                <a:cubicBezTo>
                  <a:pt x="10800" y="10592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6"/>
                </a:cubicBezTo>
                <a:lnTo>
                  <a:pt x="10800" y="21184"/>
                </a:lnTo>
                <a:cubicBezTo>
                  <a:pt x="10800" y="21392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右大括号 11"/>
          <p:cNvSpPr/>
          <p:nvPr/>
        </p:nvSpPr>
        <p:spPr>
          <a:xfrm>
            <a:off x="6804000" y="3516480"/>
            <a:ext cx="287280" cy="20412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41200"/>
              <a:gd name="textAreaBottom" fmla="*/ 2034000 h 20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7"/>
                  <a:pt x="10800" y="254"/>
                </a:cubicBezTo>
                <a:lnTo>
                  <a:pt x="10800" y="10546"/>
                </a:lnTo>
                <a:cubicBezTo>
                  <a:pt x="10800" y="10673"/>
                  <a:pt x="16200" y="10800"/>
                  <a:pt x="21600" y="10800"/>
                </a:cubicBezTo>
                <a:cubicBezTo>
                  <a:pt x="16200" y="10800"/>
                  <a:pt x="10800" y="10927"/>
                  <a:pt x="10800" y="11054"/>
                </a:cubicBezTo>
                <a:lnTo>
                  <a:pt x="10800" y="21346"/>
                </a:lnTo>
                <a:cubicBezTo>
                  <a:pt x="10800" y="21473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493560" y="47628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思考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1476360" y="1773360"/>
            <a:ext cx="727236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写了哪些普通人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是什么人？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们为什么值得尊敬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怎么样做的？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493560" y="47628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总结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755640" y="203184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通过列举各种应该尊敬的普通人，以一个世纪老人的百年阅历，感悟到一个极其简单但又不易做到的做人的道理：应该尊敬普通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493560" y="47628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实际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1116000" y="2060640"/>
            <a:ext cx="679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还有哪些普通人值得我们尊敬，将你所写的“身边的高尚的人”浓缩成与课文中句式相同的语句，插入到课文当中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3T02:11:07Z</dcterms:created>
  <dc:creator/>
  <dc:description/>
  <dc:language>en-US</dc:language>
  <cp:lastModifiedBy>Administrator</cp:lastModifiedBy>
  <dcterms:modified xsi:type="dcterms:W3CDTF">2016-11-02T09:18:09Z</dcterms:modified>
  <cp:revision>6</cp:revision>
  <dc:subject/>
  <dc:title>PowerPoint 演示文稿</dc:title>
</cp:coreProperties>
</file>