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5320-4EF8-4B74-A013-A145B5FD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5EFD-DFEC-419C-8E30-EAEB3C0B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5F59-5CAF-4AAB-B4AE-BBE9E063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25D0-4963-4675-853D-D492C951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9538-4D2B-4439-A5E3-F5ECB0C7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64AC-D0D7-46F2-AF14-B8ABB111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3CA4-1865-4E76-B9F8-673E355A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BA97-5073-4D7B-8E76-D74DED46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43DB-0DA1-458D-B5CA-A424765B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896D-D383-4924-8436-03C9629C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EE94-BDA4-4274-9E5E-26A89075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576C-A4DF-459C-BA38-4C3DD0DA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F835-A6E6-44CA-8305-B37C84F1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AB78-0049-47A3-B9C2-19DD2F8C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6936-83B3-43B4-8A92-9F1586B7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BF0E-8F8A-4A6E-A4F3-5C96832A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4B0B-AEB6-4CD4-9AE3-BD36C825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20D9-1C94-4D07-B501-1BD978CE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3269-2133-4EF6-9F84-D487C439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C8E-CEC1-4617-85D3-AC815520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7F52-97D9-4593-9C5C-7037B856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E38-8F24-44D9-84C6-80445379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6B51-3D58-449E-851B-AEC6C1AA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7482-1348-48F3-9C86-1754ABC8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5862-2A71-4826-A77A-148FB2150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BE44-EB1F-463F-8B7C-F5DF44A122B9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6"/>
          <p:cNvSpPr txBox="1"/>
          <p:nvPr/>
        </p:nvSpPr>
        <p:spPr>
          <a:xfrm rot="349800">
            <a:off x="1982520" y="1916280"/>
            <a:ext cx="532584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04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24* </a:t>
            </a:r>
            <a:r>
              <a:rPr b="1" lang="zh-CN" sz="5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04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儿子的采访</a:t>
            </a:r>
            <a:endParaRPr b="1" lang="en-US" sz="5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04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3" name="WordArt 8"/>
          <p:cNvSpPr txBox="1"/>
          <p:nvPr/>
        </p:nvSpPr>
        <p:spPr>
          <a:xfrm>
            <a:off x="3492360" y="4221000"/>
            <a:ext cx="2016360" cy="142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六年级上册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作业</a:t>
            </a: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432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华文新魏"/>
              </a:rPr>
              <a:t>         </a:t>
            </a:r>
            <a:r>
              <a:rPr b="0" lang="zh-CN" sz="3200" spc="-1" strike="noStrike">
                <a:solidFill>
                  <a:srgbClr val="9900cc"/>
                </a:solidFill>
                <a:latin typeface="Arial"/>
                <a:ea typeface="华文新魏"/>
              </a:rPr>
              <a:t>根据自己的感悟，写一篇小作文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</a:rPr>
              <a:t>《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</a:rPr>
              <a:t>放飞梦想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</a:rPr>
              <a:t>》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1"/>
          <p:cNvPicPr/>
          <p:nvPr/>
        </p:nvPicPr>
        <p:blipFill>
          <a:blip r:embed="rId1"/>
          <a:stretch/>
        </p:blipFill>
        <p:spPr>
          <a:xfrm>
            <a:off x="1187280" y="1184400"/>
            <a:ext cx="6697800" cy="4908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2007816133439311"/>
          <p:cNvPicPr/>
          <p:nvPr/>
        </p:nvPicPr>
        <p:blipFill>
          <a:blip r:embed="rId2"/>
          <a:stretch/>
        </p:blipFill>
        <p:spPr>
          <a:xfrm>
            <a:off x="4356000" y="4365720"/>
            <a:ext cx="4500720" cy="2251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ZW_021"/>
          <p:cNvPicPr/>
          <p:nvPr/>
        </p:nvPicPr>
        <p:blipFill>
          <a:blip r:embed="rId3"/>
          <a:stretch/>
        </p:blipFill>
        <p:spPr>
          <a:xfrm>
            <a:off x="184320" y="3860640"/>
            <a:ext cx="2300040" cy="29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教材分析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这篇课文选自小学语文冀教版第十一册，是一个真实的故事。儿子采访爸爸的梦想是什么？爸爸告诉他自己有三个愿望：第一个是吃得下饭；第二个是睡得着觉；第三个是笑得出来。儿子不理解，就如实地写出了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华文新魏"/>
              </a:rPr>
              <a:t>《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我眼中的爸爸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华文新魏"/>
              </a:rPr>
              <a:t>》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。这个在儿子看来是不值得推崇的爸爸，可他的愿望却值得我们品味。从而对孩子进行人文性的渗透和引导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6" name="Picture 5" descr="Q_039"/>
          <p:cNvPicPr/>
          <p:nvPr/>
        </p:nvPicPr>
        <p:blipFill>
          <a:blip r:embed="rId1"/>
          <a:stretch/>
        </p:blipFill>
        <p:spPr>
          <a:xfrm>
            <a:off x="6227640" y="73080"/>
            <a:ext cx="2376720" cy="19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教学目标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528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知识与技能：   </a:t>
            </a:r>
            <a:r>
              <a:rPr b="0" lang="zh-CN" sz="2000" spc="-1" strike="noStrike">
                <a:solidFill>
                  <a:srgbClr val="0033cc"/>
                </a:solidFill>
                <a:latin typeface="华文行楷"/>
                <a:ea typeface="华文行楷"/>
              </a:rPr>
              <a:t>（</a:t>
            </a:r>
            <a:r>
              <a:rPr b="0" lang="en-US" sz="2000" spc="-1" strike="noStrike">
                <a:solidFill>
                  <a:srgbClr val="0033cc"/>
                </a:solidFill>
                <a:latin typeface="华文行楷"/>
                <a:ea typeface="华文行楷"/>
              </a:rPr>
              <a:t>1</a:t>
            </a:r>
            <a:r>
              <a:rPr b="0" lang="zh-CN" sz="2000" spc="-1" strike="noStrike">
                <a:solidFill>
                  <a:srgbClr val="0033cc"/>
                </a:solidFill>
                <a:latin typeface="华文行楷"/>
                <a:ea typeface="华文行楷"/>
              </a:rPr>
              <a:t>）有感情地朗读课文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华文行楷"/>
                <a:ea typeface="华文行楷"/>
              </a:rPr>
              <a:t>                                </a:t>
            </a:r>
            <a:r>
              <a:rPr b="0" lang="zh-CN" sz="2000" spc="-1" strike="noStrike">
                <a:solidFill>
                  <a:srgbClr val="0033cc"/>
                </a:solidFill>
                <a:latin typeface="华文行楷"/>
                <a:ea typeface="华文行楷"/>
              </a:rPr>
              <a:t>（</a:t>
            </a:r>
            <a:r>
              <a:rPr b="0" lang="en-US" sz="2000" spc="-1" strike="noStrike">
                <a:solidFill>
                  <a:srgbClr val="0033cc"/>
                </a:solidFill>
                <a:latin typeface="华文行楷"/>
                <a:ea typeface="华文行楷"/>
              </a:rPr>
              <a:t>2</a:t>
            </a:r>
            <a:r>
              <a:rPr b="0" lang="zh-CN" sz="2000" spc="-1" strike="noStrike">
                <a:solidFill>
                  <a:srgbClr val="0033cc"/>
                </a:solidFill>
                <a:latin typeface="华文行楷"/>
                <a:ea typeface="华文行楷"/>
              </a:rPr>
              <a:t>）从儿子的采访中了解爸爸的三个愿望，从        </a:t>
            </a:r>
            <a:r>
              <a:rPr b="0" lang="en-US" sz="2000" spc="-1" strike="noStrike">
                <a:solidFill>
                  <a:srgbClr val="0033cc"/>
                </a:solidFill>
                <a:latin typeface="华文行楷"/>
                <a:ea typeface="华文行楷"/>
              </a:rPr>
              <a:t>《</a:t>
            </a:r>
            <a:r>
              <a:rPr b="0" lang="zh-CN" sz="2000" spc="-1" strike="noStrike">
                <a:solidFill>
                  <a:srgbClr val="0033cc"/>
                </a:solidFill>
                <a:latin typeface="华文行楷"/>
                <a:ea typeface="华文行楷"/>
              </a:rPr>
              <a:t>我眼中的爸爸</a:t>
            </a:r>
            <a:r>
              <a:rPr b="0" lang="en-US" sz="2000" spc="-1" strike="noStrike">
                <a:solidFill>
                  <a:srgbClr val="0033cc"/>
                </a:solidFill>
                <a:latin typeface="华文行楷"/>
                <a:ea typeface="华文行楷"/>
              </a:rPr>
              <a:t>》</a:t>
            </a:r>
            <a:r>
              <a:rPr b="0" lang="zh-CN" sz="2000" spc="-1" strike="noStrike">
                <a:solidFill>
                  <a:srgbClr val="0033cc"/>
                </a:solidFill>
                <a:latin typeface="华文行楷"/>
                <a:ea typeface="华文行楷"/>
              </a:rPr>
              <a:t>中了解爸爸这个人</a:t>
            </a:r>
            <a:r>
              <a:rPr b="0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情感、态度与价值观：</a:t>
            </a:r>
            <a:r>
              <a:rPr b="0" lang="zh-CN" sz="2000" spc="-1" strike="noStrike">
                <a:solidFill>
                  <a:srgbClr val="0033cc"/>
                </a:solidFill>
                <a:latin typeface="华文行楷"/>
                <a:ea typeface="华文行楷"/>
              </a:rPr>
              <a:t>了解父母对人生三个愿望的感悟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过程与方法</a:t>
            </a:r>
            <a:r>
              <a:rPr b="0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：</a:t>
            </a:r>
            <a:r>
              <a:rPr b="0" lang="zh-CN" sz="2000" spc="-1" strike="noStrike">
                <a:solidFill>
                  <a:srgbClr val="0033cc"/>
                </a:solidFill>
                <a:latin typeface="华文行楷"/>
                <a:ea typeface="华文行楷"/>
              </a:rPr>
              <a:t>联系生活实际，运用采访的方式了解父母对人生     三个愿望的感悟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9" name="Picture 4" descr="W_001"/>
          <p:cNvPicPr/>
          <p:nvPr/>
        </p:nvPicPr>
        <p:blipFill>
          <a:blip r:embed="rId1"/>
          <a:stretch/>
        </p:blipFill>
        <p:spPr>
          <a:xfrm>
            <a:off x="0" y="0"/>
            <a:ext cx="2158920" cy="14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1810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教学重点：</a:t>
            </a:r>
            <a:r>
              <a:rPr b="0" lang="zh-CN" sz="3200" spc="-1" strike="noStrike">
                <a:solidFill>
                  <a:srgbClr val="007572"/>
                </a:solidFill>
                <a:latin typeface="Arial"/>
                <a:ea typeface="华文行楷"/>
              </a:rPr>
              <a:t>有感情的朗读课文。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4920" y="3662280"/>
            <a:ext cx="8540640" cy="25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教学难点：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行楷"/>
              </a:rPr>
              <a:t>知道爸爸有哪三个愿望，并根据三个愿望谈自己的感受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教法、学法：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行楷"/>
              </a:rPr>
              <a:t>以读代讲、合作学习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2" name="Picture 4" descr="QT_088"/>
          <p:cNvPicPr/>
          <p:nvPr/>
        </p:nvPicPr>
        <p:blipFill>
          <a:blip r:embed="rId1"/>
          <a:stretch/>
        </p:blipFill>
        <p:spPr>
          <a:xfrm>
            <a:off x="6838920" y="0"/>
            <a:ext cx="2125800" cy="32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教学设计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一、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激情导入，引发探究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2124000" y="2349360"/>
            <a:ext cx="5040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梦想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二、 通读课文，整体感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学习提示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）自读课文，要求读正确、流利。　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）思考：课文描写了一件什么事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）爸爸的三个愿望是什么？儿子理解     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7" name="Picture 5" descr="Q_014"/>
          <p:cNvPicPr/>
          <p:nvPr/>
        </p:nvPicPr>
        <p:blipFill>
          <a:blip r:embed="rId1"/>
          <a:stretch/>
        </p:blipFill>
        <p:spPr>
          <a:xfrm>
            <a:off x="6084720" y="693720"/>
            <a:ext cx="251964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三、表演情景，深化理解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新魏"/>
              </a:rPr>
              <a:t>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新魏"/>
              </a:rPr>
              <a:t>．学生分组准备表演，排练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新魏"/>
              </a:rPr>
              <a:t>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新魏"/>
              </a:rPr>
              <a:t>、学生表演，根据自己的理解进行评价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新魏"/>
              </a:rPr>
              <a:t>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华文新魏"/>
              </a:rPr>
              <a:t>、你喜欢这个爸爸吗？为什么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9" name="Picture 4" descr="WY_016"/>
          <p:cNvPicPr/>
          <p:nvPr/>
        </p:nvPicPr>
        <p:blipFill>
          <a:blip r:embed="rId1"/>
          <a:stretch/>
        </p:blipFill>
        <p:spPr>
          <a:xfrm>
            <a:off x="5292720" y="3284640"/>
            <a:ext cx="313380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04920" y="1981080"/>
            <a:ext cx="854064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四、 抓住关键，拓展延伸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    </a:t>
            </a:r>
            <a:r>
              <a:rPr b="0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根据生活实际，说说爸爸的愿望容易实现吗？你能够很容易的实现爸爸的三个愿望吗？（各抒己见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           </a:t>
            </a:r>
            <a:r>
              <a:rPr b="0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自己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             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           </a:t>
            </a:r>
            <a:r>
              <a:rPr b="0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享受                         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                                                     </a:t>
            </a:r>
            <a:r>
              <a:rPr b="0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真实而快乐地生活！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 </a:t>
            </a:r>
            <a:r>
              <a:rPr b="0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理解   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 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           </a:t>
            </a:r>
            <a:r>
              <a:rPr b="0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父母   </a:t>
            </a:r>
            <a:r>
              <a:rPr b="0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           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619280" y="3645000"/>
            <a:ext cx="360" cy="358560"/>
            <a:chOff x="1619280" y="3645000"/>
            <a:chExt cx="360" cy="358560"/>
          </a:xfrm>
        </p:grpSpPr>
        <p:sp>
          <p:nvSpPr>
            <p:cNvPr id="102" name="Line 7"/>
            <p:cNvSpPr/>
            <p:nvPr/>
          </p:nvSpPr>
          <p:spPr>
            <a:xfrm>
              <a:off x="1619280" y="3645000"/>
              <a:ext cx="0" cy="358560"/>
            </a:xfrm>
            <a:prstGeom prst="line">
              <a:avLst/>
            </a:prstGeom>
            <a:ln w="93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1619280" y="3645000"/>
              <a:ext cx="360" cy="35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619280" y="4869000"/>
            <a:ext cx="360" cy="360360"/>
            <a:chOff x="1619280" y="4869000"/>
            <a:chExt cx="360" cy="360360"/>
          </a:xfrm>
        </p:grpSpPr>
        <p:sp>
          <p:nvSpPr>
            <p:cNvPr id="105" name="Line 8"/>
            <p:cNvSpPr/>
            <p:nvPr/>
          </p:nvSpPr>
          <p:spPr>
            <a:xfrm>
              <a:off x="1619280" y="4869000"/>
              <a:ext cx="0" cy="360360"/>
            </a:xfrm>
            <a:prstGeom prst="line">
              <a:avLst/>
            </a:prstGeom>
            <a:ln w="93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1619280" y="486900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107" name="Picture 10" descr="ZW_041"/>
          <p:cNvPicPr/>
          <p:nvPr/>
        </p:nvPicPr>
        <p:blipFill>
          <a:blip r:embed="rId1"/>
          <a:stretch/>
        </p:blipFill>
        <p:spPr>
          <a:xfrm>
            <a:off x="6732720" y="404640"/>
            <a:ext cx="1873080" cy="1793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ZW_020"/>
          <p:cNvPicPr/>
          <p:nvPr/>
        </p:nvPicPr>
        <p:blipFill>
          <a:blip r:embed="rId2"/>
          <a:stretch/>
        </p:blipFill>
        <p:spPr>
          <a:xfrm>
            <a:off x="6443640" y="4365720"/>
            <a:ext cx="2376360" cy="213516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2"/>
          <p:cNvSpPr/>
          <p:nvPr/>
        </p:nvSpPr>
        <p:spPr>
          <a:xfrm>
            <a:off x="3132000" y="4365720"/>
            <a:ext cx="792360" cy="215640"/>
          </a:xfrm>
          <a:prstGeom prst="rightArrow">
            <a:avLst>
              <a:gd name="adj1" fmla="val 50000"/>
              <a:gd name="adj2" fmla="val 91844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欣赏歌曲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1332000" y="2276640"/>
            <a:ext cx="547200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华文行楷"/>
              </a:rPr>
              <a:t>《真心英雄》</a:t>
            </a:r>
            <a:endParaRPr b="0" lang="en-US" sz="1800" spc="1" strike="noStrike">
              <a:ln w="0">
                <a:noFill/>
              </a:ln>
              <a:solidFill>
                <a:srgbClr val="ffff66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12" name="真心英雄.mp3" descr=""/>
          <p:cNvPicPr/>
          <p:nvPr/>
        </p:nvPicPr>
        <p:blipFill>
          <a:blip r:embed="rId1"/>
          <a:stretch/>
        </p:blipFill>
        <p:spPr>
          <a:xfrm>
            <a:off x="8101080" y="2565360"/>
            <a:ext cx="828720" cy="8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030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06:11:39Z</dcterms:created>
  <dc:creator/>
  <dc:description/>
  <dc:language>en-US</dc:language>
  <cp:lastModifiedBy>Administrator</cp:lastModifiedBy>
  <dcterms:modified xsi:type="dcterms:W3CDTF">2016-01-06T00:37:2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NXTAG2">
    <vt:lpwstr>0008008005000000000001024120</vt:lpwstr>
  </property>
</Properties>
</file>