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14.jpeg" ContentType="image/jpeg"/>
  <Override PartName="/ppt/media/image30.gif" ContentType="image/gif"/>
  <Override PartName="/ppt/media/image8.gif" ContentType="image/gif"/>
  <Override PartName="/ppt/media/image13.png" ContentType="image/png"/>
  <Override PartName="/ppt/media/image10.gif" ContentType="image/gif"/>
  <Override PartName="/ppt/media/image29.gif" ContentType="image/gif"/>
  <Override PartName="/ppt/media/cashreg.wav" ContentType="audio/x-wav"/>
  <Override PartName="/ppt/media/image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5FF-6704-4D10-8AC9-D017C516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2F2-CA5F-422F-8023-32EE390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68D-58B0-46C8-AD48-B17125E0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834-5D1A-43D2-A874-960DF915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CDB-3632-408A-B24B-61B57CF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D5A-291A-4F87-82C8-E55BA983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BB0-5372-4C48-B305-C5758B44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FA7-7BFF-496B-A4F3-C9E0AD7D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A5A-62B6-4152-8A0E-075F0382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5E7-45C0-4FF1-AC9E-76963204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355-0E03-47D3-8F4D-5D7D88A6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843-1D8B-4292-A755-3F8AAAC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C26-7478-4803-90C0-107211AA1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95280" y="404640"/>
            <a:ext cx="8381880" cy="530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1773360"/>
            <a:ext cx="68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妈妈的账单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619280" y="573408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的工作是一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性的中级管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，若将母亲所做的各类型工作改为出钱聘人代劳，那么，子女一年所付的工钱高达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美元。可以说，母亲的工资足与大公司总裁相比。其实不用说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美元，即便是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美元。又有多少子女能够支付得起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享用母爱的同时，不知不觉间，已经欠下了母亲那么巨大的一笔薪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天下的母亲从来也没有人伸手向子女要这笔钱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母亲是一种职业，是一种无薪水的工作。母爱是无价的，是无法用金钱所衡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7098" t="13282" r="7281" b="5500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360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彼得读着读着，感到羞愧万分。过了一会儿，他怀着一颗怦怦直跳的心，蹑手蹑脚地走近母亲，将小脸蛋藏进了妈妈的怀里，小心翼翼地把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尼塞进了她的上衣口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0" y="0"/>
            <a:ext cx="284328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79280" y="0"/>
            <a:ext cx="2286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彩分享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tybbs_8_255_2406032cf9a8b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3"/>
          <p:cNvSpPr txBox="1"/>
          <p:nvPr/>
        </p:nvSpPr>
        <p:spPr>
          <a:xfrm rot="20432400">
            <a:off x="0" y="259920"/>
            <a:ext cx="2286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8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710000"/>
                </a:gradFill>
                <a:latin typeface="宋体"/>
              </a:rPr>
              <a:t>拓展升华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710000"/>
              </a:gradFill>
              <a:latin typeface="宋体"/>
              <a:ea typeface="宋体"/>
            </a:endParaRPr>
          </a:p>
        </p:txBody>
      </p:sp>
      <p:pic>
        <p:nvPicPr>
          <p:cNvPr id="116" name="TRACK22-爱之祝贺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89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32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汶川大地震中幸存的一个小生命。当抢救人员发现她的母亲的时候，这位母亲已经死了，是被倒塌下来的房子压死的，而死亡的姿势却是双膝跪着，整个上身向前匍匐着，双手扶着地支撑着身体，只是身体被压的变形了。她为什么要这样子呢？因为她的身子底下有一个小生命，她必须要用自己的一切护住这个孩子，她必须让孩子活下去，因为她是孩子的妈妈。当母亲离开人间的时候，孩子却毫发未伤，甜甜地睡着了。母亲给了这个孩子第二次生命，在包裹孩子的被子里有一部手机，上面是妈妈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最美的留言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“亲爱的宝贝，如果你能活着，一定要记住：我爱你！” </a:t>
            </a:r>
            <a:br>
              <a:rPr sz="2400"/>
            </a:b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0" y="0"/>
            <a:ext cx="2286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8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升华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29"/>
          <p:cNvPicPr/>
          <p:nvPr/>
        </p:nvPicPr>
        <p:blipFill>
          <a:blip r:embed="rId1"/>
          <a:stretch/>
        </p:blipFill>
        <p:spPr>
          <a:xfrm>
            <a:off x="1332000" y="620640"/>
            <a:ext cx="6264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6"/>
          <p:cNvPicPr/>
          <p:nvPr/>
        </p:nvPicPr>
        <p:blipFill>
          <a:blip r:embed="rId1"/>
          <a:stretch/>
        </p:blipFill>
        <p:spPr>
          <a:xfrm>
            <a:off x="1187280" y="404640"/>
            <a:ext cx="66596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11"/>
          <p:cNvPicPr/>
          <p:nvPr/>
        </p:nvPicPr>
        <p:blipFill>
          <a:blip r:embed="rId1"/>
          <a:stretch/>
        </p:blipFill>
        <p:spPr>
          <a:xfrm>
            <a:off x="1619280" y="549360"/>
            <a:ext cx="54007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难道母亲不怕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6"/>
          <p:cNvPicPr/>
          <p:nvPr/>
        </p:nvPicPr>
        <p:blipFill>
          <a:blip r:embed="rId1"/>
          <a:srcRect l="0" t="0" r="2079" b="20988"/>
          <a:stretch/>
        </p:blipFill>
        <p:spPr>
          <a:xfrm>
            <a:off x="1403280" y="1197000"/>
            <a:ext cx="60642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674800" cy="475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659640" y="1052640"/>
            <a:ext cx="2255760" cy="47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小票6"/>
          <p:cNvPicPr/>
          <p:nvPr/>
        </p:nvPicPr>
        <p:blipFill>
          <a:blip r:embed="rId3"/>
          <a:stretch/>
        </p:blipFill>
        <p:spPr>
          <a:xfrm>
            <a:off x="3419640" y="1125360"/>
            <a:ext cx="2709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15"/>
          <p:cNvPicPr/>
          <p:nvPr/>
        </p:nvPicPr>
        <p:blipFill>
          <a:blip r:embed="rId1"/>
          <a:stretch/>
        </p:blipFill>
        <p:spPr>
          <a:xfrm>
            <a:off x="1116000" y="333360"/>
            <a:ext cx="69832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"/>
          <p:cNvPicPr/>
          <p:nvPr/>
        </p:nvPicPr>
        <p:blipFill>
          <a:blip r:embed="rId1"/>
          <a:srcRect l="0" t="0" r="-563" b="19640"/>
          <a:stretch/>
        </p:blipFill>
        <p:spPr>
          <a:xfrm>
            <a:off x="971640" y="260280"/>
            <a:ext cx="6953040" cy="5302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416560" y="4875120"/>
            <a:ext cx="30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651640" y="494172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5880" y="454176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雪中，大手紧紧拉着小手，前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4"/>
          <p:cNvPicPr/>
          <p:nvPr/>
        </p:nvPicPr>
        <p:blipFill>
          <a:blip r:embed="rId1"/>
          <a:srcRect l="0" t="0" r="0" b="30945"/>
          <a:stretch/>
        </p:blipFill>
        <p:spPr>
          <a:xfrm>
            <a:off x="1116000" y="476280"/>
            <a:ext cx="6408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3"/>
          <p:cNvPicPr/>
          <p:nvPr/>
        </p:nvPicPr>
        <p:blipFill>
          <a:blip r:embed="rId1"/>
          <a:stretch/>
        </p:blipFill>
        <p:spPr>
          <a:xfrm>
            <a:off x="250920" y="260280"/>
            <a:ext cx="8532720" cy="63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87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嗷嗷待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难道鸟妈妈不饿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229600" cy="44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76728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_1038298500_mother03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欲静而风不止，子欲养而亲不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492640" y="2541600"/>
            <a:ext cx="443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的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星期日是母亲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的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星期日是父亲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569040" y="76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百善孝为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179280" y="0"/>
            <a:ext cx="2448000" cy="162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468360" y="0"/>
            <a:ext cx="18716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9" name="Picture 4" descr="骑月吹笛"/>
          <p:cNvPicPr/>
          <p:nvPr/>
        </p:nvPicPr>
        <p:blipFill>
          <a:blip r:embed="rId1"/>
          <a:stretch/>
        </p:blipFill>
        <p:spPr>
          <a:xfrm>
            <a:off x="6516720" y="0"/>
            <a:ext cx="2185920" cy="20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未标题-7"/>
          <p:cNvPicPr/>
          <p:nvPr/>
        </p:nvPicPr>
        <p:blipFill>
          <a:blip r:embed="rId2"/>
          <a:stretch/>
        </p:blipFill>
        <p:spPr>
          <a:xfrm>
            <a:off x="971640" y="3933720"/>
            <a:ext cx="147312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未标题-6"/>
          <p:cNvPicPr/>
          <p:nvPr/>
        </p:nvPicPr>
        <p:blipFill>
          <a:blip r:embed="rId3"/>
          <a:stretch/>
        </p:blipFill>
        <p:spPr>
          <a:xfrm>
            <a:off x="7380360" y="4149720"/>
            <a:ext cx="1763640" cy="2708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2843280" y="1052640"/>
            <a:ext cx="1657440" cy="647640"/>
          </a:xfrm>
          <a:prstGeom prst="wedgeRoundRectCallout">
            <a:avLst>
              <a:gd name="adj1" fmla="val -100189"/>
              <a:gd name="adj2" fmla="val 52181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索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932360" y="1052640"/>
            <a:ext cx="1655640" cy="647640"/>
          </a:xfrm>
          <a:prstGeom prst="wedgeRoundRectCallout">
            <a:avLst>
              <a:gd name="adj1" fmla="val 133319"/>
              <a:gd name="adj2" fmla="val 53897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报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916360" y="1916280"/>
            <a:ext cx="1584360" cy="1008000"/>
          </a:xfrm>
          <a:prstGeom prst="wedgeRoundRectCallout">
            <a:avLst>
              <a:gd name="adj1" fmla="val -112824"/>
              <a:gd name="adj2" fmla="val 24795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款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932360" y="4797360"/>
            <a:ext cx="1655640" cy="719280"/>
          </a:xfrm>
          <a:prstGeom prst="wedgeRoundRectCallout">
            <a:avLst>
              <a:gd name="adj1" fmla="val 129097"/>
              <a:gd name="adj2" fmla="val 2681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塞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4932360" y="2133720"/>
            <a:ext cx="2376360" cy="576000"/>
          </a:xfrm>
          <a:prstGeom prst="wedgeRoundRectCallout">
            <a:avLst>
              <a:gd name="adj1" fmla="val 82800"/>
              <a:gd name="adj2" fmla="val 43953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如愿以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3141720"/>
            <a:ext cx="1584360" cy="574560"/>
          </a:xfrm>
          <a:prstGeom prst="wedgeRoundRectCallout">
            <a:avLst>
              <a:gd name="adj1" fmla="val -115129"/>
              <a:gd name="adj2" fmla="val 26022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慈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4932360" y="3068640"/>
            <a:ext cx="1655640" cy="647640"/>
          </a:xfrm>
          <a:prstGeom prst="wedgeRoundRectCallout">
            <a:avLst>
              <a:gd name="adj1" fmla="val 124018"/>
              <a:gd name="adj2" fmla="val 2453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羞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4005360"/>
            <a:ext cx="2089440" cy="718920"/>
          </a:xfrm>
          <a:prstGeom prst="wedgeRoundRectCallout">
            <a:avLst>
              <a:gd name="adj1" fmla="val 90879"/>
              <a:gd name="adj2" fmla="val 11644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蹑手蹑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2771640" y="4941720"/>
            <a:ext cx="2087640" cy="649440"/>
          </a:xfrm>
          <a:prstGeom prst="wedgeRoundRectCallout">
            <a:avLst>
              <a:gd name="adj1" fmla="val -93879"/>
              <a:gd name="adj2" fmla="val -3973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小心翼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>
            <a:off x="2700360" y="3789360"/>
            <a:ext cx="2016000" cy="1081080"/>
          </a:xfrm>
          <a:prstGeom prst="wedgeRoundRectCallout">
            <a:avLst>
              <a:gd name="adj1" fmla="val -90393"/>
              <a:gd name="adj2" fmla="val 5587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怦怦直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推荐阅读冰心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荷叶母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妈妈写几句话或者一段话，把你对妈妈的爱、感激、承诺、感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在里面，并且能做到的一定要付诸于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1"/>
          <p:cNvPicPr/>
          <p:nvPr/>
        </p:nvPicPr>
        <p:blipFill>
          <a:blip r:embed="rId1"/>
          <a:stretch/>
        </p:blipFill>
        <p:spPr>
          <a:xfrm rot="320400">
            <a:off x="7164360" y="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学习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选择自己喜欢的方式读课文，可以轻轻地读，也可以大声地朗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读边想：文中讲到了几份账单？分别是谁写的？账单中分别写了什么？                             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认为小彼得是一个怎样的孩子？从哪些语句能够看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欠她儿子彼得如下款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回生活用品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挂号件送回邮局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花园帮助大人干活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彼得一直是个听话的好孩子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计：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0574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彼得的账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翻书"/>
          <p:cNvPicPr/>
          <p:nvPr/>
        </p:nvPicPr>
        <p:blipFill>
          <a:blip r:embed="rId1"/>
          <a:stretch/>
        </p:blipFill>
        <p:spPr>
          <a:xfrm>
            <a:off x="250920" y="5661000"/>
            <a:ext cx="1143000" cy="9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3276720" y="2349360"/>
            <a:ext cx="4537080" cy="3673440"/>
          </a:xfrm>
          <a:prstGeom prst="cloudCallout">
            <a:avLst>
              <a:gd name="adj1" fmla="val 51013"/>
              <a:gd name="adj2" fmla="val 264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德国的一种货币单位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芬尼等于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马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芬尼接近五角人民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2340000" y="907920"/>
            <a:ext cx="2519280" cy="1368720"/>
          </a:xfrm>
          <a:prstGeom prst="wedgeRoundRectCallout">
            <a:avLst>
              <a:gd name="adj1" fmla="val -78986"/>
              <a:gd name="adj2" fmla="val 22668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什么叫芬尼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"/>
          <p:cNvSpPr/>
          <p:nvPr/>
        </p:nvSpPr>
        <p:spPr>
          <a:xfrm>
            <a:off x="179280" y="0"/>
            <a:ext cx="2376720" cy="10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539640" y="0"/>
            <a:ext cx="165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知道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1" name="Picture 6" descr="未标题-6"/>
          <p:cNvPicPr/>
          <p:nvPr/>
        </p:nvPicPr>
        <p:blipFill>
          <a:blip r:embed="rId1"/>
          <a:stretch/>
        </p:blipFill>
        <p:spPr>
          <a:xfrm>
            <a:off x="0" y="2492280"/>
            <a:ext cx="1876320" cy="436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未标题-6"/>
          <p:cNvPicPr/>
          <p:nvPr/>
        </p:nvPicPr>
        <p:blipFill>
          <a:blip r:embed="rId2"/>
          <a:stretch/>
        </p:blipFill>
        <p:spPr>
          <a:xfrm>
            <a:off x="7596360" y="3500280"/>
            <a:ext cx="176364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写字"/>
          <p:cNvPicPr/>
          <p:nvPr/>
        </p:nvPicPr>
        <p:blipFill>
          <a:blip r:embed="rId3"/>
          <a:stretch/>
        </p:blipFill>
        <p:spPr>
          <a:xfrm>
            <a:off x="5940360" y="692280"/>
            <a:ext cx="1981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妈妈的账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彼得欠他的母亲如下款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在她家里过的十年幸福生活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他十年中的吃喝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在他生病时的护理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他一直有一个慈爱的母亲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芬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计：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芬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写字"/>
          <p:cNvPicPr/>
          <p:nvPr/>
        </p:nvPicPr>
        <p:blipFill>
          <a:blip r:embed="rId1"/>
          <a:stretch/>
        </p:blipFill>
        <p:spPr>
          <a:xfrm>
            <a:off x="7020000" y="5218200"/>
            <a:ext cx="198108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89080" y="1208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14520" y="549360"/>
            <a:ext cx="3814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487840" y="1389240"/>
            <a:ext cx="18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614600" y="1298520"/>
            <a:ext cx="202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861080" y="83808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75240" y="693720"/>
            <a:ext cx="39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310040" y="907920"/>
            <a:ext cx="240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彼得的账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亲欠她儿子彼得如下款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取回生活用品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把挂号件送回邮局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花园帮助大人干活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彼得一直是个听话的好孩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共计：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34920" y="981000"/>
            <a:ext cx="253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妈妈的账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彼得欠他的母亲如下款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在她家里过的十年幸福生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他十年中的吃喝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在他生病时的护理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他一直有一个慈爱的母亲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共计：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芬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306360"/>
            <a:ext cx="79059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彼得欠他的母亲如下款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9520" y="4190760"/>
            <a:ext cx="698328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他一直有一个慈爱的母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464600" y="1967040"/>
            <a:ext cx="15112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796000" y="4941720"/>
            <a:ext cx="3168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77720" y="1967040"/>
            <a:ext cx="6985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在她家里过的十年幸福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77720" y="2719440"/>
            <a:ext cx="6985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他十年中的吃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77720" y="3459240"/>
            <a:ext cx="6985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在他生病时的护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462800" y="2719440"/>
            <a:ext cx="15112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462800" y="3459240"/>
            <a:ext cx="15112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464600" y="4200480"/>
            <a:ext cx="15112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5796000" y="1989000"/>
            <a:ext cx="3348000" cy="3656160"/>
            <a:chOff x="5796000" y="1989000"/>
            <a:chExt cx="3348000" cy="3656160"/>
          </a:xfrm>
        </p:grpSpPr>
        <p:sp>
          <p:nvSpPr>
            <p:cNvPr id="96" name="Text Box 13"/>
            <p:cNvSpPr/>
            <p:nvPr/>
          </p:nvSpPr>
          <p:spPr>
            <a:xfrm>
              <a:off x="7632720" y="1989000"/>
              <a:ext cx="15112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6000" y="4941720"/>
              <a:ext cx="32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Garamond"/>
                </a:rPr>
                <a:t>共计：</a:t>
              </a:r>
              <a:r>
                <a:rPr b="0" lang="zh-CN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芬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7631280" y="2741760"/>
              <a:ext cx="151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7631280" y="3481560"/>
              <a:ext cx="151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7632720" y="4222800"/>
              <a:ext cx="151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5796000" y="1989000"/>
            <a:ext cx="3348000" cy="3656160"/>
            <a:chOff x="5796000" y="1989000"/>
            <a:chExt cx="3348000" cy="3656160"/>
          </a:xfrm>
        </p:grpSpPr>
        <p:sp>
          <p:nvSpPr>
            <p:cNvPr id="102" name="Text Box 19"/>
            <p:cNvSpPr/>
            <p:nvPr/>
          </p:nvSpPr>
          <p:spPr>
            <a:xfrm>
              <a:off x="7632720" y="1989000"/>
              <a:ext cx="15112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5796000" y="4941720"/>
              <a:ext cx="32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Garamond"/>
                </a:rPr>
                <a:t>共计：</a:t>
              </a:r>
              <a:r>
                <a:rPr b="0" lang="zh-CN" sz="1800" spc="-1" strike="noStrike">
                  <a:solidFill>
                    <a:srgbClr val="ff0000"/>
                  </a:solidFill>
                  <a:latin typeface="Garamond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芬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>
              <a:off x="7631280" y="2741400"/>
              <a:ext cx="15112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>
              <a:off x="7631280" y="3481200"/>
              <a:ext cx="15112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3"/>
            <p:cNvSpPr/>
            <p:nvPr/>
          </p:nvSpPr>
          <p:spPr>
            <a:xfrm>
              <a:off x="7632720" y="4222800"/>
              <a:ext cx="151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芬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水果"/>
          <p:cNvPicPr/>
          <p:nvPr/>
        </p:nvPicPr>
        <p:blipFill>
          <a:blip r:embed="rId1"/>
          <a:stretch/>
        </p:blipFill>
        <p:spPr>
          <a:xfrm>
            <a:off x="0" y="4724280"/>
            <a:ext cx="1268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bonny</cp:lastModifiedBy>
  <dcterms:modified xsi:type="dcterms:W3CDTF">2015-08-09T16:07:22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