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camera.wav" ContentType="audio/x-wav"/>
  <Override PartName="/ppt/media/image22.png" ContentType="image/png"/>
  <Override PartName="/ppt/media/image6.png" ContentType="image/png"/>
  <Override PartName="/ppt/media/image23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D171-65C6-43D8-92C3-07DA92ABC4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3952-3CF3-42E4-85E1-828637DEC0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2A5-B92B-448A-B348-7F712202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A6F-3840-44F1-9A31-0795631B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726-CBF8-4227-BBB5-F474979D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8D3-B565-4191-87DD-E4BA86E3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A59-7EAF-461D-9CD1-ED0A9D46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C2A-461A-4145-9ADE-394AAA29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27A-FB41-4C7C-8F2F-0A571E07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CD7-0973-4703-B369-3D2F96D3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581-285A-4019-931C-FD66D20E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B13-505E-499D-AFCE-A8B6BA47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837-A7BC-4C06-934B-D651C28F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677-54E1-42E0-AB1A-21CFCBF1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DBF8-783C-4D20-996E-2E22056649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609480"/>
            <a:ext cx="6095880" cy="160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猜猜看，下面的对联写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286000"/>
            <a:ext cx="694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堂传后世，诗圣著千秋。”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朱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3733920"/>
            <a:ext cx="617220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上疮痍，诗中圣哲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民间疾苦，笔底波澜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郭沫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651640" y="5589720"/>
            <a:ext cx="27432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杜  甫</a:t>
            </a:r>
            <a:endParaRPr b="0" lang="en-US" sz="72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06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15760" y="6095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900"/>
                </a:solidFill>
                <a:latin typeface="Arial"/>
                <a:ea typeface="隶书"/>
              </a:rPr>
              <a:t>日正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59160" y="6095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900"/>
                </a:solidFill>
                <a:latin typeface="Arial"/>
                <a:ea typeface="隶书"/>
              </a:rPr>
              <a:t>日已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57200" y="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cccc00"/>
                </a:solidFill>
                <a:latin typeface="Arial"/>
              </a:rPr>
              <a:t>&lt;</a:t>
            </a:r>
            <a:r>
              <a:rPr b="0" i="1" lang="zh-CN" sz="5400" spc="-1" strike="noStrike">
                <a:solidFill>
                  <a:srgbClr val="cccc00"/>
                </a:solidFill>
                <a:latin typeface="Arial"/>
              </a:rPr>
              <a:t>望岳</a:t>
            </a:r>
            <a:r>
              <a:rPr b="0" i="1" lang="zh-CN" sz="5400" spc="-1" strike="noStrike">
                <a:solidFill>
                  <a:srgbClr val="cccc00"/>
                </a:solidFill>
                <a:latin typeface="Arial"/>
              </a:rPr>
              <a:t>&gt;</a:t>
            </a:r>
            <a:r>
              <a:rPr b="0" i="1" lang="zh-CN" sz="5400" spc="-1" strike="noStrike">
                <a:solidFill>
                  <a:srgbClr val="cccc00"/>
                </a:solidFill>
                <a:latin typeface="Arial"/>
              </a:rPr>
              <a:t>诗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447920" y="838080"/>
            <a:ext cx="7467480" cy="65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泰山到底怎么样呢？从齐到鲁青翠连绵，一望无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自然将天地之间的神奇秀美都赋予了你，山南和山北的天色被分割为一明一暗两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远望层云叠起，不禁心胸激荡。目送归鸟入林，眼眶几乎都要睁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一定要登上泰山的顶峰，举目纵观群山的低矮渺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47560" y="1222200"/>
            <a:ext cx="739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隶书"/>
              </a:rPr>
              <a:t>写远望之景。以设问起句，写初见泰山时的那种喜悦、惊叹、仰慕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隶书"/>
              </a:rPr>
              <a:t>           “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隶书"/>
              </a:rPr>
              <a:t>齐鲁青未了”是对“夫如何”的回答：诗人不直接回答泰山有多高多大，而以齐鲁两国之地来展现泰山跨越之宽广，泰山之高大就不言自明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07000" y="380880"/>
            <a:ext cx="655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岱宗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夫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如何？齐鲁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青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未了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9144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写近望之景。意思是大自然将神奇秀丽的景色集中于泰山。山的南北两面，一面明亮，一面昏暗，截然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赏析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钟”：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是聚集汇集之意，用拟人的修辞方法，生动形象地写大自然赋予泰山神奇秀丽的景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割”：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，用夸张的手法，写出了泰山将山南山北的阳光切断，形成两种不同的自然景观，突出泰山的高大雄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表现了作者对泰山美景的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61080" y="7632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造化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钟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神秀，阴阳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割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昏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4648320" cy="6477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724280" y="380880"/>
            <a:ext cx="4419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76520" y="914400"/>
            <a:ext cx="7229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隶书"/>
              </a:rPr>
              <a:t>写细望之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 Narrow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楷体"/>
              </a:rPr>
              <a:t>这两句写诗人望岳所见，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楷体"/>
              </a:rPr>
              <a:t>(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楷体"/>
              </a:rPr>
              <a:t>泰山中天门以上时有云团浮现，或高或低，故谓之“层云”；鸟亦时常出没于山谷间，须睁大眼细望才能见。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楷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楷体"/>
              </a:rPr>
              <a:t>表现诗人对泰山向往之至，急欲攀登的心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楷体"/>
              </a:rPr>
              <a:t>       “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楷体"/>
              </a:rPr>
              <a:t>入”字用得微妙传神，好像一只只小鸟徐徐而来，又徐徐而去，足见山腹深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64771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流露出作者对泰山的情有独钟、热爱有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19640" y="76320"/>
            <a:ext cx="78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荡胸生曾云，决眦入归鸟。（实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4419720" cy="6477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495680" y="533520"/>
            <a:ext cx="4367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0" t="0" r="4923" b="17049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 rot="5400000">
            <a:off x="6919200" y="5044320"/>
            <a:ext cx="2590560" cy="88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</a:rPr>
              <a:t>杜甫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8100000" blurRad="0" rotWithShape="0">
                  <a:srgbClr val="000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19920" y="304920"/>
            <a:ext cx="281916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望岳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980720" y="106668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——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写极望之景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这是化用孔子的名言：“登泰山而小天下”。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"/>
              </a:rPr>
              <a:t>表现了诗人不怕困难，勇于攀登绝顶、高瞻远瞩</a:t>
            </a:r>
            <a:r>
              <a:rPr b="1" lang="zh-CN" sz="4400" spc="-1" strike="noStrike" baseline="-25000">
                <a:solidFill>
                  <a:srgbClr val="ff3300"/>
                </a:solidFill>
                <a:latin typeface="Arial"/>
                <a:ea typeface="楷体"/>
              </a:rPr>
              <a:t>、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"/>
              </a:rPr>
              <a:t>俯视一切，傲视群峰的雄心壮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 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"/>
              </a:rPr>
              <a:t> 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"/>
              </a:rPr>
              <a:t>哲理：只有不怕困难，勇于攀登顶峰，才能俯视一切，傲视群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67840" y="22860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会当凌绝顶，一览众山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68680" y="4876920"/>
            <a:ext cx="467532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2280" y="228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望岳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可分两大层，都是切着“望”字写的，但望的角度不同。试对此做具体的解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144792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990033"/>
                </a:solidFill>
                <a:latin typeface="华文新魏"/>
                <a:ea typeface="华文新魏"/>
              </a:rPr>
              <a:t>前两联为第一大层，着力写泰山的整体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990033"/>
                </a:solidFill>
                <a:latin typeface="华文新魏"/>
                <a:ea typeface="华文新魏"/>
              </a:rPr>
              <a:t>后两联为第二大层，也写了泰山景物，但着力表现的是诗人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763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华文新魏"/>
              </a:rPr>
              <a:t>这首诗歌描写了泰山怎样的特点，从哪些句子可以看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03400" y="152388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域之广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1480" y="259092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景色之秀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51320" y="373392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山势之高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81040" y="14479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齐鲁青未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10560" y="4572000"/>
            <a:ext cx="210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华文新魏"/>
                <a:ea typeface="华文新魏"/>
              </a:rPr>
              <a:t>阴阳割昏晓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华文新魏"/>
                <a:ea typeface="华文新魏"/>
              </a:rPr>
              <a:t>会当凌绝顶，一览众山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42800" y="2514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造化钟神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981080" y="5331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cc00ff"/>
                </a:solidFill>
                <a:latin typeface="楷体"/>
                <a:ea typeface="楷体"/>
              </a:rPr>
              <a:t>诗题叫《望岳》，可见作者并未登上泰山。全诗没有一个“望”字，却句句写向岳而望，并且角度有别，有远有近，有虚有实。试以两句一组看看“望”的角度有怎样的不同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132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岱宗夫如何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齐鲁青未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造化钟神秀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阴阳割昏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荡胸生曾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决眦入归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会当凌绝顶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览众山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260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写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远望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泰山的整体形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49360"/>
            <a:ext cx="287280" cy="1008000"/>
          </a:xfrm>
          <a:custGeom>
            <a:avLst/>
            <a:gdLst>
              <a:gd name="textAreaLeft" fmla="*/ 0 w 287280"/>
              <a:gd name="textAreaRight" fmla="*/ 10368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6000" y="1989000"/>
            <a:ext cx="287280" cy="1008360"/>
          </a:xfrm>
          <a:custGeom>
            <a:avLst/>
            <a:gdLst>
              <a:gd name="textAreaLeft" fmla="*/ 0 w 287280"/>
              <a:gd name="textAreaRight" fmla="*/ 10368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3429000"/>
            <a:ext cx="287280" cy="1008000"/>
          </a:xfrm>
          <a:custGeom>
            <a:avLst/>
            <a:gdLst>
              <a:gd name="textAreaLeft" fmla="*/ 0 w 287280"/>
              <a:gd name="textAreaRight" fmla="*/ 10368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941720"/>
            <a:ext cx="287280" cy="1008360"/>
          </a:xfrm>
          <a:custGeom>
            <a:avLst/>
            <a:gdLst>
              <a:gd name="textAreaLeft" fmla="*/ 0 w 287280"/>
              <a:gd name="textAreaRight" fmla="*/ 10368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692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泰山到底怎么样？在齐鲁大地上，那青翠的山色没有尽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1773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写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近望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泰山的秀美高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227664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大自然把神奇秀丽的景色都汇聚在泰山，山南和山北的天色被分割为一明一暗两部分</a:t>
            </a: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328464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写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细望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泰山的景物、诗人感受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371628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山中的浮云一层层地生发出来，心胸因此得到洗涤，薄暮时分，归巢的山鸟正远远地从高空掠过，只有睁大眼睛才能看得清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0360" y="479736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极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望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勇于攀登绝顶峰、高瞻远瞩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5300640"/>
            <a:ext cx="59036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一定要登上泰山最高峰，俯首一览，众山匍匐在山脚下是那么渺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7924680" y="624852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81080" y="1066680"/>
            <a:ext cx="705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诗篇描绘泰山雄伟而磅礴的气象，以及诗人企望攀登绝顶的心情，表达了诗人不怕困难，敢于攀登之雄心，抒发了诗人向往登上绝顶的壮志，表现了一种敢于进取、积极向上的人生态度，显示出诗人坚韧不拔的性格和远大的政治抱负，极富哲理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5228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楷体"/>
              </a:rPr>
              <a:t>悟情</a:t>
            </a:r>
            <a:endParaRPr b="1" lang="en-US" sz="6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138" name="">
            <a:hlinkClick r:id="rId4" action="ppaction://hlinksldjump"/>
          </p:cNvPr>
          <p:cNvSpPr/>
          <p:nvPr/>
        </p:nvSpPr>
        <p:spPr>
          <a:xfrm>
            <a:off x="80773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10800"/>
                </a:moveTo>
                <a:lnTo>
                  <a:pt x="22106" y="3794"/>
                </a:lnTo>
                <a:lnTo>
                  <a:pt x="221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3132000" cy="769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33520" y="1066680"/>
            <a:ext cx="7788240" cy="655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666880" y="1830240"/>
            <a:ext cx="6054840" cy="2590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334120" y="4952880"/>
            <a:ext cx="29494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533520" y="304920"/>
            <a:ext cx="3657240" cy="2666520"/>
            <a:chOff x="533520" y="304920"/>
            <a:chExt cx="3657240" cy="2666520"/>
          </a:xfrm>
        </p:grpSpPr>
        <p:sp>
          <p:nvSpPr>
            <p:cNvPr id="56" name=""/>
            <p:cNvSpPr/>
            <p:nvPr/>
          </p:nvSpPr>
          <p:spPr>
            <a:xfrm>
              <a:off x="3522960" y="492120"/>
              <a:ext cx="667800" cy="2313360"/>
            </a:xfrm>
            <a:prstGeom prst="rect">
              <a:avLst/>
            </a:prstGeom>
            <a:solidFill>
              <a:srgbClr val="99cc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北岳恒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533520" y="304920"/>
              <a:ext cx="2834280" cy="266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5105520" y="380880"/>
            <a:ext cx="3504240" cy="2589480"/>
            <a:chOff x="5105520" y="380880"/>
            <a:chExt cx="3504240" cy="258948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5105520" y="380880"/>
              <a:ext cx="2336040" cy="25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880760" y="382680"/>
              <a:ext cx="729000" cy="2587680"/>
            </a:xfrm>
            <a:prstGeom prst="rect">
              <a:avLst/>
            </a:prstGeom>
            <a:solidFill>
              <a:srgbClr val="99cc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西岳华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33520" y="3354120"/>
            <a:ext cx="3504600" cy="2587680"/>
            <a:chOff x="533520" y="3354120"/>
            <a:chExt cx="3504600" cy="258768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533520" y="3429000"/>
              <a:ext cx="2422440" cy="24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309120" y="3354120"/>
              <a:ext cx="729000" cy="2587680"/>
            </a:xfrm>
            <a:prstGeom prst="rect">
              <a:avLst/>
            </a:prstGeom>
            <a:solidFill>
              <a:srgbClr val="99cc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中岳嵩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257800" y="3415320"/>
            <a:ext cx="3504960" cy="2313360"/>
            <a:chOff x="5257800" y="3415320"/>
            <a:chExt cx="3504960" cy="2313360"/>
          </a:xfrm>
        </p:grpSpPr>
        <p:sp>
          <p:nvSpPr>
            <p:cNvPr id="65" name=""/>
            <p:cNvSpPr/>
            <p:nvPr/>
          </p:nvSpPr>
          <p:spPr>
            <a:xfrm>
              <a:off x="8094960" y="3415320"/>
              <a:ext cx="667800" cy="2313360"/>
            </a:xfrm>
            <a:prstGeom prst="rect">
              <a:avLst/>
            </a:prstGeom>
            <a:solidFill>
              <a:srgbClr val="99cc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南岳衡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5257800" y="3484080"/>
              <a:ext cx="2650320" cy="223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094200" y="1674720"/>
            <a:ext cx="3355920" cy="2745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05520" y="22860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泰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5257800"/>
            <a:ext cx="792468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岱</a:t>
            </a: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（</a:t>
            </a:r>
            <a:r>
              <a:rPr b="1" lang="en-US" sz="5400" spc="-1" strike="noStrike">
                <a:solidFill>
                  <a:srgbClr val="ff0066"/>
                </a:solidFill>
                <a:latin typeface="黑体"/>
                <a:ea typeface="黑体"/>
              </a:rPr>
              <a:t>dài</a:t>
            </a: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）     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了</a:t>
            </a: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（</a:t>
            </a:r>
            <a:r>
              <a:rPr b="1" lang="en-US" sz="5400" spc="-1" strike="noStrike">
                <a:solidFill>
                  <a:srgbClr val="ff0066"/>
                </a:solidFill>
                <a:latin typeface="黑体"/>
                <a:ea typeface="黑体"/>
              </a:rPr>
              <a:t>liǎo</a:t>
            </a: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） </a:t>
            </a:r>
            <a:br>
              <a:rPr sz="5400"/>
            </a:b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曾</a:t>
            </a: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（通“层”） 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 眦</a:t>
            </a: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（</a:t>
            </a:r>
            <a:r>
              <a:rPr b="1" lang="en-US" sz="5400" spc="-1" strike="noStrike">
                <a:solidFill>
                  <a:srgbClr val="ff0066"/>
                </a:solidFill>
                <a:latin typeface="黑体"/>
                <a:ea typeface="黑体"/>
              </a:rPr>
              <a:t>zì</a:t>
            </a: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）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304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黑体"/>
                <a:ea typeface="黑体"/>
              </a:rPr>
              <a:t>望岳</a:t>
            </a:r>
            <a:br>
              <a:rPr sz="8000"/>
            </a:b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岱宗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夫如何？齐鲁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青未了。</a:t>
            </a:r>
            <a:br>
              <a:rPr sz="4400"/>
            </a:b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造化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钟神秀，阴阳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割昏晓。</a:t>
            </a:r>
            <a:br>
              <a:rPr sz="4400"/>
            </a:b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荡胸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生曾云，决眦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入归鸟。</a:t>
            </a:r>
            <a:br>
              <a:rPr sz="4400"/>
            </a:b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会当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凌绝顶，一览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众山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807732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10800"/>
                </a:moveTo>
                <a:lnTo>
                  <a:pt x="24266" y="3794"/>
                </a:lnTo>
                <a:lnTo>
                  <a:pt x="242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380880"/>
            <a:ext cx="8381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杜甫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712-770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），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子美。世称“诗圣”，其诗是“诗史”。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唐代伟大的现实主义诗人</a:t>
            </a:r>
            <a:r>
              <a:rPr b="1" lang="zh-CN" sz="9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  <a:ea typeface="黑体"/>
              </a:rPr>
              <a:t>因曾居长安城南的少陵以西，故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自称少陵野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  <a:ea typeface="黑体"/>
              </a:rPr>
              <a:t>老，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世称杜少陵。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  <a:ea typeface="黑体"/>
              </a:rPr>
              <a:t>官致参谋、检校工部员外郎，故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又有杜工部之称。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有《杜工部集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191120"/>
            <a:ext cx="8305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唐代伟大的现实主义诗人，现存诗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40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首，这些诗真实、深刻地反映了唐王朝由盛及衰这一转折过程中的种种社会现象，展现出广阔的生活画面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成为唐代社会的历史，历来被称为“诗史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4582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隶书"/>
              </a:rPr>
              <a:t>杜甫的生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杜甫出生于一个“奉儒守官”的家庭里。祖父杜审言是唐初著名诗人，父亲杜闲曾做过奉天县令。这样一个家庭给了他一定的文化熏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杜甫的创作历程，可分为四个时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书与壮游时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三十五岁之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安十年时期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三十五到四十四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战乱流离时期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四十五到四十八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漂泊西南时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四十九到五十九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1066680"/>
            <a:ext cx="8915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春望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（被安史之乱叛军所俘，带回长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三吏”“三别”（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</a:rPr>
              <a:t>石壕吏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》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新安吏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安乱时期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潼关吏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新婚别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无家别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、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垂老别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闻官军收河南河北 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（安史之乱平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191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99f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蜀相 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》 《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春夜喜雨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》 《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江畔独步寻花 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成都时期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绝句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（两个黄鹂鸣翠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茅屋为秋风所破歌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049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青年时期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99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99ff"/>
                </a:solidFill>
                <a:latin typeface="黑体"/>
                <a:ea typeface="黑体"/>
              </a:rPr>
              <a:t>望岳</a:t>
            </a:r>
            <a:r>
              <a:rPr b="1" lang="en-US" sz="3200" spc="-1" strike="noStrike">
                <a:solidFill>
                  <a:srgbClr val="0099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25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岁，现存最早的杜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39680" y="5638680"/>
            <a:ext cx="91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老年时期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登高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》《 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登岳阳楼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》 《</a:t>
            </a:r>
            <a:r>
              <a:rPr b="1" lang="zh-CN" sz="2800" spc="-1" strike="noStrike">
                <a:solidFill>
                  <a:srgbClr val="0099ff"/>
                </a:solidFill>
                <a:latin typeface="黑体"/>
                <a:ea typeface="黑体"/>
              </a:rPr>
              <a:t>江南逢李龟年</a:t>
            </a:r>
            <a:r>
              <a:rPr b="1" lang="en-US" sz="2800" spc="-1" strike="noStrike">
                <a:solidFill>
                  <a:srgbClr val="0099ff"/>
                </a:solidFill>
                <a:latin typeface="黑体"/>
                <a:ea typeface="黑体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42670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1295280"/>
            <a:ext cx="76320" cy="2514600"/>
          </a:xfrm>
          <a:custGeom>
            <a:avLst/>
            <a:gdLst>
              <a:gd name="textAreaLeft" fmla="*/ 48960 w 76320"/>
              <a:gd name="textAreaRight" fmla="*/ 76320 w 763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22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文鼎CS行楷"/>
              </a:rPr>
              <a:t>《望岳》写作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44792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文鼎CS魏碑"/>
                <a:ea typeface="黑体"/>
              </a:rPr>
              <a:t>    </a:t>
            </a:r>
            <a:r>
              <a:rPr b="0" lang="zh-CN" sz="3600" spc="-1" strike="noStrike">
                <a:solidFill>
                  <a:srgbClr val="cc00ff"/>
                </a:solidFill>
                <a:latin typeface="文鼎CS魏碑"/>
                <a:ea typeface="黑体"/>
              </a:rPr>
              <a:t>这首诗写于唐玄宗开元二十三年（</a:t>
            </a:r>
            <a:r>
              <a:rPr b="0" lang="zh-CN" sz="3600" spc="-1" strike="noStrike">
                <a:solidFill>
                  <a:srgbClr val="cc00ff"/>
                </a:solidFill>
                <a:latin typeface="文鼎CS魏碑"/>
                <a:ea typeface="黑体"/>
              </a:rPr>
              <a:t>735</a:t>
            </a:r>
            <a:r>
              <a:rPr b="0" lang="zh-CN" sz="3600" spc="-1" strike="noStrike">
                <a:solidFill>
                  <a:srgbClr val="cc00ff"/>
                </a:solidFill>
                <a:latin typeface="文鼎CS魏碑"/>
                <a:ea typeface="黑体"/>
              </a:rPr>
              <a:t>），杜甫赴洛阳应试落第，于是漫游齐、赵（今山东、河南、河北省）一带，这诗是游泰山时所作。泰山为东岳，是五岳</a:t>
            </a:r>
            <a:r>
              <a:rPr b="0" lang="zh-CN" sz="3600" spc="-1" strike="noStrike">
                <a:solidFill>
                  <a:srgbClr val="cc00ff"/>
                </a:solidFill>
                <a:latin typeface="文鼎CS魏碑"/>
                <a:ea typeface="黑体"/>
              </a:rPr>
              <a:t>(</a:t>
            </a:r>
            <a:r>
              <a:rPr b="0" lang="zh-CN" sz="3600" spc="-1" strike="noStrike">
                <a:solidFill>
                  <a:srgbClr val="cc00ff"/>
                </a:solidFill>
                <a:latin typeface="文鼎CS魏碑"/>
                <a:ea typeface="黑体"/>
              </a:rPr>
              <a:t>西岳华山、南岳衡山、北岳恒山、中岳嵩山</a:t>
            </a:r>
            <a:r>
              <a:rPr b="0" lang="zh-CN" sz="3600" spc="-1" strike="noStrike">
                <a:solidFill>
                  <a:srgbClr val="cc00ff"/>
                </a:solidFill>
                <a:latin typeface="文鼎CS魏碑"/>
                <a:ea typeface="黑体"/>
              </a:rPr>
              <a:t>)</a:t>
            </a:r>
            <a:r>
              <a:rPr b="0" lang="zh-CN" sz="3600" spc="-1" strike="noStrike">
                <a:solidFill>
                  <a:srgbClr val="cc00ff"/>
                </a:solidFill>
                <a:latin typeface="文鼎CS魏碑"/>
                <a:ea typeface="黑体"/>
              </a:rPr>
              <a:t>之首。诗中描绘泰山高大而磅礴的气象，以及自己企望攀登绝顶的心情，都是从</a:t>
            </a:r>
            <a:r>
              <a:rPr b="0" lang="zh-CN" sz="3600" spc="-1" strike="noStrike">
                <a:solidFill>
                  <a:srgbClr val="cc00ff"/>
                </a:solidFill>
                <a:latin typeface="Courier New"/>
                <a:ea typeface="黑体"/>
              </a:rPr>
              <a:t>“</a:t>
            </a:r>
            <a:r>
              <a:rPr b="0" lang="zh-CN" sz="3600" spc="-1" strike="noStrike">
                <a:solidFill>
                  <a:srgbClr val="cc00ff"/>
                </a:solidFill>
                <a:latin typeface="文鼎CS魏碑"/>
                <a:ea typeface="黑体"/>
              </a:rPr>
              <a:t>望</a:t>
            </a:r>
            <a:r>
              <a:rPr b="0" lang="zh-CN" sz="3600" spc="-1" strike="noStrike">
                <a:solidFill>
                  <a:srgbClr val="cc00ff"/>
                </a:solidFill>
                <a:latin typeface="Courier New"/>
                <a:ea typeface="黑体"/>
              </a:rPr>
              <a:t>”</a:t>
            </a:r>
            <a:r>
              <a:rPr b="0" lang="zh-CN" sz="3600" spc="-1" strike="noStrike">
                <a:solidFill>
                  <a:srgbClr val="cc00ff"/>
                </a:solidFill>
                <a:latin typeface="文鼎CS魏碑"/>
                <a:ea typeface="黑体"/>
              </a:rPr>
              <a:t>字着笔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21800" y="571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ff"/>
                </a:solidFill>
                <a:latin typeface="Arial"/>
                <a:ea typeface="隶书"/>
              </a:rPr>
              <a:t>泰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3383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921280" y="56498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ff"/>
                </a:solidFill>
                <a:latin typeface="Arial"/>
                <a:ea typeface="隶书"/>
              </a:rPr>
              <a:t>日观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08-04T22:47:00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