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8.gif" ContentType="image/gif"/>
  <Override PartName="/ppt/media/image6.png" ContentType="image/png"/>
  <Override PartName="/ppt/media/image7.gif" ContentType="image/gif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3D1E-2101-444A-8E86-11908D79B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AFA7-6500-4B82-B141-A5E7C11CD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E902-DBFD-4FA1-B256-7D2929F71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C14E-CE47-47E0-B303-ED2B4B133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F499-664D-4C01-97F4-F76736AD7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6B1F-6DA7-4FFA-984A-4044F0050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43E7-A92B-4F68-B01D-04C47EE1A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4A3A-C5C3-4918-BFCB-EC7D181EB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334B-8142-442F-A177-6A6495460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0693-5CE6-425F-933B-A86FAB233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434F-073C-4634-92CD-E8791D4B8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4DB2-CF5F-4D77-86AD-ECC59E1F0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478B5-D321-4EC0-AB41-6786B8625A0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图片 7" descr="d1e6a042f93ca71f28e6bbcfde62f0a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1484280"/>
            <a:ext cx="9144000" cy="21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方正楷体简体"/>
                <a:ea typeface="方正楷体简体"/>
              </a:rPr>
              <a:t>4 </a:t>
            </a:r>
            <a:r>
              <a:rPr b="0" lang="zh-CN" sz="6600" spc="-1" strike="noStrike">
                <a:solidFill>
                  <a:srgbClr val="ff0000"/>
                </a:solidFill>
                <a:latin typeface="方正楷体简体"/>
                <a:ea typeface="方正楷体简体"/>
              </a:rPr>
              <a:t>绍兴的船啊绍兴的桥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汉仪超粗圆简"/>
                <a:ea typeface="汉仪超粗圆简"/>
              </a:rPr>
              <a:t>江面上片片粉红色的是什么？那是随水漂走的桃花瓣儿</a:t>
            </a:r>
            <a:r>
              <a:rPr b="0" lang="en-US" sz="4000" spc="-1" strike="noStrike">
                <a:solidFill>
                  <a:srgbClr val="000000"/>
                </a:solidFill>
                <a:latin typeface="汉仪超粗圆简"/>
                <a:ea typeface="汉仪超粗圆简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汉仪彩蝶体简"/>
                <a:ea typeface="汉仪彩蝶体简"/>
              </a:rPr>
              <a:t>从色彩上描写江面的景色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汉仪超粗圆简"/>
                <a:ea typeface="汉仪超粗圆简"/>
              </a:rPr>
              <a:t>潺潺潺潺，这是船在走动。嘎吱嘎吱，这是船夫在划桨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汉仪彩蝶体简"/>
                <a:ea typeface="汉仪彩蝶体简"/>
              </a:rPr>
              <a:t>用声音来衬托美丽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6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0" y="0"/>
            <a:ext cx="4610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汉仪超粗圆简"/>
                <a:ea typeface="汉仪超粗圆简"/>
              </a:rPr>
              <a:t>瞧，他那粗糙的大手，款款地把住了夹在腋下的划桨，这是在把舵；两只黝黑黝黑、脚底长满老茧的脚一年四季不穿鞋，踩在一把沉重的大木桨柄上，熟练地一伸一缩，技巧一点儿也不亚于杂技演员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5428800" y="857160"/>
            <a:ext cx="3186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汉仪彩蝶体简"/>
                <a:ea typeface="汉仪彩蝶体简"/>
              </a:rPr>
              <a:t>动作熟练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cc"/>
                </a:solidFill>
                <a:latin typeface="方正华隶_GBK"/>
                <a:ea typeface="方正华隶_GBK"/>
              </a:rPr>
              <a:t>第一部分（</a:t>
            </a:r>
            <a:r>
              <a:rPr b="0" lang="en-US" sz="4800" spc="-1" strike="noStrike">
                <a:solidFill>
                  <a:srgbClr val="ff33cc"/>
                </a:solidFill>
                <a:latin typeface="方正华隶_GBK"/>
                <a:ea typeface="方正华隶_GBK"/>
              </a:rPr>
              <a:t>1~~4</a:t>
            </a:r>
            <a:r>
              <a:rPr b="0" lang="zh-CN" sz="4800" spc="-1" strike="noStrike">
                <a:solidFill>
                  <a:srgbClr val="ff33cc"/>
                </a:solidFill>
                <a:latin typeface="方正华隶_GBK"/>
                <a:ea typeface="方正华隶_GBK"/>
              </a:rPr>
              <a:t>段）介绍乘船的规矩，江面精致以及船夫划船的熟练。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图片 3" descr=""/>
          <p:cNvPicPr/>
          <p:nvPr/>
        </p:nvPicPr>
        <p:blipFill>
          <a:blip r:embed="rId1"/>
          <a:stretch/>
        </p:blipFill>
        <p:spPr>
          <a:xfrm>
            <a:off x="1357200" y="3919680"/>
            <a:ext cx="4253040" cy="29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汉仪超粗圆简"/>
                <a:ea typeface="汉仪超粗圆简"/>
              </a:rPr>
              <a:t>咿呀咿呀，慢慢儿划。暗下来了，暗下来了，这是进了桥孔了；亮起来了，亮起来了，这是出了桥孔了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汉仪彩蝶体简"/>
                <a:ea typeface="汉仪彩蝶体简"/>
              </a:rPr>
              <a:t>速度慢才有时间欣赏精致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汉仪超粗圆简"/>
                <a:ea typeface="汉仪超粗圆简"/>
              </a:rPr>
              <a:t>如果你是在上幼儿园的时候坐上船的，等你穿过绍兴的五千座桥，你已经长到可以念小学一年级了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汉仪彩蝶体简"/>
                <a:ea typeface="汉仪彩蝶体简"/>
              </a:rPr>
              <a:t>以乘船时间长，说绍兴的桥多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500040" y="7142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汉仪超粗圆简"/>
                <a:ea typeface="汉仪超粗圆简"/>
              </a:rPr>
              <a:t>如果你是在念小学一年级的时候上的路，上桥了，不要东张张西望望，慢慢走，不要跑；下桥了，不要左推推右搡搡，缓缓走，不要跳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汉仪彩蝶体简"/>
                <a:ea typeface="汉仪彩蝶体简"/>
              </a:rPr>
              <a:t>细致，语言亲切自然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汉仪超粗圆简"/>
                <a:ea typeface="汉仪超粗圆简"/>
              </a:rPr>
              <a:t>这样，一座桥你平平安安过来了。等你走完了绍兴的五千座桥你已经长到可以念三年级了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汉仪彩蝶体简"/>
                <a:ea typeface="汉仪彩蝶体简"/>
              </a:rPr>
              <a:t>桥多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500040" y="8571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汉仪超粗圆简"/>
                <a:ea typeface="汉仪超粗圆简"/>
              </a:rPr>
              <a:t>桥下“突突突突”的是机船，“吱扭吱扭”的是脚划船。江面上一闪一闪的是什么？嗬，那是萤火虫在寻找它丢失的梦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汉仪彩蝶体简"/>
                <a:ea typeface="汉仪彩蝶体简"/>
              </a:rPr>
              <a:t>为江面景色增添色彩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汉仪超粗圆简"/>
                <a:ea typeface="汉仪超粗圆简"/>
              </a:rPr>
              <a:t>大河小河，纵横交错，好像渔网上的丝；大河小河，横横竖竖，恰如棋盘上的线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汉仪彩蝶体简"/>
                <a:ea typeface="汉仪彩蝶体简"/>
              </a:rPr>
              <a:t>过渡句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70c0"/>
                </a:solidFill>
                <a:latin typeface="方正粗倩简体"/>
                <a:ea typeface="方正粗倩简体"/>
              </a:rPr>
              <a:t>学习目标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方正粗倩简体"/>
                <a:ea typeface="方正粗倩简体"/>
              </a:rPr>
              <a:t>1·</a:t>
            </a:r>
            <a:r>
              <a:rPr b="0" lang="zh-CN" sz="4400" spc="-1" strike="noStrike">
                <a:solidFill>
                  <a:srgbClr val="000000"/>
                </a:solidFill>
                <a:latin typeface="方正粗倩简体"/>
                <a:ea typeface="方正粗倩简体"/>
              </a:rPr>
              <a:t>理解含义深刻的句子，了解绍兴的船和绍兴的桥的情况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方正粗倩简体"/>
                <a:ea typeface="方正粗倩简体"/>
              </a:rPr>
              <a:t>2·</a:t>
            </a:r>
            <a:r>
              <a:rPr b="0" lang="zh-CN" sz="4400" spc="-1" strike="noStrike">
                <a:solidFill>
                  <a:srgbClr val="000000"/>
                </a:solidFill>
                <a:latin typeface="方正粗倩简体"/>
                <a:ea typeface="方正粗倩简体"/>
              </a:rPr>
              <a:t>体会绍兴的船和绍兴的桥与绍兴的孩子生活有怎样的关系，感受绍兴的古老文化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28760" y="4287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汉仪超粗圆简"/>
                <a:ea typeface="汉仪超粗圆简"/>
              </a:rPr>
              <a:t>有了河总得有桥，这五千座桥就这样造起来了。要不，两岸的小朋友虽然能见面能说话，但想要在一起跳绳、拍球，就只好绕上几里路了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汉仪彩蝶体简"/>
                <a:ea typeface="汉仪彩蝶体简"/>
              </a:rPr>
              <a:t>河与桥密不可分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cc"/>
                </a:solidFill>
                <a:latin typeface="方正华隶_GBK"/>
                <a:ea typeface="方正华隶_GBK"/>
              </a:rPr>
              <a:t>第二部分（</a:t>
            </a:r>
            <a:r>
              <a:rPr b="0" lang="en-US" sz="4800" spc="-1" strike="noStrike">
                <a:solidFill>
                  <a:srgbClr val="ff33cc"/>
                </a:solidFill>
                <a:latin typeface="方正华隶_GBK"/>
                <a:ea typeface="方正华隶_GBK"/>
              </a:rPr>
              <a:t>5~~6</a:t>
            </a:r>
            <a:r>
              <a:rPr b="0" lang="zh-CN" sz="4800" spc="-1" strike="noStrike">
                <a:solidFill>
                  <a:srgbClr val="ff33cc"/>
                </a:solidFill>
                <a:latin typeface="方正华隶_GBK"/>
                <a:ea typeface="方正华隶_GBK"/>
              </a:rPr>
              <a:t>段）写绍兴桥的数量多，以及桥的重要性。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图片 3" descr="u=2269441991,2907633305&amp;fm=52&amp;gp=0.jpg"/>
          <p:cNvPicPr/>
          <p:nvPr/>
        </p:nvPicPr>
        <p:blipFill>
          <a:blip r:embed="rId1"/>
          <a:stretch/>
        </p:blipFill>
        <p:spPr>
          <a:xfrm>
            <a:off x="3286080" y="3571920"/>
            <a:ext cx="3809880" cy="2857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0" y="285840"/>
            <a:ext cx="4610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汉仪超粗圆简"/>
                <a:ea typeface="汉仪超粗圆简"/>
              </a:rPr>
              <a:t>住在桥脚下的小朋友是有福气的。他们最美的时刻莫过于夏天的黄昏了：天渐渐地灰暗下来，这时，阔阔的江面上腾起了一层薄薄的雾，河面上习习的凉风赶散了一天的燥热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汉仪彩蝶体简"/>
                <a:ea typeface="汉仪彩蝶体简"/>
              </a:rPr>
              <a:t>夏天黄昏的美丽景色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00040" y="10000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汉仪超粗圆简"/>
                <a:ea typeface="汉仪超粗圆简"/>
              </a:rPr>
              <a:t>刚从水里爬出来的孩子，匆匆地吃完晚饭，便拖着把椅子到桥头，依在奶奶的膝头，去听奶奶讲奶奶的奶奶讲过的老故事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汉仪彩蝶体简"/>
                <a:ea typeface="汉仪彩蝶体简"/>
              </a:rPr>
              <a:t>富有童趣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cc"/>
                </a:solidFill>
                <a:latin typeface="方正华隶_GBK"/>
                <a:ea typeface="方正华隶_GBK"/>
              </a:rPr>
              <a:t>第三部分（</a:t>
            </a:r>
            <a:r>
              <a:rPr b="0" lang="en-US" sz="4800" spc="-1" strike="noStrike">
                <a:solidFill>
                  <a:srgbClr val="ff33cc"/>
                </a:solidFill>
                <a:latin typeface="方正华隶_GBK"/>
                <a:ea typeface="方正华隶_GBK"/>
              </a:rPr>
              <a:t>7</a:t>
            </a:r>
            <a:r>
              <a:rPr b="0" lang="zh-CN" sz="4800" spc="-1" strike="noStrike">
                <a:solidFill>
                  <a:srgbClr val="ff33cc"/>
                </a:solidFill>
                <a:latin typeface="方正华隶_GBK"/>
                <a:ea typeface="方正华隶_GBK"/>
              </a:rPr>
              <a:t>段）描写生活在桥脚下的小朋友。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图片 3" descr=""/>
          <p:cNvPicPr/>
          <p:nvPr/>
        </p:nvPicPr>
        <p:blipFill>
          <a:blip r:embed="rId1"/>
          <a:stretch/>
        </p:blipFill>
        <p:spPr>
          <a:xfrm>
            <a:off x="1285920" y="3286080"/>
            <a:ext cx="2023920" cy="31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汉仪超粗圆简"/>
                <a:ea typeface="汉仪超粗圆简"/>
              </a:rPr>
              <a:t>“</a:t>
            </a:r>
            <a:r>
              <a:rPr b="0" lang="zh-CN" sz="4000" spc="-1" strike="noStrike">
                <a:solidFill>
                  <a:srgbClr val="000000"/>
                </a:solidFill>
                <a:latin typeface="汉仪超粗圆简"/>
                <a:ea typeface="汉仪超粗圆简"/>
              </a:rPr>
              <a:t>驼背老公公，趴在河当中。背上有人走，腹下也可通。”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汉仪彩蝶体简"/>
                <a:ea typeface="汉仪彩蝶体简"/>
              </a:rPr>
              <a:t>形象的描述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汉仪超粗圆简"/>
                <a:ea typeface="汉仪超粗圆简"/>
              </a:rPr>
              <a:t>亲爱的小朋友，你猜，这是什么？不论你猜中没猜中，多水的绍兴都张开双手欢迎你来玩儿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汉仪彩蝶体简"/>
                <a:ea typeface="汉仪彩蝶体简"/>
              </a:rPr>
              <a:t>热情，好客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cc"/>
                </a:solidFill>
                <a:latin typeface="方正华隶_GBK"/>
                <a:ea typeface="方正华隶_GBK"/>
              </a:rPr>
              <a:t>第四部分（</a:t>
            </a:r>
            <a:r>
              <a:rPr b="0" lang="en-US" sz="4800" spc="-1" strike="noStrike">
                <a:solidFill>
                  <a:srgbClr val="ff33cc"/>
                </a:solidFill>
                <a:latin typeface="方正华隶_GBK"/>
                <a:ea typeface="方正华隶_GBK"/>
              </a:rPr>
              <a:t>8~~9</a:t>
            </a:r>
            <a:r>
              <a:rPr b="0" lang="zh-CN" sz="4800" spc="-1" strike="noStrike">
                <a:solidFill>
                  <a:srgbClr val="ff33cc"/>
                </a:solidFill>
                <a:latin typeface="方正华隶_GBK"/>
                <a:ea typeface="方正华隶_GBK"/>
              </a:rPr>
              <a:t>段）欢迎游客来玩儿。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图片 3" descr=""/>
          <p:cNvPicPr/>
          <p:nvPr/>
        </p:nvPicPr>
        <p:blipFill>
          <a:blip r:embed="rId1"/>
          <a:stretch/>
        </p:blipFill>
        <p:spPr>
          <a:xfrm>
            <a:off x="1571760" y="3143160"/>
            <a:ext cx="4768560" cy="3295800"/>
          </a:xfrm>
          <a:prstGeom prst="rect">
            <a:avLst/>
          </a:prstGeom>
          <a:ln w="0">
            <a:noFill/>
          </a:ln>
        </p:spPr>
      </p:pic>
      <p:pic>
        <p:nvPicPr>
          <p:cNvPr id="97" name="图片 5" descr="1_2009090413404515sRSu.gif"/>
          <p:cNvPicPr/>
          <p:nvPr/>
        </p:nvPicPr>
        <p:blipFill>
          <a:blip r:embed="rId2"/>
          <a:stretch/>
        </p:blipFill>
        <p:spPr>
          <a:xfrm>
            <a:off x="6786720" y="2357280"/>
            <a:ext cx="142848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700360" y="274680"/>
            <a:ext cx="4392720" cy="22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方正超粗黑简体"/>
                <a:ea typeface="方正超粗黑简体"/>
              </a:rPr>
              <a:t>再   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内容占位符 5" descr="20081142917478.gif"/>
          <p:cNvPicPr/>
          <p:nvPr/>
        </p:nvPicPr>
        <p:blipFill>
          <a:blip r:embed="rId1"/>
          <a:stretch/>
        </p:blipFill>
        <p:spPr>
          <a:xfrm>
            <a:off x="857160" y="1000080"/>
            <a:ext cx="2676600" cy="2900520"/>
          </a:xfrm>
          <a:prstGeom prst="rect">
            <a:avLst/>
          </a:prstGeom>
          <a:ln w="0">
            <a:noFill/>
          </a:ln>
        </p:spPr>
      </p:pic>
      <p:pic>
        <p:nvPicPr>
          <p:cNvPr id="100" name="内容占位符 6" descr="2280554_131141024.gif"/>
          <p:cNvPicPr/>
          <p:nvPr/>
        </p:nvPicPr>
        <p:blipFill>
          <a:blip r:embed="rId2"/>
          <a:stretch/>
        </p:blipFill>
        <p:spPr>
          <a:xfrm>
            <a:off x="4786200" y="2428920"/>
            <a:ext cx="1933560" cy="36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70c0"/>
                </a:solidFill>
                <a:latin typeface="方正粗倩简体"/>
                <a:ea typeface="方正粗倩简体"/>
              </a:rPr>
              <a:t>字词通关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方正美黑_GBK"/>
                <a:ea typeface="方正美黑_GBK"/>
              </a:rPr>
              <a:t>1·</a:t>
            </a:r>
            <a:r>
              <a:rPr b="0" lang="zh-CN" sz="4800" spc="-1" strike="noStrike">
                <a:solidFill>
                  <a:srgbClr val="000000"/>
                </a:solidFill>
                <a:latin typeface="方正美黑_GBK"/>
                <a:ea typeface="方正美黑_GBK"/>
              </a:rPr>
              <a:t>规</a:t>
            </a:r>
            <a:r>
              <a:rPr b="0" lang="zh-CN" sz="4800" spc="-1" strike="noStrike">
                <a:solidFill>
                  <a:srgbClr val="ff0000"/>
                </a:solidFill>
                <a:latin typeface="方正美黑_GBK"/>
                <a:ea typeface="方正美黑_GBK"/>
              </a:rPr>
              <a:t>矩</a:t>
            </a:r>
            <a:r>
              <a:rPr b="0" lang="zh-CN" sz="4800" spc="-1" strike="noStrike">
                <a:solidFill>
                  <a:srgbClr val="000000"/>
                </a:solidFill>
                <a:latin typeface="方正美黑_GBK"/>
                <a:ea typeface="方正美黑_GBK"/>
              </a:rPr>
              <a:t>（</a:t>
            </a:r>
            <a:r>
              <a:rPr b="0" lang="en-US" sz="4800" spc="-1" strike="noStrike">
                <a:solidFill>
                  <a:srgbClr val="ff0000"/>
                </a:solidFill>
                <a:latin typeface="方正美黑_GBK"/>
                <a:ea typeface="方正美黑_GBK"/>
              </a:rPr>
              <a:t>jǔ</a:t>
            </a:r>
            <a:r>
              <a:rPr b="0" lang="zh-CN" sz="4800" spc="-1" strike="noStrike">
                <a:solidFill>
                  <a:srgbClr val="000000"/>
                </a:solidFill>
                <a:latin typeface="方正美黑_GBK"/>
                <a:ea typeface="方正美黑_GBK"/>
              </a:rPr>
              <a:t>）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方正美黑_GBK"/>
                <a:ea typeface="方正美黑_GBK"/>
              </a:rPr>
              <a:t>2·</a:t>
            </a:r>
            <a:r>
              <a:rPr b="0" lang="zh-CN" sz="4800" spc="-1" strike="noStrike">
                <a:solidFill>
                  <a:srgbClr val="000000"/>
                </a:solidFill>
                <a:latin typeface="方正美黑_GBK"/>
                <a:ea typeface="方正美黑_GBK"/>
              </a:rPr>
              <a:t>粗</a:t>
            </a:r>
            <a:r>
              <a:rPr b="0" lang="zh-CN" sz="4800" spc="-1" strike="noStrike">
                <a:solidFill>
                  <a:srgbClr val="ff0000"/>
                </a:solidFill>
                <a:latin typeface="方正美黑_GBK"/>
                <a:ea typeface="方正美黑_GBK"/>
              </a:rPr>
              <a:t>糙</a:t>
            </a:r>
            <a:r>
              <a:rPr b="0" lang="zh-CN" sz="4800" spc="-1" strike="noStrike">
                <a:solidFill>
                  <a:srgbClr val="000000"/>
                </a:solidFill>
                <a:latin typeface="方正美黑_GBK"/>
                <a:ea typeface="方正美黑_GBK"/>
              </a:rPr>
              <a:t>（</a:t>
            </a:r>
            <a:r>
              <a:rPr b="0" lang="en-US" sz="4800" spc="-1" strike="noStrike">
                <a:solidFill>
                  <a:srgbClr val="ff0000"/>
                </a:solidFill>
                <a:latin typeface="方正美黑_GBK"/>
                <a:ea typeface="方正美黑_GBK"/>
              </a:rPr>
              <a:t>cāo</a:t>
            </a:r>
            <a:r>
              <a:rPr b="0" lang="zh-CN" sz="4800" spc="-1" strike="noStrike">
                <a:solidFill>
                  <a:srgbClr val="000000"/>
                </a:solidFill>
                <a:latin typeface="方正美黑_GBK"/>
                <a:ea typeface="方正美黑_GBK"/>
              </a:rPr>
              <a:t>）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方正美黑_GBK"/>
                <a:ea typeface="方正美黑_GBK"/>
              </a:rPr>
              <a:t>3·</a:t>
            </a:r>
            <a:r>
              <a:rPr b="0" lang="zh-CN" sz="4800" spc="-1" strike="noStrike">
                <a:solidFill>
                  <a:srgbClr val="000000"/>
                </a:solidFill>
                <a:latin typeface="方正美黑_GBK"/>
                <a:ea typeface="方正美黑_GBK"/>
              </a:rPr>
              <a:t>集腋成</a:t>
            </a:r>
            <a:r>
              <a:rPr b="0" lang="zh-CN" sz="4800" spc="-1" strike="noStrike">
                <a:solidFill>
                  <a:srgbClr val="ff0000"/>
                </a:solidFill>
                <a:latin typeface="方正美黑_GBK"/>
                <a:ea typeface="方正美黑_GBK"/>
              </a:rPr>
              <a:t>裘</a:t>
            </a:r>
            <a:r>
              <a:rPr b="0" lang="zh-CN" sz="4800" spc="-1" strike="noStrike">
                <a:solidFill>
                  <a:srgbClr val="000000"/>
                </a:solidFill>
                <a:latin typeface="方正美黑_GBK"/>
                <a:ea typeface="方正美黑_GBK"/>
              </a:rPr>
              <a:t>（</a:t>
            </a:r>
            <a:r>
              <a:rPr b="0" lang="en-US" sz="4800" spc="-1" strike="noStrike">
                <a:solidFill>
                  <a:srgbClr val="ff0000"/>
                </a:solidFill>
                <a:latin typeface="方正美黑_GBK"/>
                <a:ea typeface="方正美黑_GBK"/>
              </a:rPr>
              <a:t>qiú</a:t>
            </a:r>
            <a:r>
              <a:rPr b="0" lang="zh-CN" sz="4800" spc="-1" strike="noStrike">
                <a:solidFill>
                  <a:srgbClr val="000000"/>
                </a:solidFill>
                <a:latin typeface="方正美黑_GBK"/>
                <a:ea typeface="方正美黑_GBK"/>
              </a:rPr>
              <a:t>）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方正美黑_GBK"/>
                <a:ea typeface="方正美黑_GBK"/>
              </a:rPr>
              <a:t>4·</a:t>
            </a:r>
            <a:r>
              <a:rPr b="0" lang="zh-CN" sz="4800" spc="-1" strike="noStrike">
                <a:solidFill>
                  <a:srgbClr val="000000"/>
                </a:solidFill>
                <a:latin typeface="方正美黑_GBK"/>
                <a:ea typeface="方正美黑_GBK"/>
              </a:rPr>
              <a:t>见风使</a:t>
            </a:r>
            <a:r>
              <a:rPr b="0" lang="zh-CN" sz="4800" spc="-1" strike="noStrike">
                <a:solidFill>
                  <a:srgbClr val="ff0000"/>
                </a:solidFill>
                <a:latin typeface="方正美黑_GBK"/>
                <a:ea typeface="方正美黑_GBK"/>
              </a:rPr>
              <a:t>舵</a:t>
            </a:r>
            <a:r>
              <a:rPr b="0" lang="zh-CN" sz="4800" spc="-1" strike="noStrike">
                <a:solidFill>
                  <a:srgbClr val="000000"/>
                </a:solidFill>
                <a:latin typeface="方正美黑_GBK"/>
                <a:ea typeface="方正美黑_GBK"/>
              </a:rPr>
              <a:t>（</a:t>
            </a:r>
            <a:r>
              <a:rPr b="0" lang="en-US" sz="4800" spc="-1" strike="noStrike">
                <a:solidFill>
                  <a:srgbClr val="ff0000"/>
                </a:solidFill>
                <a:latin typeface="方正美黑_GBK"/>
                <a:ea typeface="方正美黑_GBK"/>
              </a:rPr>
              <a:t>duò</a:t>
            </a:r>
            <a:r>
              <a:rPr b="0" lang="zh-CN" sz="4800" spc="-1" strike="noStrike">
                <a:solidFill>
                  <a:srgbClr val="000000"/>
                </a:solidFill>
                <a:latin typeface="方正美黑_GBK"/>
                <a:ea typeface="方正美黑_GBK"/>
              </a:rPr>
              <a:t>）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b050"/>
                </a:solidFill>
                <a:latin typeface="方正毡笔黑简体"/>
                <a:ea typeface="方正毡笔黑简体"/>
              </a:rPr>
              <a:t>课文分析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汉仪超粗圆简"/>
                <a:ea typeface="汉仪超粗圆简"/>
              </a:rPr>
              <a:t>摇哇摇，摇到外婆桥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汉仪彩蝶体简"/>
                <a:ea typeface="汉仪彩蝶体简"/>
              </a:rPr>
              <a:t>富有童趣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图片 4" descr=""/>
          <p:cNvPicPr/>
          <p:nvPr/>
        </p:nvPicPr>
        <p:blipFill>
          <a:blip r:embed="rId1"/>
          <a:stretch/>
        </p:blipFill>
        <p:spPr>
          <a:xfrm>
            <a:off x="966960" y="3451320"/>
            <a:ext cx="3976560" cy="297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汉仪超粗圆简"/>
                <a:ea typeface="汉仪超粗圆简"/>
              </a:rPr>
              <a:t>上了绍兴特有的乌篷船要脱鞋，再不许动，坐着可以，躺着也可以，就是不准晃动，这是规矩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汉仪彩蝶体简"/>
                <a:ea typeface="汉仪彩蝶体简"/>
              </a:rPr>
              <a:t>船需要稳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8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8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8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8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汉仪超粗圆简"/>
                <a:ea typeface="汉仪超粗圆简"/>
              </a:rPr>
              <a:t>不懂这规矩的孩子是不能坐小划船的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汉仪彩蝶体简"/>
                <a:ea typeface="汉仪彩蝶体简"/>
              </a:rPr>
              <a:t>规矩是极严格的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汉仪超粗圆简"/>
                <a:ea typeface="汉仪超粗圆简"/>
              </a:rPr>
              <a:t>我们当然懂，不动就是。我们唯一的要求是稍稍撑起一只篷，让我们瞧一瞧一路上的山光水色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汉仪彩蝶体简"/>
                <a:ea typeface="汉仪彩蝶体简"/>
              </a:rPr>
              <a:t>对景物的好奇与喜爱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汉仪超粗圆简"/>
                <a:ea typeface="汉仪超粗圆简"/>
              </a:rPr>
              <a:t>啊，水好清啊，风好香啊，船似乎是在镜面上滑过去，滑过去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汉仪彩蝶体简"/>
                <a:ea typeface="汉仪彩蝶体简"/>
              </a:rPr>
              <a:t>船行走的自如，轻快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汉仪超粗圆简"/>
                <a:ea typeface="汉仪超粗圆简"/>
              </a:rPr>
              <a:t>篷顶上簌簌响的是什么？那是挂向水面的柳条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汉仪彩蝶体简"/>
                <a:ea typeface="汉仪彩蝶体简"/>
              </a:rPr>
              <a:t>柳条的状态和发出的声音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06T00:23:11Z</dcterms:created>
  <dc:creator/>
  <dc:description/>
  <dc:language>en-US</dc:language>
  <cp:lastModifiedBy>Administrator</cp:lastModifiedBy>
  <dcterms:modified xsi:type="dcterms:W3CDTF">2016-01-06T00:53:04Z</dcterms:modified>
  <cp:revision>1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