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2FC-AC72-4F09-B400-F034AC71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296-DD5E-4FE9-AFB0-92166E8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E15-051B-41F8-AB1A-20AA1242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316-57CA-4A2E-B5FE-BCDF90DA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578-E324-4802-9F41-8FC988D2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B11-6C22-4012-8C9B-43CA553D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571-EB29-4F7E-B660-6371F1A6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B42-6CB5-46E3-A204-BAE7DF05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8E5-2923-4525-822F-0EE32D94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4A6-B27D-4C0F-89C8-1AC892C2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68A-CCD1-4F91-B89E-748494A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788-5268-41B6-B035-181F6E9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2878-22B2-4535-9ED6-53D247C73A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481120" y="211932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英雄雨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867280" y="364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管 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PROGRA~1\360se6\USERDA~1\Temp\102436~1.JPG"/>
          <p:cNvPicPr/>
          <p:nvPr/>
        </p:nvPicPr>
        <p:blipFill>
          <a:blip r:embed="rId1"/>
          <a:stretch/>
        </p:blipFill>
        <p:spPr>
          <a:xfrm>
            <a:off x="1332000" y="3357720"/>
            <a:ext cx="31431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900000" y="11768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Calibri"/>
                <a:ea typeface="黑体"/>
              </a:rPr>
              <a:t>　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第五部分：村里的人们听到了河沿上的枪声，都以为雨来被鬼子打死了，人们都十分难过，大家都哭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1342"/>
          <p:cNvPicPr/>
          <p:nvPr/>
        </p:nvPicPr>
        <p:blipFill>
          <a:blip r:embed="rId1"/>
          <a:stretch/>
        </p:blipFill>
        <p:spPr>
          <a:xfrm>
            <a:off x="3906720" y="2781360"/>
            <a:ext cx="33465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4920" y="3182040"/>
            <a:ext cx="48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Calibri"/>
                <a:ea typeface="黑体"/>
              </a:rPr>
              <a:t>　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第六部分：人们在河沿上正为雨来难过时，忽然看见河水中露出个小脑袋，仔细一看原来是雨来，大家都高兴地叫起来：“雨来没有死！”原来雨来趁鬼子不防备，一头扎进河里，凭着自己的高超的游泳本领，从鬼子的枪口下巧妙地脱险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1345"/>
          <p:cNvPicPr/>
          <p:nvPr/>
        </p:nvPicPr>
        <p:blipFill>
          <a:blip r:embed="rId1"/>
          <a:stretch/>
        </p:blipFill>
        <p:spPr>
          <a:xfrm>
            <a:off x="4987800" y="895320"/>
            <a:ext cx="3905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826920" y="571680"/>
            <a:ext cx="76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66"/>
                </a:solidFill>
                <a:latin typeface="Calibri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试试用简练的语句为六个部分写小标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35280" y="2205000"/>
            <a:ext cx="540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游泳本领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夜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掩护李大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敌斗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沿上的枪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机智逃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2200" y="540072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131616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想提升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54080" y="2637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写了雨来与敌人英勇、顽强、机智地作斗争的英雄品质，理解他能这样做的思想基础，激发我们对祖国的热爱之情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131616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后练笔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2845440" y="2882880"/>
            <a:ext cx="40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英雄雨来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后感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131616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学目标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4040640" y="1703520"/>
            <a:ext cx="1335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本课生字新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故事内容，感受雨来是民族小英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快速默读课文，了解课文主要内容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课文每个部分加小标题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简要复述课文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131616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积累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47636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256760" y="213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苇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16360" y="21337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黝黑发亮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653080" y="213372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布裤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232640" y="306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0"/>
          <p:cNvSpPr/>
          <p:nvPr/>
        </p:nvSpPr>
        <p:spPr>
          <a:xfrm flipV="1" rot="10767600">
            <a:off x="3347640" y="306792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姥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6273000" y="3068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门槛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044720" y="40766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劫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421080" y="4076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44640" y="40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吆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385440" y="501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飘飘悠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1264320" y="501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溜溜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940360" y="494172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骨碌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131616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整体把握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22280" y="148536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课文，想想课文主要写了什么内容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407412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主要写了在抗日战争时期，晋察冀边区十二岁的雨来是一个游泳本领很强的孩子，一次交通员李大叔为了躲避鬼子藏到了雨来家，雨来为了掩护李大叔被鬼子抓住了，他坚决不说出李大叔藏在哪里，鬼子把雨来拉到河沿上，想杀害雨来，没想到雨来在鬼子开枪前就跳入河中，凭着他高超的游泳本领从鬼子的枪口下巧妙地脱险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1316160" y="40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层次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611280" y="2276640"/>
            <a:ext cx="792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以将课文分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部分，想想每个部分都分别写了什么内容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6838920" y="2433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826920" y="105264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第一部分：在晋察冀边区的北部有一条还乡河，十二岁的雨来最喜欢在这条河里游泳，他会很多种姿势，其中仰泳的本领最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1306"/>
          <p:cNvPicPr/>
          <p:nvPr/>
        </p:nvPicPr>
        <p:blipFill>
          <a:blip r:embed="rId1"/>
          <a:stretch/>
        </p:blipFill>
        <p:spPr>
          <a:xfrm>
            <a:off x="4356000" y="2852640"/>
            <a:ext cx="3889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826920" y="202968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zh-CN" sz="3600" spc="-1" strike="noStrike">
                <a:solidFill>
                  <a:srgbClr val="66ff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第二部分：秋天，爸爸妈妈把雨来送到夜校念书，在夜校雨来学会了“我们是中国人，我们爱自己的祖国。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1313"/>
          <p:cNvPicPr/>
          <p:nvPr/>
        </p:nvPicPr>
        <p:blipFill>
          <a:blip r:embed="rId1"/>
          <a:stretch/>
        </p:blipFill>
        <p:spPr>
          <a:xfrm>
            <a:off x="4716360" y="3284640"/>
            <a:ext cx="3100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539640" y="1187280"/>
            <a:ext cx="835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ff"/>
                </a:solidFill>
                <a:latin typeface="Calibri"/>
                <a:ea typeface="黑体"/>
              </a:rPr>
              <a:t>　</a:t>
            </a:r>
            <a:r>
              <a:rPr b="1" lang="zh-CN" sz="36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第三部分：有一天，爸爸妈妈都出门了，只有雨来一人在家。忽然，交通员李大叔为了躲避鬼子的追赶跑了进来，藏到了水缸下面的洞里。雨来想跑到别的院子时被鬼子抓住了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1319"/>
          <p:cNvPicPr/>
          <p:nvPr/>
        </p:nvPicPr>
        <p:blipFill>
          <a:blip r:embed="rId1"/>
          <a:stretch/>
        </p:blipFill>
        <p:spPr>
          <a:xfrm>
            <a:off x="5076720" y="3500280"/>
            <a:ext cx="288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539640" y="1661400"/>
            <a:ext cx="802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Calibri"/>
                <a:ea typeface="黑体"/>
              </a:rPr>
              <a:t>　</a:t>
            </a:r>
            <a:r>
              <a:rPr b="1" lang="zh-CN" sz="4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第四部分：鬼子几次问雨来看没看见有人跑进来，雨来都说没看见，鬼子气急了，凶狠地打了雨来，雨来还是说没看见，最后鬼子要把雨来拉出去枪毙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1334"/>
          <p:cNvPicPr/>
          <p:nvPr/>
        </p:nvPicPr>
        <p:blipFill>
          <a:blip r:embed="rId1"/>
          <a:stretch/>
        </p:blipFill>
        <p:spPr>
          <a:xfrm>
            <a:off x="4427640" y="2997360"/>
            <a:ext cx="30430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25:07Z</dcterms:created>
  <dc:creator>李炜</dc:creator>
  <dc:description/>
  <dc:language>en-US</dc:language>
  <cp:lastModifiedBy>李炜</cp:lastModifiedBy>
  <dcterms:modified xsi:type="dcterms:W3CDTF">2014-06-09T13:25:08Z</dcterms:modified>
  <cp:revision>5</cp:revision>
  <dc:subject/>
  <dc:title>PowerPoint 演示文稿</dc:title>
</cp:coreProperties>
</file>