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8.png" ContentType="image/png"/>
  <Override PartName="/ppt/media/type.wav" ContentType="audio/x-wav"/>
  <Override PartName="/ppt/media/image6.png" ContentType="image/pn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AEC-A0BE-472C-B2F5-0C140D37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CBA-9FB3-4381-A6C5-2176E77A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DC1-BC26-4D47-9856-F6BDB307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D09-6FBA-4B34-BB63-2436E3BB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70E-C57A-467D-A544-9A9B6139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84B-7148-43B6-9777-0C77B9CD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123-8B83-40AE-8DB5-F7A4B1C3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BAF-7DBB-449B-A30A-4406B8F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69A-C9D0-47E6-ADD6-EBBE56E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702-5E3F-4536-87CA-5953BAF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C3C-627D-458E-876D-4979289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3BE-17A7-45FC-8DA8-017D677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8245-C5EB-4064-9D53-C9FC3EFAE6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1682640" y="1616040"/>
            <a:ext cx="5272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1"/>
          <p:cNvPicPr/>
          <p:nvPr/>
        </p:nvPicPr>
        <p:blipFill>
          <a:blip r:embed="rId1"/>
          <a:stretch/>
        </p:blipFill>
        <p:spPr>
          <a:xfrm>
            <a:off x="-28440" y="-214200"/>
            <a:ext cx="9172440" cy="8893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627280" y="155736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实 践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5640" y="2781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小组为单位，指出课桌的哪些边是互相垂直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献给艾丽丝 maksim 钢琴曲 古典乐 192kbps.wma" descr=""/>
          <p:cNvPicPr/>
          <p:nvPr/>
        </p:nvPicPr>
        <p:blipFill>
          <a:blip r:embed="rId2"/>
          <a:stretch/>
        </p:blipFill>
        <p:spPr>
          <a:xfrm>
            <a:off x="1619280" y="51004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5940360" y="5734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5493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两条直线相交，交点叫做垂足。（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两条直线相交，这两条直线就一定垂直。（ 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长方形的两条边互相垂直。（  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564000" y="476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画一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50920" y="3284640"/>
            <a:ext cx="1296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"/>
          <p:cNvGrpSpPr/>
          <p:nvPr/>
        </p:nvGrpSpPr>
        <p:grpSpPr>
          <a:xfrm>
            <a:off x="2050920" y="1628280"/>
            <a:ext cx="1800000" cy="981000"/>
            <a:chOff x="2050920" y="1628280"/>
            <a:chExt cx="1800000" cy="981000"/>
          </a:xfrm>
        </p:grpSpPr>
        <p:sp>
          <p:nvSpPr>
            <p:cNvPr id="120" name="AutoShape 8"/>
            <p:cNvSpPr/>
            <p:nvPr/>
          </p:nvSpPr>
          <p:spPr>
            <a:xfrm rot="16200000">
              <a:off x="2460240" y="1218600"/>
              <a:ext cx="981000" cy="180000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9"/>
            <p:cNvSpPr/>
            <p:nvPr/>
          </p:nvSpPr>
          <p:spPr>
            <a:xfrm rot="16200000">
              <a:off x="3153600" y="1872720"/>
              <a:ext cx="314640" cy="5997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11"/>
          <p:cNvSpPr/>
          <p:nvPr/>
        </p:nvSpPr>
        <p:spPr>
          <a:xfrm>
            <a:off x="2987640" y="3357720"/>
            <a:ext cx="12970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4619520" y="2313000"/>
            <a:ext cx="2113200" cy="1017720"/>
            <a:chOff x="4619520" y="2313000"/>
            <a:chExt cx="2113200" cy="1017720"/>
          </a:xfrm>
        </p:grpSpPr>
        <p:grpSp>
          <p:nvGrpSpPr>
            <p:cNvPr id="124" name="Group 13"/>
            <p:cNvGrpSpPr/>
            <p:nvPr/>
          </p:nvGrpSpPr>
          <p:grpSpPr>
            <a:xfrm>
              <a:off x="4619520" y="2313000"/>
              <a:ext cx="1800000" cy="980640"/>
              <a:chOff x="4619520" y="2313000"/>
              <a:chExt cx="1800000" cy="980640"/>
            </a:xfrm>
          </p:grpSpPr>
          <p:sp>
            <p:nvSpPr>
              <p:cNvPr id="125" name="AutoShape 14"/>
              <p:cNvSpPr/>
              <p:nvPr/>
            </p:nvSpPr>
            <p:spPr>
              <a:xfrm rot="16200000">
                <a:off x="5029200" y="1903320"/>
                <a:ext cx="980640" cy="1800000"/>
              </a:xfrm>
              <a:prstGeom prst="rtTriangl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5"/>
              <p:cNvSpPr/>
              <p:nvPr/>
            </p:nvSpPr>
            <p:spPr>
              <a:xfrm rot="16200000">
                <a:off x="5722200" y="2557080"/>
                <a:ext cx="314640" cy="5997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Line 16"/>
            <p:cNvSpPr/>
            <p:nvPr/>
          </p:nvSpPr>
          <p:spPr>
            <a:xfrm>
              <a:off x="5435640" y="3330720"/>
              <a:ext cx="1297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7"/>
          <p:cNvSpPr/>
          <p:nvPr/>
        </p:nvSpPr>
        <p:spPr>
          <a:xfrm>
            <a:off x="6445080" y="2638440"/>
            <a:ext cx="0" cy="719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1"/>
          <p:cNvGrpSpPr/>
          <p:nvPr/>
        </p:nvGrpSpPr>
        <p:grpSpPr>
          <a:xfrm>
            <a:off x="7523280" y="2638440"/>
            <a:ext cx="1296720" cy="719280"/>
            <a:chOff x="7523280" y="2638440"/>
            <a:chExt cx="1296720" cy="719280"/>
          </a:xfrm>
        </p:grpSpPr>
        <p:sp>
          <p:nvSpPr>
            <p:cNvPr id="130" name="Line 18"/>
            <p:cNvSpPr/>
            <p:nvPr/>
          </p:nvSpPr>
          <p:spPr>
            <a:xfrm>
              <a:off x="7523280" y="3330720"/>
              <a:ext cx="12967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8532720" y="2638440"/>
              <a:ext cx="0" cy="719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25"/>
          <p:cNvSpPr/>
          <p:nvPr/>
        </p:nvSpPr>
        <p:spPr>
          <a:xfrm>
            <a:off x="8555040" y="3144960"/>
            <a:ext cx="13824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8675640" y="3141720"/>
            <a:ext cx="3240" cy="158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0" y="378936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先画一条直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2195640" y="3789360"/>
            <a:ext cx="2158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用三角尺的一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直角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和直线对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88000" y="3860640"/>
            <a:ext cx="2158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沿着另一条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直角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画另一条直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451640" y="39196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画上直角符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1908000" y="1700280"/>
            <a:ext cx="7164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>
            <a:off x="7164360" y="1628640"/>
            <a:ext cx="7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521964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Ａ点画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7"/>
          <p:cNvSpPr/>
          <p:nvPr/>
        </p:nvSpPr>
        <p:spPr>
          <a:xfrm>
            <a:off x="6516720" y="6093000"/>
            <a:ext cx="1152360" cy="43164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小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8"/>
          <p:cNvSpPr/>
          <p:nvPr/>
        </p:nvSpPr>
        <p:spPr>
          <a:xfrm>
            <a:off x="7883640" y="609300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拜　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.01181 -0.05064 L 0.01181 0.10682 E">
                                      <p:cBhvr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95280" y="83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分别画直线的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 flipV="1">
            <a:off x="1260360" y="2276640"/>
            <a:ext cx="1440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3780000" y="2491920"/>
            <a:ext cx="143964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308720" y="2349360"/>
            <a:ext cx="1511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39640" y="2708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 flipH="1" flipV="1">
            <a:off x="1044720" y="2851920"/>
            <a:ext cx="71280" cy="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"/>
          <p:cNvSpPr/>
          <p:nvPr/>
        </p:nvSpPr>
        <p:spPr>
          <a:xfrm flipH="1" flipV="1">
            <a:off x="4788000" y="2925000"/>
            <a:ext cx="71280" cy="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3"/>
          <p:cNvSpPr/>
          <p:nvPr/>
        </p:nvSpPr>
        <p:spPr>
          <a:xfrm flipH="1" flipV="1">
            <a:off x="7163640" y="342900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87708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356000" y="249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979640" y="1700280"/>
            <a:ext cx="5047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643280" y="1700280"/>
            <a:ext cx="503280" cy="398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740720" y="1773360"/>
            <a:ext cx="57636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4">
            <a:hlinkClick r:id="" action="ppaction://hlinkshowjump?jump=nextslide"/>
          </p:cNvPr>
          <p:cNvSpPr/>
          <p:nvPr/>
        </p:nvSpPr>
        <p:spPr>
          <a:xfrm>
            <a:off x="7740720" y="6237360"/>
            <a:ext cx="1403280" cy="431640"/>
          </a:xfrm>
          <a:custGeom>
            <a:avLst/>
            <a:gdLst>
              <a:gd name="textAreaLeft" fmla="*/ 27720 w 1403280"/>
              <a:gd name="textAreaRight" fmla="*/ 1375560 w 14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0182" h="21600">
                <a:moveTo>
                  <a:pt x="0" y="0"/>
                </a:moveTo>
                <a:lnTo>
                  <a:pt x="70182" y="0"/>
                </a:lnTo>
                <a:lnTo>
                  <a:pt x="70182" y="21600"/>
                </a:lnTo>
                <a:lnTo>
                  <a:pt x="0" y="21600"/>
                </a:lnTo>
                <a:close/>
              </a:path>
              <a:path fill="lightenLess" w="70182" h="21600">
                <a:moveTo>
                  <a:pt x="0" y="0"/>
                </a:moveTo>
                <a:lnTo>
                  <a:pt x="70182" y="0"/>
                </a:lnTo>
                <a:lnTo>
                  <a:pt x="68782" y="1400"/>
                </a:lnTo>
                <a:lnTo>
                  <a:pt x="1400" y="1400"/>
                </a:lnTo>
                <a:close/>
              </a:path>
              <a:path fill="darken" w="70182" h="21600">
                <a:moveTo>
                  <a:pt x="70182" y="0"/>
                </a:moveTo>
                <a:lnTo>
                  <a:pt x="70182" y="21600"/>
                </a:lnTo>
                <a:lnTo>
                  <a:pt x="68782" y="20200"/>
                </a:lnTo>
                <a:lnTo>
                  <a:pt x="68782" y="1400"/>
                </a:lnTo>
                <a:close/>
              </a:path>
              <a:path fill="darkenLess" w="70182" h="21600">
                <a:moveTo>
                  <a:pt x="7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2" y="20200"/>
                </a:lnTo>
                <a:close/>
              </a:path>
              <a:path fill="lighten" w="7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画线的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2411280" y="4869000"/>
            <a:ext cx="576360" cy="70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6"/>
          <p:cNvSpPr/>
          <p:nvPr/>
        </p:nvSpPr>
        <p:spPr>
          <a:xfrm>
            <a:off x="5435640" y="4724280"/>
            <a:ext cx="1511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7"/>
          <p:cNvSpPr/>
          <p:nvPr/>
        </p:nvSpPr>
        <p:spPr>
          <a:xfrm flipV="1">
            <a:off x="3995640" y="4723920"/>
            <a:ext cx="144000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8"/>
          <p:cNvSpPr/>
          <p:nvPr/>
        </p:nvSpPr>
        <p:spPr>
          <a:xfrm flipH="1" flipV="1">
            <a:off x="5508720" y="5804640"/>
            <a:ext cx="71280" cy="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5435640" y="59500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7"/>
          <p:cNvSpPr/>
          <p:nvPr/>
        </p:nvSpPr>
        <p:spPr>
          <a:xfrm rot="8857800">
            <a:off x="-1115640" y="980640"/>
            <a:ext cx="5688000" cy="647640"/>
          </a:xfrm>
          <a:prstGeom prst="pie">
            <a:avLst/>
          </a:prstGeom>
          <a:solidFill>
            <a:srgbClr val="a0d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2700360" y="2637000"/>
            <a:ext cx="114948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4427640" y="620640"/>
            <a:ext cx="3529080" cy="187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500720" y="1268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河边，怎么走最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>
            <a:hlinkClick r:id="" action="ppaction://hlinkshowjump?jump=nextslide"/>
          </p:cNvPr>
          <p:cNvSpPr/>
          <p:nvPr/>
        </p:nvSpPr>
        <p:spPr>
          <a:xfrm>
            <a:off x="810108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4"/>
          <p:cNvSpPr/>
          <p:nvPr/>
        </p:nvSpPr>
        <p:spPr>
          <a:xfrm flipV="1">
            <a:off x="179280" y="0"/>
            <a:ext cx="5040360" cy="5229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684360" y="4581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4427640" y="692280"/>
            <a:ext cx="14292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4124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140360" y="26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653080" y="3790800"/>
            <a:ext cx="14292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40360" y="3548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042920" y="56545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河流，用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淘气所在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8213040" y="260280"/>
            <a:ext cx="606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去河边，怎么走最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7956720" y="616572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返　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花朵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88"/>
          <p:cNvPicPr/>
          <p:nvPr/>
        </p:nvPicPr>
        <p:blipFill>
          <a:blip r:embed="rId2"/>
          <a:stretch/>
        </p:blipFill>
        <p:spPr>
          <a:xfrm>
            <a:off x="1042920" y="765000"/>
            <a:ext cx="8062920" cy="47912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2"/>
          <p:cNvSpPr/>
          <p:nvPr/>
        </p:nvSpPr>
        <p:spPr>
          <a:xfrm>
            <a:off x="8207280" y="635472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返　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儿童歌曲-蓝精灵.mp3" descr=""/>
          <p:cNvPicPr/>
          <p:nvPr/>
        </p:nvPicPr>
        <p:blipFill>
          <a:blip r:embed="rId3"/>
          <a:stretch/>
        </p:blipFill>
        <p:spPr>
          <a:xfrm>
            <a:off x="1547640" y="61387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112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花朵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88"/>
          <p:cNvPicPr/>
          <p:nvPr/>
        </p:nvPicPr>
        <p:blipFill>
          <a:blip r:embed="rId2"/>
          <a:stretch/>
        </p:blipFill>
        <p:spPr>
          <a:xfrm>
            <a:off x="1042920" y="765000"/>
            <a:ext cx="8062920" cy="47912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4"/>
          <p:cNvSpPr/>
          <p:nvPr/>
        </p:nvSpPr>
        <p:spPr>
          <a:xfrm>
            <a:off x="8207280" y="635472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返　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692360" y="1052640"/>
            <a:ext cx="2162160" cy="23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932360" y="1125360"/>
            <a:ext cx="259236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>
            <a:off x="2556000" y="3573360"/>
            <a:ext cx="360360" cy="792360"/>
          </a:xfrm>
          <a:prstGeom prst="downArrow">
            <a:avLst>
              <a:gd name="adj1" fmla="val 50000"/>
              <a:gd name="adj2" fmla="val 54970"/>
            </a:avLst>
          </a:prstGeom>
          <a:solidFill>
            <a:srgbClr val="f0a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084720" y="3500280"/>
            <a:ext cx="360360" cy="792360"/>
          </a:xfrm>
          <a:prstGeom prst="downArrow">
            <a:avLst>
              <a:gd name="adj1" fmla="val 50000"/>
              <a:gd name="adj2" fmla="val 54970"/>
            </a:avLst>
          </a:prstGeom>
          <a:solidFill>
            <a:srgbClr val="f0a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8"/>
          <p:cNvGrpSpPr/>
          <p:nvPr/>
        </p:nvGrpSpPr>
        <p:grpSpPr>
          <a:xfrm>
            <a:off x="1763640" y="4726080"/>
            <a:ext cx="1871640" cy="863640"/>
            <a:chOff x="1763640" y="4726080"/>
            <a:chExt cx="1871640" cy="863640"/>
          </a:xfrm>
        </p:grpSpPr>
        <p:sp>
          <p:nvSpPr>
            <p:cNvPr id="47" name="Line 13"/>
            <p:cNvSpPr/>
            <p:nvPr/>
          </p:nvSpPr>
          <p:spPr>
            <a:xfrm>
              <a:off x="1763640" y="4726080"/>
              <a:ext cx="187164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4"/>
            <p:cNvSpPr/>
            <p:nvPr/>
          </p:nvSpPr>
          <p:spPr>
            <a:xfrm flipV="1">
              <a:off x="1763640" y="4797000"/>
              <a:ext cx="187164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9"/>
          <p:cNvGrpSpPr/>
          <p:nvPr/>
        </p:nvGrpSpPr>
        <p:grpSpPr>
          <a:xfrm>
            <a:off x="5364000" y="4653000"/>
            <a:ext cx="1729080" cy="1008000"/>
            <a:chOff x="5364000" y="4653000"/>
            <a:chExt cx="1729080" cy="1008000"/>
          </a:xfrm>
        </p:grpSpPr>
        <p:sp>
          <p:nvSpPr>
            <p:cNvPr id="50" name="Line 15"/>
            <p:cNvSpPr/>
            <p:nvPr/>
          </p:nvSpPr>
          <p:spPr>
            <a:xfrm>
              <a:off x="5364000" y="5155920"/>
              <a:ext cx="172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>
              <a:off x="6227640" y="4653000"/>
              <a:ext cx="0" cy="10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AutoShape 20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a0d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1620720" y="260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请你用直线来表示这两幅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1"/>
          <p:cNvGrpSpPr/>
          <p:nvPr/>
        </p:nvGrpSpPr>
        <p:grpSpPr>
          <a:xfrm>
            <a:off x="2050920" y="2421000"/>
            <a:ext cx="5257800" cy="1008000"/>
            <a:chOff x="2050920" y="2421000"/>
            <a:chExt cx="5257800" cy="1008000"/>
          </a:xfrm>
        </p:grpSpPr>
        <p:grpSp>
          <p:nvGrpSpPr>
            <p:cNvPr id="55" name="Group 4"/>
            <p:cNvGrpSpPr/>
            <p:nvPr/>
          </p:nvGrpSpPr>
          <p:grpSpPr>
            <a:xfrm>
              <a:off x="2050920" y="2492280"/>
              <a:ext cx="1871640" cy="863640"/>
              <a:chOff x="2050920" y="2492280"/>
              <a:chExt cx="1871640" cy="863640"/>
            </a:xfrm>
          </p:grpSpPr>
          <p:sp>
            <p:nvSpPr>
              <p:cNvPr id="56" name="Line 5"/>
              <p:cNvSpPr/>
              <p:nvPr/>
            </p:nvSpPr>
            <p:spPr>
              <a:xfrm>
                <a:off x="2050920" y="2492280"/>
                <a:ext cx="1871640" cy="863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"/>
              <p:cNvSpPr/>
              <p:nvPr/>
            </p:nvSpPr>
            <p:spPr>
              <a:xfrm flipV="1">
                <a:off x="2050920" y="2563200"/>
                <a:ext cx="1871640" cy="79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7"/>
            <p:cNvGrpSpPr/>
            <p:nvPr/>
          </p:nvGrpSpPr>
          <p:grpSpPr>
            <a:xfrm>
              <a:off x="5580000" y="2421000"/>
              <a:ext cx="1728720" cy="1008000"/>
              <a:chOff x="5580000" y="2421000"/>
              <a:chExt cx="1728720" cy="1008000"/>
            </a:xfrm>
          </p:grpSpPr>
          <p:sp>
            <p:nvSpPr>
              <p:cNvPr id="59" name="Line 8"/>
              <p:cNvSpPr/>
              <p:nvPr/>
            </p:nvSpPr>
            <p:spPr>
              <a:xfrm>
                <a:off x="5580000" y="2923920"/>
                <a:ext cx="1728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"/>
              <p:cNvSpPr/>
              <p:nvPr/>
            </p:nvSpPr>
            <p:spPr>
              <a:xfrm>
                <a:off x="6443280" y="2421000"/>
                <a:ext cx="0" cy="100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3"/>
          <p:cNvSpPr/>
          <p:nvPr/>
        </p:nvSpPr>
        <p:spPr>
          <a:xfrm>
            <a:off x="1908000" y="692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这两幅图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1620720" y="836640"/>
            <a:ext cx="287280" cy="287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>
            <a:hlinkClick r:id="" action="ppaction://hlinkshowjump?jump=nextslide"/>
          </p:cNvPr>
          <p:cNvSpPr/>
          <p:nvPr/>
        </p:nvSpPr>
        <p:spPr>
          <a:xfrm>
            <a:off x="7596360" y="6021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折一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556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（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94036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（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a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>
            <a:hlinkClick r:id="" action="ppaction://hlinkshowjump?jump=nextslide"/>
          </p:cNvPr>
          <p:cNvSpPr/>
          <p:nvPr/>
        </p:nvSpPr>
        <p:spPr>
          <a:xfrm>
            <a:off x="7596360" y="6021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折一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987640" y="1773360"/>
            <a:ext cx="3599640" cy="2088360"/>
            <a:chOff x="2987640" y="1773360"/>
            <a:chExt cx="3599640" cy="2088360"/>
          </a:xfrm>
        </p:grpSpPr>
        <p:sp>
          <p:nvSpPr>
            <p:cNvPr id="68" name="Line 4"/>
            <p:cNvSpPr/>
            <p:nvPr/>
          </p:nvSpPr>
          <p:spPr>
            <a:xfrm>
              <a:off x="2987640" y="2815560"/>
              <a:ext cx="359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>
              <a:off x="4785480" y="1773360"/>
              <a:ext cx="0" cy="208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6"/>
          <p:cNvGrpSpPr/>
          <p:nvPr/>
        </p:nvGrpSpPr>
        <p:grpSpPr>
          <a:xfrm>
            <a:off x="4788000" y="2637000"/>
            <a:ext cx="137880" cy="158760"/>
            <a:chOff x="4788000" y="2637000"/>
            <a:chExt cx="137880" cy="158760"/>
          </a:xfrm>
        </p:grpSpPr>
        <p:sp>
          <p:nvSpPr>
            <p:cNvPr id="71" name="Line 7"/>
            <p:cNvSpPr/>
            <p:nvPr/>
          </p:nvSpPr>
          <p:spPr>
            <a:xfrm>
              <a:off x="4788000" y="2639880"/>
              <a:ext cx="137880" cy="180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4908600" y="2637000"/>
              <a:ext cx="3240" cy="15876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9"/>
          <p:cNvSpPr/>
          <p:nvPr/>
        </p:nvSpPr>
        <p:spPr>
          <a:xfrm>
            <a:off x="1106280" y="1771560"/>
            <a:ext cx="1521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楷体_GB2312"/>
              </a:rPr>
              <a:t>互相垂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870440" y="177336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  <a:ea typeface="楷体_GB2312"/>
              </a:rPr>
              <a:t>垂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500364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V="1">
            <a:off x="4932360" y="3284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3276720" y="234900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213000" y="170028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  <a:ea typeface="楷体_GB2312"/>
              </a:rPr>
              <a:t>垂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870440" y="292428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  <a:ea typeface="楷体_GB2312"/>
              </a:rPr>
              <a:t>垂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84472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300720" y="27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859280" y="153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93236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WK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76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203640" y="620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新魏"/>
              </a:rPr>
              <a:t>折一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184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一张正方形的纸折一折，使两条折痕互相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2565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折完后，请用不同颜色的笔把两条折线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>
            <a:hlinkClick r:id="" action="ppaction://hlinkshowjump?jump=nextslide"/>
          </p:cNvPr>
          <p:cNvSpPr/>
          <p:nvPr/>
        </p:nvSpPr>
        <p:spPr>
          <a:xfrm>
            <a:off x="514836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29272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 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WK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876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87280" y="9079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5280" y="12034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有什么办法可以验证两条折痕是否垂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>
            <a:hlinkClick r:id="" action="ppaction://hlinkshowjump?jump=nextslide"/>
          </p:cNvPr>
          <p:cNvSpPr/>
          <p:nvPr/>
        </p:nvSpPr>
        <p:spPr>
          <a:xfrm>
            <a:off x="529272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WK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4876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87280" y="9079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1125360"/>
            <a:ext cx="892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可以用三角尺中的直角来验证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是否垂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5219640" y="595008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</a:rPr>
              <a:t>同桌互相验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WK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876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87280" y="9079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1125360"/>
            <a:ext cx="89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同桌互相验证对方的折痕是否垂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5148360" y="587700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72440" cy="1240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914560" y="15876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4000" y="3084480"/>
            <a:ext cx="73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一说教室里有哪些互相垂直的线段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>
            <a:hlinkClick r:id="" action="ppaction://hlinkshowjump?jump=nextslide"/>
          </p:cNvPr>
          <p:cNvSpPr/>
          <p:nvPr/>
        </p:nvSpPr>
        <p:spPr>
          <a:xfrm>
            <a:off x="5867280" y="6453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78" h="21600">
                <a:moveTo>
                  <a:pt x="14133" y="3794"/>
                </a:moveTo>
                <a:lnTo>
                  <a:pt x="28146" y="10800"/>
                </a:lnTo>
                <a:lnTo>
                  <a:pt x="14133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00:10:51Z</dcterms:created>
  <dc:creator/>
  <dc:description/>
  <cp:keywords/>
  <dc:language>en-US</dc:language>
  <cp:lastModifiedBy>Administrator</cp:lastModifiedBy>
  <dcterms:modified xsi:type="dcterms:W3CDTF">2015-03-01T15:15:07Z</dcterms:modified>
  <cp:revision>51</cp:revision>
  <dc:subject/>
  <dc:title>幻灯片 1</dc:title>
</cp:coreProperties>
</file>