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gif" ContentType="image/gif"/>
  <Override PartName="/ppt/media/image12.gif" ContentType="image/gif"/>
  <Override PartName="/ppt/media/image9.gif" ContentType="image/gi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858A-C25B-4E6F-8288-7DF4A3280A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25AC-61EA-429A-BB14-F70AD214DA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E351-7305-430E-8D83-09147AF1887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559-CAE3-440F-86C2-14050345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0FC-DAA7-4E9F-A8BB-50A6B609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EB9-945D-4AF2-A1D1-34D04DC2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BCA-6D7A-400D-9605-C8D903AF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C51C-2102-4EA8-B519-223E3626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DEC4-DD3C-4C51-828F-BDC671F1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23CB-0F96-4758-AD3F-A3B05251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0F7A-45A9-42A2-B2F0-8B98B8ED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25D4-1626-4249-8897-3ADAF059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4046-3546-4F1B-84A4-979A0E7E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6C3A-ADAE-40B7-8A6B-8D42EB46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E986-F6B6-4984-8E81-71FE31FD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8DFB-60F7-4DB4-83AB-D9246EDF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BCDD-99BD-4A9B-84BB-01B2F551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662A-B37E-4C9D-A291-4510F91E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76A8-EBAB-47DA-A281-1865C465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99FC-014C-46DB-90A0-17021131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0CF-9D50-4E06-A145-C79A526B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733-4658-4E72-8BD0-7DDF93A7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3D1-3A8B-4497-BF61-6597F0F0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76F-9416-4A32-BEAE-57BB2E71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76C-96FB-47A5-8B81-1CDA338B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93D-1C57-4B5C-AF82-1465DB38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B2D-AEEA-4480-85D4-218D4F59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D0C9-AE4B-411A-AA1F-26990FA0BB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5D52-0EF7-4957-A41D-1CE25CE8C6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图片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116000" y="981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北师大版四年级上册数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050920" y="2492280"/>
            <a:ext cx="55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</a:rPr>
              <a:t>复习－运算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24000" y="1052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忆这学期我们学过哪些运算定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3708360" y="2852640"/>
            <a:ext cx="24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+b = b+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2916360" y="342900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+b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+c  = a+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+c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0"/>
          <p:cNvSpPr/>
          <p:nvPr/>
        </p:nvSpPr>
        <p:spPr>
          <a:xfrm>
            <a:off x="3564000" y="4076640"/>
            <a:ext cx="24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×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b = b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×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1"/>
          <p:cNvSpPr/>
          <p:nvPr/>
        </p:nvSpPr>
        <p:spPr>
          <a:xfrm>
            <a:off x="3059280" y="479736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×b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×c  = a×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×c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3203640" y="551664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×c=a×c+b×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5"/>
          <p:cNvSpPr/>
          <p:nvPr/>
        </p:nvSpPr>
        <p:spPr>
          <a:xfrm>
            <a:off x="250920" y="609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2060640"/>
          <a:ext cx="6624720" cy="3992400"/>
        </p:xfrm>
        <a:graphic>
          <a:graphicData uri="http://schemas.openxmlformats.org/drawingml/2006/table">
            <a:tbl>
              <a:tblPr/>
              <a:tblGrid>
                <a:gridCol w="2592360"/>
                <a:gridCol w="4032360"/>
              </a:tblGrid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运算律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用字母表示运算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103"/>
          <p:cNvSpPr/>
          <p:nvPr/>
        </p:nvSpPr>
        <p:spPr>
          <a:xfrm>
            <a:off x="539640" y="2708280"/>
            <a:ext cx="172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4"/>
          <p:cNvSpPr/>
          <p:nvPr/>
        </p:nvSpPr>
        <p:spPr>
          <a:xfrm>
            <a:off x="755640" y="2781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加法交换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5"/>
          <p:cNvSpPr/>
          <p:nvPr/>
        </p:nvSpPr>
        <p:spPr>
          <a:xfrm>
            <a:off x="826920" y="35002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加法结合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6"/>
          <p:cNvSpPr/>
          <p:nvPr/>
        </p:nvSpPr>
        <p:spPr>
          <a:xfrm>
            <a:off x="826920" y="4149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乘法交换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7"/>
          <p:cNvSpPr/>
          <p:nvPr/>
        </p:nvSpPr>
        <p:spPr>
          <a:xfrm>
            <a:off x="826920" y="4797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乘法结合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8"/>
          <p:cNvSpPr/>
          <p:nvPr/>
        </p:nvSpPr>
        <p:spPr>
          <a:xfrm>
            <a:off x="75564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乘法分配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305748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闯关练习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95280" y="2421000"/>
            <a:ext cx="26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46+32+5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95280" y="17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关：简算，并想想每小题应用了什么运算定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68360" y="3284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5×49×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564000" y="3500280"/>
            <a:ext cx="410364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7×48+27×5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2916360" y="2421000"/>
            <a:ext cx="3887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+8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×12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3" descr=""/>
          <p:cNvPicPr/>
          <p:nvPr/>
        </p:nvPicPr>
        <p:blipFill>
          <a:blip r:embed="rId1"/>
          <a:stretch/>
        </p:blipFill>
        <p:spPr>
          <a:xfrm>
            <a:off x="7812000" y="4724280"/>
            <a:ext cx="9050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900000" y="234936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68360" y="907920"/>
            <a:ext cx="3816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关：火眼金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24000" y="2060640"/>
            <a:ext cx="489564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5 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×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25  ×8+125×4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000+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500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     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788000" y="206064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+1)×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00×37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3700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3701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      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419640" y="3500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7667640" y="357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755640" y="2276640"/>
            <a:ext cx="6769080" cy="14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5×99+95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564000" y="213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×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68360" y="1197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关：这些题目你还能简算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84720" y="213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5×3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{A7504982-39FD-4E26-899F-C15B173AB8CD}"/>
          <p:cNvPicPr/>
          <p:nvPr/>
        </p:nvPicPr>
        <p:blipFill>
          <a:blip r:embed="rId1"/>
          <a:srcRect l="19114" t="48898" r="45886" b="0"/>
          <a:stretch/>
        </p:blipFill>
        <p:spPr>
          <a:xfrm>
            <a:off x="0" y="4149720"/>
            <a:ext cx="1704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2344680" y="75096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第四关：你能用两种方法简算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826920" y="1773360"/>
            <a:ext cx="3240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5×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25×4×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100×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1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356000" y="2133720"/>
            <a:ext cx="457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5×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25×(40+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25×40+ 25×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1000+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1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84360" y="9810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第四关：解决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85800" y="1752480"/>
            <a:ext cx="79246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光小学新建了一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层的教学楼，每层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教室，每间教室能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张课桌，这栋楼一共能放多少张课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84360" y="39337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南湖公园里摆放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月季花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玫瑰花，每行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盆，南湖公园里摆放的月季花和玫瑰花一共多少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FR30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0" y="123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gif027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48520" y="609480"/>
            <a:ext cx="571320" cy="609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990720" y="2286000"/>
            <a:ext cx="556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00ff"/>
                </a:solidFill>
                <a:latin typeface="宋体"/>
              </a:rPr>
              <a:t>通过这节课的学习</a:t>
            </a:r>
            <a:r>
              <a:rPr b="1" lang="en-US" sz="4000" spc="-1" strike="noStrike">
                <a:solidFill>
                  <a:srgbClr val="ff00ff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你有什么收获？在运用运算律时应注意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914400" y="1066680"/>
            <a:ext cx="244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小结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0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bear2[1]"/>
          <p:cNvPicPr/>
          <p:nvPr/>
        </p:nvPicPr>
        <p:blipFill>
          <a:blip r:embed="rId2"/>
          <a:stretch/>
        </p:blipFill>
        <p:spPr>
          <a:xfrm>
            <a:off x="7467480" y="5257800"/>
            <a:ext cx="1235160" cy="1325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bear2[1]"/>
          <p:cNvPicPr/>
          <p:nvPr/>
        </p:nvPicPr>
        <p:blipFill>
          <a:blip r:embed="rId3"/>
          <a:stretch/>
        </p:blipFill>
        <p:spPr>
          <a:xfrm>
            <a:off x="6300720" y="5373720"/>
            <a:ext cx="1235160" cy="1325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ear2[1]"/>
          <p:cNvPicPr/>
          <p:nvPr/>
        </p:nvPicPr>
        <p:blipFill>
          <a:blip r:embed="rId4"/>
          <a:stretch/>
        </p:blipFill>
        <p:spPr>
          <a:xfrm>
            <a:off x="3348000" y="5300640"/>
            <a:ext cx="1235160" cy="1325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ear2[1]"/>
          <p:cNvPicPr/>
          <p:nvPr/>
        </p:nvPicPr>
        <p:blipFill>
          <a:blip r:embed="rId5"/>
          <a:stretch/>
        </p:blipFill>
        <p:spPr>
          <a:xfrm>
            <a:off x="380880" y="5257800"/>
            <a:ext cx="1235160" cy="1325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002[1]"/>
          <p:cNvPicPr/>
          <p:nvPr/>
        </p:nvPicPr>
        <p:blipFill>
          <a:blip r:embed="rId6"/>
          <a:stretch/>
        </p:blipFill>
        <p:spPr>
          <a:xfrm>
            <a:off x="1143000" y="609480"/>
            <a:ext cx="838080" cy="1189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002[1]"/>
          <p:cNvPicPr/>
          <p:nvPr/>
        </p:nvPicPr>
        <p:blipFill>
          <a:blip r:embed="rId7"/>
          <a:stretch/>
        </p:blipFill>
        <p:spPr>
          <a:xfrm>
            <a:off x="7238880" y="762120"/>
            <a:ext cx="609840" cy="1036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72[1]"/>
          <p:cNvPicPr/>
          <p:nvPr/>
        </p:nvPicPr>
        <p:blipFill>
          <a:blip r:embed="rId8"/>
          <a:stretch/>
        </p:blipFill>
        <p:spPr>
          <a:xfrm>
            <a:off x="5638680" y="0"/>
            <a:ext cx="3200400" cy="4000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80[1]"/>
          <p:cNvPicPr/>
          <p:nvPr/>
        </p:nvPicPr>
        <p:blipFill>
          <a:blip r:embed="rId9"/>
          <a:stretch/>
        </p:blipFill>
        <p:spPr>
          <a:xfrm>
            <a:off x="7315200" y="3809880"/>
            <a:ext cx="1486080" cy="129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NA00864_"/>
          <p:cNvPicPr/>
          <p:nvPr/>
        </p:nvPicPr>
        <p:blipFill>
          <a:blip r:embed="rId10"/>
          <a:stretch/>
        </p:blipFill>
        <p:spPr>
          <a:xfrm>
            <a:off x="7086600" y="457200"/>
            <a:ext cx="1171440" cy="1012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NA00864_"/>
          <p:cNvPicPr/>
          <p:nvPr/>
        </p:nvPicPr>
        <p:blipFill>
          <a:blip r:embed="rId11"/>
          <a:stretch/>
        </p:blipFill>
        <p:spPr>
          <a:xfrm>
            <a:off x="5410080" y="533520"/>
            <a:ext cx="1171800" cy="1012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3"/>
          <p:cNvSpPr/>
          <p:nvPr/>
        </p:nvSpPr>
        <p:spPr>
          <a:xfrm>
            <a:off x="179280" y="2565360"/>
            <a:ext cx="8137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8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谢谢指导</a:t>
            </a:r>
            <a:r>
              <a:rPr b="0" lang="en-US" sz="1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!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7-05-23T08:01:12Z</dcterms:created>
  <dc:creator/>
  <dc:description/>
  <cp:keywords/>
  <dc:language>en-US</dc:language>
  <cp:lastModifiedBy>Administrator</cp:lastModifiedBy>
  <dcterms:modified xsi:type="dcterms:W3CDTF">2015-03-01T22:53:59Z</dcterms:modified>
  <cp:revision>145</cp:revision>
  <dc:subject/>
  <dc:title>幻灯片 1</dc:title>
</cp:coreProperties>
</file>