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168-DB2F-4403-96A3-9AB6CA1D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B0C-F52D-4880-83E8-2683E46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4E1-AF5D-471E-A45F-4A1CFA3B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76E-A589-4986-BED4-D0D31E11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0E8-9058-4A30-9804-91E3AAC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E82-9FCC-4AF0-AF22-F59AC75E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BA5-1DEA-43E9-96D6-02CC2C1D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74D-D16D-48F4-BF4A-6B5850F2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A85-7B58-4C62-BBAA-A05D5F9A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B3F-7ADE-4E81-8871-7B930381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3E5-49C6-4CD1-80E0-66180BB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790-C021-4FD9-AA91-E2E91FA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AF88-40AB-4412-9268-5E76AF75A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21337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Arial"/>
                <a:ea typeface="黑体"/>
              </a:rPr>
              <a:t>整理与复习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129" name="aa.mp3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2029320" y="2143080"/>
            <a:ext cx="397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节课你有什么收获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36157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09480" y="6858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基础过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85800" y="1676520"/>
            <a:ext cx="7010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年“十一”期间，成都市共接待游客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658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次，四舍五入到万位约是 （        ）万人次；实现旅游收入三亿四千二百万元，这个数写作（           ），保留到亿位约是（         ）亿元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3125160" y="3124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4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143000" y="44197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42000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1143000" y="5073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图片1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1163520" y="1979640"/>
            <a:ext cx="61596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过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作直线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平行线，过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作直线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华文宋体"/>
                <a:ea typeface="华文宋体"/>
              </a:rPr>
              <a:t>.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华文宋体"/>
                <a:ea typeface="华文宋体"/>
              </a:rPr>
              <a:t> 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3733920" y="3657600"/>
            <a:ext cx="2209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914400" y="685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基础过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2"/>
          <a:stretch/>
        </p:blipFill>
        <p:spPr>
          <a:xfrm>
            <a:off x="0" y="457200"/>
            <a:ext cx="85680" cy="152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1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3505320" y="3995640"/>
            <a:ext cx="2209680" cy="152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4402080" y="4717800"/>
            <a:ext cx="857160" cy="12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914400" y="167652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量出下列每个角的度数，并说一说这些角各是什么角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762120" y="685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基础过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309840" y="4741920"/>
            <a:ext cx="164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用你喜欢的方法画出一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5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1828800" y="358128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523880" y="4343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 flipH="1">
            <a:off x="4038120" y="327672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4419720" y="327672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715000" y="35053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4771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523880" y="1752480"/>
            <a:ext cx="61722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竖式计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253×56=                 503×32=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45×240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62120" y="685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基础过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6"/>
          <p:cNvSpPr/>
          <p:nvPr/>
        </p:nvSpPr>
        <p:spPr>
          <a:xfrm>
            <a:off x="2102400" y="2514600"/>
            <a:ext cx="397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你还能提出什么问题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21"/>
          <p:cNvSpPr/>
          <p:nvPr/>
        </p:nvSpPr>
        <p:spPr>
          <a:xfrm>
            <a:off x="762120" y="685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应用拓展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22"/>
          <p:cNvSpPr/>
          <p:nvPr/>
        </p:nvSpPr>
        <p:spPr>
          <a:xfrm>
            <a:off x="1579320" y="1859040"/>
            <a:ext cx="67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□875≈1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的方框里可以填数字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（   ）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23"/>
          <p:cNvSpPr/>
          <p:nvPr/>
        </p:nvSpPr>
        <p:spPr>
          <a:xfrm>
            <a:off x="1115280" y="2590920"/>
            <a:ext cx="701532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要求组五位数，并写出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每个数字必须用到，每组只写一个即可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个零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两个零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有的零都不读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24"/>
          <p:cNvSpPr/>
          <p:nvPr/>
        </p:nvSpPr>
        <p:spPr>
          <a:xfrm>
            <a:off x="7704000" y="189396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~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24"/>
          <p:cNvSpPr/>
          <p:nvPr/>
        </p:nvSpPr>
        <p:spPr>
          <a:xfrm>
            <a:off x="3451320" y="404496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9086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24"/>
          <p:cNvSpPr/>
          <p:nvPr/>
        </p:nvSpPr>
        <p:spPr>
          <a:xfrm>
            <a:off x="3451320" y="46432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908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24"/>
          <p:cNvSpPr/>
          <p:nvPr/>
        </p:nvSpPr>
        <p:spPr>
          <a:xfrm>
            <a:off x="4017960" y="536580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986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图片1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706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9"/>
          <p:cNvGrpSpPr/>
          <p:nvPr/>
        </p:nvGrpSpPr>
        <p:grpSpPr>
          <a:xfrm>
            <a:off x="2971800" y="1577880"/>
            <a:ext cx="3200400" cy="1927440"/>
            <a:chOff x="2971800" y="1577880"/>
            <a:chExt cx="3200400" cy="1927440"/>
          </a:xfrm>
        </p:grpSpPr>
        <p:sp>
          <p:nvSpPr>
            <p:cNvPr id="82" name="Line 10"/>
            <p:cNvSpPr/>
            <p:nvPr/>
          </p:nvSpPr>
          <p:spPr>
            <a:xfrm>
              <a:off x="2971800" y="2655720"/>
              <a:ext cx="320040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4572000" y="1577880"/>
              <a:ext cx="0" cy="10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 flipV="1">
              <a:off x="3200400" y="1920600"/>
              <a:ext cx="251460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13"/>
            <p:cNvSpPr/>
            <p:nvPr/>
          </p:nvSpPr>
          <p:spPr>
            <a:xfrm>
              <a:off x="4724280" y="2568240"/>
              <a:ext cx="114120" cy="99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14"/>
            <p:cNvSpPr/>
            <p:nvPr/>
          </p:nvSpPr>
          <p:spPr>
            <a:xfrm flipV="1" rot="310200">
              <a:off x="4107600" y="2410200"/>
              <a:ext cx="958320" cy="612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15"/>
            <p:cNvSpPr/>
            <p:nvPr/>
          </p:nvSpPr>
          <p:spPr>
            <a:xfrm flipH="1" rot="17599800">
              <a:off x="3777120" y="2671920"/>
              <a:ext cx="31788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4343400" y="246924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5"/>
          <p:cNvSpPr/>
          <p:nvPr/>
        </p:nvSpPr>
        <p:spPr>
          <a:xfrm>
            <a:off x="762120" y="685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应用拓展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3908520"/>
            <a:ext cx="9067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图中，已知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6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直角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么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=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，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=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），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=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7"/>
          <p:cNvSpPr/>
          <p:nvPr/>
        </p:nvSpPr>
        <p:spPr>
          <a:xfrm>
            <a:off x="4610160" y="2438280"/>
            <a:ext cx="114120" cy="98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 flipH="1">
            <a:off x="434304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2101680" y="2133720"/>
            <a:ext cx="2108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2228400" y="54579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34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743000" y="54579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56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7257960" y="54975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24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457200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5029200" y="2266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45720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350532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3962520" y="21146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1949400" y="264384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    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×   2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167280" y="3664440"/>
            <a:ext cx="443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  0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     2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62120" y="685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应用拓展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889280" y="1866960"/>
            <a:ext cx="8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字迷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2743200" y="3733920"/>
            <a:ext cx="218772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2743200" y="4724280"/>
            <a:ext cx="21877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040920" y="4751280"/>
            <a:ext cx="14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  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913200" y="273852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4485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4485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77200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66904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7852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30552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395400" y="3733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818244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8080920" y="4267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403320" y="4267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0"/>
          <p:cNvSpPr/>
          <p:nvPr/>
        </p:nvSpPr>
        <p:spPr>
          <a:xfrm>
            <a:off x="38862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1"/>
          <p:cNvSpPr/>
          <p:nvPr/>
        </p:nvSpPr>
        <p:spPr>
          <a:xfrm>
            <a:off x="4419720" y="3200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3"/>
          <p:cNvSpPr/>
          <p:nvPr/>
        </p:nvSpPr>
        <p:spPr>
          <a:xfrm>
            <a:off x="2666880" y="4876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4"/>
          <p:cNvSpPr/>
          <p:nvPr/>
        </p:nvSpPr>
        <p:spPr>
          <a:xfrm>
            <a:off x="3276720" y="48769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5"/>
          <p:cNvSpPr/>
          <p:nvPr/>
        </p:nvSpPr>
        <p:spPr>
          <a:xfrm>
            <a:off x="32767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2743200" y="3809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7"/>
          <p:cNvSpPr/>
          <p:nvPr/>
        </p:nvSpPr>
        <p:spPr>
          <a:xfrm>
            <a:off x="4419720" y="3809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28T07:55:44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