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voltage.wav" ContentType="audio/x-wav"/>
  <Override PartName="/ppt/media/image7.jpeg" ContentType="image/jpeg"/>
  <Override PartName="/ppt/media/image14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.jpeg" ContentType="image/jpeg"/>
  <Override PartName="/ppt/media/image3.jpeg" ContentType="image/jpeg"/>
  <Override PartName="/ppt/media/type.wav" ContentType="audio/x-wav"/>
  <Override PartName="/ppt/media/push.wav" ContentType="audio/x-wav"/>
  <Override PartName="/ppt/media/image2.jpeg" ContentType="image/jpeg"/>
  <Override PartName="/ppt/media/suction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AB10-B5E8-4515-A9A9-45A0250F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C5B-9B0B-469A-98E0-178135A7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D908-5E78-4F77-A812-0CDC8CEE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DE4-DD16-4D79-A788-45C2419C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E392-BB88-4ADC-8CE6-EB41C8E5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9887-A850-4D53-A9FA-8FA3DC7E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3D56-75AA-4F77-A1B4-B88846CF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EE61-9FB9-486F-A317-E5D1CCD0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4DC2-3E22-4B8C-8672-7ADC90AB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755E-6AF9-4655-8129-7E7179BB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3B58-4692-4D08-AB40-EA7AEAE1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4718-5C1A-4173-92CA-444BD3B9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C215-F11B-4D81-A3B7-3F2A37CF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7F89-A8C1-4465-B665-4DEC4FA3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10AB-EFAC-4565-A7FE-87B26BB8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6194-03F3-4C23-9540-FDEFB4C6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210F-414A-4FE3-83C8-1B96C7EF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4AEB7-C809-49FB-BD4D-2AD9509F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13A40-70CA-4E0C-B7CD-4E6E1BD2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590DF-31B1-464F-8381-B2E3786C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D50D7-D5DA-4F62-9B59-6DADA777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C1873-9AB9-47E1-9A4B-ACFFBC36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24FF-0768-48B1-9040-79285CDD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3C07A-FE8E-42BA-A1AB-5FF35486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18507-BA8D-4411-9088-9DA4C5AC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1C705-833A-4948-A5E4-F2F452F2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510D7-6B59-492D-B9D4-6AC150E7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69227-0C30-4679-ABFE-952D3B73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E8D81-538D-4C3A-9929-DA9CD294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B1BAE-FD95-49A3-9A5D-15426C46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78F6F-9B40-4D75-99C0-AE2BC0E2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893FE-4377-41AE-9238-C1AA617D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D6FE5-1E65-463D-A9A5-02FB6DDE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FE06-38B4-4FCF-A357-C07C0905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07572-A949-49EA-B478-76747970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7CD85-DF9E-4233-83C3-46D925DD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5FE6B-6E51-4ACA-91A0-38433A57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B8D86-F40D-4DF5-A298-DD21F407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073D3-BBD4-4540-8607-7BF030FB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B7672-03ED-4768-80AD-5103E534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16966-0E08-419B-B916-1A0B26C5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4FF05-8FA7-4F7C-84F7-6746644C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132C9-4782-4FD8-AA4D-23341783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0D71D-57E5-4F7A-B176-1F9EA4D8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479-A1C7-4398-BFA8-83AF0DC0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DBE24-5100-456A-ABCE-A419BBDF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0B60D-8CA9-42D8-85BB-3B2DD7D6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829AC-C373-46ED-AD26-AC23FF0C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1DE8E-9EC9-4694-9455-AC886F5E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0C2EA-EF9D-4BC5-98D3-BBAC0181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B3F85-72CE-47DC-A561-6A9A45CE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5F615-B65E-4CDB-9F69-E1DD0465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6253B-877F-450A-8242-DC091569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F4D0F-A49E-4145-8BC7-12C602A4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C3E79-0E17-4B69-A69D-D066E558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43E-5B11-4357-B27F-B6E3156C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54F6B-43AC-41FB-82E3-FAC9CF99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3EF6C-90AC-424B-B3AA-58DB6B06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29EF8-9EBF-45C6-87B7-F340697D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883C6-FD43-4EDE-BEB8-6E97EB85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14860-ABD1-47EF-9DD9-418025C3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04D3A-7077-4FD9-8CD0-0E91D6AA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050E0-95A7-4B32-B5AA-33FDD461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E5F67-64D7-45F4-A8BF-6CBB1685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ECA46-ADB9-45C7-8FE3-A524A88A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D679B-E62B-496A-9BF0-D692CCCF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04DB-6F55-4FBB-AC42-EDFDD932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0EE07-2644-4FC8-9FD1-1377BCD1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13825-021E-4758-967E-93C0CA37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E1395-0FC9-4033-8306-4C7A1CD0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22FE5-C66D-4E82-9A20-2533B6B1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4F7D5-4B6E-46F5-927C-85C36A8F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9D3E9-2A91-4DB8-9E4C-6D3D71E0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B06AA-3B05-4966-85D5-23DCDE24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83064-A163-436C-B1B4-B7C1CD48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C3749-BF78-4277-9BE0-5001B8B7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2FDA6-DCDA-47C0-9B10-A8D34931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03AC-F10B-4BFE-9079-5B2E3178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33160-B234-43E9-8136-95DD816A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F7A36-DC45-471A-9395-A7921DC6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5684B-613A-41E5-878F-A6E41469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C7A4D-CD64-4351-A57C-A5800C8C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7C642-A440-4CC6-A337-7B43D379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9686-E720-4BFA-9B51-9653597D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F07B-DD8F-4769-8E81-6CB2230F3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6207-EC04-4125-8022-5F873C63A3D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A3FA-588F-433A-B383-47B9A45445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2574-AA6D-4432-A5E8-3C6B15522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2BB8-C0EC-4443-A98F-33B143052FF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17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218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221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E544-AA61-47B8-86DC-1F0593C6BA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1ADF-55A4-4911-9D9E-7360BB89BB3F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audio" Target="../media/voltage.wav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push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5"/>
          <p:cNvSpPr/>
          <p:nvPr/>
        </p:nvSpPr>
        <p:spPr>
          <a:xfrm>
            <a:off x="2700360" y="620640"/>
            <a:ext cx="6443640" cy="3673440"/>
          </a:xfrm>
          <a:prstGeom prst="cloudCallout">
            <a:avLst>
              <a:gd name="adj1" fmla="val -67222"/>
              <a:gd name="adj2" fmla="val 69361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4356000" y="1341360"/>
            <a:ext cx="36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cc"/>
                </a:solidFill>
                <a:latin typeface="Arial"/>
                <a:ea typeface="幼圆"/>
              </a:rPr>
              <a:t>复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3"/>
          <p:cNvSpPr/>
          <p:nvPr/>
        </p:nvSpPr>
        <p:spPr>
          <a:xfrm>
            <a:off x="1258920" y="765000"/>
            <a:ext cx="6553080" cy="3384720"/>
          </a:xfrm>
          <a:prstGeom prst="cloudCallout">
            <a:avLst>
              <a:gd name="adj1" fmla="val -38564"/>
              <a:gd name="adj2" fmla="val 95263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2627280" y="1125360"/>
            <a:ext cx="40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正数与负数表示的量具有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相反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的意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0" y="62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作  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0" y="1700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定  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0" y="3357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的特殊性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1979640" y="62064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用来表示一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意义相反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的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763640" y="1700280"/>
            <a:ext cx="738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像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36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都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正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像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-2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-5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-13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-5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都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负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1835280" y="4149720"/>
            <a:ext cx="70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既不是正数，也不是负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1979640" y="508464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的意义不仅仅表示“没有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3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2" descr="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5"/>
          <p:cNvSpPr/>
          <p:nvPr/>
        </p:nvSpPr>
        <p:spPr>
          <a:xfrm>
            <a:off x="0" y="260280"/>
            <a:ext cx="7740720" cy="504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1247400" y="765000"/>
            <a:ext cx="479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如果小华家月收入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2500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记作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＋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2500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元，那么他家这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月水、电、煤气的支出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200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应记作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_____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1692360" y="299736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0" descr="图片3"/>
          <p:cNvPicPr/>
          <p:nvPr/>
        </p:nvPicPr>
        <p:blipFill>
          <a:blip r:embed="rId2"/>
          <a:stretch/>
        </p:blipFill>
        <p:spPr>
          <a:xfrm>
            <a:off x="0" y="3971880"/>
            <a:ext cx="24192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4" descr="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0" y="260280"/>
            <a:ext cx="7740720" cy="504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1384560" y="260280"/>
            <a:ext cx="447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如果电梯上升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5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层记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＋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5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层，那么它下降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层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记作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____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1136880" y="2565360"/>
            <a:ext cx="432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如果进了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个球记作＋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那么失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球应记作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____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1837080" y="170028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4427640" y="3357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2" descr="图片3"/>
          <p:cNvPicPr/>
          <p:nvPr/>
        </p:nvPicPr>
        <p:blipFill>
          <a:blip r:embed="rId2"/>
          <a:stretch/>
        </p:blipFill>
        <p:spPr>
          <a:xfrm>
            <a:off x="0" y="3971880"/>
            <a:ext cx="24192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4" descr="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250920" y="0"/>
            <a:ext cx="7850160" cy="566100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图片3"/>
          <p:cNvPicPr/>
          <p:nvPr/>
        </p:nvPicPr>
        <p:blipFill>
          <a:blip r:embed="rId2"/>
          <a:stretch/>
        </p:blipFill>
        <p:spPr>
          <a:xfrm>
            <a:off x="108000" y="4221000"/>
            <a:ext cx="2663640" cy="252576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7"/>
          <p:cNvSpPr/>
          <p:nvPr/>
        </p:nvSpPr>
        <p:spPr>
          <a:xfrm>
            <a:off x="1332000" y="404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684360" y="189000"/>
            <a:ext cx="7272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、如果高于海平面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286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米记作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+286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米，那么低于海平面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530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米应记作（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）米，海平面记作（     ）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、一幢大楼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20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层，地面以上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8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层记作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+8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层，地面以上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15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层记作（     ）层，地面以下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层记作（     ）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1187280" y="1341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5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6156360" y="12682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6732720" y="2708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5580000" y="3213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0" y="90792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解答下列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611280" y="1557360"/>
            <a:ext cx="7920000" cy="1366920"/>
            <a:chOff x="611280" y="1557360"/>
            <a:chExt cx="7920000" cy="1366920"/>
          </a:xfrm>
        </p:grpSpPr>
        <p:sp>
          <p:nvSpPr>
            <p:cNvPr id="389" name="Text Box 4"/>
            <p:cNvSpPr/>
            <p:nvPr/>
          </p:nvSpPr>
          <p:spPr>
            <a:xfrm>
              <a:off x="611280" y="1557360"/>
              <a:ext cx="7920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1.</a:t>
              </a:r>
              <a:r>
                <a:rPr b="1" lang="zh-CN" sz="3200" spc="-1" strike="noStrike">
                  <a:solidFill>
                    <a:srgbClr val="000066"/>
                  </a:solidFill>
                  <a:latin typeface="Arial"/>
                </a:rPr>
                <a:t>如果珠穆朗玛峰高出海平面</a:t>
              </a: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8848.13</a:t>
              </a:r>
              <a:r>
                <a:rPr b="1" lang="zh-CN" sz="3200" spc="-1" strike="noStrike">
                  <a:solidFill>
                    <a:srgbClr val="000066"/>
                  </a:solidFill>
                  <a:latin typeface="Arial"/>
                </a:rPr>
                <a:t>米记为＋</a:t>
              </a: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8848.13</a:t>
              </a:r>
              <a:r>
                <a:rPr b="1" lang="zh-CN" sz="3200" spc="-1" strike="noStrike">
                  <a:solidFill>
                    <a:srgbClr val="000066"/>
                  </a:solidFill>
                  <a:latin typeface="Arial"/>
                </a:rPr>
                <a:t>，那么吐鲁番盆地低于海平面</a:t>
              </a: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155</a:t>
              </a:r>
              <a:r>
                <a:rPr b="1" lang="zh-CN" sz="3200" spc="-1" strike="noStrike">
                  <a:solidFill>
                    <a:srgbClr val="000066"/>
                  </a:solidFill>
                  <a:latin typeface="Arial"/>
                </a:rPr>
                <a:t>米记为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5"/>
            <p:cNvSpPr/>
            <p:nvPr/>
          </p:nvSpPr>
          <p:spPr>
            <a:xfrm>
              <a:off x="3132000" y="292428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6"/>
          <p:cNvGrpSpPr/>
          <p:nvPr/>
        </p:nvGrpSpPr>
        <p:grpSpPr>
          <a:xfrm>
            <a:off x="611280" y="3213000"/>
            <a:ext cx="8208720" cy="1008000"/>
            <a:chOff x="611280" y="3213000"/>
            <a:chExt cx="8208720" cy="1008000"/>
          </a:xfrm>
        </p:grpSpPr>
        <p:sp>
          <p:nvSpPr>
            <p:cNvPr id="392" name="Text Box 7"/>
            <p:cNvSpPr/>
            <p:nvPr/>
          </p:nvSpPr>
          <p:spPr>
            <a:xfrm>
              <a:off x="611280" y="3213000"/>
              <a:ext cx="820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Arial"/>
                </a:rPr>
                <a:t>2.</a:t>
              </a: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如果</a:t>
              </a:r>
              <a:r>
                <a:rPr b="1" lang="en-US" sz="3600" spc="-1" strike="noStrike">
                  <a:solidFill>
                    <a:srgbClr val="000066"/>
                  </a:solidFill>
                  <a:latin typeface="Arial"/>
                </a:rPr>
                <a:t>—</a:t>
              </a:r>
              <a:r>
                <a:rPr b="1" lang="en-US" sz="3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表示水库水位下降了</a:t>
              </a:r>
              <a:r>
                <a:rPr b="1" lang="en-US" sz="3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米，则＋</a:t>
              </a:r>
              <a:r>
                <a:rPr b="1" lang="en-US" sz="3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米表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8"/>
            <p:cNvSpPr/>
            <p:nvPr/>
          </p:nvSpPr>
          <p:spPr>
            <a:xfrm>
              <a:off x="2556000" y="4221000"/>
              <a:ext cx="26636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9"/>
          <p:cNvGrpSpPr/>
          <p:nvPr/>
        </p:nvGrpSpPr>
        <p:grpSpPr>
          <a:xfrm>
            <a:off x="539640" y="4508640"/>
            <a:ext cx="8604360" cy="1477080"/>
            <a:chOff x="539640" y="4508640"/>
            <a:chExt cx="8604360" cy="1477080"/>
          </a:xfrm>
        </p:grpSpPr>
        <p:sp>
          <p:nvSpPr>
            <p:cNvPr id="395" name="Text Box 10"/>
            <p:cNvSpPr/>
            <p:nvPr/>
          </p:nvSpPr>
          <p:spPr>
            <a:xfrm>
              <a:off x="539640" y="4508640"/>
              <a:ext cx="860436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Arial"/>
                </a:rPr>
                <a:t>3.</a:t>
              </a: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下列几个数中，正数有         个  ， 负数有        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1" lang="en-US" sz="3600" spc="-1" strike="noStrike">
                  <a:solidFill>
                    <a:srgbClr val="000066"/>
                  </a:solidFill>
                  <a:latin typeface="Arial"/>
                </a:rPr>
                <a:t>1     0    —1.5    </a:t>
              </a: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＋</a:t>
              </a:r>
              <a:r>
                <a:rPr b="1" lang="en-US" sz="3600" spc="-1" strike="noStrike">
                  <a:solidFill>
                    <a:srgbClr val="000066"/>
                  </a:solidFill>
                  <a:latin typeface="Arial"/>
                </a:rPr>
                <a:t>2.4     —6     +317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1"/>
            <p:cNvSpPr/>
            <p:nvPr/>
          </p:nvSpPr>
          <p:spPr>
            <a:xfrm>
              <a:off x="5940360" y="501336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2"/>
            <p:cNvSpPr/>
            <p:nvPr/>
          </p:nvSpPr>
          <p:spPr>
            <a:xfrm>
              <a:off x="1476360" y="551664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3"/>
          <p:cNvSpPr/>
          <p:nvPr/>
        </p:nvSpPr>
        <p:spPr>
          <a:xfrm>
            <a:off x="3132000" y="2421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5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2700360" y="3716280"/>
            <a:ext cx="33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水库水位上升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5"/>
          <p:cNvSpPr/>
          <p:nvPr/>
        </p:nvSpPr>
        <p:spPr>
          <a:xfrm>
            <a:off x="6084720" y="4437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6"/>
          <p:cNvSpPr/>
          <p:nvPr/>
        </p:nvSpPr>
        <p:spPr>
          <a:xfrm>
            <a:off x="1619280" y="4941720"/>
            <a:ext cx="8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1582560" y="33336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一种零件的内径尺寸在图纸上是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9±0.5mm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这里的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±0.5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代表什么意思，合格产品的内径范围是多少？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1835280" y="3213000"/>
            <a:ext cx="59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答：＋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0.5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表示比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多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0.5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2771640" y="4149720"/>
            <a:ext cx="59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—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0.5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表示比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少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0.5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900000" y="5157720"/>
            <a:ext cx="92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合格产品的内径范围是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8.5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～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9.5mm</a:t>
            </a:r>
            <a:r>
              <a:rPr b="0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WordArt 6"/>
          <p:cNvSpPr txBox="1"/>
          <p:nvPr/>
        </p:nvSpPr>
        <p:spPr>
          <a:xfrm>
            <a:off x="324000" y="260280"/>
            <a:ext cx="1726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99cc"/>
                    </a:gs>
                  </a:gsLst>
                  <a:lin ang="5400000"/>
                </a:gradFill>
                <a:latin typeface="宋体"/>
              </a:rPr>
              <a:t>练习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99c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WordArt 2"/>
          <p:cNvSpPr txBox="1"/>
          <p:nvPr/>
        </p:nvSpPr>
        <p:spPr>
          <a:xfrm>
            <a:off x="324000" y="260280"/>
            <a:ext cx="2087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99cc"/>
                    </a:gs>
                  </a:gsLst>
                  <a:lin ang="5400000"/>
                </a:gradFill>
                <a:latin typeface="宋体"/>
              </a:rPr>
              <a:t>练习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99c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611280" y="1557360"/>
            <a:ext cx="8208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老师在统计某次数学成绩时，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85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分及以上成绩为优秀，比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85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分多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分记为＋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，比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85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分少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分记为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—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）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95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分，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78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分各记作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）＋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4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—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各代表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395280" y="126828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某日，早晨的气温是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40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，到中午气温上升了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7</a:t>
            </a:r>
            <a:r>
              <a:rPr b="1" lang="en-US" sz="40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，到晚上气温又下降了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en-US" sz="40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，则这天晚上的气温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611280" y="3645000"/>
            <a:ext cx="70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答：这天晚上的气温是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—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40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WordArt 4"/>
          <p:cNvSpPr txBox="1"/>
          <p:nvPr/>
        </p:nvSpPr>
        <p:spPr>
          <a:xfrm>
            <a:off x="395280" y="333360"/>
            <a:ext cx="1944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99cc"/>
                    </a:gs>
                  </a:gsLst>
                  <a:lin ang="5400000"/>
                </a:gradFill>
                <a:latin typeface="宋体"/>
              </a:rPr>
              <a:t>练习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99c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25"/>
          <p:cNvPicPr/>
          <p:nvPr/>
        </p:nvPicPr>
        <p:blipFill>
          <a:blip r:embed="rId2"/>
          <a:stretch/>
        </p:blipFill>
        <p:spPr>
          <a:xfrm>
            <a:off x="324000" y="189000"/>
            <a:ext cx="5184720" cy="410184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4"/>
          <p:cNvSpPr/>
          <p:nvPr/>
        </p:nvSpPr>
        <p:spPr>
          <a:xfrm>
            <a:off x="5994000" y="837360"/>
            <a:ext cx="2256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中学对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男生进行了引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向上的测试，以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为标准，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的次数用正数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示，不足的次数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负数表示，其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男生的成绩如下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835280" y="4653000"/>
          <a:ext cx="5113080" cy="936720"/>
        </p:xfrm>
        <a:graphic>
          <a:graphicData uri="http://schemas.openxmlformats.org/drawingml/2006/table">
            <a:tbl>
              <a:tblPr/>
              <a:tblGrid>
                <a:gridCol w="1017360"/>
                <a:gridCol w="1030320"/>
                <a:gridCol w="1017720"/>
                <a:gridCol w="1019160"/>
                <a:gridCol w="1028520"/>
              </a:tblGrid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684360" y="549360"/>
            <a:ext cx="77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读出下面城市的温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北京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-5℃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五台山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-16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杭州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℃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上海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2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石家庄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-2℃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南京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1403280" y="3789360"/>
            <a:ext cx="6553440" cy="1584360"/>
          </a:xfrm>
          <a:prstGeom prst="cloudCallout">
            <a:avLst>
              <a:gd name="adj1" fmla="val 59518"/>
              <a:gd name="adj2" fmla="val 34069"/>
            </a:avLst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将城市的气温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高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低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排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23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3"/>
          <p:cNvSpPr/>
          <p:nvPr/>
        </p:nvSpPr>
        <p:spPr>
          <a:xfrm>
            <a:off x="1884600" y="4003200"/>
            <a:ext cx="552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国成功发射的神舟七号飞船在太空中向阳面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温度为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上，而背阳面却低于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-100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但通过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和控制，太空舱内的温度始终保持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非常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宜宇航员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24"/>
          <p:cNvPicPr/>
          <p:nvPr/>
        </p:nvPicPr>
        <p:blipFill>
          <a:blip r:embed="rId2"/>
          <a:stretch/>
        </p:blipFill>
        <p:spPr>
          <a:xfrm>
            <a:off x="2484360" y="1916280"/>
            <a:ext cx="1222560" cy="1800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25"/>
          <p:cNvPicPr/>
          <p:nvPr/>
        </p:nvPicPr>
        <p:blipFill>
          <a:blip r:embed="rId3"/>
          <a:stretch/>
        </p:blipFill>
        <p:spPr>
          <a:xfrm>
            <a:off x="4572000" y="2276640"/>
            <a:ext cx="13334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AutoShape 7"/>
          <p:cNvSpPr/>
          <p:nvPr/>
        </p:nvSpPr>
        <p:spPr>
          <a:xfrm>
            <a:off x="1763640" y="1197000"/>
            <a:ext cx="7129440" cy="2773440"/>
          </a:xfrm>
          <a:prstGeom prst="cloudCallout">
            <a:avLst>
              <a:gd name="adj1" fmla="val -65097"/>
              <a:gd name="adj2" fmla="val 80624"/>
            </a:avLst>
          </a:prstGeom>
          <a:solidFill>
            <a:srgbClr val="ffffff">
              <a:alpha val="63000"/>
            </a:srgbClr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彩云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彩云"/>
              </a:rPr>
              <a:t>通过这节课的学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彩云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彩云"/>
              </a:rPr>
              <a:t>你有什么收获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WordArt 6"/>
          <p:cNvSpPr txBox="1"/>
          <p:nvPr/>
        </p:nvSpPr>
        <p:spPr>
          <a:xfrm>
            <a:off x="2411280" y="2781360"/>
            <a:ext cx="378144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正负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395280" y="62064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北师大版四年级数学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热身游戏：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600" spc="-1" strike="noStrike">
                <a:solidFill>
                  <a:srgbClr val="0000cc"/>
                </a:solidFill>
                <a:latin typeface="Arial"/>
              </a:rPr>
              <a:t>老师说一些信息，快速记下来，看看谁写的更能让人看懂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WordArt 4"/>
          <p:cNvSpPr txBox="1"/>
          <p:nvPr/>
        </p:nvSpPr>
        <p:spPr>
          <a:xfrm>
            <a:off x="1042920" y="907920"/>
            <a:ext cx="216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听一听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539640" y="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问题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324000" y="2924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问题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2411280" y="0"/>
            <a:ext cx="61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2009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月某天，东营的最低温度为零下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最高温度为零上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340000" y="299736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2008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年，小明家庭总收入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9.5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万元，总支出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4.8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万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755640" y="1916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零上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零下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5364000" y="1916280"/>
            <a:ext cx="3456000" cy="825120"/>
            <a:chOff x="5364000" y="1916280"/>
            <a:chExt cx="3456000" cy="825120"/>
          </a:xfrm>
        </p:grpSpPr>
        <p:sp>
          <p:nvSpPr>
            <p:cNvPr id="324" name="Text Box 8"/>
            <p:cNvSpPr/>
            <p:nvPr/>
          </p:nvSpPr>
          <p:spPr>
            <a:xfrm>
              <a:off x="5364000" y="1916280"/>
              <a:ext cx="345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3        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9"/>
            <p:cNvSpPr/>
            <p:nvPr/>
          </p:nvSpPr>
          <p:spPr>
            <a:xfrm>
              <a:off x="7307280" y="241956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 Box 10"/>
          <p:cNvSpPr/>
          <p:nvPr/>
        </p:nvSpPr>
        <p:spPr>
          <a:xfrm>
            <a:off x="684360" y="42210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收入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9.5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万   支出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4.8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1"/>
          <p:cNvGrpSpPr/>
          <p:nvPr/>
        </p:nvGrpSpPr>
        <p:grpSpPr>
          <a:xfrm>
            <a:off x="5433840" y="4149720"/>
            <a:ext cx="3710160" cy="825120"/>
            <a:chOff x="5433840" y="4149720"/>
            <a:chExt cx="3710160" cy="825120"/>
          </a:xfrm>
        </p:grpSpPr>
        <p:sp>
          <p:nvSpPr>
            <p:cNvPr id="328" name="Text Box 12"/>
            <p:cNvSpPr/>
            <p:nvPr/>
          </p:nvSpPr>
          <p:spPr>
            <a:xfrm>
              <a:off x="5433840" y="4149720"/>
              <a:ext cx="3710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.5       4.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3"/>
            <p:cNvSpPr/>
            <p:nvPr/>
          </p:nvSpPr>
          <p:spPr>
            <a:xfrm>
              <a:off x="7594560" y="4545000"/>
              <a:ext cx="36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250920" y="333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问题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1763640" y="105264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王校长开车外出办事，昨天从校门口向东行驶了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千米，今天向西行驶了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千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2050920" y="4076640"/>
            <a:ext cx="3168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向东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千米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向西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千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5"/>
          <p:cNvGrpSpPr/>
          <p:nvPr/>
        </p:nvGrpSpPr>
        <p:grpSpPr>
          <a:xfrm>
            <a:off x="5688000" y="4076640"/>
            <a:ext cx="1620720" cy="1937160"/>
            <a:chOff x="5688000" y="4076640"/>
            <a:chExt cx="1620720" cy="1937160"/>
          </a:xfrm>
        </p:grpSpPr>
        <p:sp>
          <p:nvSpPr>
            <p:cNvPr id="334" name="Text Box 6"/>
            <p:cNvSpPr/>
            <p:nvPr/>
          </p:nvSpPr>
          <p:spPr>
            <a:xfrm>
              <a:off x="5688000" y="4076640"/>
              <a:ext cx="1620720" cy="19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5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7"/>
            <p:cNvSpPr/>
            <p:nvPr/>
          </p:nvSpPr>
          <p:spPr>
            <a:xfrm>
              <a:off x="5796000" y="558972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996600"/>
                </a:solidFill>
                <a:latin typeface="Garamond"/>
                <a:ea typeface="华文新魏"/>
              </a:rPr>
              <a:t>读一读、分一分</a:t>
            </a:r>
            <a:endParaRPr b="0" lang="en-US" sz="5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　　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　　 　－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1286640" y="2924280"/>
            <a:ext cx="58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1297800" y="4199040"/>
            <a:ext cx="60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  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 　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2124000" y="537372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可以分几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图片1"/>
          <p:cNvPicPr/>
          <p:nvPr/>
        </p:nvPicPr>
        <p:blipFill>
          <a:blip r:embed="rId1"/>
          <a:stretch/>
        </p:blipFill>
        <p:spPr>
          <a:xfrm>
            <a:off x="7308720" y="4149720"/>
            <a:ext cx="140364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图片5"/>
          <p:cNvPicPr/>
          <p:nvPr/>
        </p:nvPicPr>
        <p:blipFill>
          <a:blip r:embed="rId2"/>
          <a:stretch/>
        </p:blipFill>
        <p:spPr>
          <a:xfrm>
            <a:off x="0" y="3954600"/>
            <a:ext cx="154764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3"/>
          <p:cNvGrpSpPr/>
          <p:nvPr/>
        </p:nvGrpSpPr>
        <p:grpSpPr>
          <a:xfrm>
            <a:off x="395280" y="3357720"/>
            <a:ext cx="6553080" cy="1223640"/>
            <a:chOff x="395280" y="3357720"/>
            <a:chExt cx="6553080" cy="1223640"/>
          </a:xfrm>
        </p:grpSpPr>
        <p:sp>
          <p:nvSpPr>
            <p:cNvPr id="344" name="AutoShape 4"/>
            <p:cNvSpPr/>
            <p:nvPr/>
          </p:nvSpPr>
          <p:spPr>
            <a:xfrm>
              <a:off x="395280" y="3357720"/>
              <a:ext cx="6553080" cy="1223640"/>
            </a:xfrm>
            <a:prstGeom prst="cloudCallout">
              <a:avLst>
                <a:gd name="adj1" fmla="val 55254"/>
                <a:gd name="adj2" fmla="val -52592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5"/>
            <p:cNvSpPr/>
            <p:nvPr/>
          </p:nvSpPr>
          <p:spPr>
            <a:xfrm>
              <a:off x="1728000" y="3517560"/>
              <a:ext cx="3652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0066"/>
                  </a:solidFill>
                  <a:latin typeface="华文新魏"/>
                  <a:ea typeface="华文新魏"/>
                </a:rPr>
                <a:t>0</a:t>
              </a:r>
              <a:r>
                <a:rPr b="1" lang="zh-CN" sz="4400" spc="-1" strike="noStrike">
                  <a:solidFill>
                    <a:srgbClr val="660066"/>
                  </a:solidFill>
                  <a:latin typeface="华文新魏"/>
                  <a:ea typeface="华文新魏"/>
                </a:rPr>
                <a:t>是正数还是负数呢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 Box 6"/>
          <p:cNvSpPr/>
          <p:nvPr/>
        </p:nvSpPr>
        <p:spPr>
          <a:xfrm>
            <a:off x="539640" y="1268280"/>
            <a:ext cx="77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既不是正数，也不是负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3"/>
          <p:cNvSpPr/>
          <p:nvPr/>
        </p:nvSpPr>
        <p:spPr>
          <a:xfrm>
            <a:off x="1476360" y="404640"/>
            <a:ext cx="575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下降       上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减少       增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亏         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支出       收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4"/>
          <p:cNvGrpSpPr/>
          <p:nvPr/>
        </p:nvGrpSpPr>
        <p:grpSpPr>
          <a:xfrm>
            <a:off x="468360" y="3645000"/>
            <a:ext cx="6553080" cy="2520000"/>
            <a:chOff x="468360" y="3645000"/>
            <a:chExt cx="6553080" cy="2520000"/>
          </a:xfrm>
        </p:grpSpPr>
        <p:sp>
          <p:nvSpPr>
            <p:cNvPr id="350" name="AutoShape 5"/>
            <p:cNvSpPr/>
            <p:nvPr/>
          </p:nvSpPr>
          <p:spPr>
            <a:xfrm>
              <a:off x="468360" y="3645000"/>
              <a:ext cx="6553080" cy="2520000"/>
            </a:xfrm>
            <a:prstGeom prst="cloudCallout">
              <a:avLst>
                <a:gd name="adj1" fmla="val 55254"/>
                <a:gd name="adj2" fmla="val -52592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6"/>
            <p:cNvSpPr/>
            <p:nvPr/>
          </p:nvSpPr>
          <p:spPr>
            <a:xfrm>
              <a:off x="900000" y="4088880"/>
              <a:ext cx="599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66"/>
                  </a:solidFill>
                  <a:latin typeface="Arial"/>
                </a:rPr>
                <a:t>生活中有哪些量可以用正负数表示呢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8:25:35Z</dcterms:created>
  <dc:creator/>
  <dc:description/>
  <cp:keywords/>
  <dc:language>en-US</dc:language>
  <cp:lastModifiedBy>Administrator</cp:lastModifiedBy>
  <dcterms:modified xsi:type="dcterms:W3CDTF">2015-03-01T22:48:49Z</dcterms:modified>
  <cp:revision>60</cp:revision>
  <dc:subject/>
  <dc:title>幻灯片 1</dc:title>
</cp:coreProperties>
</file>