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type.wav" ContentType="audio/x-wav"/>
  <Override PartName="/ppt/media/image22.png" ContentType="image/png"/>
  <Override PartName="/ppt/media/camera.wav" ContentType="audio/x-wav"/>
  <Override PartName="/ppt/media/click.wav" ContentType="audio/x-wav"/>
  <Override PartName="/ppt/media/image17.png" ContentType="image/png"/>
  <Override PartName="/ppt/media/image32.jpeg" ContentType="image/jpeg"/>
  <Override PartName="/ppt/media/image40.png" ContentType="image/png"/>
  <Override PartName="/ppt/media/image9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1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4.wmf" ContentType="image/x-wmf"/>
  <Override PartName="/ppt/media/image14.png" ContentType="image/png"/>
  <Override PartName="/ppt/media/image39.gif" ContentType="image/gif"/>
  <Override PartName="/ppt/media/chimes.wav" ContentType="audio/x-wav"/>
  <Override PartName="/ppt/media/image29.png" ContentType="image/png"/>
  <Override PartName="/ppt/media/image31.jpeg" ContentType="image/jpeg"/>
  <Override PartName="/ppt/media/image41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402-D002-4FEB-9F48-626AAF92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0FB-029A-43BE-8973-11E92C22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E95-8C46-45A1-837E-F097B955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346-11DE-4F98-9F3C-CFCB3FAD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FA35-BCD2-48FE-B722-7E4A6CC3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223C-1E38-4F55-A967-7ABAA788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98A2-D0D5-4872-9052-28E16C26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6CDA-CD6D-451D-9150-F78E1FA3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91E1-F6D5-450F-9E94-4395992E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B0D0-46C7-4F2D-850F-0A973E59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4A1E-362E-491A-9A59-9D47FD28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48C-0388-4F77-9171-5B433114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CD39-4222-4A13-8BD5-A3E55B34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67E5-C36C-44E6-8CC3-824A48D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F6F4-6FB7-421F-855E-CC9D2C11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3A59-8AF5-45CD-A431-C5BA7045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7E65-1C6A-4119-82CC-97FA9D1E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9F2-08B3-4A44-AAD3-F3DF89D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972-B3C8-4876-864F-845BB89E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A76-34B6-4EAC-89A9-6E102F95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F94-97F7-4E22-BC95-043E3C06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EEB-0F8D-4F51-9796-92CE06E9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DFD-18DD-438F-8CD6-FD53A836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DFA-3198-4FC8-86FC-20BECC0E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1175-66B9-4D10-9A3D-FB7B29731DB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ED59-C2F5-4893-A06C-C5BF20831BF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a.com.cn/securityclub/score/gift.asp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hyperlink" Target="http://www.yysww.cn/txadmin/xinwen/wenzhang/162613-1.html" TargetMode="Externa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file:///tmp/home/.config/libreoffice/4/user/gallery/&#25353;&#38190;&#22768;.wav" TargetMode="External"/><Relationship Id="rId4" Type="http://schemas.microsoft.com/office/2007/relationships/media" Target="file:///tmp/home/.config/libreoffice/4/user/gallery/&#25353;&#38190;&#22768;.wav" TargetMode="External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audio" Target="file:///tmp/home/.config/libreoffice/4/user/gallery/&#38083;&#22768;.wav" TargetMode="External"/><Relationship Id="rId5" Type="http://schemas.microsoft.com/office/2007/relationships/media" Target="file:///tmp/home/.config/libreoffice/4/user/gallery/&#38083;&#22768;.wav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914040"/>
            <a:ext cx="4648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Arial"/>
              </a:rPr>
              <a:t>第二单元 角</a:t>
            </a:r>
            <a:br>
              <a:rPr sz="6000"/>
            </a:b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24280" y="2895480"/>
            <a:ext cx="2590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线与角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182400" y="549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同桌交流，理解后完成下表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447920"/>
          <a:ext cx="8991360" cy="4216320"/>
        </p:xfrm>
        <a:graphic>
          <a:graphicData uri="http://schemas.openxmlformats.org/drawingml/2006/table">
            <a:tbl>
              <a:tblPr/>
              <a:tblGrid>
                <a:gridCol w="1218960"/>
                <a:gridCol w="1143000"/>
                <a:gridCol w="2286000"/>
                <a:gridCol w="1600200"/>
                <a:gridCol w="2743200"/>
              </a:tblGrid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图形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名称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共同点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同点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  B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 B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B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304920" y="2819520"/>
            <a:ext cx="609120" cy="75960"/>
            <a:chOff x="304920" y="2819520"/>
            <a:chExt cx="609120" cy="75960"/>
          </a:xfrm>
        </p:grpSpPr>
        <p:sp>
          <p:nvSpPr>
            <p:cNvPr id="161" name=""/>
            <p:cNvSpPr/>
            <p:nvPr/>
          </p:nvSpPr>
          <p:spPr>
            <a:xfrm flipV="1" rot="10800000">
              <a:off x="901080" y="2819160"/>
              <a:ext cx="12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10800000">
              <a:off x="304920" y="2819160"/>
              <a:ext cx="12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17880" y="2895480"/>
              <a:ext cx="5832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20" y="3962520"/>
            <a:ext cx="838080" cy="75960"/>
            <a:chOff x="304920" y="3962520"/>
            <a:chExt cx="838080" cy="75960"/>
          </a:xfrm>
        </p:grpSpPr>
        <p:sp>
          <p:nvSpPr>
            <p:cNvPr id="165" name=""/>
            <p:cNvSpPr/>
            <p:nvPr/>
          </p:nvSpPr>
          <p:spPr>
            <a:xfrm>
              <a:off x="304920" y="3962520"/>
              <a:ext cx="111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4680" y="3962520"/>
              <a:ext cx="111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6080" y="4038480"/>
              <a:ext cx="487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4680" y="4038480"/>
              <a:ext cx="3283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8600" y="5029200"/>
            <a:ext cx="914040" cy="76320"/>
            <a:chOff x="228600" y="5029200"/>
            <a:chExt cx="914040" cy="76320"/>
          </a:xfrm>
        </p:grpSpPr>
        <p:sp>
          <p:nvSpPr>
            <p:cNvPr id="170" name=""/>
            <p:cNvSpPr/>
            <p:nvPr/>
          </p:nvSpPr>
          <p:spPr>
            <a:xfrm>
              <a:off x="522000" y="5029200"/>
              <a:ext cx="111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080" y="5029200"/>
              <a:ext cx="111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160" y="5105520"/>
              <a:ext cx="3045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5105520"/>
              <a:ext cx="3045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5105520"/>
              <a:ext cx="3045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460880" y="2514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线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60880" y="3605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射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60880" y="4672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直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01760" y="2570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2819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都是直的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线段、射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还可以看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直线的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部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3623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1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线段有两个端点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2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线段不能向两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无限延伸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429000"/>
            <a:ext cx="299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1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射线有一个端点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2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射线可以向一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无限延伸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1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直线没有端点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2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直线可以向两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无限延伸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447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线段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黑体"/>
              </a:rPr>
              <a:t>AB(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或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黑体"/>
              </a:rPr>
              <a:t>BA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射线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4724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直线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（或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黑体"/>
              </a:rPr>
              <a:t>BA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16002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画直线，要求所画的直线都要经过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。看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秒钟内谁画得多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45720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隶书"/>
              </a:rPr>
              <a:t>比一比，看谁画得多？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666880" y="3809880"/>
            <a:ext cx="3353040" cy="15264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2971800"/>
            <a:ext cx="2971800" cy="160020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2514600"/>
            <a:ext cx="990720" cy="289548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657600" y="2666880"/>
            <a:ext cx="1447920" cy="304812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96800" y="5638680"/>
            <a:ext cx="275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过一点，能画出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无数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直线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3809880"/>
            <a:ext cx="381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9480" y="1828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纸上画出两个点并标上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D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要求所画的直线必须通过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和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45720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隶书"/>
              </a:rPr>
              <a:t>同学们，再来比一比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581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2400" y="4572000"/>
            <a:ext cx="442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过两点，只能画出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一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直线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657600"/>
            <a:ext cx="3429000" cy="7632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9200" y="2895480"/>
            <a:ext cx="332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C               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343400" y="6316560"/>
            <a:ext cx="1981080" cy="533520"/>
          </a:xfrm>
          <a:custGeom>
            <a:avLst/>
            <a:gdLst>
              <a:gd name="textAreaLeft" fmla="*/ 34560 w 1981080"/>
              <a:gd name="textAreaRight" fmla="*/ 1946520 w 1981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66" h="21600">
                <a:moveTo>
                  <a:pt x="0" y="0"/>
                </a:moveTo>
                <a:lnTo>
                  <a:pt x="80166" y="0"/>
                </a:lnTo>
                <a:lnTo>
                  <a:pt x="80166" y="21600"/>
                </a:lnTo>
                <a:lnTo>
                  <a:pt x="0" y="21600"/>
                </a:lnTo>
                <a:close/>
              </a:path>
              <a:path fill="lightenLess" w="80166" h="21600">
                <a:moveTo>
                  <a:pt x="0" y="0"/>
                </a:moveTo>
                <a:lnTo>
                  <a:pt x="80166" y="0"/>
                </a:lnTo>
                <a:lnTo>
                  <a:pt x="78766" y="1400"/>
                </a:lnTo>
                <a:lnTo>
                  <a:pt x="1400" y="1400"/>
                </a:lnTo>
                <a:close/>
              </a:path>
              <a:path fill="darken" w="80166" h="21600">
                <a:moveTo>
                  <a:pt x="80166" y="0"/>
                </a:moveTo>
                <a:lnTo>
                  <a:pt x="80166" y="21600"/>
                </a:lnTo>
                <a:lnTo>
                  <a:pt x="78766" y="20200"/>
                </a:lnTo>
                <a:lnTo>
                  <a:pt x="78766" y="1400"/>
                </a:lnTo>
                <a:close/>
              </a:path>
              <a:path fill="darkenLess" w="80166" h="21600">
                <a:moveTo>
                  <a:pt x="80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66" y="20200"/>
                </a:lnTo>
                <a:close/>
              </a:path>
              <a:path fill="lighten" w="80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66" h="21600">
                <a:moveTo>
                  <a:pt x="33077" y="10800"/>
                </a:moveTo>
                <a:lnTo>
                  <a:pt x="47090" y="3794"/>
                </a:lnTo>
                <a:lnTo>
                  <a:pt x="47090" y="17806"/>
                </a:lnTo>
                <a:close/>
              </a:path>
            </a:pathLst>
          </a:cu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324480" y="6316560"/>
            <a:ext cx="1981440" cy="533520"/>
          </a:xfrm>
          <a:custGeom>
            <a:avLst/>
            <a:gdLst>
              <a:gd name="textAreaLeft" fmla="*/ 34560 w 1981440"/>
              <a:gd name="textAreaRight" fmla="*/ 1946880 w 1981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81" h="21600">
                <a:moveTo>
                  <a:pt x="0" y="0"/>
                </a:moveTo>
                <a:lnTo>
                  <a:pt x="80181" y="0"/>
                </a:lnTo>
                <a:lnTo>
                  <a:pt x="80181" y="21600"/>
                </a:lnTo>
                <a:lnTo>
                  <a:pt x="0" y="21600"/>
                </a:lnTo>
                <a:close/>
              </a:path>
              <a:path fill="lightenLess" w="80181" h="21600">
                <a:moveTo>
                  <a:pt x="0" y="0"/>
                </a:moveTo>
                <a:lnTo>
                  <a:pt x="80181" y="0"/>
                </a:lnTo>
                <a:lnTo>
                  <a:pt x="78781" y="1400"/>
                </a:lnTo>
                <a:lnTo>
                  <a:pt x="1400" y="1400"/>
                </a:lnTo>
                <a:close/>
              </a:path>
              <a:path fill="darken" w="80181" h="21600">
                <a:moveTo>
                  <a:pt x="80181" y="0"/>
                </a:moveTo>
                <a:lnTo>
                  <a:pt x="80181" y="21600"/>
                </a:lnTo>
                <a:lnTo>
                  <a:pt x="78781" y="20200"/>
                </a:lnTo>
                <a:lnTo>
                  <a:pt x="78781" y="1400"/>
                </a:lnTo>
                <a:close/>
              </a:path>
              <a:path fill="darkenLess" w="80181" h="21600">
                <a:moveTo>
                  <a:pt x="8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1" y="20200"/>
                </a:lnTo>
                <a:close/>
              </a:path>
              <a:path fill="lighten" w="8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1" h="21600">
                <a:moveTo>
                  <a:pt x="33084" y="3794"/>
                </a:moveTo>
                <a:lnTo>
                  <a:pt x="47097" y="10800"/>
                </a:lnTo>
                <a:lnTo>
                  <a:pt x="33084" y="17806"/>
                </a:lnTo>
                <a:close/>
              </a:path>
            </a:pathLst>
          </a:cu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4284720" cy="2930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59600" y="4437000"/>
            <a:ext cx="32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两点之间</a:t>
            </a:r>
            <a:r>
              <a:rPr b="1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线段最短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0920" y="2565360"/>
            <a:ext cx="403380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18160" y="11253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65800" y="1989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97440" y="227664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13520" y="3200400"/>
            <a:ext cx="5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5157720"/>
            <a:ext cx="576108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14760" y="3321000"/>
                <a:ext cx="1191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195640" y="4221000"/>
            <a:ext cx="1960560" cy="1960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2714400" cy="3998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700360" y="836640"/>
            <a:ext cx="6240600" cy="2111400"/>
          </a:xfrm>
          <a:prstGeom prst="cloudCallout">
            <a:avLst>
              <a:gd name="adj1" fmla="val -34967"/>
              <a:gd name="adj2" fmla="val 132027"/>
            </a:avLst>
          </a:prstGeom>
          <a:solidFill>
            <a:srgbClr val="33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同学们在我们的周围哪些地方有角，你能找出来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967120" y="1955880"/>
            <a:ext cx="1839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4920" y="4365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一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62640" y="817560"/>
            <a:ext cx="1200240" cy="1224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V="1">
            <a:off x="1692360" y="1239840"/>
            <a:ext cx="6195960" cy="4565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619280" y="5013360"/>
            <a:ext cx="649080" cy="1535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516720" y="501336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692280"/>
            <a:ext cx="1511280" cy="949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003640" y="1052640"/>
            <a:ext cx="2305080" cy="468144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27680" y="2727360"/>
            <a:ext cx="1481040" cy="307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143080" y="2693880"/>
            <a:ext cx="3705120" cy="2792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9176400">
            <a:off x="4785840" y="1730520"/>
            <a:ext cx="172872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50" y="61"/>
                </a:moveTo>
                <a:arcTo wR="10800" hR="10800" stAng="-5766881" swAng="5000025"/>
                <a:lnTo>
                  <a:pt x="10800" y="10800"/>
                </a:lnTo>
                <a:close/>
              </a:path>
              <a:path fill="none" w="21600" h="21600">
                <a:moveTo>
                  <a:pt x="9650" y="61"/>
                </a:moveTo>
                <a:arcTo wR="10800" hR="10800" stAng="-5766881" swAng="5000025"/>
              </a:path>
            </a:pathLst>
          </a:custGeom>
          <a:noFill/>
          <a:ln w="572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2349360"/>
            <a:ext cx="1297080" cy="792360"/>
          </a:xfrm>
          <a:prstGeom prst="wedgeEllipseCallout">
            <a:avLst>
              <a:gd name="adj1" fmla="val -111078"/>
              <a:gd name="adj2" fmla="val 60018"/>
            </a:avLst>
          </a:prstGeom>
          <a:solidFill>
            <a:srgbClr val="33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角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str">
                                      <p:cBhvr additive="repl">
                                        <p:cTn id="43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67840" y="411624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1268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数一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9080" y="19558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个算珠代表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2421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二个算珠代表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28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三个算珠代表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(    )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860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十个算珠代表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32720" y="-576360"/>
            <a:ext cx="183960" cy="57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56000" y="4941720"/>
            <a:ext cx="50328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93080" y="4149720"/>
            <a:ext cx="647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543320" cy="1726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718040" y="836640"/>
            <a:ext cx="729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舒体"/>
                <a:ea typeface="方正舒体"/>
              </a:rPr>
              <a:t>找一找这幅图上有角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52280" y="457200"/>
            <a:ext cx="7010640" cy="556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323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44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77840" y="620640"/>
            <a:ext cx="8783640" cy="5883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435640" y="4365720"/>
            <a:ext cx="331164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187280" y="1773000"/>
            <a:ext cx="367200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858920" y="2204640"/>
            <a:ext cx="1513080" cy="187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0006800">
            <a:off x="3738600" y="1381680"/>
            <a:ext cx="2016360" cy="17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14" y="1070"/>
                </a:moveTo>
                <a:arcTo wR="10800" hR="10800" stAng="-6943022" swAng="8417607"/>
                <a:lnTo>
                  <a:pt x="10800" y="10800"/>
                </a:lnTo>
                <a:close/>
              </a:path>
              <a:path fill="none" w="21600" h="21600">
                <a:moveTo>
                  <a:pt x="6114" y="1070"/>
                </a:moveTo>
                <a:arcTo wR="10800" hR="10800" stAng="-6943022" swAng="8417607"/>
              </a:path>
            </a:pathLst>
          </a:custGeom>
          <a:noFill/>
          <a:ln w="7632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1657080" cy="19130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11280" y="3573360"/>
            <a:ext cx="4105080" cy="1079640"/>
          </a:xfrm>
          <a:prstGeom prst="cloudCallout">
            <a:avLst>
              <a:gd name="adj1" fmla="val -13611"/>
              <a:gd name="adj2" fmla="val 122060"/>
            </a:avLst>
          </a:prstGeom>
          <a:solidFill>
            <a:srgbClr val="7d7da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这也是角哦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506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str">
                                      <p:cBhvr additive="repl">
                                        <p:cTn id="49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3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01600" y="620640"/>
            <a:ext cx="8566200" cy="5905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7488360" cy="5008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219640" y="907920"/>
            <a:ext cx="71640" cy="2521080"/>
          </a:xfrm>
          <a:prstGeom prst="rect">
            <a:avLst/>
          </a:prstGeom>
          <a:solidFill>
            <a:srgbClr val="eefba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79280" y="3933720"/>
            <a:ext cx="177192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826920" y="836640"/>
            <a:ext cx="7850160" cy="4753080"/>
            <a:chOff x="826920" y="836640"/>
            <a:chExt cx="7850160" cy="4753080"/>
          </a:xfrm>
        </p:grpSpPr>
        <p:sp>
          <p:nvSpPr>
            <p:cNvPr id="259" name=""/>
            <p:cNvSpPr/>
            <p:nvPr/>
          </p:nvSpPr>
          <p:spPr>
            <a:xfrm>
              <a:off x="5580000" y="3068640"/>
              <a:ext cx="3097080" cy="2521080"/>
            </a:xfrm>
            <a:prstGeom prst="star5">
              <a:avLst/>
            </a:prstGeom>
            <a:solidFill>
              <a:srgbClr val="f9fba3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6920" y="836640"/>
              <a:ext cx="3960720" cy="1584360"/>
            </a:xfrm>
            <a:prstGeom prst="cloudCallout">
              <a:avLst>
                <a:gd name="adj1" fmla="val -18819"/>
                <a:gd name="adj2" fmla="val 202402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方正舒体"/>
                  <a:ea typeface="方正舒体"/>
                </a:rPr>
                <a:t>五角星共有五个角。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5292720" y="907920"/>
            <a:ext cx="1150920" cy="76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51280" y="1052640"/>
            <a:ext cx="18432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987640" y="4653000"/>
            <a:ext cx="1419120" cy="2205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771640" y="404640"/>
            <a:ext cx="4969080" cy="3024360"/>
          </a:xfrm>
          <a:prstGeom prst="cloudCallout">
            <a:avLst>
              <a:gd name="adj1" fmla="val -22106"/>
              <a:gd name="adj2" fmla="val 88476"/>
            </a:avLst>
          </a:prstGeom>
          <a:solidFill>
            <a:srgbClr val="eefba3"/>
          </a:solidFill>
          <a:ln w="9360">
            <a:solidFill>
              <a:srgbClr val="f9f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讲了那么多到底什么叫做角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591400" cy="422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619280" y="2637000"/>
            <a:ext cx="4608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27640" y="2766960"/>
            <a:ext cx="5601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26668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隶书"/>
                <a:ea typeface="隶书"/>
              </a:rPr>
              <a:t>·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71800" y="3209760"/>
            <a:ext cx="30956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971800" y="762120"/>
            <a:ext cx="2374920" cy="24494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76880" y="2208240"/>
            <a:ext cx="1005840" cy="100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842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84281"/>
              </a:path>
            </a:pathLst>
          </a:cu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24960" y="907920"/>
            <a:ext cx="8506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方正舒体"/>
                <a:ea typeface="方正舒体"/>
              </a:rPr>
              <a:t>由一点引出的两条射线所组成的图形就叫</a:t>
            </a:r>
            <a:r>
              <a:rPr b="1" lang="zh-CN" sz="4400" spc="-1" strike="noStrike">
                <a:solidFill>
                  <a:srgbClr val="ff3300"/>
                </a:solidFill>
                <a:latin typeface="方正舒体"/>
                <a:ea typeface="方正舒体"/>
              </a:rPr>
              <a:t>角</a:t>
            </a:r>
            <a:r>
              <a:rPr b="1" lang="zh-CN" sz="4400" spc="-1" strike="noStrike">
                <a:solidFill>
                  <a:srgbClr val="3399ff"/>
                </a:solidFill>
                <a:latin typeface="方正舒体"/>
                <a:ea typeface="方正舒体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1368360" cy="171936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324000" y="692280"/>
            <a:ext cx="2016000" cy="1726560"/>
            <a:chOff x="324000" y="692280"/>
            <a:chExt cx="2016000" cy="172656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995400" y="1224360"/>
              <a:ext cx="745200" cy="11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 txBox="1"/>
            <p:nvPr/>
          </p:nvSpPr>
          <p:spPr>
            <a:xfrm>
              <a:off x="324000" y="692280"/>
              <a:ext cx="2016000" cy="136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ff6600"/>
                    </a:solidFill>
                    <a:miter/>
                  </a:ln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新授</a:t>
              </a:r>
              <a:endParaRPr b="0" lang="en-US" sz="1800" spc="-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  <a:ea typeface="隶书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90920" y="3962520"/>
            <a:ext cx="5029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方正舒体"/>
              </a:rPr>
              <a:t>角通常用符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“∠”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方正舒体"/>
              </a:rPr>
              <a:t>来表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方正舒体"/>
              </a:rPr>
              <a:t>上图的角记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“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1”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方正舒体"/>
              </a:rPr>
              <a:t>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“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1”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方正舒体"/>
              </a:rPr>
              <a:t>读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“角一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24280" y="21337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-33480" y="0"/>
          <a:ext cx="9141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3480" y="0"/>
                    <a:ext cx="9141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826920" y="765000"/>
            <a:ext cx="56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华文琥珀"/>
              </a:rPr>
              <a:t>角的各部分名称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48000" y="2349360"/>
            <a:ext cx="2519280" cy="1366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916000" y="3716280"/>
            <a:ext cx="2950920" cy="86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593600">
            <a:off x="3822840" y="2276280"/>
            <a:ext cx="15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（  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48720" y="3375000"/>
            <a:ext cx="22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（       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0622000">
            <a:off x="3935160" y="4184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（ 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732200">
            <a:off x="4413960" y="215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20289000">
            <a:off x="4334760" y="4049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89160" y="328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顶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762120" y="2209680"/>
            <a:ext cx="761976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这节课你学到了什么？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5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59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838080"/>
            <a:ext cx="4824360" cy="3629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00400" y="5257800"/>
            <a:ext cx="2611440" cy="19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4359240" cy="317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451320" y="5102280"/>
            <a:ext cx="7132680" cy="133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77920" y="5165640"/>
            <a:ext cx="2286000" cy="0"/>
          </a:xfrm>
          <a:prstGeom prst="line">
            <a:avLst/>
          </a:prstGeom>
          <a:ln w="38160">
            <a:solidFill>
              <a:srgbClr val="cce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209840" cy="311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5275440" cy="101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57600" y="5715000"/>
            <a:ext cx="2286000" cy="0"/>
          </a:xfrm>
          <a:prstGeom prst="line">
            <a:avLst/>
          </a:prstGeom>
          <a:ln w="38160">
            <a:solidFill>
              <a:srgbClr val="cce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52280" y="5638680"/>
            <a:ext cx="8785440" cy="154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57600" y="5715000"/>
            <a:ext cx="2286000" cy="0"/>
          </a:xfrm>
          <a:prstGeom prst="line">
            <a:avLst/>
          </a:prstGeom>
          <a:ln w="38160">
            <a:solidFill>
              <a:srgbClr val="cce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785440" cy="276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097000" y="2960640"/>
            <a:ext cx="190440" cy="56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73000" y="3619440"/>
            <a:ext cx="2352960" cy="2652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689360" y="2960640"/>
            <a:ext cx="190440" cy="5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3392640" y="3679920"/>
            <a:ext cx="2663640" cy="264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640640" y="3032280"/>
            <a:ext cx="190440" cy="56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200640" y="3679920"/>
            <a:ext cx="273708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45720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隶书"/>
              </a:rPr>
              <a:t>同学们，一起来画吧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楷体_GB2312"/>
              </a:rPr>
              <a:t>线段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438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438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514600"/>
            <a:ext cx="33526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1240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楷体_GB2312"/>
              </a:rPr>
              <a:t>射线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3581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3581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3657600"/>
            <a:ext cx="335304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3657600"/>
            <a:ext cx="2361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1148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楷体_GB2312"/>
              </a:rPr>
              <a:t>直线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5029200"/>
            <a:ext cx="20574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7520" y="5013360"/>
            <a:ext cx="3174840" cy="316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5029200"/>
            <a:ext cx="32763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5360" y="1600200"/>
            <a:ext cx="394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                   B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4120" y="2514600"/>
            <a:ext cx="31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线段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AB(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或线段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BA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7920" y="3657600"/>
            <a:ext cx="13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射线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7640" y="2971800"/>
            <a:ext cx="394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                   B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5880" y="426708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           B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5105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直线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（或直线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BA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78520" y="30492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           B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1371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直线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（或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BA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1219320"/>
            <a:ext cx="20574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1219320"/>
            <a:ext cx="38098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219320"/>
            <a:ext cx="35812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1219320"/>
            <a:ext cx="20574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219320"/>
            <a:ext cx="38098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1219320"/>
            <a:ext cx="20574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1197000"/>
            <a:ext cx="1998720" cy="223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2200" y="198108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           B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2895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射线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2200" y="365760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           B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线段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（或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BA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黑体"/>
              </a:rPr>
              <a:t>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5334120"/>
            <a:ext cx="6067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射线和线段都是直线的一部分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222 E">
                                      <p:cBhvr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222 E">
                                      <p:cBhvr>
                                        <p:cTn id="24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222 E">
                                      <p:cBhvr>
                                        <p:cTn id="24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222 E">
                                      <p:cBhvr>
                                        <p:cTn id="24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6666 E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6666 E">
                                      <p:cBhvr>
                                        <p:cTn id="26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6666 E">
                                      <p:cBhvr>
                                        <p:cTn id="26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357200" cy="1305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198900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838080" y="4952880"/>
            <a:ext cx="685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线段，射线，直线各有什么特点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09-22T12:48:1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