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EA3-5BF1-48C6-8E15-ABCD9B67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7F2-796A-472E-AF24-7EB91F3E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D06-AC68-4F5D-A618-3EFE1033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977-9108-46F4-AEC8-FE657FFE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63C1-F861-492C-950A-444EC96B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F2EF-EA7D-49BB-A8E4-E0AE4004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BDD3-DD5B-4016-82DA-8649144F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B876-A574-45F1-A27D-732B5796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7187-49E3-45A5-AD43-A33A274C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A52C-1E4C-42E9-BC01-71C0C8E9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FCEB-9C49-42D4-8435-42E5117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EF8-E4F1-48B7-8B6E-F7441145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11A4-F6EE-4E2C-A4C4-B344BDB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22FA-525A-43F8-B7A9-A5C7D48D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64EB-E184-40C5-A6B2-53D77581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A311-E198-442A-82D0-BABFE7A2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5BE2-11A0-4EE4-B21B-397AB9B7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DA6-684D-4C36-8753-4DAEC9D8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6C6-B9EF-4DC1-ACBD-664C2648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C59-2677-47E1-B414-4DB7BB2E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C21-EA73-4EE5-A674-EBDEB576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FE6-87A3-48F8-B79E-1F83AFA6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A24-F021-4E73-AED2-91AFAC9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1A9-E3A2-4A04-A7CB-4CEE7D8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4377-5795-4B61-8441-2442EC1D95F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7A8E-936E-42D7-8A03-34888F582F8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484360" y="2781360"/>
            <a:ext cx="453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认识毫升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141300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满杯牛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毫升，小青喝了一半，加满果汁后又全部喝完。她喝了多少牛奶？喝了多少果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40464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闯关练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2813040" y="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黑体"/>
              </a:rPr>
              <a:t>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05040" y="4608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黑体"/>
              </a:rPr>
              <a:t>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1280" y="155736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满杯牛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毫升，小青喝了一半，加满果汁后又喝了一半，接着再加满果汁，然后全部喝完。她喝了多少牛奶？喝了多少果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40464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闯关练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"/>
          <p:cNvSpPr/>
          <p:nvPr/>
        </p:nvSpPr>
        <p:spPr>
          <a:xfrm>
            <a:off x="3666960" y="4428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黑体"/>
              </a:rPr>
              <a:t>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1400" y="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黑体"/>
              </a:rPr>
              <a:t>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30600" y="4608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黑体"/>
              </a:rPr>
              <a:t>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90320" b="389"/>
          <a:stretch/>
        </p:blipFill>
        <p:spPr>
          <a:xfrm>
            <a:off x="2700360" y="1844640"/>
            <a:ext cx="649440" cy="2087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95280" y="40464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交流课前小调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39282" t="41237" r="53215" b="0"/>
          <a:stretch/>
        </p:blipFill>
        <p:spPr>
          <a:xfrm>
            <a:off x="4211640" y="2565360"/>
            <a:ext cx="503280" cy="1231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74199" t="0" r="18298" b="0"/>
          <a:stretch/>
        </p:blipFill>
        <p:spPr>
          <a:xfrm>
            <a:off x="5651640" y="1844640"/>
            <a:ext cx="502920" cy="209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613600" y="1268280"/>
            <a:ext cx="31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些液体用什么单位计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1640" y="43657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毫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5280" y="40464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受“毫升”——说一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3474" t="0" r="8978" b="56384"/>
          <a:stretch/>
        </p:blipFill>
        <p:spPr>
          <a:xfrm>
            <a:off x="250920" y="1413000"/>
            <a:ext cx="8424720" cy="2185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12000" y="4292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介绍自己带来的容器的容量是多少毫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95280" y="40464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受“毫升”——估一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155736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-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小组，每组一只碗，一只纸杯、一个茶杯，和一个塑料小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06864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估一估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毫升水倒入容器，水面会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4221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，检验估计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95280" y="40464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受“毫升”——选一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439" r="0" b="0"/>
          <a:stretch/>
        </p:blipFill>
        <p:spPr>
          <a:xfrm>
            <a:off x="755640" y="1197000"/>
            <a:ext cx="741672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835280" y="198756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（    ）毫升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=1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升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63640" y="4056120"/>
            <a:ext cx="5546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1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升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=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（    ）毫升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68360" y="1844640"/>
            <a:ext cx="1465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000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780000" y="4056120"/>
            <a:ext cx="1465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000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5280" y="40464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实验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-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证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4795" t="76899" r="15200" b="0"/>
          <a:stretch/>
        </p:blipFill>
        <p:spPr>
          <a:xfrm>
            <a:off x="826920" y="1557360"/>
            <a:ext cx="7201080" cy="2160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95280" y="40464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填一填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489800" cy="2305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95280" y="40464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算一算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5280" y="40464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闯关练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1413000"/>
            <a:ext cx="758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大瓶可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升，用容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5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毫升的杯子倒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杯，还剩多少毫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3040" y="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黑体"/>
              </a:rPr>
              <a:t>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5:45:58Z</dcterms:created>
  <dc:creator>任海莉</dc:creator>
  <dc:description/>
  <dc:language>en-US</dc:language>
  <cp:lastModifiedBy>acer</cp:lastModifiedBy>
  <dcterms:modified xsi:type="dcterms:W3CDTF">2015-09-02T00:22:41Z</dcterms:modified>
  <cp:revision>4</cp:revision>
  <dc:subject/>
  <dc:title>幻灯片 1</dc:title>
</cp:coreProperties>
</file>