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4A2-7790-49FE-BABA-6CE19819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CD0-56B6-4BA9-B895-AE3752B9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4C7-1B9C-49FE-8CF9-61B242A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448-C607-49A7-AD5C-58D3BE07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D5A-D343-4470-ACE7-1279978F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ED6-D5DC-4B61-AF05-DA091AAE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B19-AD06-48AB-B09B-2D7F8B99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889-E3E6-4C07-8BD2-BEBF4DDB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136-7D0B-4269-80A1-D6350389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AB9-4DC3-40C6-833D-D91DC73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092-450B-41F5-81A4-642117D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687-D0DC-4601-B226-BE17645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F27-AA7E-4A54-BB9A-C32B47539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2" descr="黄龙秋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051"/>
          <p:cNvSpPr/>
          <p:nvPr/>
        </p:nvSpPr>
        <p:spPr>
          <a:xfrm>
            <a:off x="469800" y="1914480"/>
            <a:ext cx="79185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含有小括号的混合运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7411"/>
          <p:cNvSpPr/>
          <p:nvPr/>
        </p:nvSpPr>
        <p:spPr>
          <a:xfrm>
            <a:off x="1202040" y="907920"/>
            <a:ext cx="594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(126-14) ×(12+9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7412"/>
          <p:cNvSpPr/>
          <p:nvPr/>
        </p:nvSpPr>
        <p:spPr>
          <a:xfrm>
            <a:off x="1303560" y="2421000"/>
            <a:ext cx="559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56+44 ×(78÷1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7413"/>
          <p:cNvSpPr/>
          <p:nvPr/>
        </p:nvSpPr>
        <p:spPr>
          <a:xfrm>
            <a:off x="1320480" y="3789360"/>
            <a:ext cx="660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  <a:ea typeface="Arial"/>
              </a:rPr>
              <a:t>18 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×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（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  <a:ea typeface="Arial"/>
              </a:rPr>
              <a:t>640- 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25×4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7414"/>
          <p:cNvSpPr/>
          <p:nvPr/>
        </p:nvSpPr>
        <p:spPr>
          <a:xfrm>
            <a:off x="916560" y="5013360"/>
            <a:ext cx="765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  <a:ea typeface="Arial"/>
              </a:rPr>
              <a:t>300 -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Arial"/>
              </a:rPr>
              <a:t>（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  <a:ea typeface="Arial"/>
              </a:rPr>
              <a:t>120+84÷12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Arial"/>
              </a:rPr>
              <a:t>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9219"/>
          <p:cNvSpPr/>
          <p:nvPr/>
        </p:nvSpPr>
        <p:spPr>
          <a:xfrm>
            <a:off x="2104200" y="1386000"/>
            <a:ext cx="5554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辆货车共运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550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箱水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照这样计算，再增加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货车，一共可以运多少箱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10243"/>
          <p:cNvSpPr/>
          <p:nvPr/>
        </p:nvSpPr>
        <p:spPr>
          <a:xfrm>
            <a:off x="1148400" y="981000"/>
            <a:ext cx="69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人民”电影院原来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6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排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位，平均每排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4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座，扩建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共有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排，比原来多了</a:t>
            </a:r>
            <a:r>
              <a:rPr b="1" lang="en-US" sz="5400" spc="-1" strike="noStrike">
                <a:solidFill>
                  <a:srgbClr val="0000ff"/>
                </a:solidFill>
                <a:latin typeface="黑体"/>
                <a:ea typeface="黑体"/>
              </a:rPr>
              <a:t>216</a:t>
            </a: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座位。扩建后平均每排多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个座位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12291"/>
          <p:cNvSpPr/>
          <p:nvPr/>
        </p:nvSpPr>
        <p:spPr>
          <a:xfrm>
            <a:off x="1662480" y="1268280"/>
            <a:ext cx="579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一间办公室，用面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平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米的方砖，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480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块正好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满。如果用边长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米的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砖，需要多少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3315"/>
          <p:cNvSpPr/>
          <p:nvPr/>
        </p:nvSpPr>
        <p:spPr>
          <a:xfrm>
            <a:off x="1940760" y="230040"/>
            <a:ext cx="5209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下面是某服装厂三个生产小组今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二月份生产情况的统计（二月份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生产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天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606760"/>
          <a:ext cx="9144000" cy="1542960"/>
        </p:xfrm>
        <a:graphic>
          <a:graphicData uri="http://schemas.openxmlformats.org/drawingml/2006/table">
            <a:tbl>
              <a:tblPr/>
              <a:tblGrid>
                <a:gridCol w="3075120"/>
                <a:gridCol w="2206440"/>
                <a:gridCol w="1971720"/>
                <a:gridCol w="18907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小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小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小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生产服装（件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文本框 13350"/>
          <p:cNvSpPr/>
          <p:nvPr/>
        </p:nvSpPr>
        <p:spPr>
          <a:xfrm>
            <a:off x="3073320" y="4660920"/>
            <a:ext cx="252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）第一小组比第二小组平均每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多生产多少件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51"/>
          <p:cNvSpPr/>
          <p:nvPr/>
        </p:nvSpPr>
        <p:spPr>
          <a:xfrm>
            <a:off x="1381320" y="4681440"/>
            <a:ext cx="593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）第二小组比第三小组平均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天少生产多少件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3352"/>
          <p:cNvSpPr/>
          <p:nvPr/>
        </p:nvSpPr>
        <p:spPr>
          <a:xfrm>
            <a:off x="902160" y="4653000"/>
            <a:ext cx="44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还能提什么问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3075"/>
          <p:cNvSpPr/>
          <p:nvPr/>
        </p:nvSpPr>
        <p:spPr>
          <a:xfrm>
            <a:off x="3271680" y="692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、计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3076"/>
          <p:cNvSpPr/>
          <p:nvPr/>
        </p:nvSpPr>
        <p:spPr>
          <a:xfrm>
            <a:off x="1826280" y="2421000"/>
            <a:ext cx="528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5×60 + 120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077"/>
          <p:cNvSpPr/>
          <p:nvPr/>
        </p:nvSpPr>
        <p:spPr>
          <a:xfrm>
            <a:off x="1317960" y="4221000"/>
            <a:ext cx="570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370+ 50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4099"/>
          <p:cNvSpPr/>
          <p:nvPr/>
        </p:nvSpPr>
        <p:spPr>
          <a:xfrm>
            <a:off x="1042200" y="2998800"/>
            <a:ext cx="713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00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Arial"/>
              </a:rPr>
              <a:t>（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  <a:ea typeface="Arial"/>
              </a:rPr>
              <a:t>120+25</a:t>
            </a: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×4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）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00"/>
          <p:cNvSpPr/>
          <p:nvPr/>
        </p:nvSpPr>
        <p:spPr>
          <a:xfrm>
            <a:off x="4029840" y="1268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试一试，说一说，怎样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5123"/>
          <p:cNvSpPr/>
          <p:nvPr/>
        </p:nvSpPr>
        <p:spPr>
          <a:xfrm>
            <a:off x="3733920" y="6224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5124"/>
          <p:cNvSpPr/>
          <p:nvPr/>
        </p:nvSpPr>
        <p:spPr>
          <a:xfrm>
            <a:off x="575280" y="1969920"/>
            <a:ext cx="741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270 - 480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÷16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×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5126"/>
          <p:cNvSpPr/>
          <p:nvPr/>
        </p:nvSpPr>
        <p:spPr>
          <a:xfrm>
            <a:off x="1370880" y="3646440"/>
            <a:ext cx="638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Arial"/>
              </a:rPr>
              <a:t>58 </a:t>
            </a: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×</a:t>
            </a: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Arial"/>
              </a:rPr>
              <a:t>20- 78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÷13</a:t>
            </a:r>
            <a:r>
              <a:rPr b="1" lang="zh-CN" sz="6000" spc="-1" strike="noStrike">
                <a:solidFill>
                  <a:srgbClr val="0066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6147"/>
          <p:cNvSpPr/>
          <p:nvPr/>
        </p:nvSpPr>
        <p:spPr>
          <a:xfrm>
            <a:off x="3453120" y="33480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做一做，比一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6151"/>
          <p:cNvSpPr/>
          <p:nvPr/>
        </p:nvSpPr>
        <p:spPr>
          <a:xfrm>
            <a:off x="2346120" y="1773360"/>
            <a:ext cx="433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(26+14) ×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52"/>
          <p:cNvSpPr/>
          <p:nvPr/>
        </p:nvSpPr>
        <p:spPr>
          <a:xfrm>
            <a:off x="1707840" y="3141720"/>
            <a:ext cx="54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26+14 ×(70-30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3"/>
          <p:cNvSpPr/>
          <p:nvPr/>
        </p:nvSpPr>
        <p:spPr>
          <a:xfrm>
            <a:off x="1491840" y="4581360"/>
            <a:ext cx="594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(26+14) ×(70-30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4337"/>
          <p:cNvSpPr/>
          <p:nvPr/>
        </p:nvSpPr>
        <p:spPr>
          <a:xfrm>
            <a:off x="3310200" y="262080"/>
            <a:ext cx="17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做一做，比一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4338"/>
          <p:cNvSpPr/>
          <p:nvPr/>
        </p:nvSpPr>
        <p:spPr>
          <a:xfrm>
            <a:off x="2028960" y="1701720"/>
            <a:ext cx="529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600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÷(120÷6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14339"/>
          <p:cNvSpPr/>
          <p:nvPr/>
        </p:nvSpPr>
        <p:spPr>
          <a:xfrm>
            <a:off x="1452600" y="3143160"/>
            <a:ext cx="659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00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÷(10+120÷60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4340"/>
          <p:cNvSpPr/>
          <p:nvPr/>
        </p:nvSpPr>
        <p:spPr>
          <a:xfrm>
            <a:off x="1317600" y="4727520"/>
            <a:ext cx="641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(600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÷10+120)÷60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8195"/>
          <p:cNvSpPr/>
          <p:nvPr/>
        </p:nvSpPr>
        <p:spPr>
          <a:xfrm>
            <a:off x="1635480" y="708120"/>
            <a:ext cx="595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学校举行运动会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三年级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人参赛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四年级参赛的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三年级多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五年级的参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人数是三、四年级参赛总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数的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倍。五年级有多少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参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1267"/>
          <p:cNvSpPr/>
          <p:nvPr/>
        </p:nvSpPr>
        <p:spPr>
          <a:xfrm>
            <a:off x="1562760" y="981000"/>
            <a:ext cx="5964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12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日是植树节，同学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栽树，四年级栽了</a:t>
            </a: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50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棵，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年级栽的棵数比四年级的</a:t>
            </a: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倍少</a:t>
            </a:r>
            <a:r>
              <a:rPr b="1" lang="en-US" sz="5400" spc="-1" strike="noStrike">
                <a:solidFill>
                  <a:srgbClr val="000066"/>
                </a:solidFill>
                <a:latin typeface="黑体"/>
                <a:ea typeface="黑体"/>
              </a:rPr>
              <a:t>10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棵。四年级比六年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少栽多少棵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7171"/>
          <p:cNvSpPr/>
          <p:nvPr/>
        </p:nvSpPr>
        <p:spPr>
          <a:xfrm>
            <a:off x="1744560" y="189000"/>
            <a:ext cx="5767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校小卖部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昨天运来梨子２５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千克．今天运来的比昨天的２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还少５０千克．这两天共运来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子多少千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7172"/>
          <p:cNvSpPr/>
          <p:nvPr/>
        </p:nvSpPr>
        <p:spPr>
          <a:xfrm>
            <a:off x="1634760" y="3578400"/>
            <a:ext cx="5677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四年级某班有女生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13</a:t>
            </a: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人，男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人数是女生的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倍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四年级有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个班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人数都相等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问四年级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黑体"/>
                <a:ea typeface="黑体"/>
              </a:rPr>
              <a:t>共有多少人</a:t>
            </a:r>
            <a:r>
              <a:rPr b="1" lang="en-US" sz="48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16:59Z</dcterms:created>
  <dc:creator/>
  <dc:description/>
  <dc:language>en-US</dc:language>
  <cp:lastModifiedBy>Administrator</cp:lastModifiedBy>
  <dcterms:modified xsi:type="dcterms:W3CDTF">2016-03-17T02:16:5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