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BD4-D9F3-4714-A40D-115E4ADF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2DE-9A73-4B5B-BA9C-2B24C4EF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E2D-E7DA-4AA4-B133-8199CBD7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117-0536-43AB-8E59-BEB3A66C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E68-6A98-4AC8-B9E0-C8703396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D85-611F-48D2-99DB-177BCA6A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E39-7775-4FA5-8626-F74819FF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B10-6B52-4763-9A5E-BF55F388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D27-A1D8-45B2-8732-C6D1B29B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98D-8A4F-4C6F-ACE8-BCB343F9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C42-829F-4916-8DA1-4EBF23C8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FCA-3E20-4E90-81C0-B81FCC67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813D-B7EA-4C0E-B19B-AA6765A85B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051"/>
          <p:cNvSpPr/>
          <p:nvPr/>
        </p:nvSpPr>
        <p:spPr>
          <a:xfrm>
            <a:off x="1476360" y="1413000"/>
            <a:ext cx="60483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一、口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×15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1×40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+24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×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3×2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50÷9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6—18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3×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×34       25×100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6×10       67+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0÷50       3×120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0×90       70—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7171"/>
          <p:cNvSpPr/>
          <p:nvPr/>
        </p:nvSpPr>
        <p:spPr>
          <a:xfrm>
            <a:off x="1979640" y="1125360"/>
            <a:ext cx="56167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．把先算的部分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划出来，在说说其运算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　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5—6+9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　　 　　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2÷8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0—120+25×4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　　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×3—18÷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）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8+12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×50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　　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÷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×4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7173"/>
          <p:cNvSpPr/>
          <p:nvPr/>
        </p:nvSpPr>
        <p:spPr>
          <a:xfrm>
            <a:off x="2627280" y="5084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987640" y="2924280"/>
            <a:ext cx="576360" cy="360"/>
            <a:chOff x="2987640" y="2924280"/>
            <a:chExt cx="576360" cy="360"/>
          </a:xfrm>
        </p:grpSpPr>
        <p:sp>
          <p:nvSpPr>
            <p:cNvPr id="45" name="直接连接符 7174"/>
            <p:cNvSpPr/>
            <p:nvPr/>
          </p:nvSpPr>
          <p:spPr>
            <a:xfrm>
              <a:off x="2987640" y="29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2987640" y="292428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文本框 7175"/>
          <p:cNvSpPr/>
          <p:nvPr/>
        </p:nvSpPr>
        <p:spPr>
          <a:xfrm>
            <a:off x="3492360" y="5013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867280" y="2924280"/>
            <a:ext cx="720720" cy="360"/>
            <a:chOff x="5867280" y="2924280"/>
            <a:chExt cx="720720" cy="360"/>
          </a:xfrm>
        </p:grpSpPr>
        <p:sp>
          <p:nvSpPr>
            <p:cNvPr id="49" name="直接连接符 7176"/>
            <p:cNvSpPr/>
            <p:nvPr/>
          </p:nvSpPr>
          <p:spPr>
            <a:xfrm>
              <a:off x="5867280" y="2924280"/>
              <a:ext cx="72072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5867280" y="292428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文本框 7177"/>
          <p:cNvSpPr/>
          <p:nvPr/>
        </p:nvSpPr>
        <p:spPr>
          <a:xfrm>
            <a:off x="2627280" y="4941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211640" y="3573360"/>
            <a:ext cx="719280" cy="360"/>
            <a:chOff x="4211640" y="3573360"/>
            <a:chExt cx="719280" cy="360"/>
          </a:xfrm>
        </p:grpSpPr>
        <p:sp>
          <p:nvSpPr>
            <p:cNvPr id="53" name="直接连接符 7178"/>
            <p:cNvSpPr/>
            <p:nvPr/>
          </p:nvSpPr>
          <p:spPr>
            <a:xfrm>
              <a:off x="4211640" y="3573360"/>
              <a:ext cx="719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211640" y="3573360"/>
              <a:ext cx="7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796000" y="3573360"/>
            <a:ext cx="576360" cy="360"/>
            <a:chOff x="5796000" y="3573360"/>
            <a:chExt cx="576360" cy="360"/>
          </a:xfrm>
        </p:grpSpPr>
        <p:sp>
          <p:nvSpPr>
            <p:cNvPr id="56" name="直接连接符 7179"/>
            <p:cNvSpPr/>
            <p:nvPr/>
          </p:nvSpPr>
          <p:spPr>
            <a:xfrm>
              <a:off x="5796000" y="3573360"/>
              <a:ext cx="576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5796000" y="357336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59640" y="3573360"/>
            <a:ext cx="647640" cy="360"/>
            <a:chOff x="6659640" y="3573360"/>
            <a:chExt cx="647640" cy="360"/>
          </a:xfrm>
        </p:grpSpPr>
        <p:sp>
          <p:nvSpPr>
            <p:cNvPr id="59" name="直接连接符 7180"/>
            <p:cNvSpPr/>
            <p:nvPr/>
          </p:nvSpPr>
          <p:spPr>
            <a:xfrm>
              <a:off x="6659640" y="3573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6659640" y="357336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03640" y="4149720"/>
            <a:ext cx="720720" cy="360"/>
            <a:chOff x="3203640" y="4149720"/>
            <a:chExt cx="720720" cy="360"/>
          </a:xfrm>
        </p:grpSpPr>
        <p:sp>
          <p:nvSpPr>
            <p:cNvPr id="62" name="直接连接符 7181"/>
            <p:cNvSpPr/>
            <p:nvPr/>
          </p:nvSpPr>
          <p:spPr>
            <a:xfrm>
              <a:off x="3203640" y="4149720"/>
              <a:ext cx="72072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3203640" y="414972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588000" y="4149720"/>
            <a:ext cx="720720" cy="360"/>
            <a:chOff x="6588000" y="4149720"/>
            <a:chExt cx="720720" cy="360"/>
          </a:xfrm>
        </p:grpSpPr>
        <p:sp>
          <p:nvSpPr>
            <p:cNvPr id="65" name="直接连接符 7182"/>
            <p:cNvSpPr/>
            <p:nvPr/>
          </p:nvSpPr>
          <p:spPr>
            <a:xfrm>
              <a:off x="6588000" y="41497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6588000" y="414972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8195"/>
          <p:cNvSpPr/>
          <p:nvPr/>
        </p:nvSpPr>
        <p:spPr>
          <a:xfrm>
            <a:off x="2195640" y="227664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20+25×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8196"/>
          <p:cNvSpPr/>
          <p:nvPr/>
        </p:nvSpPr>
        <p:spPr>
          <a:xfrm>
            <a:off x="5219640" y="549360"/>
            <a:ext cx="280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先算乘法，再算加法，最后算减法，该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8199"/>
          <p:cNvSpPr/>
          <p:nvPr/>
        </p:nvSpPr>
        <p:spPr>
          <a:xfrm>
            <a:off x="3059280" y="2276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9219"/>
          <p:cNvSpPr/>
          <p:nvPr/>
        </p:nvSpPr>
        <p:spPr>
          <a:xfrm>
            <a:off x="1835280" y="105264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7+26-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÷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9220"/>
          <p:cNvSpPr/>
          <p:nvPr/>
        </p:nvSpPr>
        <p:spPr>
          <a:xfrm>
            <a:off x="1692360" y="234936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通过计算，对于含有小括号的三步运算的运算顺序，你能得出什么结论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9221"/>
          <p:cNvSpPr/>
          <p:nvPr/>
        </p:nvSpPr>
        <p:spPr>
          <a:xfrm>
            <a:off x="1763640" y="4221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小结：含有小括号的三步混合运算，要先算小括号里面的。在进行括号内或括号外的运算时，还要遵循先算乘除法后算加减法。只有加减或只有乘除法，要按从左往右的顺序进行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10243"/>
          <p:cNvSpPr/>
          <p:nvPr/>
        </p:nvSpPr>
        <p:spPr>
          <a:xfrm>
            <a:off x="684360" y="836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１、５８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（２０－７８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１３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0244"/>
          <p:cNvSpPr/>
          <p:nvPr/>
        </p:nvSpPr>
        <p:spPr>
          <a:xfrm>
            <a:off x="539640" y="2852640"/>
            <a:ext cx="7921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２、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６００ </a:t>
            </a: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÷</a:t>
            </a: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（１２０ </a:t>
            </a: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÷ </a:t>
            </a: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６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　　６００ </a:t>
            </a: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÷</a:t>
            </a: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（１０＋１２０ </a:t>
            </a: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÷ </a:t>
            </a: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６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　（６００ </a:t>
            </a: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÷</a:t>
            </a: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１０＋１２０ ）</a:t>
            </a: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÷ </a:t>
            </a:r>
            <a:r>
              <a:rPr b="0" lang="zh-CN" sz="3600" spc="-1" strike="noStrike">
                <a:solidFill>
                  <a:srgbClr val="99cc00"/>
                </a:solidFill>
                <a:latin typeface="Comic Sans MS"/>
              </a:rPr>
              <a:t>６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11267"/>
          <p:cNvSpPr/>
          <p:nvPr/>
        </p:nvSpPr>
        <p:spPr>
          <a:xfrm>
            <a:off x="1547640" y="83664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2400" spc="-1" strike="noStrike">
                <a:solidFill>
                  <a:srgbClr val="99cc00"/>
                </a:solidFill>
                <a:latin typeface="Comic Sans MS"/>
              </a:rPr>
              <a:t>（２６＋１４）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×</a:t>
            </a:r>
            <a:r>
              <a:rPr b="0" lang="zh-CN" sz="2400" spc="-1" strike="noStrike">
                <a:solidFill>
                  <a:srgbClr val="99cc00"/>
                </a:solidFill>
                <a:latin typeface="Comic Sans MS"/>
              </a:rPr>
              <a:t>７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Comic Sans MS"/>
              </a:rPr>
              <a:t>　２６＋１４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×</a:t>
            </a:r>
            <a:r>
              <a:rPr b="0" lang="zh-CN" sz="2400" spc="-1" strike="noStrike">
                <a:solidFill>
                  <a:srgbClr val="99cc00"/>
                </a:solidFill>
                <a:latin typeface="Comic Sans MS"/>
              </a:rPr>
              <a:t>（７０－３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Comic Sans MS"/>
              </a:rPr>
              <a:t>　（２６＋１４）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×</a:t>
            </a:r>
            <a:r>
              <a:rPr b="0" lang="zh-CN" sz="2400" spc="-1" strike="noStrike">
                <a:solidFill>
                  <a:srgbClr val="99cc00"/>
                </a:solidFill>
                <a:latin typeface="Comic Sans MS"/>
              </a:rPr>
              <a:t>（７０－３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1268"/>
          <p:cNvSpPr/>
          <p:nvPr/>
        </p:nvSpPr>
        <p:spPr>
          <a:xfrm>
            <a:off x="1619280" y="32846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３、学校举行运动会。三年级有５４人参赛，四年级参赛的比三年级多７人，五年级的参赛人数是三、四年级参赛总人数的２倍。五年级有多少人参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2:18:56Z</dcterms:created>
  <dc:creator/>
  <dc:description/>
  <dc:language>en-US</dc:language>
  <cp:lastModifiedBy>Administrator</cp:lastModifiedBy>
  <dcterms:modified xsi:type="dcterms:W3CDTF">2016-03-17T02:18:5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