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8.gif" ContentType="image/gif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2A0-ECFE-4667-98BC-C914F3CC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45F-EBCF-4B89-BFB3-56CD781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8B0-30F6-4088-ADF5-D3C6F01B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3E3-154D-4040-8524-281DB55A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14D-4642-49C7-883D-0E9845A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1C3-F729-496A-A7FB-CA2A9F30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EBC-2F9F-48CF-8C87-2FAF1067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0E3-DEC1-46FA-A273-FF72515C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F22-47B3-4220-9A38-815BCFA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83C-75F9-4E82-BA6B-B2C64145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06A-62ED-47DB-849A-BA8CE3C5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093-133B-4AB0-A248-5B2DC6A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F11-E5D9-4022-B4AD-1C1635927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83"/>
          <p:cNvSpPr/>
          <p:nvPr/>
        </p:nvSpPr>
        <p:spPr>
          <a:xfrm>
            <a:off x="1835280" y="1844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苏教版四年级数学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84"/>
          <p:cNvSpPr/>
          <p:nvPr/>
        </p:nvSpPr>
        <p:spPr>
          <a:xfrm>
            <a:off x="684360" y="3429000"/>
            <a:ext cx="81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</a:rPr>
              <a:t>含有中括号的混合运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3316"/>
          <p:cNvSpPr/>
          <p:nvPr/>
        </p:nvSpPr>
        <p:spPr>
          <a:xfrm>
            <a:off x="1332000" y="10382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运算顺序添上小括号或中括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3317"/>
          <p:cNvSpPr/>
          <p:nvPr/>
        </p:nvSpPr>
        <p:spPr>
          <a:xfrm>
            <a:off x="1763640" y="1994040"/>
            <a:ext cx="66247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减再乘最后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 × 800 – 400  ÷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318"/>
          <p:cNvSpPr/>
          <p:nvPr/>
        </p:nvSpPr>
        <p:spPr>
          <a:xfrm>
            <a:off x="1763640" y="3290760"/>
            <a:ext cx="66247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除再减最后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 × 800 – 400 ÷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19"/>
          <p:cNvSpPr/>
          <p:nvPr/>
        </p:nvSpPr>
        <p:spPr>
          <a:xfrm>
            <a:off x="1763640" y="4581360"/>
            <a:ext cx="66247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减再除最后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  ×  800 – 400  ÷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320"/>
          <p:cNvSpPr/>
          <p:nvPr/>
        </p:nvSpPr>
        <p:spPr>
          <a:xfrm>
            <a:off x="3276720" y="2565360"/>
            <a:ext cx="26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323"/>
          <p:cNvSpPr/>
          <p:nvPr/>
        </p:nvSpPr>
        <p:spPr>
          <a:xfrm>
            <a:off x="327672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324"/>
          <p:cNvSpPr/>
          <p:nvPr/>
        </p:nvSpPr>
        <p:spPr>
          <a:xfrm>
            <a:off x="3276720" y="5157720"/>
            <a:ext cx="26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325"/>
          <p:cNvSpPr/>
          <p:nvPr/>
        </p:nvSpPr>
        <p:spPr>
          <a:xfrm>
            <a:off x="3348000" y="51418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                            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5150" descr="Bird01"/>
          <p:cNvPicPr/>
          <p:nvPr/>
        </p:nvPicPr>
        <p:blipFill>
          <a:blip r:embed="rId2"/>
          <a:stretch/>
        </p:blipFill>
        <p:spPr>
          <a:xfrm>
            <a:off x="71280" y="115920"/>
            <a:ext cx="1116000" cy="1197000"/>
          </a:xfrm>
          <a:prstGeom prst="rect">
            <a:avLst/>
          </a:prstGeom>
          <a:ln w="0">
            <a:noFill/>
          </a:ln>
        </p:spPr>
      </p:pic>
      <p:sp>
        <p:nvSpPr>
          <p:cNvPr id="176" name="矩形 5151"/>
          <p:cNvSpPr txBox="1"/>
          <p:nvPr/>
        </p:nvSpPr>
        <p:spPr>
          <a:xfrm>
            <a:off x="1332000" y="298440"/>
            <a:ext cx="1439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你知道吗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7" name="文本框 5153"/>
          <p:cNvSpPr/>
          <p:nvPr/>
        </p:nvSpPr>
        <p:spPr>
          <a:xfrm>
            <a:off x="0" y="1542960"/>
            <a:ext cx="9144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算式中的括号，能改变运算的顺序。你知道常见的括号有哪几种，它们各是什么时候产生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）是小括号，又称为圆括号，是公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由荷兰人吉拉特首先使用的。在采用小括号之前，历史上曾使用过括线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例如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-15+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+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面画一条线，表示要先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+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中括号，又称为方括号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，英国数学家瓦里士在计算时最先采用了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}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大括号，又称为花括号。它大约是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9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由法国数学家韦达首先使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时，要先算小括号里面的，在算中括号里面的，最后算大括号里面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87280" y="3284640"/>
            <a:ext cx="863640" cy="360"/>
            <a:chOff x="1187280" y="3284640"/>
            <a:chExt cx="863640" cy="360"/>
          </a:xfrm>
        </p:grpSpPr>
        <p:sp>
          <p:nvSpPr>
            <p:cNvPr id="179" name="直接连接符 5154"/>
            <p:cNvSpPr/>
            <p:nvPr/>
          </p:nvSpPr>
          <p:spPr>
            <a:xfrm>
              <a:off x="1187280" y="3284640"/>
              <a:ext cx="863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187280" y="328464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7411"/>
          <p:cNvSpPr/>
          <p:nvPr/>
        </p:nvSpPr>
        <p:spPr>
          <a:xfrm>
            <a:off x="1979640" y="2421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本节课我们主要学习了含有中括号的混合运算，同学们要掌握运算顺序，知道先算什么，后算什么，能够解决实际的问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412"/>
          <p:cNvSpPr txBox="1"/>
          <p:nvPr/>
        </p:nvSpPr>
        <p:spPr>
          <a:xfrm>
            <a:off x="2700360" y="90792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课小结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2053"/>
          <p:cNvSpPr/>
          <p:nvPr/>
        </p:nvSpPr>
        <p:spPr>
          <a:xfrm>
            <a:off x="1332000" y="1125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出下列各题的运算顺序，然后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57"/>
          <p:cNvSpPr/>
          <p:nvPr/>
        </p:nvSpPr>
        <p:spPr>
          <a:xfrm>
            <a:off x="2124000" y="44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+ 2× 3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058"/>
          <p:cNvSpPr/>
          <p:nvPr/>
        </p:nvSpPr>
        <p:spPr>
          <a:xfrm>
            <a:off x="2484360" y="184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÷ 4 + 2 ×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060"/>
          <p:cNvSpPr/>
          <p:nvPr/>
        </p:nvSpPr>
        <p:spPr>
          <a:xfrm>
            <a:off x="2411280" y="2997360"/>
            <a:ext cx="41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+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29080" y="2421000"/>
            <a:ext cx="1295280" cy="360"/>
            <a:chOff x="2629080" y="2421000"/>
            <a:chExt cx="1295280" cy="360"/>
          </a:xfrm>
        </p:grpSpPr>
        <p:sp>
          <p:nvSpPr>
            <p:cNvPr id="48" name="直接连接符 2061"/>
            <p:cNvSpPr/>
            <p:nvPr/>
          </p:nvSpPr>
          <p:spPr>
            <a:xfrm>
              <a:off x="2629080" y="2421000"/>
              <a:ext cx="12952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629080" y="242100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500720" y="2421000"/>
            <a:ext cx="1150920" cy="360"/>
            <a:chOff x="4500720" y="2421000"/>
            <a:chExt cx="1150920" cy="360"/>
          </a:xfrm>
        </p:grpSpPr>
        <p:sp>
          <p:nvSpPr>
            <p:cNvPr id="51" name="直接连接符 2062"/>
            <p:cNvSpPr/>
            <p:nvPr/>
          </p:nvSpPr>
          <p:spPr>
            <a:xfrm>
              <a:off x="4500720" y="2421000"/>
              <a:ext cx="11509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4500720" y="242100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708360" y="3645000"/>
            <a:ext cx="1079640" cy="360"/>
            <a:chOff x="3708360" y="3645000"/>
            <a:chExt cx="1079640" cy="360"/>
          </a:xfrm>
        </p:grpSpPr>
        <p:sp>
          <p:nvSpPr>
            <p:cNvPr id="54" name="直接连接符 2066"/>
            <p:cNvSpPr/>
            <p:nvPr/>
          </p:nvSpPr>
          <p:spPr>
            <a:xfrm>
              <a:off x="3708360" y="3645000"/>
              <a:ext cx="10796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3708360" y="364500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556000" y="3789360"/>
            <a:ext cx="2232000" cy="360"/>
            <a:chOff x="2556000" y="3789360"/>
            <a:chExt cx="2232000" cy="360"/>
          </a:xfrm>
        </p:grpSpPr>
        <p:sp>
          <p:nvSpPr>
            <p:cNvPr id="57" name="直接连接符 2067"/>
            <p:cNvSpPr/>
            <p:nvPr/>
          </p:nvSpPr>
          <p:spPr>
            <a:xfrm>
              <a:off x="2556000" y="3789360"/>
              <a:ext cx="22320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2556000" y="378936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556000" y="3933720"/>
            <a:ext cx="3240000" cy="360"/>
            <a:chOff x="2556000" y="3933720"/>
            <a:chExt cx="3240000" cy="360"/>
          </a:xfrm>
        </p:grpSpPr>
        <p:sp>
          <p:nvSpPr>
            <p:cNvPr id="60" name="直接连接符 2068"/>
            <p:cNvSpPr/>
            <p:nvPr/>
          </p:nvSpPr>
          <p:spPr>
            <a:xfrm>
              <a:off x="2556000" y="3933720"/>
              <a:ext cx="32400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556000" y="3933720"/>
              <a:ext cx="32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5013360"/>
            <a:ext cx="1152360" cy="360"/>
            <a:chOff x="4572000" y="5013360"/>
            <a:chExt cx="1152360" cy="360"/>
          </a:xfrm>
        </p:grpSpPr>
        <p:sp>
          <p:nvSpPr>
            <p:cNvPr id="63" name="直接连接符 2069"/>
            <p:cNvSpPr/>
            <p:nvPr/>
          </p:nvSpPr>
          <p:spPr>
            <a:xfrm>
              <a:off x="4572000" y="5013360"/>
              <a:ext cx="115236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572000" y="501336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80000" y="5157720"/>
            <a:ext cx="1944360" cy="360"/>
            <a:chOff x="3780000" y="5157720"/>
            <a:chExt cx="1944360" cy="360"/>
          </a:xfrm>
        </p:grpSpPr>
        <p:sp>
          <p:nvSpPr>
            <p:cNvPr id="66" name="直接连接符 2070"/>
            <p:cNvSpPr/>
            <p:nvPr/>
          </p:nvSpPr>
          <p:spPr>
            <a:xfrm>
              <a:off x="3780000" y="5157720"/>
              <a:ext cx="194436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780000" y="5157720"/>
              <a:ext cx="194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411280" y="5300640"/>
            <a:ext cx="3313080" cy="360"/>
            <a:chOff x="2411280" y="5300640"/>
            <a:chExt cx="3313080" cy="360"/>
          </a:xfrm>
        </p:grpSpPr>
        <p:sp>
          <p:nvSpPr>
            <p:cNvPr id="69" name="直接连接符 2071"/>
            <p:cNvSpPr/>
            <p:nvPr/>
          </p:nvSpPr>
          <p:spPr>
            <a:xfrm>
              <a:off x="2411280" y="5300640"/>
              <a:ext cx="33130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411280" y="5300640"/>
              <a:ext cx="33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27280" y="2565360"/>
            <a:ext cx="3024360" cy="360"/>
            <a:chOff x="2627280" y="2565360"/>
            <a:chExt cx="3024360" cy="360"/>
          </a:xfrm>
        </p:grpSpPr>
        <p:sp>
          <p:nvSpPr>
            <p:cNvPr id="72" name="直接连接符 2074"/>
            <p:cNvSpPr/>
            <p:nvPr/>
          </p:nvSpPr>
          <p:spPr>
            <a:xfrm>
              <a:off x="2627280" y="2565360"/>
              <a:ext cx="302436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2627280" y="2565360"/>
              <a:ext cx="30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4105"/>
          <p:cNvSpPr/>
          <p:nvPr/>
        </p:nvSpPr>
        <p:spPr>
          <a:xfrm>
            <a:off x="2340000" y="1341360"/>
            <a:ext cx="1511280" cy="533520"/>
          </a:xfrm>
          <a:prstGeom prst="rect">
            <a:avLst/>
          </a:prstGeom>
          <a:solidFill>
            <a:srgbClr val="09bb4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仿宋_GB2312"/>
                <a:ea typeface="仿宋_GB2312"/>
              </a:rPr>
              <a:t>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107"/>
          <p:cNvSpPr/>
          <p:nvPr/>
        </p:nvSpPr>
        <p:spPr>
          <a:xfrm>
            <a:off x="2050920" y="21337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0fd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样的数字，同样的运算符号，为什么算出的结果不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4116"/>
          <p:cNvGrpSpPr/>
          <p:nvPr/>
        </p:nvGrpSpPr>
        <p:grpSpPr>
          <a:xfrm>
            <a:off x="468360" y="3500280"/>
            <a:ext cx="7775280" cy="1729080"/>
            <a:chOff x="468360" y="3500280"/>
            <a:chExt cx="7775280" cy="1729080"/>
          </a:xfrm>
        </p:grpSpPr>
        <p:sp>
          <p:nvSpPr>
            <p:cNvPr id="77" name="圆角矩形标注 4112"/>
            <p:cNvSpPr/>
            <p:nvPr/>
          </p:nvSpPr>
          <p:spPr>
            <a:xfrm>
              <a:off x="2145240" y="3933720"/>
              <a:ext cx="6098400" cy="1295640"/>
            </a:xfrm>
            <a:prstGeom prst="wedgeRoundRectCallout">
              <a:avLst>
                <a:gd name="adj1" fmla="val -56777"/>
                <a:gd name="adj2" fmla="val -18504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bf56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图片 4109" descr="04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468360" y="3500280"/>
              <a:ext cx="148536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4110"/>
            <p:cNvSpPr/>
            <p:nvPr/>
          </p:nvSpPr>
          <p:spPr>
            <a:xfrm>
              <a:off x="2188800" y="4076640"/>
              <a:ext cx="59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5e0fd3"/>
                  </a:solidFill>
                  <a:latin typeface="Arial"/>
                </a:rPr>
                <a:t>的确，（）是一个很特殊的数学符号，它可以改变算式的运算顺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7188"/>
          <p:cNvGrpSpPr/>
          <p:nvPr/>
        </p:nvGrpSpPr>
        <p:grpSpPr>
          <a:xfrm>
            <a:off x="3780000" y="1989000"/>
            <a:ext cx="3887640" cy="3600360"/>
            <a:chOff x="3780000" y="1989000"/>
            <a:chExt cx="3887640" cy="3600360"/>
          </a:xfrm>
        </p:grpSpPr>
        <p:sp>
          <p:nvSpPr>
            <p:cNvPr id="81" name="圆角矩形标注 7181"/>
            <p:cNvSpPr/>
            <p:nvPr/>
          </p:nvSpPr>
          <p:spPr>
            <a:xfrm>
              <a:off x="3780000" y="1989000"/>
              <a:ext cx="3671640" cy="3600360"/>
            </a:xfrm>
            <a:prstGeom prst="wedgeRoundRectCallout">
              <a:avLst>
                <a:gd name="adj1" fmla="val -76935"/>
                <a:gd name="adj2" fmla="val 14759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7179"/>
            <p:cNvSpPr/>
            <p:nvPr/>
          </p:nvSpPr>
          <p:spPr>
            <a:xfrm>
              <a:off x="3981600" y="2155680"/>
              <a:ext cx="368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含有小括号的算式中，要先算小括号里面的，再算小括号外面的，如果小括号中有乘除法和加减法，要先算乘除法，再算加减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图片 7185" descr="04"/>
          <p:cNvPicPr/>
          <p:nvPr/>
        </p:nvPicPr>
        <p:blipFill>
          <a:blip r:embed="rId2"/>
          <a:stretch/>
        </p:blipFill>
        <p:spPr>
          <a:xfrm>
            <a:off x="682560" y="2924280"/>
            <a:ext cx="2160720" cy="25207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7187"/>
          <p:cNvSpPr/>
          <p:nvPr/>
        </p:nvSpPr>
        <p:spPr>
          <a:xfrm>
            <a:off x="2411280" y="1109520"/>
            <a:ext cx="51134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小括号的混合运算的顺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199" descr="04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30360" y="5040360"/>
            <a:ext cx="1422360" cy="1341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205" descr="1 (2)"/>
          <p:cNvPicPr/>
          <p:nvPr/>
        </p:nvPicPr>
        <p:blipFill>
          <a:blip r:embed="rId3"/>
          <a:stretch/>
        </p:blipFill>
        <p:spPr>
          <a:xfrm flipH="1">
            <a:off x="250560" y="476280"/>
            <a:ext cx="755640" cy="6206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8208"/>
          <p:cNvSpPr/>
          <p:nvPr/>
        </p:nvSpPr>
        <p:spPr>
          <a:xfrm>
            <a:off x="2843280" y="566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210"/>
          <p:cNvGrpSpPr/>
          <p:nvPr/>
        </p:nvGrpSpPr>
        <p:grpSpPr>
          <a:xfrm>
            <a:off x="2916360" y="5516640"/>
            <a:ext cx="4968720" cy="647640"/>
            <a:chOff x="2916360" y="5516640"/>
            <a:chExt cx="4968720" cy="647640"/>
          </a:xfrm>
        </p:grpSpPr>
        <p:sp>
          <p:nvSpPr>
            <p:cNvPr id="89" name="圆角矩形标注 8207"/>
            <p:cNvSpPr/>
            <p:nvPr/>
          </p:nvSpPr>
          <p:spPr>
            <a:xfrm>
              <a:off x="2916360" y="5516640"/>
              <a:ext cx="4968720" cy="647640"/>
            </a:xfrm>
            <a:prstGeom prst="wedgeRoundRectCallout">
              <a:avLst>
                <a:gd name="adj1" fmla="val -65592"/>
                <a:gd name="adj2" fmla="val -35782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9bb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8209"/>
            <p:cNvSpPr/>
            <p:nvPr/>
          </p:nvSpPr>
          <p:spPr>
            <a:xfrm>
              <a:off x="3205080" y="5589720"/>
              <a:ext cx="461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合唱组的人数是美术组的几倍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8219"/>
          <p:cNvGrpSpPr/>
          <p:nvPr/>
        </p:nvGrpSpPr>
        <p:grpSpPr>
          <a:xfrm>
            <a:off x="158760" y="765000"/>
            <a:ext cx="4773600" cy="4319640"/>
            <a:chOff x="158760" y="765000"/>
            <a:chExt cx="4773600" cy="4319640"/>
          </a:xfrm>
        </p:grpSpPr>
        <p:grpSp>
          <p:nvGrpSpPr>
            <p:cNvPr id="92" name="组合 8217"/>
            <p:cNvGrpSpPr/>
            <p:nvPr/>
          </p:nvGrpSpPr>
          <p:grpSpPr>
            <a:xfrm>
              <a:off x="158760" y="765000"/>
              <a:ext cx="4773600" cy="4319640"/>
              <a:chOff x="158760" y="765000"/>
              <a:chExt cx="4773600" cy="4319640"/>
            </a:xfrm>
          </p:grpSpPr>
          <p:grpSp>
            <p:nvGrpSpPr>
              <p:cNvPr id="93" name="组合 8213"/>
              <p:cNvGrpSpPr/>
              <p:nvPr/>
            </p:nvGrpSpPr>
            <p:grpSpPr>
              <a:xfrm>
                <a:off x="158760" y="1628640"/>
                <a:ext cx="2651040" cy="3456000"/>
                <a:chOff x="158760" y="1628640"/>
                <a:chExt cx="2651040" cy="3456000"/>
              </a:xfrm>
            </p:grpSpPr>
            <p:pic>
              <p:nvPicPr>
                <p:cNvPr id="94" name="图片 8195" descr="0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58760" y="1628640"/>
                  <a:ext cx="2651040" cy="345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文本框 8212"/>
                <p:cNvSpPr/>
                <p:nvPr/>
              </p:nvSpPr>
              <p:spPr>
                <a:xfrm>
                  <a:off x="1044360" y="4653000"/>
                  <a:ext cx="93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b0218"/>
                      </a:solidFill>
                      <a:latin typeface="Arial"/>
                    </a:rPr>
                    <a:t>航模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云形标注 8202"/>
              <p:cNvSpPr/>
              <p:nvPr/>
            </p:nvSpPr>
            <p:spPr>
              <a:xfrm>
                <a:off x="2052360" y="765000"/>
                <a:ext cx="2880000" cy="1224000"/>
              </a:xfrm>
              <a:prstGeom prst="cloudCallout">
                <a:avLst>
                  <a:gd name="adj1" fmla="val -32027"/>
                  <a:gd name="adj2" fmla="val 15233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0fd3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218"/>
            <p:cNvSpPr/>
            <p:nvPr/>
          </p:nvSpPr>
          <p:spPr>
            <a:xfrm>
              <a:off x="2412720" y="981000"/>
              <a:ext cx="22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我们组有男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人，女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8234"/>
          <p:cNvGrpSpPr/>
          <p:nvPr/>
        </p:nvGrpSpPr>
        <p:grpSpPr>
          <a:xfrm>
            <a:off x="2195640" y="2852640"/>
            <a:ext cx="3900240" cy="2527560"/>
            <a:chOff x="2195640" y="2852640"/>
            <a:chExt cx="3900240" cy="2527560"/>
          </a:xfrm>
        </p:grpSpPr>
        <p:grpSp>
          <p:nvGrpSpPr>
            <p:cNvPr id="99" name="组合 8232"/>
            <p:cNvGrpSpPr/>
            <p:nvPr/>
          </p:nvGrpSpPr>
          <p:grpSpPr>
            <a:xfrm>
              <a:off x="2195640" y="2859120"/>
              <a:ext cx="3826800" cy="2521080"/>
              <a:chOff x="2195640" y="2859120"/>
              <a:chExt cx="3826800" cy="2521080"/>
            </a:xfrm>
          </p:grpSpPr>
          <p:grpSp>
            <p:nvGrpSpPr>
              <p:cNvPr id="100" name="组合 8214"/>
              <p:cNvGrpSpPr/>
              <p:nvPr/>
            </p:nvGrpSpPr>
            <p:grpSpPr>
              <a:xfrm>
                <a:off x="2195640" y="2859120"/>
                <a:ext cx="3826800" cy="2521080"/>
                <a:chOff x="2195640" y="2859120"/>
                <a:chExt cx="3826800" cy="2521080"/>
              </a:xfrm>
            </p:grpSpPr>
            <p:pic>
              <p:nvPicPr>
                <p:cNvPr id="101" name="图片 8197" descr="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14560" y="2859120"/>
                  <a:ext cx="3107880" cy="2373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云形标注 8201"/>
                <p:cNvSpPr/>
                <p:nvPr/>
              </p:nvSpPr>
              <p:spPr>
                <a:xfrm>
                  <a:off x="2195640" y="4515120"/>
                  <a:ext cx="3024000" cy="865080"/>
                </a:xfrm>
                <a:prstGeom prst="cloudCallout">
                  <a:avLst>
                    <a:gd name="adj1" fmla="val 48689"/>
                    <a:gd name="adj2" fmla="val -10247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f4d4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文本框 8211"/>
              <p:cNvSpPr/>
              <p:nvPr/>
            </p:nvSpPr>
            <p:spPr>
              <a:xfrm>
                <a:off x="2556000" y="4707000"/>
                <a:ext cx="28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我们组有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4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人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文本框 8226"/>
            <p:cNvSpPr/>
            <p:nvPr/>
          </p:nvSpPr>
          <p:spPr>
            <a:xfrm>
              <a:off x="5160960" y="285264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合唱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8235"/>
          <p:cNvGrpSpPr/>
          <p:nvPr/>
        </p:nvGrpSpPr>
        <p:grpSpPr>
          <a:xfrm>
            <a:off x="5173560" y="692280"/>
            <a:ext cx="3970440" cy="4467240"/>
            <a:chOff x="5173560" y="692280"/>
            <a:chExt cx="3970440" cy="4467240"/>
          </a:xfrm>
        </p:grpSpPr>
        <p:grpSp>
          <p:nvGrpSpPr>
            <p:cNvPr id="106" name="组合 8233"/>
            <p:cNvGrpSpPr/>
            <p:nvPr/>
          </p:nvGrpSpPr>
          <p:grpSpPr>
            <a:xfrm>
              <a:off x="5173560" y="692280"/>
              <a:ext cx="3791160" cy="4465440"/>
              <a:chOff x="5173560" y="692280"/>
              <a:chExt cx="3791160" cy="4465440"/>
            </a:xfrm>
          </p:grpSpPr>
          <p:pic>
            <p:nvPicPr>
              <p:cNvPr id="107" name="图片 8196" descr="02"/>
              <p:cNvPicPr/>
              <p:nvPr/>
            </p:nvPicPr>
            <p:blipFill>
              <a:blip r:embed="rId6">
                <a:lum bright="12000"/>
              </a:blip>
              <a:stretch/>
            </p:blipFill>
            <p:spPr>
              <a:xfrm>
                <a:off x="6110280" y="1989000"/>
                <a:ext cx="2854440" cy="316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云形标注 8203"/>
              <p:cNvSpPr/>
              <p:nvPr/>
            </p:nvSpPr>
            <p:spPr>
              <a:xfrm>
                <a:off x="5173560" y="692280"/>
                <a:ext cx="3456000" cy="1081080"/>
              </a:xfrm>
              <a:prstGeom prst="cloudCallout">
                <a:avLst>
                  <a:gd name="adj1" fmla="val 45819"/>
                  <a:gd name="adj2" fmla="val 113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7a4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文本框 8220"/>
              <p:cNvSpPr/>
              <p:nvPr/>
            </p:nvSpPr>
            <p:spPr>
              <a:xfrm>
                <a:off x="5821200" y="806400"/>
                <a:ext cx="242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我们组的人数是航模组的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倍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文本框 8228"/>
            <p:cNvSpPr/>
            <p:nvPr/>
          </p:nvSpPr>
          <p:spPr>
            <a:xfrm>
              <a:off x="8174160" y="4791240"/>
              <a:ext cx="96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美术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147" descr="Funny0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6153"/>
          <p:cNvSpPr/>
          <p:nvPr/>
        </p:nvSpPr>
        <p:spPr>
          <a:xfrm>
            <a:off x="1403280" y="14065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54"/>
          <p:cNvSpPr/>
          <p:nvPr/>
        </p:nvSpPr>
        <p:spPr>
          <a:xfrm>
            <a:off x="1116000" y="1197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航模组的人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55"/>
          <p:cNvSpPr/>
          <p:nvPr/>
        </p:nvSpPr>
        <p:spPr>
          <a:xfrm>
            <a:off x="2916360" y="1924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 + 6=1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156"/>
          <p:cNvSpPr/>
          <p:nvPr/>
        </p:nvSpPr>
        <p:spPr>
          <a:xfrm>
            <a:off x="1116000" y="25718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术组的人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6157"/>
          <p:cNvSpPr/>
          <p:nvPr/>
        </p:nvSpPr>
        <p:spPr>
          <a:xfrm>
            <a:off x="2843280" y="329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4×2=2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158"/>
          <p:cNvSpPr/>
          <p:nvPr/>
        </p:nvSpPr>
        <p:spPr>
          <a:xfrm>
            <a:off x="898560" y="3940200"/>
            <a:ext cx="79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唱组的人数是美术组人数的几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159"/>
          <p:cNvSpPr/>
          <p:nvPr/>
        </p:nvSpPr>
        <p:spPr>
          <a:xfrm>
            <a:off x="2843280" y="465948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4÷28 =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9224"/>
          <p:cNvSpPr/>
          <p:nvPr/>
        </p:nvSpPr>
        <p:spPr>
          <a:xfrm>
            <a:off x="2340000" y="54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列综合算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9226" descr="gif004"/>
          <p:cNvPicPr/>
          <p:nvPr/>
        </p:nvPicPr>
        <p:blipFill>
          <a:blip r:embed="rId2"/>
          <a:stretch/>
        </p:blipFill>
        <p:spPr>
          <a:xfrm>
            <a:off x="1258920" y="260280"/>
            <a:ext cx="10094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9227"/>
          <p:cNvSpPr/>
          <p:nvPr/>
        </p:nvSpPr>
        <p:spPr>
          <a:xfrm>
            <a:off x="2340000" y="19242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4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+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9228"/>
          <p:cNvSpPr/>
          <p:nvPr/>
        </p:nvSpPr>
        <p:spPr>
          <a:xfrm>
            <a:off x="3132000" y="19242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[                 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08360" y="2637000"/>
            <a:ext cx="1008000" cy="360"/>
            <a:chOff x="3708360" y="2637000"/>
            <a:chExt cx="1008000" cy="360"/>
          </a:xfrm>
        </p:grpSpPr>
        <p:sp>
          <p:nvSpPr>
            <p:cNvPr id="124" name="直接连接符 9229"/>
            <p:cNvSpPr/>
            <p:nvPr/>
          </p:nvSpPr>
          <p:spPr>
            <a:xfrm>
              <a:off x="3708360" y="2637000"/>
              <a:ext cx="1008000" cy="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708360" y="263700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92360" y="2852640"/>
            <a:ext cx="2592360" cy="360"/>
            <a:chOff x="3492360" y="2852640"/>
            <a:chExt cx="2592360" cy="360"/>
          </a:xfrm>
        </p:grpSpPr>
        <p:sp>
          <p:nvSpPr>
            <p:cNvPr id="127" name="直接连接符 9230"/>
            <p:cNvSpPr/>
            <p:nvPr/>
          </p:nvSpPr>
          <p:spPr>
            <a:xfrm>
              <a:off x="3492360" y="2852640"/>
              <a:ext cx="259236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492360" y="285264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411280" y="3068640"/>
            <a:ext cx="3745080" cy="360"/>
            <a:chOff x="2411280" y="3068640"/>
            <a:chExt cx="3745080" cy="360"/>
          </a:xfrm>
        </p:grpSpPr>
        <p:sp>
          <p:nvSpPr>
            <p:cNvPr id="130" name="直接连接符 9231"/>
            <p:cNvSpPr/>
            <p:nvPr/>
          </p:nvSpPr>
          <p:spPr>
            <a:xfrm>
              <a:off x="2411280" y="3068640"/>
              <a:ext cx="3745080" cy="0"/>
            </a:xfrm>
            <a:prstGeom prst="line">
              <a:avLst/>
            </a:prstGeom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2411280" y="3068640"/>
              <a:ext cx="374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9232"/>
          <p:cNvSpPr/>
          <p:nvPr/>
        </p:nvSpPr>
        <p:spPr>
          <a:xfrm>
            <a:off x="1979640" y="32194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84÷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[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×2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233"/>
          <p:cNvSpPr/>
          <p:nvPr/>
        </p:nvSpPr>
        <p:spPr>
          <a:xfrm>
            <a:off x="1979640" y="39402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84 ÷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234"/>
          <p:cNvSpPr/>
          <p:nvPr/>
        </p:nvSpPr>
        <p:spPr>
          <a:xfrm>
            <a:off x="1979640" y="4581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235"/>
          <p:cNvSpPr/>
          <p:nvPr/>
        </p:nvSpPr>
        <p:spPr>
          <a:xfrm>
            <a:off x="1258920" y="5300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合唱组的人数是美术组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2297"/>
          <p:cNvGrpSpPr/>
          <p:nvPr/>
        </p:nvGrpSpPr>
        <p:grpSpPr>
          <a:xfrm>
            <a:off x="900000" y="2349360"/>
            <a:ext cx="7704360" cy="3384360"/>
            <a:chOff x="900000" y="2349360"/>
            <a:chExt cx="7704360" cy="3384360"/>
          </a:xfrm>
        </p:grpSpPr>
        <p:sp>
          <p:nvSpPr>
            <p:cNvPr id="137" name="云形标注 12296"/>
            <p:cNvSpPr/>
            <p:nvPr/>
          </p:nvSpPr>
          <p:spPr>
            <a:xfrm>
              <a:off x="2843280" y="2349360"/>
              <a:ext cx="5761080" cy="3384360"/>
            </a:xfrm>
            <a:prstGeom prst="cloudCallout">
              <a:avLst>
                <a:gd name="adj1" fmla="val -57578"/>
                <a:gd name="adj2" fmla="val -270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12293"/>
            <p:cNvSpPr/>
            <p:nvPr/>
          </p:nvSpPr>
          <p:spPr>
            <a:xfrm>
              <a:off x="3419640" y="2636640"/>
              <a:ext cx="48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一个算式里，既有小括号，又有中括号，要先算小括号里面的，再算中括号里面的，最后算中括号外面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12294" descr="04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900000" y="2565000"/>
              <a:ext cx="1422360" cy="15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文本框 12298"/>
          <p:cNvSpPr/>
          <p:nvPr/>
        </p:nvSpPr>
        <p:spPr>
          <a:xfrm>
            <a:off x="2340000" y="1125360"/>
            <a:ext cx="59770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有中括号的混合运算的顺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0245"/>
          <p:cNvSpPr/>
          <p:nvPr/>
        </p:nvSpPr>
        <p:spPr>
          <a:xfrm>
            <a:off x="2987640" y="62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42× [ 169-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78+3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0246"/>
          <p:cNvSpPr/>
          <p:nvPr/>
        </p:nvSpPr>
        <p:spPr>
          <a:xfrm>
            <a:off x="2843280" y="343548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72÷[ 960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45-16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651640" y="1268280"/>
            <a:ext cx="2089080" cy="360"/>
            <a:chOff x="5651640" y="1268280"/>
            <a:chExt cx="2089080" cy="360"/>
          </a:xfrm>
        </p:grpSpPr>
        <p:sp>
          <p:nvSpPr>
            <p:cNvPr id="144" name="直接连接符 10247"/>
            <p:cNvSpPr/>
            <p:nvPr/>
          </p:nvSpPr>
          <p:spPr>
            <a:xfrm>
              <a:off x="5651640" y="126828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5651640" y="126828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84720" y="1413000"/>
            <a:ext cx="3456000" cy="360"/>
            <a:chOff x="4284720" y="1413000"/>
            <a:chExt cx="3456000" cy="360"/>
          </a:xfrm>
        </p:grpSpPr>
        <p:sp>
          <p:nvSpPr>
            <p:cNvPr id="147" name="直接连接符 10248"/>
            <p:cNvSpPr/>
            <p:nvPr/>
          </p:nvSpPr>
          <p:spPr>
            <a:xfrm>
              <a:off x="4284720" y="1413000"/>
              <a:ext cx="3456000" cy="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4284720" y="141300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32000" y="1557360"/>
            <a:ext cx="4608720" cy="360"/>
            <a:chOff x="3132000" y="1557360"/>
            <a:chExt cx="4608720" cy="360"/>
          </a:xfrm>
        </p:grpSpPr>
        <p:sp>
          <p:nvSpPr>
            <p:cNvPr id="150" name="直接连接符 10249"/>
            <p:cNvSpPr/>
            <p:nvPr/>
          </p:nvSpPr>
          <p:spPr>
            <a:xfrm>
              <a:off x="3132000" y="1557360"/>
              <a:ext cx="4608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3132000" y="1557360"/>
              <a:ext cx="460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940360" y="4076640"/>
            <a:ext cx="2089080" cy="360"/>
            <a:chOff x="5940360" y="4076640"/>
            <a:chExt cx="2089080" cy="360"/>
          </a:xfrm>
        </p:grpSpPr>
        <p:sp>
          <p:nvSpPr>
            <p:cNvPr id="153" name="直接连接符 10250"/>
            <p:cNvSpPr/>
            <p:nvPr/>
          </p:nvSpPr>
          <p:spPr>
            <a:xfrm>
              <a:off x="5940360" y="40766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940360" y="407664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38560" y="4221000"/>
            <a:ext cx="4249800" cy="360"/>
            <a:chOff x="4138560" y="4221000"/>
            <a:chExt cx="4249800" cy="360"/>
          </a:xfrm>
        </p:grpSpPr>
        <p:sp>
          <p:nvSpPr>
            <p:cNvPr id="156" name="直接连接符 10251"/>
            <p:cNvSpPr/>
            <p:nvPr/>
          </p:nvSpPr>
          <p:spPr>
            <a:xfrm>
              <a:off x="4138560" y="4221000"/>
              <a:ext cx="4249800" cy="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38560" y="4221000"/>
              <a:ext cx="424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916360" y="4365720"/>
            <a:ext cx="5400720" cy="360"/>
            <a:chOff x="2916360" y="4365720"/>
            <a:chExt cx="5400720" cy="360"/>
          </a:xfrm>
        </p:grpSpPr>
        <p:sp>
          <p:nvSpPr>
            <p:cNvPr id="159" name="直接连接符 10252"/>
            <p:cNvSpPr/>
            <p:nvPr/>
          </p:nvSpPr>
          <p:spPr>
            <a:xfrm>
              <a:off x="2916360" y="4365720"/>
              <a:ext cx="540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916360" y="436572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10253"/>
          <p:cNvSpPr/>
          <p:nvPr/>
        </p:nvSpPr>
        <p:spPr>
          <a:xfrm>
            <a:off x="2916360" y="1628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42× [ 169-113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0254"/>
          <p:cNvSpPr/>
          <p:nvPr/>
        </p:nvSpPr>
        <p:spPr>
          <a:xfrm>
            <a:off x="2916360" y="2205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42×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255"/>
          <p:cNvSpPr/>
          <p:nvPr/>
        </p:nvSpPr>
        <p:spPr>
          <a:xfrm>
            <a:off x="2916360" y="2787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23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0256"/>
          <p:cNvSpPr/>
          <p:nvPr/>
        </p:nvSpPr>
        <p:spPr>
          <a:xfrm>
            <a:off x="2771640" y="43718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2÷ [ 960÷80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0257"/>
          <p:cNvSpPr/>
          <p:nvPr/>
        </p:nvSpPr>
        <p:spPr>
          <a:xfrm>
            <a:off x="2771640" y="50198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2÷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0258"/>
          <p:cNvSpPr/>
          <p:nvPr/>
        </p:nvSpPr>
        <p:spPr>
          <a:xfrm>
            <a:off x="2771640" y="55958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20:24Z</dcterms:created>
  <dc:creator/>
  <dc:description/>
  <dc:language>en-US</dc:language>
  <cp:lastModifiedBy>Administrator</cp:lastModifiedBy>
  <dcterms:modified xsi:type="dcterms:W3CDTF">2016-03-17T02:20:2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