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chimes.wav" ContentType="audio/x-wav"/>
  <Override PartName="/ppt/media/clic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A12-6B9C-4916-8304-BD52EB5D7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D9BF-B19B-49C4-83CD-D0227831AC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6DBE-A812-4B30-9474-F836673E1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B8E-E110-4EC6-9E6F-FDEE0336DB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0A88-E6A2-470F-8C8C-C9ED2E4DA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497-D5F2-4D6C-8764-E8FA1E62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123-3B9D-4EC6-8E38-9B908EB2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8E9F1-B0E3-4768-9E9A-3C2CD658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25AF4-0203-4E04-A651-1962F30D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4823B-2DCD-420E-B86A-1EB179F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AC9D7-4C25-444A-B820-EA60723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1972F-84BC-46E1-9A29-EEFC4505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520A6-A02C-4FD7-851F-54CE2AF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DC256-2391-45B0-A5E1-11FA924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71B3-8B30-485C-935B-50027179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2AF5-905C-4454-8FE4-39191C7C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A5E46-1AD9-427D-99AF-D5B2CB4B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D6F-C28B-4F05-8C7A-FAD63985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D2512-C4BB-4411-BE1D-0D730BEC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28955-B347-4293-939F-F0B66D9B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5E543-7916-43BB-9386-277881C0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A6BBD-EB2E-45A5-840B-7F11FEEC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94564-A567-438E-81CC-3D1AE9A6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4DF38-DADB-40BE-8572-F17BCFF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50F46-A4AF-4691-BA9C-92916CCB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300C1-EBA1-4E2C-8A80-B47A7C84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3FEAD-8C8A-4084-B42C-C41B0A61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95748-D244-48C2-B7FD-1F6B61F7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302-3563-4044-A098-B1D862C7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28FFF-A95B-4DC2-8FA4-1303C8A1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3324A-7F16-4FED-B91E-CD906149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29BC1-E0FF-47B1-8864-2B6FFC7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BBABC-788D-4E8F-96A2-45E99E3A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3ABEE-2D0F-4F20-B3D7-DBF9C8EE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05AD-C184-4DD3-8D4D-78FAD59F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12936-A076-4A9C-8508-81AF9266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95F3E-56C8-4FF7-A97F-2F11826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DDC67-3254-43F5-AC6A-1BE0D71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6E2B4-7C25-4C4B-B8FF-016F683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B348-12B5-49C5-86F5-5BB9952A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FF08C-D511-4A84-ADAF-A3ED726D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60D47-8D16-4553-A3BC-5F8CAC16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8CC25-94ED-4AEC-9E5E-E85F09F2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EC520-0A25-4FD8-BD1E-6CBD3276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DF272-4FC7-4B63-9BE6-22FA9340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172C7-8CE0-4FE0-8618-F1A97D21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AAA60-1805-463B-B4EC-E6E86914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28BC8-14B6-437D-AE54-F5F3251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D59BD-7DA9-46CE-A932-756A704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3D616-1A86-4E76-AB3B-4AC500A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6790-4F88-4694-8795-79F69C1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FF1DE-3CCF-41D3-B921-F0A90169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E61BA-A576-4072-8FF9-35CE35E8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4551A-0A5F-4E89-BBFF-7660AD9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88AA9-795D-49E5-AA51-1EDA8CD6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360AA-DACA-45AE-B081-4FA251BD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3112-D84E-4960-B1C4-6DCF5C1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5B68-52E3-4052-A017-3C877F20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317-EE87-4F04-BC57-75261BE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7B6D-D013-4DE6-904E-81A280F1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129C-E863-418C-BA3F-1D599BD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95C-E900-4667-A715-FA9FD81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0840-9AC6-44DC-B358-0AACA91E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666C-1EC1-4C20-9B3C-884656F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541F-CAB4-4229-9D0C-C54ED2A1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F18F-BFDC-490D-A28D-E9E510B6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0D8C-EE37-4422-BE45-B56F2D6D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7340-805C-409B-8B46-21AD20A2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6EBE-0139-4633-B37B-76431C45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C475-5659-475C-A43D-5BCA13CF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7B96-1C15-45CB-9EB4-2C2F346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239F-6FD8-486D-A9E7-1444776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623-DF05-4727-A1E8-B8C9C3E5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4A63-4EC2-40AB-90E4-D88C984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D673-81B5-45AC-B5B9-7211FEB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5A013-F059-425B-B405-D3D9D1B8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04EC-5A9D-43D9-A782-C9F9E46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39A22-5BF0-49BD-9F3F-15DD2D8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C4F1-64EF-4536-9ABF-350F9E58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914A-3514-44CB-A080-4F5A89AE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4A00-E487-4C5B-A742-4814107C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61FDC-6CA8-4822-98A4-89D8088E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9632-358C-41B2-80FA-A5DB08E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1C6F-75E5-4010-A6B2-3570EFF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6DB8-369D-4E45-8C0C-9C0A66A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63F6-A0AE-4E62-AFBA-FBD5DE29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2665-72A1-408C-9315-37644A55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6B51-9CD7-4281-95FA-FD32C3FB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62FE-636E-4D99-886E-07CF03A0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9D1A-B430-4247-AED3-8AEFF456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97CC-2F1A-4B39-B505-7C22C109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44B6-454A-4B3A-BCB0-C40D510B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7FB4D-E864-468F-85EA-9D0E18D2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41411-754A-48D9-9A4D-6978BF36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A26-A8E8-497F-9476-3E3A677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D5C3-6A0B-4DF6-8C8B-ADB21BE6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48D69-E55B-4ABB-BE9B-E6557614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26784-0BD5-4906-B911-A89DF5C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941FC-8F6E-4595-8DED-A364E749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C490-DA1B-41E8-81F0-AC532546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0B240-EE42-4B70-A557-03A4097D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F920-F1AC-4721-988C-C9A1C1B2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C1C23-5AA8-4E42-BF5E-1E31FACF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B951-ABA2-4EB4-AA20-B64B987C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1A9D6-BBFE-48CC-BD29-5E9676FB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864-B3FF-4FEE-A80F-644D38B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976B-C0E9-4FF2-BE5F-1D379850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41BC5-5D3C-4024-BFA9-B481C986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98E8-1182-4C3C-9EF4-0C9AAB96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BAD44-DCB3-460B-8862-7F3A62F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F1609-0654-4313-8882-3D2088C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F9C24-3173-49FB-903B-B96D84D3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BA4C7-8DAE-4F40-AFFE-092FA5D5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8E0A0-AF63-4FE9-BF3E-4833B60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0E536-A6CB-4DB3-9C17-4FF349ED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9998-C1AC-468F-8C6C-3105B45E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DFF-F8C7-4177-B1BE-46AF19C8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A048C-F4FE-4F26-8307-1D6897A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1F38-97E6-479A-8C1D-0B9C9473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9957-A160-44A7-8FF7-0E24C98F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F5D5-9014-48B7-9105-2EDFE9AB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4D054-A4E5-4E4C-88F5-21F465C2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0F5DC-808A-4C81-8228-CC99FE1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A84F7-06D3-4FB7-93D3-5EFF678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759F-936A-4FEE-A5CE-3A94F365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60D3D-ED28-4596-87E2-2F7F34FA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B9C4-E66B-4970-B017-6D9739B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F8B-D021-4C2F-BB47-BF70A5F3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BEE3C-B8D5-4C2E-BD1E-C4DE23F6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D0284-48D3-4788-9DF2-6B9EB678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9378-07C1-441A-B6F4-DC0A2BA7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1D1E1-3ADB-425A-B56B-8D493110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09207-DA9A-46D4-B0D2-90216F79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15CB-D012-4FED-8164-D612CED9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66860-F28D-452D-AB46-227DE42C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6F9F1-5D13-4EAB-9E29-B56643F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BA542-9B5A-492F-A7CB-1DE98725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5F784-5B6D-474B-AEAA-1D122F37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06E-8FAA-4735-83D7-1CF86EF9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81DC-5DB0-43A7-ABBC-42E0D1E4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AF4D-5220-4F4A-9C6A-5C08CC5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28B82-89DA-459F-9BE2-3E8E9BB0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42043-5BF2-4464-967D-96D5510D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F3D6D-8D52-4838-AB17-141B8A6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CC0F8-CEB6-4B4D-9C9D-12E23513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1AE6F-CF0D-4E15-B465-EE607624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C6C95-4218-4A6A-8651-340E6D85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66A2-B185-41DD-87C2-9DDFCC2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C88E0-202B-4C6D-90C0-5F385270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344D-9480-4C0B-881A-01359D5E3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C000-535E-4A27-A9DA-FE309AD2C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B6E0-F467-4414-89CA-F3F15D67D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C71D-5B53-4089-ADD1-15DAD1083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B350-5A86-49CA-B40A-A241D9721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E437-0C39-44CE-93B4-9391350B7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414-0B05-48CD-9EA4-1CE7842CF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C442-6593-4F2A-AA61-20400371F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037A-B69F-48E1-8935-FBC96E593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88C0-90DE-40AE-88FB-2EB1315C1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458-025B-441B-AD9B-50D672166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6055-D0F9-43C0-A536-3062EE7E5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9"/>
          <p:cNvSpPr/>
          <p:nvPr/>
        </p:nvSpPr>
        <p:spPr>
          <a:xfrm>
            <a:off x="164772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微软雅黑"/>
              </a:rPr>
              <a:t>两步混合运算（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8" descr="图片1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6" descr="IMG_20141121_151207_副本"/>
          <p:cNvPicPr/>
          <p:nvPr/>
        </p:nvPicPr>
        <p:blipFill>
          <a:blip r:embed="rId2"/>
          <a:stretch/>
        </p:blipFill>
        <p:spPr>
          <a:xfrm>
            <a:off x="768240" y="-19080"/>
            <a:ext cx="7620120" cy="2943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9"/>
          <p:cNvSpPr/>
          <p:nvPr/>
        </p:nvSpPr>
        <p:spPr>
          <a:xfrm>
            <a:off x="-468360" y="2924280"/>
            <a:ext cx="96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小军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本笔记本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个书包，一共用去多少元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0"/>
          <p:cNvSpPr/>
          <p:nvPr/>
        </p:nvSpPr>
        <p:spPr>
          <a:xfrm>
            <a:off x="668160" y="37893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250920" y="4505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5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2"/>
          <p:cNvSpPr/>
          <p:nvPr/>
        </p:nvSpPr>
        <p:spPr>
          <a:xfrm>
            <a:off x="4067280" y="3645000"/>
            <a:ext cx="0" cy="1871640"/>
          </a:xfrm>
          <a:prstGeom prst="line">
            <a:avLst/>
          </a:prstGeom>
          <a:ln w="255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4284720" y="3645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×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4284720" y="421812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5148360" y="422100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4284720" y="479736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4032360" y="573408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一共用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0"/>
          <p:cNvSpPr/>
          <p:nvPr/>
        </p:nvSpPr>
        <p:spPr>
          <a:xfrm>
            <a:off x="5133960" y="364176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4643280" y="422100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4702320" y="479412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5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5278320" y="4794120"/>
            <a:ext cx="21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图片1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IMG_20141121_151207_副本"/>
          <p:cNvPicPr/>
          <p:nvPr/>
        </p:nvPicPr>
        <p:blipFill>
          <a:blip r:embed="rId2"/>
          <a:stretch/>
        </p:blipFill>
        <p:spPr>
          <a:xfrm>
            <a:off x="768240" y="-27000"/>
            <a:ext cx="7620120" cy="2943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6"/>
          <p:cNvSpPr/>
          <p:nvPr/>
        </p:nvSpPr>
        <p:spPr>
          <a:xfrm>
            <a:off x="-468360" y="2924280"/>
            <a:ext cx="96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小晴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盒水彩笔，付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元，应找回多少元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3117960" y="371628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×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2844720" y="43624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4125960" y="436248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2843280" y="5010120"/>
            <a:ext cx="21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2232000" y="58737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应找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8"/>
          <p:cNvSpPr/>
          <p:nvPr/>
        </p:nvSpPr>
        <p:spPr>
          <a:xfrm>
            <a:off x="2771640" y="3713040"/>
            <a:ext cx="16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7"/>
          <p:cNvSpPr/>
          <p:nvPr/>
        </p:nvSpPr>
        <p:spPr>
          <a:xfrm>
            <a:off x="4498920" y="2852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算式中有乘法和加、减法时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8"/>
          <p:cNvSpPr/>
          <p:nvPr/>
        </p:nvSpPr>
        <p:spPr>
          <a:xfrm>
            <a:off x="755640" y="13413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×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9"/>
          <p:cNvSpPr/>
          <p:nvPr/>
        </p:nvSpPr>
        <p:spPr>
          <a:xfrm>
            <a:off x="4413240" y="13413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5×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0"/>
          <p:cNvSpPr/>
          <p:nvPr/>
        </p:nvSpPr>
        <p:spPr>
          <a:xfrm>
            <a:off x="2698560" y="3807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应先算乘法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161928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×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4500720" y="134136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53964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558000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539640" y="21178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539640" y="29242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9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449892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219564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622764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450072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-25236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5"/>
          <p:cNvSpPr/>
          <p:nvPr/>
        </p:nvSpPr>
        <p:spPr>
          <a:xfrm>
            <a:off x="161928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×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500720" y="134136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6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53964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558000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×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539640" y="21178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539640" y="29242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49892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219564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529272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×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450072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-25236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7"/>
          <p:cNvSpPr/>
          <p:nvPr/>
        </p:nvSpPr>
        <p:spPr>
          <a:xfrm>
            <a:off x="539640" y="134136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7×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8"/>
          <p:cNvSpPr/>
          <p:nvPr/>
        </p:nvSpPr>
        <p:spPr>
          <a:xfrm>
            <a:off x="4500720" y="134136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1893960" y="134136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5580000" y="134136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×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539640" y="21178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539640" y="29242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3"/>
          <p:cNvSpPr/>
          <p:nvPr/>
        </p:nvSpPr>
        <p:spPr>
          <a:xfrm>
            <a:off x="449892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1619280" y="2133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5"/>
          <p:cNvSpPr/>
          <p:nvPr/>
        </p:nvSpPr>
        <p:spPr>
          <a:xfrm>
            <a:off x="6227640" y="213372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4500720" y="292428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-252360" y="765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6:43:23Z</dcterms:created>
  <dc:creator/>
  <dc:description/>
  <dc:language>en-US</dc:language>
  <cp:lastModifiedBy>dreamsummit</cp:lastModifiedBy>
  <dcterms:modified xsi:type="dcterms:W3CDTF">2015-05-15T09:28:36Z</dcterms:modified>
  <cp:revision>365</cp:revision>
  <dc:subject/>
  <dc:title>幻灯片 1</dc:title>
</cp:coreProperties>
</file>