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chimes.wav" ContentType="audio/x-wav"/>
  <Override PartName="/ppt/media/click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035D-D956-4C35-A7AE-22B1B1872D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0955-4AA7-41C1-ABAA-85108AA3AD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1A46-301E-4FE3-9CCB-72238C5ACF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F353-4746-4FE4-86FC-1BD5FF48BD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5F47-701F-4636-AB85-E642AE81AE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E811-A9FF-4A3F-831F-1371FD1DE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2D4E-18ED-4467-AEDC-7104DEE6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7F54-6BD6-4E36-BA2F-10CFF6C01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E245-7C19-4A09-909A-2C3578BE1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1C8B-5911-487F-A499-DD3100F48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4953-E51A-4396-B52C-EC38968F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2EE0-16AA-43AB-97CB-647C29A1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F8CB-5EE0-4F83-A94A-A76AE327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D71E-CEFE-4847-B0FE-977BE247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C699-9A86-4E5E-8BB1-70C3A895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CF03-76CC-45B5-987D-2CA9A3F3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908B-5F1B-42AB-861B-252F4CC6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8713-7FFE-43D5-948D-E1ABD7947C4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164772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微软雅黑"/>
              </a:rPr>
              <a:t>两步混合运算（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8" descr="图片1_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11890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29"/>
          <p:cNvSpPr/>
          <p:nvPr/>
        </p:nvSpPr>
        <p:spPr>
          <a:xfrm>
            <a:off x="-468360" y="2781360"/>
            <a:ext cx="96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）买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支钢笔和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个订书机，一共应付多少元？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3"/>
          <p:cNvSpPr/>
          <p:nvPr/>
        </p:nvSpPr>
        <p:spPr>
          <a:xfrm>
            <a:off x="611280" y="350028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40÷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4"/>
          <p:cNvSpPr/>
          <p:nvPr/>
        </p:nvSpPr>
        <p:spPr>
          <a:xfrm>
            <a:off x="539640" y="4076640"/>
            <a:ext cx="12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5"/>
          <p:cNvSpPr/>
          <p:nvPr/>
        </p:nvSpPr>
        <p:spPr>
          <a:xfrm>
            <a:off x="1332000" y="4076640"/>
            <a:ext cx="123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6"/>
          <p:cNvSpPr/>
          <p:nvPr/>
        </p:nvSpPr>
        <p:spPr>
          <a:xfrm>
            <a:off x="525600" y="4721400"/>
            <a:ext cx="21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7"/>
          <p:cNvSpPr/>
          <p:nvPr/>
        </p:nvSpPr>
        <p:spPr>
          <a:xfrm>
            <a:off x="3924360" y="5589720"/>
            <a:ext cx="42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答：一共应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元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0"/>
          <p:cNvSpPr/>
          <p:nvPr/>
        </p:nvSpPr>
        <p:spPr>
          <a:xfrm>
            <a:off x="1692360" y="350028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2"/>
          <p:cNvSpPr/>
          <p:nvPr/>
        </p:nvSpPr>
        <p:spPr>
          <a:xfrm>
            <a:off x="1030320" y="4076640"/>
            <a:ext cx="123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3"/>
          <p:cNvSpPr/>
          <p:nvPr/>
        </p:nvSpPr>
        <p:spPr>
          <a:xfrm>
            <a:off x="1042920" y="4724280"/>
            <a:ext cx="210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0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4"/>
          <p:cNvSpPr/>
          <p:nvPr/>
        </p:nvSpPr>
        <p:spPr>
          <a:xfrm>
            <a:off x="1403280" y="4724280"/>
            <a:ext cx="210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元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6" descr="IMG_20141124_142334_副本_副本"/>
          <p:cNvPicPr/>
          <p:nvPr/>
        </p:nvPicPr>
        <p:blipFill>
          <a:blip r:embed="rId2"/>
          <a:stretch/>
        </p:blipFill>
        <p:spPr>
          <a:xfrm>
            <a:off x="900000" y="0"/>
            <a:ext cx="7391520" cy="26384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7"/>
          <p:cNvSpPr/>
          <p:nvPr/>
        </p:nvSpPr>
        <p:spPr>
          <a:xfrm>
            <a:off x="5133960" y="35002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40÷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8"/>
          <p:cNvSpPr/>
          <p:nvPr/>
        </p:nvSpPr>
        <p:spPr>
          <a:xfrm>
            <a:off x="4716360" y="35002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9"/>
          <p:cNvSpPr/>
          <p:nvPr/>
        </p:nvSpPr>
        <p:spPr>
          <a:xfrm>
            <a:off x="5148360" y="3500280"/>
            <a:ext cx="123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0"/>
          <p:cNvSpPr/>
          <p:nvPr/>
        </p:nvSpPr>
        <p:spPr>
          <a:xfrm>
            <a:off x="4270320" y="4005360"/>
            <a:ext cx="12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1"/>
          <p:cNvSpPr/>
          <p:nvPr/>
        </p:nvSpPr>
        <p:spPr>
          <a:xfrm>
            <a:off x="4716360" y="400536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2"/>
          <p:cNvSpPr/>
          <p:nvPr/>
        </p:nvSpPr>
        <p:spPr>
          <a:xfrm>
            <a:off x="5710320" y="4005360"/>
            <a:ext cx="123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3"/>
          <p:cNvSpPr/>
          <p:nvPr/>
        </p:nvSpPr>
        <p:spPr>
          <a:xfrm>
            <a:off x="4284720" y="4653000"/>
            <a:ext cx="21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4"/>
          <p:cNvSpPr/>
          <p:nvPr/>
        </p:nvSpPr>
        <p:spPr>
          <a:xfrm>
            <a:off x="4788000" y="4649760"/>
            <a:ext cx="21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0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5"/>
          <p:cNvSpPr/>
          <p:nvPr/>
        </p:nvSpPr>
        <p:spPr>
          <a:xfrm>
            <a:off x="5207040" y="4653000"/>
            <a:ext cx="21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元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图片1_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1189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-1044720" y="2708280"/>
            <a:ext cx="9649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盒水彩笔比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支钢笔贵多少元？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2124000" y="3429000"/>
            <a:ext cx="29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2700360" y="407340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4067280" y="4076640"/>
            <a:ext cx="1238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  <a:ea typeface="宋体"/>
              </a:rPr>
              <a:t>8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2700360" y="4797360"/>
            <a:ext cx="21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元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2050920" y="580536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答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盒水彩笔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支钢笔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元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8"/>
          <p:cNvSpPr/>
          <p:nvPr/>
        </p:nvSpPr>
        <p:spPr>
          <a:xfrm>
            <a:off x="3276720" y="3429000"/>
            <a:ext cx="167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9" descr="IMG_20141124_142334_副本_副本"/>
          <p:cNvPicPr/>
          <p:nvPr/>
        </p:nvPicPr>
        <p:blipFill>
          <a:blip r:embed="rId2"/>
          <a:stretch/>
        </p:blipFill>
        <p:spPr>
          <a:xfrm>
            <a:off x="876240" y="-27000"/>
            <a:ext cx="7391520" cy="26384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20"/>
          <p:cNvSpPr/>
          <p:nvPr/>
        </p:nvSpPr>
        <p:spPr>
          <a:xfrm>
            <a:off x="3780000" y="342576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40÷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7"/>
          <p:cNvSpPr/>
          <p:nvPr/>
        </p:nvSpPr>
        <p:spPr>
          <a:xfrm>
            <a:off x="4191840" y="256536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算式中有除法和加、减法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0"/>
          <p:cNvSpPr/>
          <p:nvPr/>
        </p:nvSpPr>
        <p:spPr>
          <a:xfrm>
            <a:off x="2693880" y="364500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应先算除法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1893960" y="134136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60×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4572000" y="1341360"/>
            <a:ext cx="4191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30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611280" y="134136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30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539640" y="2117880"/>
            <a:ext cx="27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30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539640" y="2924280"/>
            <a:ext cx="27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54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4498920" y="2133720"/>
            <a:ext cx="27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30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2482920" y="213372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24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6443640" y="213372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24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4500720" y="292428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6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-252360" y="765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6"/>
          <p:cNvSpPr/>
          <p:nvPr/>
        </p:nvSpPr>
        <p:spPr>
          <a:xfrm>
            <a:off x="5867280" y="134136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60×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4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4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5"/>
          <p:cNvSpPr/>
          <p:nvPr/>
        </p:nvSpPr>
        <p:spPr>
          <a:xfrm>
            <a:off x="1619280" y="134136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38×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500720" y="1341360"/>
            <a:ext cx="4190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9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539640" y="134136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9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5580000" y="134136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38÷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468360" y="211788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9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468360" y="292428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2195640" y="213372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76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4427640" y="292428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7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-252360" y="765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4427640" y="213372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9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6012000" y="213372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9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7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7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7"/>
          <p:cNvSpPr/>
          <p:nvPr/>
        </p:nvSpPr>
        <p:spPr>
          <a:xfrm>
            <a:off x="539640" y="1341360"/>
            <a:ext cx="4191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7×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4500720" y="1341360"/>
            <a:ext cx="4190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7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9"/>
          <p:cNvSpPr/>
          <p:nvPr/>
        </p:nvSpPr>
        <p:spPr>
          <a:xfrm>
            <a:off x="1893960" y="134136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5580000" y="134136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3×2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539640" y="2117880"/>
            <a:ext cx="27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5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539640" y="2924280"/>
            <a:ext cx="27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7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4498920" y="2133720"/>
            <a:ext cx="27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7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1619280" y="213372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5"/>
          <p:cNvSpPr/>
          <p:nvPr/>
        </p:nvSpPr>
        <p:spPr>
          <a:xfrm>
            <a:off x="6227640" y="2133720"/>
            <a:ext cx="27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6"/>
          <p:cNvSpPr/>
          <p:nvPr/>
        </p:nvSpPr>
        <p:spPr>
          <a:xfrm>
            <a:off x="4500720" y="292428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77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7"/>
          <p:cNvSpPr/>
          <p:nvPr/>
        </p:nvSpPr>
        <p:spPr>
          <a:xfrm>
            <a:off x="-252360" y="765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1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1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06:43:23Z</dcterms:created>
  <dc:creator/>
  <dc:description/>
  <dc:language>en-US</dc:language>
  <cp:lastModifiedBy>dreamsummit</cp:lastModifiedBy>
  <dcterms:modified xsi:type="dcterms:W3CDTF">2015-05-15T09:26:53Z</dcterms:modified>
  <cp:revision>385</cp:revision>
  <dc:subject/>
  <dc:title>幻灯片 1</dc:title>
</cp:coreProperties>
</file>