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hammer.wav" ContentType="audio/x-wav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9B3-EE64-4E14-8110-DEF4FD2F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1073-E52D-454B-8191-F5504DEC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DEA-833E-4BE8-AA0C-A0C0DAEA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1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4168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9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1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4168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4EB5-E6C6-45F6-A38B-44949635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9844-9F21-4989-938A-061ECEF4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01B9-99B8-4951-B74C-CEFAC3C8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FD04-3523-43E0-92B7-77457416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4079-3B9D-4D22-9F3D-37D36ECA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A0A9-1898-483B-BB13-4DD40B86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640" y="0"/>
            <a:ext cx="71280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45F7-FA38-4E02-A7A3-AF5AC024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2B8C-ED33-4C04-B2CF-DC19C6B9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49A3-1A76-48DD-8430-DB44BC8B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E317-9C59-41DE-8230-FDCB0AD9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2FB1-E65B-4D9D-A938-21CC2C10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6BF0-3143-440B-A30D-6E493C5D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2791-3637-474B-A0AF-1BF9A487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601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4168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89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601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4168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FF9C-3602-43B2-AB89-FA0854B9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BC5EB-33B3-4E15-B5A0-0FCF3B19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D64DF-EEE6-4BA6-AA01-31326A19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9D274-47DF-48DD-8A14-FD159207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70669-1CE7-4B9C-B2F7-DF156460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26229-5E97-414F-8158-CFA8C052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E86-E8A9-4D78-8B9D-54D28677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9640" y="0"/>
            <a:ext cx="71280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410B2-9FCC-4B2D-8874-1A1E3E2B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B8097-1E75-40E6-963E-CA147DD3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A3820-55B1-4B24-B944-002EDADE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D3FDB-5C7A-4911-A704-868589EB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F8141-A681-4FBC-9798-371C2ACF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BF08D-6103-4786-BB34-5672A9EC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7601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4168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789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7601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34168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41E51-6CFB-48E7-AA9B-DC1BB3A5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FD4D6-2859-4FE2-ADED-E78E028C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4A839-DD12-4EA2-9EE1-5BC8202F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6E4EF-0324-478B-AD3D-E7F169D9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8A6-AA54-4AF8-A1B8-D0255823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A1691-81C4-48B5-A480-6279CB53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FDC86-BB00-47AC-8AD0-491F9CDC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39640" y="0"/>
            <a:ext cx="71280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F88BC-3A85-43BE-9282-7E182898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EF51C-B422-409C-BF76-0366167D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79303-B98A-4F0C-A0C6-49EE2A78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2CFE4-8058-4A98-99D2-FB41390F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53FD3-876F-437B-A5CC-69AD7716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D2ADF-C182-4DE0-A4FC-4AFF7A25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27601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4168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789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27601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34168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9D635-78DB-4A5D-B9B3-4243BC39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C2F3-3AF1-4859-ACDC-677F68C5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0"/>
            <a:ext cx="71280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DF9B-337E-44E9-B02A-C75F51F8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3BF-F75C-459F-B54F-D0899856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0661-C397-4188-AA19-33B7F5D2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9536-7C59-43B7-BA1D-1BD0085A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73B3-2BB2-4F00-AD2D-7E2A2CCE4E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EC78-6AF4-471A-A42F-DE14B43DA9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"/>
          <p:cNvPicPr/>
          <p:nvPr/>
        </p:nvPicPr>
        <p:blipFill>
          <a:blip r:embed="rId3"/>
          <a:stretch/>
        </p:blipFill>
        <p:spPr>
          <a:xfrm>
            <a:off x="-271440" y="-195120"/>
            <a:ext cx="9720360" cy="7281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8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9"/>
          </p:nvPr>
        </p:nvSpPr>
        <p:spPr>
          <a:xfrm>
            <a:off x="655272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3DB5-7F66-4B96-9705-8A517E39E6C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楷体_GB2312"/>
              </a:rPr>
              <a:t>Click to edit the title text format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con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Thir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our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if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ix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ven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1"/>
          <p:cNvPicPr/>
          <p:nvPr/>
        </p:nvPicPr>
        <p:blipFill>
          <a:blip r:embed="rId2"/>
          <a:stretch/>
        </p:blipFill>
        <p:spPr>
          <a:xfrm>
            <a:off x="-271440" y="-195120"/>
            <a:ext cx="9720360" cy="7281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楷体_GB2312"/>
              </a:rPr>
              <a:t>Click to edit the title text format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con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Thir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our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if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ix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ven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436A-9A3D-4F88-ABFF-384DA3D6F4A5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936720" y="1017720"/>
            <a:ext cx="66927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华文行楷"/>
              </a:rPr>
              <a:t>测量角大小的方法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1"/>
          <p:cNvPicPr/>
          <p:nvPr/>
        </p:nvPicPr>
        <p:blipFill>
          <a:blip r:embed="rId2"/>
          <a:srcRect l="0" t="0" r="79207" b="38110"/>
          <a:stretch/>
        </p:blipFill>
        <p:spPr>
          <a:xfrm>
            <a:off x="8101080" y="2565360"/>
            <a:ext cx="123840" cy="365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1"/>
          <p:cNvPicPr/>
          <p:nvPr/>
        </p:nvPicPr>
        <p:blipFill>
          <a:blip r:embed="rId3"/>
          <a:srcRect l="35732" t="0" r="0" b="36159"/>
          <a:stretch/>
        </p:blipFill>
        <p:spPr>
          <a:xfrm>
            <a:off x="4927680" y="2565360"/>
            <a:ext cx="379440" cy="37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1"/>
          <p:cNvPicPr/>
          <p:nvPr/>
        </p:nvPicPr>
        <p:blipFill>
          <a:blip r:embed="rId4"/>
          <a:srcRect l="30122" t="45183" r="0" b="0"/>
          <a:stretch/>
        </p:blipFill>
        <p:spPr>
          <a:xfrm>
            <a:off x="4894200" y="1139760"/>
            <a:ext cx="412920" cy="324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1"/>
          <p:cNvPicPr/>
          <p:nvPr/>
        </p:nvPicPr>
        <p:blipFill>
          <a:blip r:embed="rId5"/>
          <a:srcRect l="0" t="0" r="60915" b="36585"/>
          <a:stretch/>
        </p:blipFill>
        <p:spPr>
          <a:xfrm>
            <a:off x="2340000" y="2638440"/>
            <a:ext cx="231840" cy="374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1"/>
          <p:cNvPicPr/>
          <p:nvPr/>
        </p:nvPicPr>
        <p:blipFill>
          <a:blip r:embed="rId6"/>
          <a:srcRect l="38293" t="0" r="0" b="43659"/>
          <a:stretch/>
        </p:blipFill>
        <p:spPr>
          <a:xfrm>
            <a:off x="549360" y="2709720"/>
            <a:ext cx="365040" cy="333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1"/>
          <p:cNvPicPr/>
          <p:nvPr/>
        </p:nvPicPr>
        <p:blipFill>
          <a:blip r:embed="rId7"/>
          <a:srcRect l="36768" t="55305" r="2988" b="0"/>
          <a:stretch/>
        </p:blipFill>
        <p:spPr>
          <a:xfrm>
            <a:off x="576360" y="1038240"/>
            <a:ext cx="355680" cy="26352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>
            <a:off x="576360" y="693720"/>
            <a:ext cx="2340000" cy="2340000"/>
          </a:xfrm>
          <a:prstGeom prst="rtTriangl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932360" y="981000"/>
            <a:ext cx="3852720" cy="1944720"/>
          </a:xfrm>
          <a:prstGeom prst="rtTriangle">
            <a:avLst/>
          </a:pr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185840" y="3573360"/>
            <a:ext cx="4292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①</a:t>
            </a: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90+45+45=180</a:t>
            </a: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（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187640" y="4546440"/>
            <a:ext cx="4290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书体坊赵九江钢笔楷书"/>
                <a:ea typeface="书体坊赵九江钢笔楷书"/>
              </a:rPr>
              <a:t>②</a:t>
            </a:r>
            <a:r>
              <a:rPr b="1" lang="zh-CN" sz="3200" spc="-1" strike="noStrike">
                <a:solidFill>
                  <a:srgbClr val="003300"/>
                </a:solidFill>
                <a:latin typeface="书体坊赵九江钢笔楷书"/>
                <a:ea typeface="书体坊赵九江钢笔楷书"/>
              </a:rPr>
              <a:t>90+60+30=180</a:t>
            </a:r>
            <a:r>
              <a:rPr b="1" lang="zh-CN" sz="3200" spc="-1" strike="noStrike">
                <a:solidFill>
                  <a:srgbClr val="003300"/>
                </a:solidFill>
                <a:latin typeface="书体坊赵九江钢笔楷书"/>
                <a:ea typeface="书体坊赵九江钢笔楷书"/>
              </a:rPr>
              <a:t>（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519120" y="5546880"/>
            <a:ext cx="5616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▲</a:t>
            </a: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三角形的三个角的和是</a:t>
            </a: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180</a:t>
            </a:r>
            <a:r>
              <a:rPr b="1" lang="zh-CN" sz="3200" spc="-1" strike="noStrike">
                <a:solidFill>
                  <a:srgbClr val="6600cc"/>
                </a:solidFill>
                <a:latin typeface="Impact"/>
                <a:ea typeface="黑体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90560" y="1305000"/>
            <a:ext cx="333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99640" y="2386080"/>
            <a:ext cx="333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763640" y="2384280"/>
            <a:ext cx="333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5147640" y="1449360"/>
            <a:ext cx="333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219640" y="2349360"/>
            <a:ext cx="333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7164360" y="2421000"/>
            <a:ext cx="333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1"/>
          <p:cNvPicPr/>
          <p:nvPr/>
        </p:nvPicPr>
        <p:blipFill>
          <a:blip r:embed="rId2"/>
          <a:srcRect l="0" t="14878" r="47134" b="39390"/>
          <a:stretch/>
        </p:blipFill>
        <p:spPr>
          <a:xfrm>
            <a:off x="6840360" y="2762280"/>
            <a:ext cx="312840" cy="270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1"/>
          <p:cNvPicPr/>
          <p:nvPr/>
        </p:nvPicPr>
        <p:blipFill>
          <a:blip r:embed="rId3"/>
          <a:srcRect l="63720" t="0" r="0" b="43659"/>
          <a:stretch/>
        </p:blipFill>
        <p:spPr>
          <a:xfrm>
            <a:off x="2500200" y="2709720"/>
            <a:ext cx="214560" cy="331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1"/>
          <p:cNvPicPr/>
          <p:nvPr/>
        </p:nvPicPr>
        <p:blipFill>
          <a:blip r:embed="rId4"/>
          <a:srcRect l="11220" t="54878" r="0" b="0"/>
          <a:stretch/>
        </p:blipFill>
        <p:spPr>
          <a:xfrm>
            <a:off x="3665520" y="1341360"/>
            <a:ext cx="525600" cy="2667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2882520" y="3465360"/>
            <a:ext cx="15735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∠</a:t>
            </a: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1=50</a:t>
            </a:r>
            <a:r>
              <a:rPr b="1" lang="zh-CN" sz="3200" spc="-1" strike="noStrike">
                <a:solidFill>
                  <a:srgbClr val="6600cc"/>
                </a:solidFill>
                <a:latin typeface="Impact"/>
                <a:ea typeface="黑体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72960" y="5656320"/>
            <a:ext cx="5616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▲</a:t>
            </a: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三角形的三个角的和是</a:t>
            </a: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180</a:t>
            </a:r>
            <a:r>
              <a:rPr b="1" lang="zh-CN" sz="3200" spc="-1" strike="noStrike">
                <a:solidFill>
                  <a:srgbClr val="6600cc"/>
                </a:solidFill>
                <a:latin typeface="Impact"/>
                <a:ea typeface="黑体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任意多边形 221"/>
          <p:cNvSpPr/>
          <p:nvPr/>
        </p:nvSpPr>
        <p:spPr>
          <a:xfrm>
            <a:off x="2266920" y="1212840"/>
            <a:ext cx="5168880" cy="1805040"/>
          </a:xfrm>
          <a:prstGeom prst="pi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882520" y="4183200"/>
            <a:ext cx="15735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∠</a:t>
            </a: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2=30</a:t>
            </a:r>
            <a:r>
              <a:rPr b="1" lang="zh-CN" sz="3200" spc="-1" strike="noStrike">
                <a:solidFill>
                  <a:srgbClr val="6600cc"/>
                </a:solidFill>
                <a:latin typeface="Impact"/>
                <a:ea typeface="黑体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640960" y="4826160"/>
            <a:ext cx="2987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∠</a:t>
            </a: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3=</a:t>
            </a: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（     ）</a:t>
            </a:r>
            <a:r>
              <a:rPr b="1" lang="zh-CN" sz="3200" spc="-1" strike="noStrike">
                <a:solidFill>
                  <a:srgbClr val="6600cc"/>
                </a:solidFill>
                <a:latin typeface="Impact"/>
                <a:ea typeface="黑体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851280" y="1736640"/>
            <a:ext cx="333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060360" y="2529000"/>
            <a:ext cx="333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5616720" y="2494080"/>
            <a:ext cx="333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1"/>
          <p:cNvPicPr/>
          <p:nvPr/>
        </p:nvPicPr>
        <p:blipFill>
          <a:blip r:embed="rId2"/>
          <a:srcRect l="0" t="4329" r="48415" b="34024"/>
          <a:stretch/>
        </p:blipFill>
        <p:spPr>
          <a:xfrm>
            <a:off x="4394160" y="2698920"/>
            <a:ext cx="304920" cy="365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1"/>
          <p:cNvPicPr/>
          <p:nvPr/>
        </p:nvPicPr>
        <p:blipFill>
          <a:blip r:embed="rId3"/>
          <a:srcRect l="47561" t="0" r="0" b="35915"/>
          <a:stretch/>
        </p:blipFill>
        <p:spPr>
          <a:xfrm>
            <a:off x="2476440" y="2673360"/>
            <a:ext cx="309600" cy="377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1"/>
          <p:cNvPicPr/>
          <p:nvPr/>
        </p:nvPicPr>
        <p:blipFill>
          <a:blip r:embed="rId4"/>
          <a:srcRect l="0" t="58537" r="0" b="0"/>
          <a:stretch/>
        </p:blipFill>
        <p:spPr>
          <a:xfrm>
            <a:off x="3276720" y="1017720"/>
            <a:ext cx="590400" cy="2444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4"/>
          <p:cNvSpPr/>
          <p:nvPr/>
        </p:nvSpPr>
        <p:spPr>
          <a:xfrm>
            <a:off x="1760400" y="3718080"/>
            <a:ext cx="39628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∠</a:t>
            </a: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1=∠2=∠3=</a:t>
            </a: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（   ）</a:t>
            </a:r>
            <a:r>
              <a:rPr b="1" lang="zh-CN" sz="3200" spc="-1" strike="noStrike">
                <a:solidFill>
                  <a:srgbClr val="6600cc"/>
                </a:solidFill>
                <a:latin typeface="Impact"/>
                <a:ea typeface="黑体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2303640" y="512640"/>
            <a:ext cx="2555640" cy="2556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72960" y="5072040"/>
            <a:ext cx="5616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▲</a:t>
            </a: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三角形的三个角的和是</a:t>
            </a: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180</a:t>
            </a:r>
            <a:r>
              <a:rPr b="1" lang="zh-CN" sz="3200" spc="-1" strike="noStrike">
                <a:solidFill>
                  <a:srgbClr val="6600cc"/>
                </a:solidFill>
                <a:latin typeface="Impact"/>
                <a:ea typeface="黑体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419640" y="1341360"/>
            <a:ext cx="333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844360" y="2494080"/>
            <a:ext cx="333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851280" y="2457360"/>
            <a:ext cx="333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任意多边形 351"/>
          <p:cNvSpPr/>
          <p:nvPr/>
        </p:nvSpPr>
        <p:spPr>
          <a:xfrm>
            <a:off x="2235240" y="2827440"/>
            <a:ext cx="326880" cy="30636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1"/>
          <p:cNvPicPr/>
          <p:nvPr/>
        </p:nvPicPr>
        <p:blipFill>
          <a:blip r:embed="rId2"/>
          <a:srcRect l="0" t="0" r="68232" b="45183"/>
          <a:stretch/>
        </p:blipFill>
        <p:spPr>
          <a:xfrm>
            <a:off x="4645080" y="2816280"/>
            <a:ext cx="187200" cy="323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1"/>
          <p:cNvPicPr/>
          <p:nvPr/>
        </p:nvPicPr>
        <p:blipFill>
          <a:blip r:embed="rId3"/>
          <a:srcRect l="39146" t="59817" r="0" b="0"/>
          <a:stretch/>
        </p:blipFill>
        <p:spPr>
          <a:xfrm>
            <a:off x="2211480" y="1225440"/>
            <a:ext cx="358560" cy="2383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4"/>
          <p:cNvSpPr/>
          <p:nvPr/>
        </p:nvSpPr>
        <p:spPr>
          <a:xfrm>
            <a:off x="2162880" y="3681360"/>
            <a:ext cx="15735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∠</a:t>
            </a: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1=50</a:t>
            </a:r>
            <a:r>
              <a:rPr b="1" lang="zh-CN" sz="3200" spc="-1" strike="noStrike">
                <a:solidFill>
                  <a:srgbClr val="6600cc"/>
                </a:solidFill>
                <a:latin typeface="Impact"/>
                <a:ea typeface="黑体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555480" y="5437080"/>
            <a:ext cx="5616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▲</a:t>
            </a: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三角形的三个角的和是</a:t>
            </a: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180</a:t>
            </a:r>
            <a:r>
              <a:rPr b="1" lang="zh-CN" sz="3200" spc="-1" strike="noStrike">
                <a:solidFill>
                  <a:srgbClr val="6600cc"/>
                </a:solidFill>
                <a:latin typeface="Impact"/>
                <a:ea typeface="黑体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232000" y="1017720"/>
            <a:ext cx="2987640" cy="2124000"/>
          </a:xfrm>
          <a:prstGeom prst="rtTriangl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982880" y="4726080"/>
            <a:ext cx="27435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∠</a:t>
            </a: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2=</a:t>
            </a: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（    ）</a:t>
            </a:r>
            <a:r>
              <a:rPr b="1" lang="zh-CN" sz="3200" spc="-1" strike="noStrike">
                <a:solidFill>
                  <a:srgbClr val="6600cc"/>
                </a:solidFill>
                <a:latin typeface="Impact"/>
                <a:ea typeface="黑体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3672000" y="2565360"/>
            <a:ext cx="333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76000" y="1628640"/>
            <a:ext cx="333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1"/>
          <p:cNvPicPr/>
          <p:nvPr/>
        </p:nvPicPr>
        <p:blipFill>
          <a:blip r:embed="rId2"/>
          <a:srcRect l="0" t="0" r="0" b="55305"/>
          <a:stretch/>
        </p:blipFill>
        <p:spPr>
          <a:xfrm>
            <a:off x="4140360" y="3897360"/>
            <a:ext cx="590400" cy="26496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3"/>
          <p:cNvGrpSpPr/>
          <p:nvPr/>
        </p:nvGrpSpPr>
        <p:grpSpPr>
          <a:xfrm>
            <a:off x="214920" y="223200"/>
            <a:ext cx="8460000" cy="4220280"/>
            <a:chOff x="214920" y="223200"/>
            <a:chExt cx="8460000" cy="4220280"/>
          </a:xfrm>
        </p:grpSpPr>
        <p:pic>
          <p:nvPicPr>
            <p:cNvPr id="215" name="Picture 4" descr=""/>
            <p:cNvPicPr/>
            <p:nvPr/>
          </p:nvPicPr>
          <p:blipFill>
            <a:blip r:embed="rId3"/>
            <a:stretch/>
          </p:blipFill>
          <p:spPr>
            <a:xfrm rot="1800">
              <a:off x="215640" y="225360"/>
              <a:ext cx="8457840" cy="42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Oval 5"/>
            <p:cNvSpPr/>
            <p:nvPr/>
          </p:nvSpPr>
          <p:spPr>
            <a:xfrm rot="1800">
              <a:off x="4374360" y="4086720"/>
              <a:ext cx="97560" cy="91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6"/>
          <p:cNvSpPr/>
          <p:nvPr/>
        </p:nvSpPr>
        <p:spPr>
          <a:xfrm flipV="1">
            <a:off x="4465800" y="2673000"/>
            <a:ext cx="4392360" cy="147492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"/>
          <p:cNvSpPr/>
          <p:nvPr/>
        </p:nvSpPr>
        <p:spPr>
          <a:xfrm flipH="1" flipV="1">
            <a:off x="4392360" y="-203400"/>
            <a:ext cx="36360" cy="43844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 flipH="1" flipV="1">
            <a:off x="504360" y="2060640"/>
            <a:ext cx="3922920" cy="20858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"/>
          <p:cNvSpPr/>
          <p:nvPr/>
        </p:nvSpPr>
        <p:spPr>
          <a:xfrm flipH="1" flipV="1">
            <a:off x="71280" y="3789360"/>
            <a:ext cx="4392720" cy="3938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 flipH="1">
            <a:off x="-360" y="4145040"/>
            <a:ext cx="4498920" cy="46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4429080" y="4149720"/>
            <a:ext cx="511164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 flipV="1">
            <a:off x="4465800" y="117000"/>
            <a:ext cx="1584000" cy="399420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2934360" y="3141720"/>
            <a:ext cx="6685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平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870360" y="3141720"/>
            <a:ext cx="10861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180</a:t>
            </a:r>
            <a:r>
              <a:rPr b="1" lang="zh-CN" sz="3200" spc="-1" strike="noStrike">
                <a:solidFill>
                  <a:srgbClr val="6600cc"/>
                </a:solidFill>
                <a:latin typeface="Impact"/>
                <a:ea typeface="黑体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611160" y="3105000"/>
            <a:ext cx="4244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1"/>
          <p:cNvPicPr/>
          <p:nvPr/>
        </p:nvPicPr>
        <p:blipFill>
          <a:blip r:embed="rId2"/>
          <a:srcRect l="0" t="0" r="14207" b="50976"/>
          <a:stretch/>
        </p:blipFill>
        <p:spPr>
          <a:xfrm>
            <a:off x="4464000" y="1917720"/>
            <a:ext cx="506520" cy="289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1"/>
          <p:cNvPicPr/>
          <p:nvPr/>
        </p:nvPicPr>
        <p:blipFill>
          <a:blip r:embed="rId3"/>
          <a:srcRect l="73171" t="0" r="0" b="43902"/>
          <a:stretch/>
        </p:blipFill>
        <p:spPr>
          <a:xfrm>
            <a:off x="5076720" y="1881360"/>
            <a:ext cx="158760" cy="3315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3543120" y="5373720"/>
            <a:ext cx="10094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▲</a:t>
            </a: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平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4638240" y="5373720"/>
            <a:ext cx="13298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=180</a:t>
            </a:r>
            <a:r>
              <a:rPr b="1" lang="zh-CN" sz="3200" spc="-1" strike="noStrike">
                <a:solidFill>
                  <a:srgbClr val="6600cc"/>
                </a:solidFill>
                <a:latin typeface="Impact"/>
                <a:ea typeface="黑体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>
            <a:off x="2448000" y="2205000"/>
            <a:ext cx="475308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 flipV="1">
            <a:off x="4753080" y="836280"/>
            <a:ext cx="1763640" cy="136836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782880" y="2673360"/>
            <a:ext cx="15735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∠</a:t>
            </a: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2=40</a:t>
            </a:r>
            <a:r>
              <a:rPr b="1" lang="zh-CN" sz="3200" spc="-1" strike="noStrike">
                <a:solidFill>
                  <a:srgbClr val="6600cc"/>
                </a:solidFill>
                <a:latin typeface="Impact"/>
                <a:ea typeface="黑体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568680" y="3322800"/>
            <a:ext cx="27432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（    ）</a:t>
            </a:r>
            <a:r>
              <a:rPr b="1" lang="zh-CN" sz="3200" spc="-1" strike="noStrike">
                <a:solidFill>
                  <a:srgbClr val="6600cc"/>
                </a:solidFill>
                <a:latin typeface="Impact"/>
                <a:ea typeface="黑体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743280" y="1665360"/>
            <a:ext cx="333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6012000" y="1628640"/>
            <a:ext cx="333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4716360" y="213372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1"/>
          <p:cNvPicPr/>
          <p:nvPr/>
        </p:nvPicPr>
        <p:blipFill>
          <a:blip r:embed="rId2"/>
          <a:srcRect l="10732" t="0" r="8598" b="68841"/>
          <a:stretch/>
        </p:blipFill>
        <p:spPr>
          <a:xfrm flipH="1" rot="11100000">
            <a:off x="4680000" y="1951920"/>
            <a:ext cx="698400" cy="171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1"/>
          <p:cNvPicPr/>
          <p:nvPr/>
        </p:nvPicPr>
        <p:blipFill>
          <a:blip r:embed="rId3"/>
          <a:srcRect l="10732" t="0" r="8598" b="68841"/>
          <a:stretch/>
        </p:blipFill>
        <p:spPr>
          <a:xfrm rot="420000">
            <a:off x="4679640" y="1599840"/>
            <a:ext cx="753840" cy="184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1"/>
          <p:cNvPicPr/>
          <p:nvPr/>
        </p:nvPicPr>
        <p:blipFill>
          <a:blip r:embed="rId4"/>
          <a:srcRect l="0" t="15061" r="32683" b="31220"/>
          <a:stretch/>
        </p:blipFill>
        <p:spPr>
          <a:xfrm flipH="1" rot="1320600">
            <a:off x="5292720" y="1773000"/>
            <a:ext cx="291960" cy="2210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1"/>
          <p:cNvPicPr/>
          <p:nvPr/>
        </p:nvPicPr>
        <p:blipFill>
          <a:blip r:embed="rId5"/>
          <a:srcRect l="0" t="15061" r="32683" b="31220"/>
          <a:stretch/>
        </p:blipFill>
        <p:spPr>
          <a:xfrm rot="21060000">
            <a:off x="4537080" y="1701720"/>
            <a:ext cx="396720" cy="2160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3543120" y="5373720"/>
            <a:ext cx="10094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▲</a:t>
            </a: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平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638240" y="5373720"/>
            <a:ext cx="13298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=180</a:t>
            </a:r>
            <a:r>
              <a:rPr b="1" lang="zh-CN" sz="3200" spc="-1" strike="noStrike">
                <a:solidFill>
                  <a:srgbClr val="6600cc"/>
                </a:solidFill>
                <a:latin typeface="Impact"/>
                <a:ea typeface="黑体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"/>
          <p:cNvSpPr/>
          <p:nvPr/>
        </p:nvSpPr>
        <p:spPr>
          <a:xfrm flipV="1">
            <a:off x="2448000" y="1520640"/>
            <a:ext cx="4573440" cy="828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782880" y="3249720"/>
            <a:ext cx="15735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∠</a:t>
            </a: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1=40</a:t>
            </a:r>
            <a:r>
              <a:rPr b="1" lang="zh-CN" sz="3200" spc="-1" strike="noStrike">
                <a:solidFill>
                  <a:srgbClr val="6600cc"/>
                </a:solidFill>
                <a:latin typeface="Impact"/>
                <a:ea typeface="黑体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3567960" y="3898800"/>
            <a:ext cx="27435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∠</a:t>
            </a: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2=</a:t>
            </a:r>
            <a:r>
              <a:rPr b="1" lang="zh-CN" sz="32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（    ）</a:t>
            </a:r>
            <a:r>
              <a:rPr b="1" lang="zh-CN" sz="3200" spc="-1" strike="noStrike">
                <a:solidFill>
                  <a:srgbClr val="6600cc"/>
                </a:solidFill>
                <a:latin typeface="Impact"/>
                <a:ea typeface="黑体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2592360" y="946080"/>
            <a:ext cx="4392720" cy="161928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2952360" y="1521000"/>
            <a:ext cx="333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6516360" y="1809720"/>
            <a:ext cx="333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4860360" y="765000"/>
            <a:ext cx="333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777920" y="2481120"/>
            <a:ext cx="333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书体坊赵九江钢笔楷书"/>
                <a:ea typeface="书体坊赵九江钢笔楷书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6"/>
          <p:cNvSpPr/>
          <p:nvPr/>
        </p:nvSpPr>
        <p:spPr>
          <a:xfrm>
            <a:off x="5040360" y="180972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2"/>
          <p:cNvSpPr/>
          <p:nvPr/>
        </p:nvSpPr>
        <p:spPr>
          <a:xfrm>
            <a:off x="577080" y="1557360"/>
            <a:ext cx="216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学书第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83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2"/>
          <p:cNvSpPr/>
          <p:nvPr/>
        </p:nvSpPr>
        <p:spPr>
          <a:xfrm>
            <a:off x="1473120" y="2492280"/>
            <a:ext cx="30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《练习册》“角的度量（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）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2"/>
          <p:cNvSpPr/>
          <p:nvPr/>
        </p:nvSpPr>
        <p:spPr>
          <a:xfrm>
            <a:off x="679680" y="619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数学作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3:37:19Z</dcterms:created>
  <dc:creator/>
  <dc:description/>
  <cp:keywords/>
  <dc:language>en-US</dc:language>
  <cp:lastModifiedBy>dreamsummit</cp:lastModifiedBy>
  <dcterms:modified xsi:type="dcterms:W3CDTF">2015-05-15T09:35:31Z</dcterms:modified>
  <cp:revision>5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