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ECEF-D2C8-42BB-AD37-A724C1D4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A5F6-BD84-46EF-A045-1EB73F008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FF4-B884-4E85-A4B8-CAFB8D01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6EC-7605-4004-BD9E-862BFE4D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684-8730-420C-8E9E-DBDF43E1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320C-F6D8-4837-BE11-80F47528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74D-139C-4AFD-98D6-D436212D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A8C-BDF0-4ABB-8F8A-8268B357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D34-A0AF-4AC5-A552-E9D9A9B5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AB0-24E0-47B0-B286-ADE9E1C3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5BB-A324-465E-BEE5-D6514C70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3F2-F597-4A7D-BF23-6C2369A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A341-DFE8-4FA2-9461-987C3C3879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67619"/>
          <p:cNvSpPr/>
          <p:nvPr/>
        </p:nvSpPr>
        <p:spPr>
          <a:xfrm>
            <a:off x="2771640" y="19954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二    角的度量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311300"/>
          <p:cNvSpPr/>
          <p:nvPr/>
        </p:nvSpPr>
        <p:spPr>
          <a:xfrm>
            <a:off x="395280" y="4386240"/>
            <a:ext cx="842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的计量单位是 “</a:t>
            </a:r>
            <a:r>
              <a:rPr b="1" lang="zh-CN" sz="26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度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符号 “</a:t>
            </a:r>
            <a:r>
              <a:rPr b="1" lang="en-US" sz="2600" spc="-1" strike="noStrike">
                <a:solidFill>
                  <a:srgbClr val="ff0066"/>
                </a:solidFill>
                <a:latin typeface="Times New Roman"/>
                <a:ea typeface="隶书"/>
              </a:rPr>
              <a:t>°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表示。把半圆分成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份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份所对的角的大小是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度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作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311308"/>
          <p:cNvGrpSpPr/>
          <p:nvPr/>
        </p:nvGrpSpPr>
        <p:grpSpPr>
          <a:xfrm>
            <a:off x="2052360" y="5748480"/>
            <a:ext cx="5877000" cy="489960"/>
            <a:chOff x="2052360" y="5748480"/>
            <a:chExt cx="5877000" cy="4899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6167520"/>
              <a:ext cx="4176720" cy="360"/>
              <a:chOff x="2057400" y="6167520"/>
              <a:chExt cx="4176720" cy="360"/>
            </a:xfrm>
          </p:grpSpPr>
          <p:sp>
            <p:nvSpPr>
              <p:cNvPr id="190" name="直接连接符 311302"/>
              <p:cNvSpPr/>
              <p:nvPr/>
            </p:nvSpPr>
            <p:spPr>
              <a:xfrm>
                <a:off x="2057400" y="6167520"/>
                <a:ext cx="417672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2057400" y="6167520"/>
                <a:ext cx="4176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2052360" y="6093000"/>
              <a:ext cx="4196160" cy="68400"/>
              <a:chOff x="2052360" y="6093000"/>
              <a:chExt cx="4196160" cy="68400"/>
            </a:xfrm>
          </p:grpSpPr>
          <p:sp>
            <p:nvSpPr>
              <p:cNvPr id="193" name="直接连接符 311303"/>
              <p:cNvSpPr/>
              <p:nvPr/>
            </p:nvSpPr>
            <p:spPr>
              <a:xfrm flipV="1">
                <a:off x="2052720" y="6093000"/>
                <a:ext cx="4195800" cy="68400"/>
              </a:xfrm>
              <a:prstGeom prst="line">
                <a:avLst/>
              </a:prstGeom>
              <a:ln w="1908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 rot="10800000">
                <a:off x="2052360" y="6093000"/>
                <a:ext cx="4195800" cy="6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矩形 311304"/>
            <p:cNvSpPr/>
            <p:nvPr/>
          </p:nvSpPr>
          <p:spPr>
            <a:xfrm>
              <a:off x="7450200" y="5748480"/>
              <a:ext cx="4791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6273360" y="5995800"/>
              <a:ext cx="1080000" cy="142920"/>
              <a:chOff x="6273360" y="5995800"/>
              <a:chExt cx="1080000" cy="142920"/>
            </a:xfrm>
          </p:grpSpPr>
          <p:sp>
            <p:nvSpPr>
              <p:cNvPr id="197" name="直接连接符 311305"/>
              <p:cNvSpPr/>
              <p:nvPr/>
            </p:nvSpPr>
            <p:spPr>
              <a:xfrm flipV="1">
                <a:off x="6273720" y="5995800"/>
                <a:ext cx="1079640" cy="142920"/>
              </a:xfrm>
              <a:prstGeom prst="line">
                <a:avLst/>
              </a:prstGeom>
              <a:ln w="1908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 rot="10800000">
                <a:off x="6273360" y="5995800"/>
                <a:ext cx="1079640" cy="142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" name="组合 311313"/>
          <p:cNvGrpSpPr/>
          <p:nvPr/>
        </p:nvGrpSpPr>
        <p:grpSpPr>
          <a:xfrm>
            <a:off x="2008080" y="1984320"/>
            <a:ext cx="4724640" cy="2524320"/>
            <a:chOff x="2008080" y="1984320"/>
            <a:chExt cx="4724640" cy="2524320"/>
          </a:xfrm>
        </p:grpSpPr>
        <p:pic>
          <p:nvPicPr>
            <p:cNvPr id="200" name="图片 311309" descr=""/>
            <p:cNvPicPr/>
            <p:nvPr/>
          </p:nvPicPr>
          <p:blipFill>
            <a:blip r:embed="rId1"/>
            <a:stretch/>
          </p:blipFill>
          <p:spPr>
            <a:xfrm>
              <a:off x="2008080" y="1984320"/>
              <a:ext cx="472464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椭圆 311311"/>
            <p:cNvSpPr/>
            <p:nvPr/>
          </p:nvSpPr>
          <p:spPr>
            <a:xfrm>
              <a:off x="4329000" y="4303440"/>
              <a:ext cx="54720" cy="54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311319"/>
          <p:cNvGrpSpPr/>
          <p:nvPr/>
        </p:nvGrpSpPr>
        <p:grpSpPr>
          <a:xfrm>
            <a:off x="1042920" y="901800"/>
            <a:ext cx="6873840" cy="1685880"/>
            <a:chOff x="1042920" y="901800"/>
            <a:chExt cx="6873840" cy="1685880"/>
          </a:xfrm>
        </p:grpSpPr>
        <p:grpSp>
          <p:nvGrpSpPr>
            <p:cNvPr id="203" name="组合 311316"/>
            <p:cNvGrpSpPr/>
            <p:nvPr/>
          </p:nvGrpSpPr>
          <p:grpSpPr>
            <a:xfrm>
              <a:off x="2405160" y="1276200"/>
              <a:ext cx="5511600" cy="634680"/>
              <a:chOff x="2405160" y="1276200"/>
              <a:chExt cx="5511600" cy="634680"/>
            </a:xfrm>
          </p:grpSpPr>
          <p:pic>
            <p:nvPicPr>
              <p:cNvPr id="204" name="图片 311315" descr="P-030"/>
              <p:cNvPicPr/>
              <p:nvPr/>
            </p:nvPicPr>
            <p:blipFill>
              <a:blip r:embed="rId2"/>
              <a:stretch/>
            </p:blipFill>
            <p:spPr>
              <a:xfrm>
                <a:off x="2405160" y="1276200"/>
                <a:ext cx="4692600" cy="63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" name="矩形 311314"/>
              <p:cNvSpPr/>
              <p:nvPr/>
            </p:nvSpPr>
            <p:spPr>
              <a:xfrm>
                <a:off x="2733480" y="1356840"/>
                <a:ext cx="51832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仔细观察，量角器上有什么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?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6" name="图片 311317" descr="小精灵-05"/>
            <p:cNvPicPr/>
            <p:nvPr/>
          </p:nvPicPr>
          <p:blipFill>
            <a:blip r:embed="rId3"/>
            <a:srcRect l="-26227" t="-11055" r="-18031" b="-12571"/>
            <a:stretch/>
          </p:blipFill>
          <p:spPr>
            <a:xfrm>
              <a:off x="1042920" y="901800"/>
              <a:ext cx="1397160" cy="1685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矩形 363530"/>
          <p:cNvSpPr/>
          <p:nvPr/>
        </p:nvSpPr>
        <p:spPr>
          <a:xfrm>
            <a:off x="611280" y="1541520"/>
            <a:ext cx="68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组讨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样测量下面两个角的度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363536"/>
          <p:cNvGrpSpPr/>
          <p:nvPr/>
        </p:nvGrpSpPr>
        <p:grpSpPr>
          <a:xfrm>
            <a:off x="1295280" y="2698200"/>
            <a:ext cx="1987560" cy="1721520"/>
            <a:chOff x="1295280" y="2698200"/>
            <a:chExt cx="1987560" cy="1721520"/>
          </a:xfrm>
        </p:grpSpPr>
        <p:sp>
          <p:nvSpPr>
            <p:cNvPr id="209" name="任意多边形 363534"/>
            <p:cNvSpPr/>
            <p:nvPr/>
          </p:nvSpPr>
          <p:spPr>
            <a:xfrm>
              <a:off x="1317600" y="4138560"/>
              <a:ext cx="271440" cy="270000"/>
            </a:xfrm>
            <a:custGeom>
              <a:avLst/>
              <a:gdLst/>
              <a:ahLst/>
              <a:rect l="l" t="t" r="r" b="b"/>
              <a:pathLst>
                <a:path fill="none" w="21600" h="21415">
                  <a:moveTo>
                    <a:pt x="11880" y="0"/>
                  </a:moveTo>
                  <a:cubicBezTo>
                    <a:pt x="17737" y="3862"/>
                    <a:pt x="21600" y="10499"/>
                    <a:pt x="21600" y="18039"/>
                  </a:cubicBezTo>
                  <a:cubicBezTo>
                    <a:pt x="21600" y="19191"/>
                    <a:pt x="21510" y="20321"/>
                    <a:pt x="21337" y="21417"/>
                  </a:cubicBezTo>
                </a:path>
                <a:path stroke="0" w="21600" h="21415">
                  <a:moveTo>
                    <a:pt x="21334" y="21414"/>
                  </a:moveTo>
                  <a:cubicBezTo>
                    <a:pt x="21543" y="11251"/>
                    <a:pt x="23631" y="3276"/>
                    <a:pt x="26176" y="3276"/>
                  </a:cubicBezTo>
                  <a:cubicBezTo>
                    <a:pt x="28860" y="3276"/>
                    <a:pt x="31036" y="12149"/>
                    <a:pt x="31036" y="23095"/>
                  </a:cubicBezTo>
                  <a:cubicBezTo>
                    <a:pt x="31036" y="24094"/>
                    <a:pt x="31018" y="25076"/>
                    <a:pt x="30983" y="26029"/>
                  </a:cubicBezTo>
                  <a:lnTo>
                    <a:pt x="11880" y="0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组合 363533"/>
            <p:cNvGrpSpPr/>
            <p:nvPr/>
          </p:nvGrpSpPr>
          <p:grpSpPr>
            <a:xfrm>
              <a:off x="1295280" y="2698200"/>
              <a:ext cx="1987560" cy="1721520"/>
              <a:chOff x="1295280" y="2698200"/>
              <a:chExt cx="1987560" cy="1721520"/>
            </a:xfrm>
          </p:grpSpPr>
          <p:grpSp>
            <p:nvGrpSpPr>
              <p:cNvPr id="211" name=""/>
              <p:cNvGrpSpPr/>
              <p:nvPr/>
            </p:nvGrpSpPr>
            <p:grpSpPr>
              <a:xfrm>
                <a:off x="1295280" y="4418640"/>
                <a:ext cx="1987560" cy="360"/>
                <a:chOff x="1295280" y="4418640"/>
                <a:chExt cx="1987560" cy="360"/>
              </a:xfrm>
            </p:grpSpPr>
            <p:sp>
              <p:nvSpPr>
                <p:cNvPr id="212" name="直接连接符 363531"/>
                <p:cNvSpPr/>
                <p:nvPr/>
              </p:nvSpPr>
              <p:spPr>
                <a:xfrm>
                  <a:off x="1295280" y="4418640"/>
                  <a:ext cx="1987560" cy="0"/>
                </a:xfrm>
                <a:prstGeom prst="line">
                  <a:avLst/>
                </a:prstGeom>
                <a:ln w="2232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1295280" y="4418640"/>
                  <a:ext cx="198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1295280" y="2698200"/>
                <a:ext cx="994320" cy="1721520"/>
                <a:chOff x="1295280" y="2698200"/>
                <a:chExt cx="994320" cy="1721520"/>
              </a:xfrm>
            </p:grpSpPr>
            <p:sp>
              <p:nvSpPr>
                <p:cNvPr id="215" name="直接连接符 363532"/>
                <p:cNvSpPr/>
                <p:nvPr/>
              </p:nvSpPr>
              <p:spPr>
                <a:xfrm flipH="1">
                  <a:off x="1295280" y="2698560"/>
                  <a:ext cx="993960" cy="1721160"/>
                </a:xfrm>
                <a:prstGeom prst="line">
                  <a:avLst/>
                </a:prstGeom>
                <a:ln w="2232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 rot="18000000">
                  <a:off x="798840" y="3558600"/>
                  <a:ext cx="19875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矩形 363535"/>
            <p:cNvSpPr/>
            <p:nvPr/>
          </p:nvSpPr>
          <p:spPr>
            <a:xfrm>
              <a:off x="1619280" y="3890880"/>
              <a:ext cx="4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363543"/>
          <p:cNvGrpSpPr/>
          <p:nvPr/>
        </p:nvGrpSpPr>
        <p:grpSpPr>
          <a:xfrm>
            <a:off x="4829040" y="2698200"/>
            <a:ext cx="2976840" cy="1722960"/>
            <a:chOff x="4829040" y="2698200"/>
            <a:chExt cx="2976840" cy="1722960"/>
          </a:xfrm>
        </p:grpSpPr>
        <p:sp>
          <p:nvSpPr>
            <p:cNvPr id="219" name="任意多边形 363538"/>
            <p:cNvSpPr/>
            <p:nvPr/>
          </p:nvSpPr>
          <p:spPr>
            <a:xfrm>
              <a:off x="6563880" y="4094280"/>
              <a:ext cx="409680" cy="326880"/>
            </a:xfrm>
            <a:custGeom>
              <a:avLst/>
              <a:gdLst/>
              <a:ahLst/>
              <a:rect l="l" t="t" r="r" b="b"/>
              <a:pathLst>
                <a:path fill="none" w="32578" h="25868">
                  <a:moveTo>
                    <a:pt x="425" y="25867"/>
                  </a:moveTo>
                  <a:cubicBezTo>
                    <a:pt x="144" y="24490"/>
                    <a:pt x="-1" y="23062"/>
                    <a:pt x="-1" y="21600"/>
                  </a:cubicBezTo>
                  <a:cubicBezTo>
                    <a:pt x="-1" y="9671"/>
                    <a:pt x="9670" y="0"/>
                    <a:pt x="21599" y="0"/>
                  </a:cubicBezTo>
                  <a:cubicBezTo>
                    <a:pt x="25608" y="0"/>
                    <a:pt x="29362" y="1092"/>
                    <a:pt x="32578" y="2995"/>
                  </a:cubicBezTo>
                </a:path>
                <a:path stroke="0" w="32578" h="25868">
                  <a:moveTo>
                    <a:pt x="32577" y="2997"/>
                  </a:moveTo>
                  <a:cubicBezTo>
                    <a:pt x="22147" y="2417"/>
                    <a:pt x="14120" y="-1205"/>
                    <a:pt x="14120" y="-5587"/>
                  </a:cubicBezTo>
                  <a:cubicBezTo>
                    <a:pt x="14120" y="-10373"/>
                    <a:pt x="23695" y="-14253"/>
                    <a:pt x="35507" y="-14253"/>
                  </a:cubicBezTo>
                  <a:cubicBezTo>
                    <a:pt x="47319" y="-14253"/>
                    <a:pt x="56894" y="-10373"/>
                    <a:pt x="56894" y="-5587"/>
                  </a:cubicBezTo>
                  <a:cubicBezTo>
                    <a:pt x="56894" y="-1543"/>
                    <a:pt x="50059" y="1854"/>
                    <a:pt x="40820" y="2809"/>
                  </a:cubicBezTo>
                  <a:lnTo>
                    <a:pt x="425" y="25867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4829040" y="4419720"/>
              <a:ext cx="1987560" cy="360"/>
              <a:chOff x="4829040" y="4419720"/>
              <a:chExt cx="1987560" cy="360"/>
            </a:xfrm>
          </p:grpSpPr>
          <p:sp>
            <p:nvSpPr>
              <p:cNvPr id="221" name="直接连接符 363540"/>
              <p:cNvSpPr/>
              <p:nvPr/>
            </p:nvSpPr>
            <p:spPr>
              <a:xfrm>
                <a:off x="4829040" y="4419720"/>
                <a:ext cx="1987560" cy="0"/>
              </a:xfrm>
              <a:prstGeom prst="line">
                <a:avLst/>
              </a:prstGeom>
              <a:ln w="2232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4829040" y="4419720"/>
                <a:ext cx="1987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6811920" y="2698200"/>
              <a:ext cx="993960" cy="1721520"/>
              <a:chOff x="6811920" y="2698200"/>
              <a:chExt cx="993960" cy="1721520"/>
            </a:xfrm>
          </p:grpSpPr>
          <p:sp>
            <p:nvSpPr>
              <p:cNvPr id="224" name="直接连接符 363541"/>
              <p:cNvSpPr/>
              <p:nvPr/>
            </p:nvSpPr>
            <p:spPr>
              <a:xfrm flipH="1">
                <a:off x="6811920" y="2698560"/>
                <a:ext cx="993600" cy="1721160"/>
              </a:xfrm>
              <a:prstGeom prst="line">
                <a:avLst/>
              </a:prstGeom>
              <a:ln w="2232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 rot="18000000">
                <a:off x="6315120" y="3558600"/>
                <a:ext cx="1987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矩形 363542"/>
            <p:cNvSpPr/>
            <p:nvPr/>
          </p:nvSpPr>
          <p:spPr>
            <a:xfrm>
              <a:off x="6367320" y="3689280"/>
              <a:ext cx="444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357380"/>
          <p:cNvSpPr/>
          <p:nvPr/>
        </p:nvSpPr>
        <p:spPr>
          <a:xfrm>
            <a:off x="1405080" y="1262160"/>
            <a:ext cx="7127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量角器量下面的两组角，比较一下它们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小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357381"/>
          <p:cNvGrpSpPr/>
          <p:nvPr/>
        </p:nvGrpSpPr>
        <p:grpSpPr>
          <a:xfrm>
            <a:off x="684360" y="1333440"/>
            <a:ext cx="679320" cy="671400"/>
            <a:chOff x="684360" y="1333440"/>
            <a:chExt cx="679320" cy="671400"/>
          </a:xfrm>
        </p:grpSpPr>
        <p:pic>
          <p:nvPicPr>
            <p:cNvPr id="229" name="图片 357382" descr="yaya 拷贝"/>
            <p:cNvPicPr/>
            <p:nvPr/>
          </p:nvPicPr>
          <p:blipFill>
            <a:blip r:embed="rId1"/>
            <a:stretch/>
          </p:blipFill>
          <p:spPr>
            <a:xfrm>
              <a:off x="684360" y="1333440"/>
              <a:ext cx="679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矩形 357383"/>
            <p:cNvSpPr/>
            <p:nvPr/>
          </p:nvSpPr>
          <p:spPr>
            <a:xfrm>
              <a:off x="753840" y="147312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粗圆简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粗圆简体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357394"/>
          <p:cNvGrpSpPr/>
          <p:nvPr/>
        </p:nvGrpSpPr>
        <p:grpSpPr>
          <a:xfrm>
            <a:off x="1619280" y="2917440"/>
            <a:ext cx="1481040" cy="778680"/>
            <a:chOff x="1619280" y="2917440"/>
            <a:chExt cx="1481040" cy="778680"/>
          </a:xfrm>
        </p:grpSpPr>
        <p:grpSp>
          <p:nvGrpSpPr>
            <p:cNvPr id="232" name=""/>
            <p:cNvGrpSpPr/>
            <p:nvPr/>
          </p:nvGrpSpPr>
          <p:grpSpPr>
            <a:xfrm>
              <a:off x="1622880" y="2917440"/>
              <a:ext cx="1341360" cy="775080"/>
              <a:chOff x="1622880" y="2917440"/>
              <a:chExt cx="1341360" cy="775080"/>
            </a:xfrm>
          </p:grpSpPr>
          <p:sp>
            <p:nvSpPr>
              <p:cNvPr id="233" name="直接连接符 357395"/>
              <p:cNvSpPr/>
              <p:nvPr/>
            </p:nvSpPr>
            <p:spPr>
              <a:xfrm flipV="1">
                <a:off x="1623240" y="2917440"/>
                <a:ext cx="1341000" cy="77508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 rot="10800000">
                <a:off x="1622880" y="2917440"/>
                <a:ext cx="1341000" cy="775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619280" y="3695760"/>
              <a:ext cx="1481040" cy="360"/>
              <a:chOff x="1619280" y="3695760"/>
              <a:chExt cx="1481040" cy="360"/>
            </a:xfrm>
          </p:grpSpPr>
          <p:sp>
            <p:nvSpPr>
              <p:cNvPr id="236" name="直接连接符 357396"/>
              <p:cNvSpPr/>
              <p:nvPr/>
            </p:nvSpPr>
            <p:spPr>
              <a:xfrm>
                <a:off x="1619280" y="3695760"/>
                <a:ext cx="14810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>
                <a:off x="1619280" y="3695760"/>
                <a:ext cx="1481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8" name="组合 357397"/>
          <p:cNvGrpSpPr/>
          <p:nvPr/>
        </p:nvGrpSpPr>
        <p:grpSpPr>
          <a:xfrm>
            <a:off x="4665600" y="2349360"/>
            <a:ext cx="2565360" cy="1346760"/>
            <a:chOff x="4665600" y="2349360"/>
            <a:chExt cx="2565360" cy="1346760"/>
          </a:xfrm>
        </p:grpSpPr>
        <p:grpSp>
          <p:nvGrpSpPr>
            <p:cNvPr id="239" name=""/>
            <p:cNvGrpSpPr/>
            <p:nvPr/>
          </p:nvGrpSpPr>
          <p:grpSpPr>
            <a:xfrm>
              <a:off x="4672080" y="2349360"/>
              <a:ext cx="2322720" cy="1341360"/>
              <a:chOff x="4672080" y="2349360"/>
              <a:chExt cx="2322720" cy="1341360"/>
            </a:xfrm>
          </p:grpSpPr>
          <p:sp>
            <p:nvSpPr>
              <p:cNvPr id="240" name="直接连接符 357398"/>
              <p:cNvSpPr/>
              <p:nvPr/>
            </p:nvSpPr>
            <p:spPr>
              <a:xfrm flipV="1">
                <a:off x="4672440" y="2349360"/>
                <a:ext cx="2322360" cy="1341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 rot="10800000">
                <a:off x="4672080" y="2349360"/>
                <a:ext cx="2322360" cy="134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665600" y="3695760"/>
              <a:ext cx="2565360" cy="360"/>
              <a:chOff x="4665600" y="3695760"/>
              <a:chExt cx="2565360" cy="360"/>
            </a:xfrm>
          </p:grpSpPr>
          <p:sp>
            <p:nvSpPr>
              <p:cNvPr id="243" name="直接连接符 357399"/>
              <p:cNvSpPr/>
              <p:nvPr/>
            </p:nvSpPr>
            <p:spPr>
              <a:xfrm>
                <a:off x="4665600" y="3695760"/>
                <a:ext cx="25653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4665600" y="3695760"/>
                <a:ext cx="2565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5" name="组合 357400"/>
          <p:cNvGrpSpPr/>
          <p:nvPr/>
        </p:nvGrpSpPr>
        <p:grpSpPr>
          <a:xfrm>
            <a:off x="1587240" y="4725720"/>
            <a:ext cx="1329120" cy="1224720"/>
            <a:chOff x="1587240" y="4725720"/>
            <a:chExt cx="1329120" cy="1224720"/>
          </a:xfrm>
        </p:grpSpPr>
        <p:grpSp>
          <p:nvGrpSpPr>
            <p:cNvPr id="246" name=""/>
            <p:cNvGrpSpPr/>
            <p:nvPr/>
          </p:nvGrpSpPr>
          <p:grpSpPr>
            <a:xfrm>
              <a:off x="2206440" y="4725720"/>
              <a:ext cx="702720" cy="1218600"/>
              <a:chOff x="2206440" y="4725720"/>
              <a:chExt cx="702720" cy="1218600"/>
            </a:xfrm>
          </p:grpSpPr>
          <p:sp>
            <p:nvSpPr>
              <p:cNvPr id="247" name="直接连接符 357401"/>
              <p:cNvSpPr/>
              <p:nvPr/>
            </p:nvSpPr>
            <p:spPr>
              <a:xfrm flipH="1" flipV="1">
                <a:off x="2206440" y="4725720"/>
                <a:ext cx="702720" cy="1218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 txBox="1"/>
              <p:nvPr/>
            </p:nvSpPr>
            <p:spPr>
              <a:xfrm rot="10800000">
                <a:off x="2206440" y="4725720"/>
                <a:ext cx="702720" cy="121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1587240" y="5950080"/>
              <a:ext cx="1329120" cy="360"/>
              <a:chOff x="1587240" y="5950080"/>
              <a:chExt cx="1329120" cy="360"/>
            </a:xfrm>
          </p:grpSpPr>
          <p:sp>
            <p:nvSpPr>
              <p:cNvPr id="250" name="直接连接符 357402"/>
              <p:cNvSpPr/>
              <p:nvPr/>
            </p:nvSpPr>
            <p:spPr>
              <a:xfrm flipH="1">
                <a:off x="1587240" y="5950080"/>
                <a:ext cx="13287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1587600" y="595008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组合 357403"/>
          <p:cNvGrpSpPr/>
          <p:nvPr/>
        </p:nvGrpSpPr>
        <p:grpSpPr>
          <a:xfrm>
            <a:off x="3708000" y="4576320"/>
            <a:ext cx="1328760" cy="1374120"/>
            <a:chOff x="3708000" y="4576320"/>
            <a:chExt cx="1328760" cy="1374120"/>
          </a:xfrm>
        </p:grpSpPr>
        <p:grpSp>
          <p:nvGrpSpPr>
            <p:cNvPr id="253" name=""/>
            <p:cNvGrpSpPr/>
            <p:nvPr/>
          </p:nvGrpSpPr>
          <p:grpSpPr>
            <a:xfrm>
              <a:off x="5030640" y="4576320"/>
              <a:ext cx="2520" cy="1368360"/>
              <a:chOff x="5030640" y="4576320"/>
              <a:chExt cx="2520" cy="1368360"/>
            </a:xfrm>
          </p:grpSpPr>
          <p:sp>
            <p:nvSpPr>
              <p:cNvPr id="254" name="直接连接符 357404"/>
              <p:cNvSpPr/>
              <p:nvPr/>
            </p:nvSpPr>
            <p:spPr>
              <a:xfrm flipV="1">
                <a:off x="5030640" y="4576320"/>
                <a:ext cx="2520" cy="1368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 rot="10800000">
                <a:off x="5030640" y="4576320"/>
                <a:ext cx="2520" cy="136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3708000" y="5950080"/>
              <a:ext cx="1328760" cy="360"/>
              <a:chOff x="3708000" y="5950080"/>
              <a:chExt cx="1328760" cy="360"/>
            </a:xfrm>
          </p:grpSpPr>
          <p:sp>
            <p:nvSpPr>
              <p:cNvPr id="257" name="直接连接符 357405"/>
              <p:cNvSpPr/>
              <p:nvPr/>
            </p:nvSpPr>
            <p:spPr>
              <a:xfrm flipH="1">
                <a:off x="3708000" y="5950080"/>
                <a:ext cx="13287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 txBox="1"/>
              <p:nvPr/>
            </p:nvSpPr>
            <p:spPr>
              <a:xfrm>
                <a:off x="3708000" y="5950080"/>
                <a:ext cx="1328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9" name="组合 357406"/>
          <p:cNvGrpSpPr/>
          <p:nvPr/>
        </p:nvGrpSpPr>
        <p:grpSpPr>
          <a:xfrm>
            <a:off x="5867280" y="4792680"/>
            <a:ext cx="2292120" cy="1157760"/>
            <a:chOff x="5867280" y="4792680"/>
            <a:chExt cx="2292120" cy="1157760"/>
          </a:xfrm>
        </p:grpSpPr>
        <p:grpSp>
          <p:nvGrpSpPr>
            <p:cNvPr id="260" name=""/>
            <p:cNvGrpSpPr/>
            <p:nvPr/>
          </p:nvGrpSpPr>
          <p:grpSpPr>
            <a:xfrm>
              <a:off x="7188120" y="4792680"/>
              <a:ext cx="971280" cy="1152000"/>
              <a:chOff x="7188120" y="4792680"/>
              <a:chExt cx="971280" cy="1152000"/>
            </a:xfrm>
          </p:grpSpPr>
          <p:sp>
            <p:nvSpPr>
              <p:cNvPr id="261" name="直接连接符 357407"/>
              <p:cNvSpPr/>
              <p:nvPr/>
            </p:nvSpPr>
            <p:spPr>
              <a:xfrm flipV="1">
                <a:off x="7188480" y="4792680"/>
                <a:ext cx="970920" cy="11520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 rot="10800000">
                <a:off x="7188120" y="4792680"/>
                <a:ext cx="970920" cy="1152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867280" y="5950080"/>
              <a:ext cx="1328400" cy="360"/>
              <a:chOff x="5867280" y="5950080"/>
              <a:chExt cx="1328400" cy="360"/>
            </a:xfrm>
          </p:grpSpPr>
          <p:sp>
            <p:nvSpPr>
              <p:cNvPr id="264" name="直接连接符 357408"/>
              <p:cNvSpPr/>
              <p:nvPr/>
            </p:nvSpPr>
            <p:spPr>
              <a:xfrm flipH="1">
                <a:off x="5867280" y="5950080"/>
                <a:ext cx="132840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 txBox="1"/>
              <p:nvPr/>
            </p:nvSpPr>
            <p:spPr>
              <a:xfrm>
                <a:off x="5867280" y="5950080"/>
                <a:ext cx="13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组合 320533"/>
          <p:cNvGrpSpPr/>
          <p:nvPr/>
        </p:nvGrpSpPr>
        <p:grpSpPr>
          <a:xfrm>
            <a:off x="1401840" y="1484280"/>
            <a:ext cx="6291360" cy="3360600"/>
            <a:chOff x="1401840" y="1484280"/>
            <a:chExt cx="6291360" cy="3360600"/>
          </a:xfrm>
        </p:grpSpPr>
        <p:pic>
          <p:nvPicPr>
            <p:cNvPr id="267" name="图片 320531" descr=""/>
            <p:cNvPicPr/>
            <p:nvPr/>
          </p:nvPicPr>
          <p:blipFill>
            <a:blip r:embed="rId1"/>
            <a:stretch/>
          </p:blipFill>
          <p:spPr>
            <a:xfrm>
              <a:off x="1401840" y="1484280"/>
              <a:ext cx="6291360" cy="33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椭圆 320532"/>
            <p:cNvSpPr/>
            <p:nvPr/>
          </p:nvSpPr>
          <p:spPr>
            <a:xfrm>
              <a:off x="4496040" y="4562280"/>
              <a:ext cx="7308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320534"/>
          <p:cNvGrpSpPr/>
          <p:nvPr/>
        </p:nvGrpSpPr>
        <p:grpSpPr>
          <a:xfrm>
            <a:off x="7142760" y="4130280"/>
            <a:ext cx="1033920" cy="569520"/>
            <a:chOff x="7142760" y="4130280"/>
            <a:chExt cx="1033920" cy="569520"/>
          </a:xfrm>
        </p:grpSpPr>
        <p:sp>
          <p:nvSpPr>
            <p:cNvPr id="270" name="矩形 320526"/>
            <p:cNvSpPr/>
            <p:nvPr/>
          </p:nvSpPr>
          <p:spPr>
            <a:xfrm rot="20019000">
              <a:off x="7236000" y="4169880"/>
              <a:ext cx="293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宋体"/>
                </a:rPr>
                <a:t>)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320527"/>
            <p:cNvSpPr/>
            <p:nvPr/>
          </p:nvSpPr>
          <p:spPr>
            <a:xfrm>
              <a:off x="7531200" y="413532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30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组合 320525"/>
          <p:cNvGrpSpPr/>
          <p:nvPr/>
        </p:nvGrpSpPr>
        <p:grpSpPr>
          <a:xfrm>
            <a:off x="6802560" y="3678120"/>
            <a:ext cx="1657080" cy="937080"/>
            <a:chOff x="6802560" y="3678120"/>
            <a:chExt cx="1657080" cy="937080"/>
          </a:xfrm>
        </p:grpSpPr>
        <p:grpSp>
          <p:nvGrpSpPr>
            <p:cNvPr id="273" name=""/>
            <p:cNvGrpSpPr/>
            <p:nvPr/>
          </p:nvGrpSpPr>
          <p:grpSpPr>
            <a:xfrm>
              <a:off x="6810480" y="3678120"/>
              <a:ext cx="1612080" cy="930240"/>
              <a:chOff x="6810480" y="3678120"/>
              <a:chExt cx="1612080" cy="930240"/>
            </a:xfrm>
          </p:grpSpPr>
          <p:sp>
            <p:nvSpPr>
              <p:cNvPr id="274" name="直接连接符 320518"/>
              <p:cNvSpPr/>
              <p:nvPr/>
            </p:nvSpPr>
            <p:spPr>
              <a:xfrm flipV="1">
                <a:off x="6810840" y="3678120"/>
                <a:ext cx="1611720" cy="93024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 rot="10800000">
                <a:off x="6810480" y="3678120"/>
                <a:ext cx="1611720" cy="930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6802560" y="4614840"/>
              <a:ext cx="1657080" cy="360"/>
              <a:chOff x="6802560" y="4614840"/>
              <a:chExt cx="1657080" cy="360"/>
            </a:xfrm>
          </p:grpSpPr>
          <p:sp>
            <p:nvSpPr>
              <p:cNvPr id="277" name="直接连接符 320519"/>
              <p:cNvSpPr/>
              <p:nvPr/>
            </p:nvSpPr>
            <p:spPr>
              <a:xfrm>
                <a:off x="6802560" y="4614840"/>
                <a:ext cx="16570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6802560" y="4614840"/>
                <a:ext cx="165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35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352271"/>
          <p:cNvGrpSpPr/>
          <p:nvPr/>
        </p:nvGrpSpPr>
        <p:grpSpPr>
          <a:xfrm>
            <a:off x="517680" y="1484280"/>
            <a:ext cx="6291000" cy="3360600"/>
            <a:chOff x="517680" y="1484280"/>
            <a:chExt cx="6291000" cy="3360600"/>
          </a:xfrm>
        </p:grpSpPr>
        <p:pic>
          <p:nvPicPr>
            <p:cNvPr id="280" name="图片 352272" descr=""/>
            <p:cNvPicPr/>
            <p:nvPr/>
          </p:nvPicPr>
          <p:blipFill>
            <a:blip r:embed="rId1"/>
            <a:stretch/>
          </p:blipFill>
          <p:spPr>
            <a:xfrm>
              <a:off x="517680" y="1484280"/>
              <a:ext cx="6291000" cy="336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椭圆 352273"/>
            <p:cNvSpPr/>
            <p:nvPr/>
          </p:nvSpPr>
          <p:spPr>
            <a:xfrm>
              <a:off x="3611520" y="4562280"/>
              <a:ext cx="72720" cy="7272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352270"/>
          <p:cNvGrpSpPr/>
          <p:nvPr/>
        </p:nvGrpSpPr>
        <p:grpSpPr>
          <a:xfrm>
            <a:off x="4665600" y="2774520"/>
            <a:ext cx="3506760" cy="1840680"/>
            <a:chOff x="4665600" y="2774520"/>
            <a:chExt cx="3506760" cy="1840680"/>
          </a:xfrm>
        </p:grpSpPr>
        <p:grpSp>
          <p:nvGrpSpPr>
            <p:cNvPr id="283" name=""/>
            <p:cNvGrpSpPr/>
            <p:nvPr/>
          </p:nvGrpSpPr>
          <p:grpSpPr>
            <a:xfrm>
              <a:off x="4674960" y="2774520"/>
              <a:ext cx="3174480" cy="1832760"/>
              <a:chOff x="4674960" y="2774520"/>
              <a:chExt cx="3174480" cy="1832760"/>
            </a:xfrm>
          </p:grpSpPr>
          <p:sp>
            <p:nvSpPr>
              <p:cNvPr id="284" name="直接连接符 352263"/>
              <p:cNvSpPr/>
              <p:nvPr/>
            </p:nvSpPr>
            <p:spPr>
              <a:xfrm flipV="1">
                <a:off x="4674960" y="2774520"/>
                <a:ext cx="3174480" cy="18327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 rot="10800000">
                <a:off x="4674960" y="2774160"/>
                <a:ext cx="3174480" cy="1832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665600" y="4614840"/>
              <a:ext cx="3506760" cy="360"/>
              <a:chOff x="4665600" y="4614840"/>
              <a:chExt cx="3506760" cy="360"/>
            </a:xfrm>
          </p:grpSpPr>
          <p:sp>
            <p:nvSpPr>
              <p:cNvPr id="287" name="直接连接符 352264"/>
              <p:cNvSpPr/>
              <p:nvPr/>
            </p:nvSpPr>
            <p:spPr>
              <a:xfrm>
                <a:off x="4665600" y="4614840"/>
                <a:ext cx="35067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4665600" y="4614840"/>
                <a:ext cx="3506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9" name="组合 352265"/>
          <p:cNvGrpSpPr/>
          <p:nvPr/>
        </p:nvGrpSpPr>
        <p:grpSpPr>
          <a:xfrm>
            <a:off x="4980600" y="4130640"/>
            <a:ext cx="1034280" cy="569520"/>
            <a:chOff x="4980600" y="4130640"/>
            <a:chExt cx="1034280" cy="569520"/>
          </a:xfrm>
        </p:grpSpPr>
        <p:sp>
          <p:nvSpPr>
            <p:cNvPr id="290" name="矩形 352266"/>
            <p:cNvSpPr/>
            <p:nvPr/>
          </p:nvSpPr>
          <p:spPr>
            <a:xfrm rot="20019000">
              <a:off x="5073840" y="4170240"/>
              <a:ext cx="293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宋体"/>
                </a:rPr>
                <a:t>)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352267"/>
            <p:cNvSpPr/>
            <p:nvPr/>
          </p:nvSpPr>
          <p:spPr>
            <a:xfrm>
              <a:off x="5369400" y="413532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30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59259E-006 L 0.11302 -2.59259E-006 E">
                                      <p:cBhvr>
                                        <p:cTn id="256" dur="20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358401" descr=""/>
          <p:cNvPicPr/>
          <p:nvPr/>
        </p:nvPicPr>
        <p:blipFill>
          <a:blip r:embed="rId1"/>
          <a:stretch/>
        </p:blipFill>
        <p:spPr>
          <a:xfrm>
            <a:off x="1305000" y="1700280"/>
            <a:ext cx="6291360" cy="3360600"/>
          </a:xfrm>
          <a:prstGeom prst="rect">
            <a:avLst/>
          </a:prstGeom>
          <a:ln w="0">
            <a:noFill/>
          </a:ln>
        </p:spPr>
      </p:pic>
      <p:grpSp>
        <p:nvGrpSpPr>
          <p:cNvPr id="293" name="组合 358406"/>
          <p:cNvGrpSpPr/>
          <p:nvPr/>
        </p:nvGrpSpPr>
        <p:grpSpPr>
          <a:xfrm>
            <a:off x="1999800" y="2573280"/>
            <a:ext cx="2443680" cy="2251440"/>
            <a:chOff x="1999800" y="2573280"/>
            <a:chExt cx="2443680" cy="2251440"/>
          </a:xfrm>
        </p:grpSpPr>
        <p:grpSp>
          <p:nvGrpSpPr>
            <p:cNvPr id="294" name=""/>
            <p:cNvGrpSpPr/>
            <p:nvPr/>
          </p:nvGrpSpPr>
          <p:grpSpPr>
            <a:xfrm>
              <a:off x="3138120" y="2573280"/>
              <a:ext cx="1292040" cy="2241360"/>
              <a:chOff x="3138120" y="2573280"/>
              <a:chExt cx="1292040" cy="2241360"/>
            </a:xfrm>
          </p:grpSpPr>
          <p:sp>
            <p:nvSpPr>
              <p:cNvPr id="295" name="直接连接符 358407"/>
              <p:cNvSpPr/>
              <p:nvPr/>
            </p:nvSpPr>
            <p:spPr>
              <a:xfrm flipH="1" flipV="1">
                <a:off x="3138120" y="2573280"/>
                <a:ext cx="1292040" cy="22413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 txBox="1"/>
              <p:nvPr/>
            </p:nvSpPr>
            <p:spPr>
              <a:xfrm rot="10800000">
                <a:off x="3138120" y="2573280"/>
                <a:ext cx="1292040" cy="224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1999800" y="4824360"/>
              <a:ext cx="2443680" cy="360"/>
              <a:chOff x="1999800" y="4824360"/>
              <a:chExt cx="2443680" cy="360"/>
            </a:xfrm>
          </p:grpSpPr>
          <p:sp>
            <p:nvSpPr>
              <p:cNvPr id="298" name="直接连接符 358408"/>
              <p:cNvSpPr/>
              <p:nvPr/>
            </p:nvSpPr>
            <p:spPr>
              <a:xfrm flipH="1">
                <a:off x="1999800" y="4824360"/>
                <a:ext cx="24433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2000160" y="4824360"/>
                <a:ext cx="244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0" name="组合 358409"/>
          <p:cNvGrpSpPr/>
          <p:nvPr/>
        </p:nvGrpSpPr>
        <p:grpSpPr>
          <a:xfrm>
            <a:off x="3632400" y="4338720"/>
            <a:ext cx="756720" cy="630000"/>
            <a:chOff x="3632400" y="4338720"/>
            <a:chExt cx="756720" cy="630000"/>
          </a:xfrm>
        </p:grpSpPr>
        <p:sp>
          <p:nvSpPr>
            <p:cNvPr id="301" name="矩形 358410"/>
            <p:cNvSpPr/>
            <p:nvPr/>
          </p:nvSpPr>
          <p:spPr>
            <a:xfrm rot="12510600">
              <a:off x="3996360" y="4438440"/>
              <a:ext cx="293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宋体"/>
                </a:rPr>
                <a:t>)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358411"/>
            <p:cNvSpPr/>
            <p:nvPr/>
          </p:nvSpPr>
          <p:spPr>
            <a:xfrm>
              <a:off x="3632400" y="433872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60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图片 354320" descr=""/>
          <p:cNvPicPr/>
          <p:nvPr/>
        </p:nvPicPr>
        <p:blipFill>
          <a:blip r:embed="rId1"/>
          <a:stretch/>
        </p:blipFill>
        <p:spPr>
          <a:xfrm>
            <a:off x="1233360" y="1436760"/>
            <a:ext cx="6291360" cy="3360600"/>
          </a:xfrm>
          <a:prstGeom prst="rect">
            <a:avLst/>
          </a:prstGeom>
          <a:ln w="0">
            <a:noFill/>
          </a:ln>
        </p:spPr>
      </p:pic>
      <p:grpSp>
        <p:nvGrpSpPr>
          <p:cNvPr id="304" name="组合 354319"/>
          <p:cNvGrpSpPr/>
          <p:nvPr/>
        </p:nvGrpSpPr>
        <p:grpSpPr>
          <a:xfrm>
            <a:off x="4351320" y="4049640"/>
            <a:ext cx="1123560" cy="517320"/>
            <a:chOff x="4351320" y="4049640"/>
            <a:chExt cx="1123560" cy="517320"/>
          </a:xfrm>
        </p:grpSpPr>
        <p:sp>
          <p:nvSpPr>
            <p:cNvPr id="305" name="矩形 354315"/>
            <p:cNvSpPr/>
            <p:nvPr/>
          </p:nvSpPr>
          <p:spPr>
            <a:xfrm>
              <a:off x="4829400" y="404964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90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矩形 354317"/>
            <p:cNvSpPr/>
            <p:nvPr/>
          </p:nvSpPr>
          <p:spPr>
            <a:xfrm>
              <a:off x="4351320" y="4206600"/>
              <a:ext cx="360360" cy="360360"/>
            </a:xfrm>
            <a:prstGeom prst="rect">
              <a:avLst/>
            </a:prstGeom>
            <a:noFill/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354318"/>
          <p:cNvGrpSpPr/>
          <p:nvPr/>
        </p:nvGrpSpPr>
        <p:grpSpPr>
          <a:xfrm>
            <a:off x="4335480" y="2041560"/>
            <a:ext cx="2442960" cy="2526120"/>
            <a:chOff x="4335480" y="2041560"/>
            <a:chExt cx="2442960" cy="2526120"/>
          </a:xfrm>
        </p:grpSpPr>
        <p:grpSp>
          <p:nvGrpSpPr>
            <p:cNvPr id="308" name=""/>
            <p:cNvGrpSpPr/>
            <p:nvPr/>
          </p:nvGrpSpPr>
          <p:grpSpPr>
            <a:xfrm>
              <a:off x="4343040" y="2041560"/>
              <a:ext cx="4680" cy="2516400"/>
              <a:chOff x="4343040" y="2041560"/>
              <a:chExt cx="4680" cy="2516400"/>
            </a:xfrm>
          </p:grpSpPr>
          <p:sp>
            <p:nvSpPr>
              <p:cNvPr id="309" name="直接连接符 354311"/>
              <p:cNvSpPr/>
              <p:nvPr/>
            </p:nvSpPr>
            <p:spPr>
              <a:xfrm flipH="1" flipV="1">
                <a:off x="4343040" y="2041560"/>
                <a:ext cx="4680" cy="251640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 txBox="1"/>
              <p:nvPr/>
            </p:nvSpPr>
            <p:spPr>
              <a:xfrm rot="10800000">
                <a:off x="4343040" y="2041560"/>
                <a:ext cx="4680" cy="251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4335480" y="4567320"/>
              <a:ext cx="2442960" cy="360"/>
              <a:chOff x="4335480" y="4567320"/>
              <a:chExt cx="2442960" cy="360"/>
            </a:xfrm>
          </p:grpSpPr>
          <p:sp>
            <p:nvSpPr>
              <p:cNvPr id="312" name="直接连接符 354312"/>
              <p:cNvSpPr/>
              <p:nvPr/>
            </p:nvSpPr>
            <p:spPr>
              <a:xfrm>
                <a:off x="4335480" y="4567320"/>
                <a:ext cx="24429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>
                <a:off x="4335480" y="4567320"/>
                <a:ext cx="244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图片 356367" descr=""/>
          <p:cNvPicPr/>
          <p:nvPr/>
        </p:nvPicPr>
        <p:blipFill>
          <a:blip r:embed="rId1"/>
          <a:stretch/>
        </p:blipFill>
        <p:spPr>
          <a:xfrm>
            <a:off x="1305000" y="1557360"/>
            <a:ext cx="6291360" cy="3360600"/>
          </a:xfrm>
          <a:prstGeom prst="rect">
            <a:avLst/>
          </a:prstGeom>
          <a:ln w="0">
            <a:noFill/>
          </a:ln>
        </p:spPr>
      </p:pic>
      <p:grpSp>
        <p:nvGrpSpPr>
          <p:cNvPr id="315" name="组合 356366"/>
          <p:cNvGrpSpPr/>
          <p:nvPr/>
        </p:nvGrpSpPr>
        <p:grpSpPr>
          <a:xfrm>
            <a:off x="1999800" y="2552760"/>
            <a:ext cx="4216680" cy="2129040"/>
            <a:chOff x="1999800" y="2552760"/>
            <a:chExt cx="4216680" cy="2129040"/>
          </a:xfrm>
        </p:grpSpPr>
        <p:grpSp>
          <p:nvGrpSpPr>
            <p:cNvPr id="316" name=""/>
            <p:cNvGrpSpPr/>
            <p:nvPr/>
          </p:nvGrpSpPr>
          <p:grpSpPr>
            <a:xfrm>
              <a:off x="4430160" y="2552760"/>
              <a:ext cx="1786320" cy="2118960"/>
              <a:chOff x="4430160" y="2552760"/>
              <a:chExt cx="1786320" cy="2118960"/>
            </a:xfrm>
          </p:grpSpPr>
          <p:sp>
            <p:nvSpPr>
              <p:cNvPr id="317" name="直接连接符 356358"/>
              <p:cNvSpPr/>
              <p:nvPr/>
            </p:nvSpPr>
            <p:spPr>
              <a:xfrm flipV="1">
                <a:off x="4430520" y="2552760"/>
                <a:ext cx="1785960" cy="211896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 rot="10800000">
                <a:off x="4430160" y="2552760"/>
                <a:ext cx="1785960" cy="2118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1999800" y="4681440"/>
              <a:ext cx="2443680" cy="360"/>
              <a:chOff x="1999800" y="4681440"/>
              <a:chExt cx="2443680" cy="360"/>
            </a:xfrm>
          </p:grpSpPr>
          <p:sp>
            <p:nvSpPr>
              <p:cNvPr id="320" name="直接连接符 356359"/>
              <p:cNvSpPr/>
              <p:nvPr/>
            </p:nvSpPr>
            <p:spPr>
              <a:xfrm flipH="1">
                <a:off x="1999800" y="4681440"/>
                <a:ext cx="24433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2000160" y="4681440"/>
                <a:ext cx="2443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组合 356365"/>
          <p:cNvGrpSpPr/>
          <p:nvPr/>
        </p:nvGrpSpPr>
        <p:grpSpPr>
          <a:xfrm>
            <a:off x="3898800" y="3957480"/>
            <a:ext cx="811440" cy="848520"/>
            <a:chOff x="3898800" y="3957480"/>
            <a:chExt cx="811440" cy="848520"/>
          </a:xfrm>
        </p:grpSpPr>
        <p:sp>
          <p:nvSpPr>
            <p:cNvPr id="323" name="矩形 356362"/>
            <p:cNvSpPr/>
            <p:nvPr/>
          </p:nvSpPr>
          <p:spPr>
            <a:xfrm>
              <a:off x="3898800" y="3957480"/>
              <a:ext cx="811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楷体_GB2312"/>
                </a:rPr>
                <a:t>130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任意多边形 356364"/>
            <p:cNvSpPr/>
            <p:nvPr/>
          </p:nvSpPr>
          <p:spPr>
            <a:xfrm rot="17535000">
              <a:off x="4193640" y="4371120"/>
              <a:ext cx="402480" cy="360360"/>
            </a:xfrm>
            <a:custGeom>
              <a:avLst/>
              <a:gdLst/>
              <a:ahLst/>
              <a:rect l="l" t="t" r="r" b="b"/>
              <a:pathLst>
                <a:path fill="none" w="28867" h="21600">
                  <a:moveTo>
                    <a:pt x="0" y="1284"/>
                  </a:moveTo>
                  <a:cubicBezTo>
                    <a:pt x="2287" y="451"/>
                    <a:pt x="4759" y="0"/>
                    <a:pt x="7336" y="0"/>
                  </a:cubicBezTo>
                  <a:cubicBezTo>
                    <a:pt x="18683" y="0"/>
                    <a:pt x="27986" y="8749"/>
                    <a:pt x="28867" y="19864"/>
                  </a:cubicBezTo>
                </a:path>
                <a:path stroke="0" w="28867" h="21600">
                  <a:moveTo>
                    <a:pt x="28866" y="19871"/>
                  </a:moveTo>
                  <a:cubicBezTo>
                    <a:pt x="28804" y="19096"/>
                    <a:pt x="28773" y="18305"/>
                    <a:pt x="28773" y="17504"/>
                  </a:cubicBezTo>
                  <a:cubicBezTo>
                    <a:pt x="28773" y="5929"/>
                    <a:pt x="35251" y="-3454"/>
                    <a:pt x="43241" y="-3454"/>
                  </a:cubicBezTo>
                  <a:cubicBezTo>
                    <a:pt x="51231" y="-3454"/>
                    <a:pt x="57709" y="5929"/>
                    <a:pt x="57709" y="17504"/>
                  </a:cubicBezTo>
                  <a:cubicBezTo>
                    <a:pt x="57709" y="21078"/>
                    <a:pt x="57092" y="24442"/>
                    <a:pt x="56003" y="27385"/>
                  </a:cubicBezTo>
                  <a:lnTo>
                    <a:pt x="0" y="1284"/>
                  </a:lnTo>
                  <a:close/>
                </a:path>
              </a:pathLst>
            </a:custGeom>
            <a:noFill/>
            <a:ln w="22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图片 321560" descr="p-38"/>
          <p:cNvPicPr/>
          <p:nvPr/>
        </p:nvPicPr>
        <p:blipFill>
          <a:blip r:embed="rId1"/>
          <a:srcRect l="0" t="0" r="48020" b="0"/>
          <a:stretch/>
        </p:blipFill>
        <p:spPr>
          <a:xfrm>
            <a:off x="2340000" y="3876840"/>
            <a:ext cx="2082600" cy="228888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321563"/>
          <p:cNvGrpSpPr/>
          <p:nvPr/>
        </p:nvGrpSpPr>
        <p:grpSpPr>
          <a:xfrm>
            <a:off x="538200" y="2373480"/>
            <a:ext cx="3529080" cy="1567800"/>
            <a:chOff x="538200" y="2373480"/>
            <a:chExt cx="3529080" cy="1567800"/>
          </a:xfrm>
        </p:grpSpPr>
        <p:pic>
          <p:nvPicPr>
            <p:cNvPr id="327" name="图片 321562" descr="P-052"/>
            <p:cNvPicPr/>
            <p:nvPr/>
          </p:nvPicPr>
          <p:blipFill>
            <a:blip r:embed="rId2"/>
            <a:stretch/>
          </p:blipFill>
          <p:spPr>
            <a:xfrm>
              <a:off x="577800" y="2462040"/>
              <a:ext cx="3468600" cy="14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矩形 321543"/>
            <p:cNvSpPr/>
            <p:nvPr/>
          </p:nvSpPr>
          <p:spPr>
            <a:xfrm>
              <a:off x="538200" y="2373480"/>
              <a:ext cx="352908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角的大小与角的两边画出的长短没有关系。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图片 321564" descr="p-38"/>
          <p:cNvPicPr/>
          <p:nvPr/>
        </p:nvPicPr>
        <p:blipFill>
          <a:blip r:embed="rId3"/>
          <a:srcRect l="53924" t="0" r="0" b="0"/>
          <a:stretch/>
        </p:blipFill>
        <p:spPr>
          <a:xfrm>
            <a:off x="4741920" y="3948120"/>
            <a:ext cx="1846080" cy="2289240"/>
          </a:xfrm>
          <a:prstGeom prst="rect">
            <a:avLst/>
          </a:prstGeom>
          <a:ln w="0">
            <a:noFill/>
          </a:ln>
        </p:spPr>
      </p:pic>
      <p:grpSp>
        <p:nvGrpSpPr>
          <p:cNvPr id="330" name="组合 321567"/>
          <p:cNvGrpSpPr/>
          <p:nvPr/>
        </p:nvGrpSpPr>
        <p:grpSpPr>
          <a:xfrm>
            <a:off x="4348080" y="2386080"/>
            <a:ext cx="4471920" cy="1627200"/>
            <a:chOff x="4348080" y="2386080"/>
            <a:chExt cx="4471920" cy="1627200"/>
          </a:xfrm>
        </p:grpSpPr>
        <p:pic>
          <p:nvPicPr>
            <p:cNvPr id="331" name="图片 321566" descr="P-054"/>
            <p:cNvPicPr/>
            <p:nvPr/>
          </p:nvPicPr>
          <p:blipFill>
            <a:blip r:embed="rId4"/>
            <a:stretch/>
          </p:blipFill>
          <p:spPr>
            <a:xfrm>
              <a:off x="4368960" y="2423880"/>
              <a:ext cx="4136760" cy="158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矩形 321544"/>
            <p:cNvSpPr/>
            <p:nvPr/>
          </p:nvSpPr>
          <p:spPr>
            <a:xfrm>
              <a:off x="4348080" y="2386080"/>
              <a:ext cx="44719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角的大小要看两条边叉开的大小，叉开得越大</a:t>
              </a:r>
              <a:r>
                <a:rPr b="1" lang="en-US" sz="2600" spc="-1" strike="noStrike">
                  <a:solidFill>
                    <a:srgbClr val="000000"/>
                  </a:solidFill>
                  <a:latin typeface="宋体"/>
                </a:rPr>
                <a:t>,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角越大。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组合 321578"/>
          <p:cNvGrpSpPr/>
          <p:nvPr/>
        </p:nvGrpSpPr>
        <p:grpSpPr>
          <a:xfrm>
            <a:off x="2916360" y="576360"/>
            <a:ext cx="4176720" cy="1844640"/>
            <a:chOff x="2916360" y="576360"/>
            <a:chExt cx="4176720" cy="1844640"/>
          </a:xfrm>
        </p:grpSpPr>
        <p:grpSp>
          <p:nvGrpSpPr>
            <p:cNvPr id="334" name="组合 321576"/>
            <p:cNvGrpSpPr/>
            <p:nvPr/>
          </p:nvGrpSpPr>
          <p:grpSpPr>
            <a:xfrm>
              <a:off x="2916360" y="1384560"/>
              <a:ext cx="2681280" cy="531720"/>
              <a:chOff x="2916360" y="1384560"/>
              <a:chExt cx="2681280" cy="531720"/>
            </a:xfrm>
          </p:grpSpPr>
          <p:grpSp>
            <p:nvGrpSpPr>
              <p:cNvPr id="335" name="组合 321575"/>
              <p:cNvGrpSpPr/>
              <p:nvPr/>
            </p:nvGrpSpPr>
            <p:grpSpPr>
              <a:xfrm>
                <a:off x="2916360" y="1384560"/>
                <a:ext cx="2616120" cy="531720"/>
                <a:chOff x="2916360" y="1384560"/>
                <a:chExt cx="2616120" cy="531720"/>
              </a:xfrm>
            </p:grpSpPr>
            <p:pic>
              <p:nvPicPr>
                <p:cNvPr id="336" name="图片 321571" descr="P-030"/>
                <p:cNvPicPr/>
                <p:nvPr/>
              </p:nvPicPr>
              <p:blipFill>
                <a:blip r:embed="rId5"/>
                <a:srcRect l="37793" t="0" r="0" b="0"/>
                <a:stretch/>
              </p:blipFill>
              <p:spPr>
                <a:xfrm>
                  <a:off x="3421080" y="1384560"/>
                  <a:ext cx="2111400" cy="5317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7" name="图片 321572" descr="P-030"/>
                <p:cNvPicPr/>
                <p:nvPr/>
              </p:nvPicPr>
              <p:blipFill>
                <a:blip r:embed="rId6"/>
                <a:srcRect l="0" t="0" r="63662" b="0"/>
                <a:stretch/>
              </p:blipFill>
              <p:spPr>
                <a:xfrm>
                  <a:off x="2916360" y="1384560"/>
                  <a:ext cx="1233360" cy="531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338" name="矩形 321568"/>
              <p:cNvSpPr/>
              <p:nvPr/>
            </p:nvSpPr>
            <p:spPr>
              <a:xfrm>
                <a:off x="2928960" y="1400400"/>
                <a:ext cx="2668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你能发现什么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?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9" name="图片 321577" descr="小精灵-08"/>
            <p:cNvPicPr/>
            <p:nvPr/>
          </p:nvPicPr>
          <p:blipFill>
            <a:blip r:embed="rId7"/>
            <a:srcRect l="-19032" t="-14331" r="-17034" b="-11831"/>
            <a:stretch/>
          </p:blipFill>
          <p:spPr>
            <a:xfrm>
              <a:off x="5254920" y="576360"/>
              <a:ext cx="1838160" cy="1844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组合 290912"/>
          <p:cNvGrpSpPr/>
          <p:nvPr/>
        </p:nvGrpSpPr>
        <p:grpSpPr>
          <a:xfrm>
            <a:off x="504720" y="1104840"/>
            <a:ext cx="8483760" cy="1386000"/>
            <a:chOff x="504720" y="1104840"/>
            <a:chExt cx="8483760" cy="1386000"/>
          </a:xfrm>
        </p:grpSpPr>
        <p:sp>
          <p:nvSpPr>
            <p:cNvPr id="341" name="矩形 290817"/>
            <p:cNvSpPr/>
            <p:nvPr/>
          </p:nvSpPr>
          <p:spPr>
            <a:xfrm>
              <a:off x="504720" y="1117440"/>
              <a:ext cx="84661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50000"/>
                </a:lnSpc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观察一下量角器，看看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4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6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9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12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多大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290843"/>
            <p:cNvSpPr/>
            <p:nvPr/>
          </p:nvSpPr>
          <p:spPr>
            <a:xfrm>
              <a:off x="5027760" y="1104840"/>
              <a:ext cx="3960720" cy="128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  、     、       、       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90908"/>
          <p:cNvGrpSpPr/>
          <p:nvPr/>
        </p:nvGrpSpPr>
        <p:grpSpPr>
          <a:xfrm>
            <a:off x="1038240" y="2793960"/>
            <a:ext cx="1695600" cy="980640"/>
            <a:chOff x="1038240" y="2793960"/>
            <a:chExt cx="1695600" cy="980640"/>
          </a:xfrm>
        </p:grpSpPr>
        <p:sp>
          <p:nvSpPr>
            <p:cNvPr id="344" name="任意多边形 290900"/>
            <p:cNvSpPr/>
            <p:nvPr/>
          </p:nvSpPr>
          <p:spPr>
            <a:xfrm flipH="1" flipV="1" rot="5824800">
              <a:off x="1299960" y="3497760"/>
              <a:ext cx="198360" cy="128520"/>
            </a:xfrm>
            <a:custGeom>
              <a:avLst/>
              <a:gdLst/>
              <a:ahLst/>
              <a:rect l="l" t="t" r="r" b="b"/>
              <a:pathLst>
                <a:path fill="none" w="33562" h="21600">
                  <a:moveTo>
                    <a:pt x="33561" y="6151"/>
                  </a:moveTo>
                  <a:cubicBezTo>
                    <a:pt x="30911" y="15089"/>
                    <a:pt x="22644" y="21600"/>
                    <a:pt x="12855" y="21600"/>
                  </a:cubicBezTo>
                  <a:cubicBezTo>
                    <a:pt x="8038" y="21600"/>
                    <a:pt x="3590" y="20023"/>
                    <a:pt x="-2" y="17358"/>
                  </a:cubicBezTo>
                </a:path>
                <a:path stroke="0" w="33562" h="21600">
                  <a:moveTo>
                    <a:pt x="0" y="17357"/>
                  </a:moveTo>
                  <a:cubicBezTo>
                    <a:pt x="0" y="17372"/>
                    <a:pt x="0" y="17388"/>
                    <a:pt x="0" y="17403"/>
                  </a:cubicBezTo>
                  <a:cubicBezTo>
                    <a:pt x="0" y="17528"/>
                    <a:pt x="0" y="17652"/>
                    <a:pt x="-1" y="17774"/>
                  </a:cubicBezTo>
                  <a:lnTo>
                    <a:pt x="33561" y="6151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1038240" y="3673440"/>
              <a:ext cx="1695600" cy="360"/>
              <a:chOff x="1038240" y="3673440"/>
              <a:chExt cx="1695600" cy="360"/>
            </a:xfrm>
          </p:grpSpPr>
          <p:sp>
            <p:nvSpPr>
              <p:cNvPr id="346" name="直接连接符 290845"/>
              <p:cNvSpPr/>
              <p:nvPr/>
            </p:nvSpPr>
            <p:spPr>
              <a:xfrm>
                <a:off x="1038240" y="3673440"/>
                <a:ext cx="169560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>
                <a:off x="1038240" y="3673440"/>
                <a:ext cx="16956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1038240" y="2793960"/>
              <a:ext cx="1512720" cy="876240"/>
              <a:chOff x="1038240" y="2793960"/>
              <a:chExt cx="1512720" cy="876240"/>
            </a:xfrm>
          </p:grpSpPr>
          <p:sp>
            <p:nvSpPr>
              <p:cNvPr id="349" name="直接连接符 290846"/>
              <p:cNvSpPr/>
              <p:nvPr/>
            </p:nvSpPr>
            <p:spPr>
              <a:xfrm flipV="1">
                <a:off x="1038240" y="2793960"/>
                <a:ext cx="1512720" cy="87624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 txBox="1"/>
              <p:nvPr/>
            </p:nvSpPr>
            <p:spPr>
              <a:xfrm rot="10800000">
                <a:off x="1038240" y="2793960"/>
                <a:ext cx="1512720" cy="87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矩形 290888"/>
            <p:cNvSpPr/>
            <p:nvPr/>
          </p:nvSpPr>
          <p:spPr>
            <a:xfrm>
              <a:off x="1586880" y="328464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90907"/>
          <p:cNvGrpSpPr/>
          <p:nvPr/>
        </p:nvGrpSpPr>
        <p:grpSpPr>
          <a:xfrm>
            <a:off x="1974960" y="4365360"/>
            <a:ext cx="1695240" cy="1608120"/>
            <a:chOff x="1974960" y="4365360"/>
            <a:chExt cx="1695240" cy="1608120"/>
          </a:xfrm>
        </p:grpSpPr>
        <p:sp>
          <p:nvSpPr>
            <p:cNvPr id="353" name="矩形 290896"/>
            <p:cNvSpPr/>
            <p:nvPr/>
          </p:nvSpPr>
          <p:spPr>
            <a:xfrm>
              <a:off x="1986120" y="5772240"/>
              <a:ext cx="191880" cy="192240"/>
            </a:xfrm>
            <a:prstGeom prst="rect">
              <a:avLst/>
            </a:prstGeom>
            <a:noFill/>
            <a:ln w="1908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" name=""/>
            <p:cNvGrpSpPr/>
            <p:nvPr/>
          </p:nvGrpSpPr>
          <p:grpSpPr>
            <a:xfrm>
              <a:off x="1974960" y="5961240"/>
              <a:ext cx="1695240" cy="360"/>
              <a:chOff x="1974960" y="5961240"/>
              <a:chExt cx="1695240" cy="360"/>
            </a:xfrm>
          </p:grpSpPr>
          <p:sp>
            <p:nvSpPr>
              <p:cNvPr id="355" name="直接连接符 290868"/>
              <p:cNvSpPr/>
              <p:nvPr/>
            </p:nvSpPr>
            <p:spPr>
              <a:xfrm>
                <a:off x="1974960" y="5961240"/>
                <a:ext cx="169524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 txBox="1"/>
              <p:nvPr/>
            </p:nvSpPr>
            <p:spPr>
              <a:xfrm>
                <a:off x="1974960" y="5961240"/>
                <a:ext cx="1695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1983960" y="4365360"/>
              <a:ext cx="360" cy="1608120"/>
              <a:chOff x="1983960" y="4365360"/>
              <a:chExt cx="360" cy="1608120"/>
            </a:xfrm>
          </p:grpSpPr>
          <p:sp>
            <p:nvSpPr>
              <p:cNvPr id="358" name="直接连接符 290872"/>
              <p:cNvSpPr/>
              <p:nvPr/>
            </p:nvSpPr>
            <p:spPr>
              <a:xfrm flipV="1">
                <a:off x="1984320" y="4365360"/>
                <a:ext cx="0" cy="160812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 rot="10800000">
                <a:off x="1983960" y="4365360"/>
                <a:ext cx="360" cy="1608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矩形 290889"/>
            <p:cNvSpPr/>
            <p:nvPr/>
          </p:nvSpPr>
          <p:spPr>
            <a:xfrm>
              <a:off x="2238120" y="5364360"/>
              <a:ext cx="727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290905"/>
          <p:cNvGrpSpPr/>
          <p:nvPr/>
        </p:nvGrpSpPr>
        <p:grpSpPr>
          <a:xfrm>
            <a:off x="3701880" y="2349000"/>
            <a:ext cx="1695600" cy="1376280"/>
            <a:chOff x="3701880" y="2349000"/>
            <a:chExt cx="1695600" cy="1376280"/>
          </a:xfrm>
        </p:grpSpPr>
        <p:sp>
          <p:nvSpPr>
            <p:cNvPr id="362" name="任意多边形 290902"/>
            <p:cNvSpPr/>
            <p:nvPr/>
          </p:nvSpPr>
          <p:spPr>
            <a:xfrm flipH="1" flipV="1" rot="5824800">
              <a:off x="3858840" y="3464280"/>
              <a:ext cx="243000" cy="168120"/>
            </a:xfrm>
            <a:custGeom>
              <a:avLst/>
              <a:gdLst/>
              <a:ahLst/>
              <a:rect l="l" t="t" r="r" b="b"/>
              <a:pathLst>
                <a:path fill="none" w="31204" h="21600">
                  <a:moveTo>
                    <a:pt x="31203" y="6151"/>
                  </a:moveTo>
                  <a:cubicBezTo>
                    <a:pt x="28553" y="15089"/>
                    <a:pt x="20286" y="21600"/>
                    <a:pt x="10497" y="21600"/>
                  </a:cubicBezTo>
                  <a:cubicBezTo>
                    <a:pt x="6685" y="21600"/>
                    <a:pt x="3104" y="20612"/>
                    <a:pt x="-4" y="18880"/>
                  </a:cubicBezTo>
                </a:path>
                <a:path stroke="0" w="31204" h="21600">
                  <a:moveTo>
                    <a:pt x="0" y="18877"/>
                  </a:moveTo>
                  <a:cubicBezTo>
                    <a:pt x="0" y="18901"/>
                    <a:pt x="0" y="18924"/>
                    <a:pt x="0" y="18948"/>
                  </a:cubicBezTo>
                  <a:cubicBezTo>
                    <a:pt x="0" y="19073"/>
                    <a:pt x="0" y="19197"/>
                    <a:pt x="-1" y="19319"/>
                  </a:cubicBezTo>
                  <a:lnTo>
                    <a:pt x="31203" y="6151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组合 290883"/>
            <p:cNvGrpSpPr/>
            <p:nvPr/>
          </p:nvGrpSpPr>
          <p:grpSpPr>
            <a:xfrm>
              <a:off x="3701880" y="2349000"/>
              <a:ext cx="1695600" cy="1324440"/>
              <a:chOff x="3701880" y="2349000"/>
              <a:chExt cx="1695600" cy="1324440"/>
            </a:xfrm>
          </p:grpSpPr>
          <p:grpSp>
            <p:nvGrpSpPr>
              <p:cNvPr id="364" name=""/>
              <p:cNvGrpSpPr/>
              <p:nvPr/>
            </p:nvGrpSpPr>
            <p:grpSpPr>
              <a:xfrm>
                <a:off x="3701880" y="3673080"/>
                <a:ext cx="1695600" cy="360"/>
                <a:chOff x="3701880" y="3673080"/>
                <a:chExt cx="1695600" cy="360"/>
              </a:xfrm>
            </p:grpSpPr>
            <p:sp>
              <p:nvSpPr>
                <p:cNvPr id="365" name="直接连接符 290854"/>
                <p:cNvSpPr/>
                <p:nvPr/>
              </p:nvSpPr>
              <p:spPr>
                <a:xfrm>
                  <a:off x="3701880" y="3673080"/>
                  <a:ext cx="1695600" cy="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 txBox="1"/>
                <p:nvPr/>
              </p:nvSpPr>
              <p:spPr>
                <a:xfrm>
                  <a:off x="3701880" y="3673080"/>
                  <a:ext cx="1695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704760" y="2349000"/>
                <a:ext cx="1313280" cy="1315800"/>
                <a:chOff x="3704760" y="2349000"/>
                <a:chExt cx="1313280" cy="1315800"/>
              </a:xfrm>
            </p:grpSpPr>
            <p:sp>
              <p:nvSpPr>
                <p:cNvPr id="368" name="直接连接符 290856"/>
                <p:cNvSpPr/>
                <p:nvPr/>
              </p:nvSpPr>
              <p:spPr>
                <a:xfrm flipV="1">
                  <a:off x="3705120" y="2349000"/>
                  <a:ext cx="1312920" cy="131580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 txBox="1"/>
                <p:nvPr/>
              </p:nvSpPr>
              <p:spPr>
                <a:xfrm rot="10800000">
                  <a:off x="3704760" y="2349000"/>
                  <a:ext cx="1312920" cy="131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矩形 290890"/>
            <p:cNvSpPr/>
            <p:nvPr/>
          </p:nvSpPr>
          <p:spPr>
            <a:xfrm>
              <a:off x="4184280" y="323532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5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290904"/>
          <p:cNvGrpSpPr/>
          <p:nvPr/>
        </p:nvGrpSpPr>
        <p:grpSpPr>
          <a:xfrm>
            <a:off x="6367320" y="2133360"/>
            <a:ext cx="1695600" cy="1557000"/>
            <a:chOff x="6367320" y="2133360"/>
            <a:chExt cx="1695600" cy="1557000"/>
          </a:xfrm>
        </p:grpSpPr>
        <p:sp>
          <p:nvSpPr>
            <p:cNvPr id="372" name="任意多边形 290903"/>
            <p:cNvSpPr/>
            <p:nvPr/>
          </p:nvSpPr>
          <p:spPr>
            <a:xfrm flipH="1" flipV="1" rot="5824800">
              <a:off x="6459480" y="3448440"/>
              <a:ext cx="271080" cy="171360"/>
            </a:xfrm>
            <a:custGeom>
              <a:avLst/>
              <a:gdLst/>
              <a:ahLst/>
              <a:rect l="l" t="t" r="r" b="b"/>
              <a:pathLst>
                <a:path fill="none" w="34419" h="21600">
                  <a:moveTo>
                    <a:pt x="34419" y="1258"/>
                  </a:moveTo>
                  <a:cubicBezTo>
                    <a:pt x="33765" y="12605"/>
                    <a:pt x="24361" y="21600"/>
                    <a:pt x="12856" y="21600"/>
                  </a:cubicBezTo>
                  <a:cubicBezTo>
                    <a:pt x="8039" y="21600"/>
                    <a:pt x="3591" y="20023"/>
                    <a:pt x="-1" y="17358"/>
                  </a:cubicBezTo>
                </a:path>
                <a:path stroke="0" w="34419" h="21600">
                  <a:moveTo>
                    <a:pt x="0" y="17357"/>
                  </a:moveTo>
                  <a:cubicBezTo>
                    <a:pt x="0" y="17358"/>
                    <a:pt x="0" y="17359"/>
                    <a:pt x="0" y="17360"/>
                  </a:cubicBezTo>
                  <a:cubicBezTo>
                    <a:pt x="0" y="17365"/>
                    <a:pt x="0" y="17369"/>
                    <a:pt x="0" y="17374"/>
                  </a:cubicBezTo>
                  <a:lnTo>
                    <a:pt x="34419" y="1258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" name="组合 290884"/>
            <p:cNvGrpSpPr/>
            <p:nvPr/>
          </p:nvGrpSpPr>
          <p:grpSpPr>
            <a:xfrm>
              <a:off x="6367320" y="2133360"/>
              <a:ext cx="1695600" cy="1540440"/>
              <a:chOff x="6367320" y="2133360"/>
              <a:chExt cx="1695600" cy="1540440"/>
            </a:xfrm>
          </p:grpSpPr>
          <p:grpSp>
            <p:nvGrpSpPr>
              <p:cNvPr id="374" name=""/>
              <p:cNvGrpSpPr/>
              <p:nvPr/>
            </p:nvGrpSpPr>
            <p:grpSpPr>
              <a:xfrm>
                <a:off x="6367320" y="3673440"/>
                <a:ext cx="1695600" cy="360"/>
                <a:chOff x="6367320" y="3673440"/>
                <a:chExt cx="1695600" cy="360"/>
              </a:xfrm>
            </p:grpSpPr>
            <p:sp>
              <p:nvSpPr>
                <p:cNvPr id="375" name="直接连接符 290861"/>
                <p:cNvSpPr/>
                <p:nvPr/>
              </p:nvSpPr>
              <p:spPr>
                <a:xfrm>
                  <a:off x="6367320" y="3673440"/>
                  <a:ext cx="1695600" cy="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"/>
                <p:cNvSpPr txBox="1"/>
                <p:nvPr/>
              </p:nvSpPr>
              <p:spPr>
                <a:xfrm>
                  <a:off x="6367320" y="3673440"/>
                  <a:ext cx="16956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6374880" y="2133360"/>
                <a:ext cx="902160" cy="1536840"/>
                <a:chOff x="6374880" y="2133360"/>
                <a:chExt cx="902160" cy="1536840"/>
              </a:xfrm>
            </p:grpSpPr>
            <p:sp>
              <p:nvSpPr>
                <p:cNvPr id="378" name="直接连接符 290864"/>
                <p:cNvSpPr/>
                <p:nvPr/>
              </p:nvSpPr>
              <p:spPr>
                <a:xfrm flipV="1">
                  <a:off x="6375240" y="2133360"/>
                  <a:ext cx="901800" cy="153684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 txBox="1"/>
                <p:nvPr/>
              </p:nvSpPr>
              <p:spPr>
                <a:xfrm rot="10800000">
                  <a:off x="6374880" y="2133360"/>
                  <a:ext cx="901800" cy="15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0" name="矩形 290891"/>
            <p:cNvSpPr/>
            <p:nvPr/>
          </p:nvSpPr>
          <p:spPr>
            <a:xfrm>
              <a:off x="6776640" y="3200400"/>
              <a:ext cx="645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290906"/>
          <p:cNvGrpSpPr/>
          <p:nvPr/>
        </p:nvGrpSpPr>
        <p:grpSpPr>
          <a:xfrm>
            <a:off x="4992840" y="4684320"/>
            <a:ext cx="2423880" cy="1276920"/>
            <a:chOff x="4992840" y="4684320"/>
            <a:chExt cx="2423880" cy="1276920"/>
          </a:xfrm>
        </p:grpSpPr>
        <p:sp>
          <p:nvSpPr>
            <p:cNvPr id="382" name="任意多边形 290894"/>
            <p:cNvSpPr/>
            <p:nvPr/>
          </p:nvSpPr>
          <p:spPr>
            <a:xfrm flipH="1" flipV="1" rot="900000">
              <a:off x="5617440" y="5685840"/>
              <a:ext cx="407880" cy="223920"/>
            </a:xfrm>
            <a:custGeom>
              <a:avLst/>
              <a:gdLst/>
              <a:ahLst/>
              <a:rect l="l" t="t" r="r" b="b"/>
              <a:pathLst>
                <a:path fill="none" w="42306" h="23159">
                  <a:moveTo>
                    <a:pt x="42305" y="7710"/>
                  </a:moveTo>
                  <a:cubicBezTo>
                    <a:pt x="39655" y="16648"/>
                    <a:pt x="31388" y="23159"/>
                    <a:pt x="21599" y="23159"/>
                  </a:cubicBezTo>
                  <a:cubicBezTo>
                    <a:pt x="9670" y="23159"/>
                    <a:pt x="-1" y="13488"/>
                    <a:pt x="-1" y="1559"/>
                  </a:cubicBezTo>
                  <a:cubicBezTo>
                    <a:pt x="-1" y="1033"/>
                    <a:pt x="18" y="510"/>
                    <a:pt x="54" y="-1"/>
                  </a:cubicBezTo>
                </a:path>
                <a:path stroke="0" w="42306" h="23159">
                  <a:moveTo>
                    <a:pt x="56" y="0"/>
                  </a:moveTo>
                  <a:cubicBezTo>
                    <a:pt x="56" y="71"/>
                    <a:pt x="56" y="140"/>
                    <a:pt x="55" y="209"/>
                  </a:cubicBezTo>
                  <a:lnTo>
                    <a:pt x="42305" y="7710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组合 290886"/>
            <p:cNvGrpSpPr/>
            <p:nvPr/>
          </p:nvGrpSpPr>
          <p:grpSpPr>
            <a:xfrm>
              <a:off x="4992840" y="4684320"/>
              <a:ext cx="2423880" cy="1276920"/>
              <a:chOff x="4992840" y="4684320"/>
              <a:chExt cx="2423880" cy="127692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5721480" y="5960880"/>
                <a:ext cx="1695240" cy="360"/>
                <a:chOff x="5721480" y="5960880"/>
                <a:chExt cx="1695240" cy="360"/>
              </a:xfrm>
            </p:grpSpPr>
            <p:sp>
              <p:nvSpPr>
                <p:cNvPr id="385" name="直接连接符 290875"/>
                <p:cNvSpPr/>
                <p:nvPr/>
              </p:nvSpPr>
              <p:spPr>
                <a:xfrm>
                  <a:off x="5721480" y="5960880"/>
                  <a:ext cx="1695240" cy="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 txBox="1"/>
                <p:nvPr/>
              </p:nvSpPr>
              <p:spPr>
                <a:xfrm>
                  <a:off x="5721480" y="5960880"/>
                  <a:ext cx="1695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4992840" y="4684320"/>
                <a:ext cx="736560" cy="1276200"/>
                <a:chOff x="4992840" y="4684320"/>
                <a:chExt cx="736560" cy="1276200"/>
              </a:xfrm>
            </p:grpSpPr>
            <p:sp>
              <p:nvSpPr>
                <p:cNvPr id="388" name="直接连接符 290880"/>
                <p:cNvSpPr/>
                <p:nvPr/>
              </p:nvSpPr>
              <p:spPr>
                <a:xfrm flipH="1" flipV="1">
                  <a:off x="4992840" y="4684320"/>
                  <a:ext cx="736560" cy="127620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 txBox="1"/>
                <p:nvPr/>
              </p:nvSpPr>
              <p:spPr>
                <a:xfrm rot="10800000">
                  <a:off x="4992840" y="4684320"/>
                  <a:ext cx="736560" cy="127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0" name="矩形 290892"/>
            <p:cNvSpPr/>
            <p:nvPr/>
          </p:nvSpPr>
          <p:spPr>
            <a:xfrm>
              <a:off x="5817240" y="5252760"/>
              <a:ext cx="893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2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 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10269"/>
          <p:cNvSpPr/>
          <p:nvPr/>
        </p:nvSpPr>
        <p:spPr>
          <a:xfrm>
            <a:off x="539640" y="1844640"/>
            <a:ext cx="8271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手电筒、汽车灯和太阳等射出来的光线，都可以近似地看成是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方正黑体"/>
              </a:rPr>
              <a:t>射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射线只有一个端点，可以向一端无限延伸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249200" y="4705200"/>
            <a:ext cx="2737080" cy="360"/>
            <a:chOff x="1249200" y="4705200"/>
            <a:chExt cx="2737080" cy="360"/>
          </a:xfrm>
        </p:grpSpPr>
        <p:sp>
          <p:nvSpPr>
            <p:cNvPr id="44" name="直接连接符 10313"/>
            <p:cNvSpPr/>
            <p:nvPr/>
          </p:nvSpPr>
          <p:spPr>
            <a:xfrm>
              <a:off x="1249200" y="4705200"/>
              <a:ext cx="273708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1249200" y="4705200"/>
              <a:ext cx="273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1309680" y="5372280"/>
            <a:ext cx="2736720" cy="360"/>
            <a:chOff x="1309680" y="5372280"/>
            <a:chExt cx="2736720" cy="360"/>
          </a:xfrm>
        </p:grpSpPr>
        <p:sp>
          <p:nvSpPr>
            <p:cNvPr id="47" name="直接连接符 10317"/>
            <p:cNvSpPr/>
            <p:nvPr/>
          </p:nvSpPr>
          <p:spPr>
            <a:xfrm flipH="1">
              <a:off x="1309680" y="5372280"/>
              <a:ext cx="27367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 txBox="1"/>
            <p:nvPr/>
          </p:nvSpPr>
          <p:spPr>
            <a:xfrm>
              <a:off x="1309680" y="537228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" name="图片 10319" descr="p-35-1"/>
          <p:cNvPicPr/>
          <p:nvPr/>
        </p:nvPicPr>
        <p:blipFill>
          <a:blip r:embed="rId1"/>
          <a:stretch/>
        </p:blipFill>
        <p:spPr>
          <a:xfrm>
            <a:off x="4643280" y="3254400"/>
            <a:ext cx="3505320" cy="276696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0323"/>
          <p:cNvGrpSpPr/>
          <p:nvPr/>
        </p:nvGrpSpPr>
        <p:grpSpPr>
          <a:xfrm>
            <a:off x="663480" y="1065240"/>
            <a:ext cx="3403800" cy="851040"/>
            <a:chOff x="663480" y="1065240"/>
            <a:chExt cx="3403800" cy="851040"/>
          </a:xfrm>
        </p:grpSpPr>
        <p:pic>
          <p:nvPicPr>
            <p:cNvPr id="51" name="图片 10324" descr="虫子-02"/>
            <p:cNvPicPr/>
            <p:nvPr/>
          </p:nvPicPr>
          <p:blipFill>
            <a:blip r:embed="rId2"/>
            <a:stretch/>
          </p:blipFill>
          <p:spPr>
            <a:xfrm>
              <a:off x="663480" y="1065240"/>
              <a:ext cx="3403800" cy="8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矩形 10325"/>
            <p:cNvSpPr/>
            <p:nvPr/>
          </p:nvSpPr>
          <p:spPr>
            <a:xfrm>
              <a:off x="711360" y="1206720"/>
              <a:ext cx="290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直线、射线和角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322561"/>
          <p:cNvSpPr/>
          <p:nvPr/>
        </p:nvSpPr>
        <p:spPr>
          <a:xfrm>
            <a:off x="617400" y="1182600"/>
            <a:ext cx="597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量一量，下面的角各是多少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图片 322591" descr=""/>
          <p:cNvPicPr/>
          <p:nvPr/>
        </p:nvPicPr>
        <p:blipFill>
          <a:blip r:embed="rId1"/>
          <a:srcRect l="0" t="0" r="54946" b="0"/>
          <a:stretch/>
        </p:blipFill>
        <p:spPr>
          <a:xfrm>
            <a:off x="1258920" y="2063880"/>
            <a:ext cx="2736720" cy="1941480"/>
          </a:xfrm>
          <a:prstGeom prst="rect">
            <a:avLst/>
          </a:prstGeom>
          <a:ln w="0">
            <a:noFill/>
          </a:ln>
        </p:spPr>
      </p:pic>
      <p:grpSp>
        <p:nvGrpSpPr>
          <p:cNvPr id="393" name="组合 322599"/>
          <p:cNvGrpSpPr/>
          <p:nvPr/>
        </p:nvGrpSpPr>
        <p:grpSpPr>
          <a:xfrm>
            <a:off x="5435640" y="2111400"/>
            <a:ext cx="1915920" cy="1822320"/>
            <a:chOff x="5435640" y="2111400"/>
            <a:chExt cx="1915920" cy="1822320"/>
          </a:xfrm>
        </p:grpSpPr>
        <p:grpSp>
          <p:nvGrpSpPr>
            <p:cNvPr id="394" name="组合 322596"/>
            <p:cNvGrpSpPr/>
            <p:nvPr/>
          </p:nvGrpSpPr>
          <p:grpSpPr>
            <a:xfrm>
              <a:off x="5435640" y="2111400"/>
              <a:ext cx="1915920" cy="1822320"/>
              <a:chOff x="5435640" y="2111400"/>
              <a:chExt cx="1915920" cy="1822320"/>
            </a:xfrm>
          </p:grpSpPr>
          <p:sp>
            <p:nvSpPr>
              <p:cNvPr id="395" name="五角星 322592"/>
              <p:cNvSpPr/>
              <p:nvPr/>
            </p:nvSpPr>
            <p:spPr>
              <a:xfrm>
                <a:off x="5435640" y="2111400"/>
                <a:ext cx="1915920" cy="1822320"/>
              </a:xfrm>
              <a:custGeom>
                <a:avLst/>
                <a:gdLst/>
                <a:ahLst/>
                <a:rect l="l" t="t" r="r" b="b"/>
                <a:pathLst>
                  <a:path w="1207" h="1148">
                    <a:moveTo>
                      <a:pt x="0" y="438"/>
                    </a:moveTo>
                    <a:lnTo>
                      <a:pt x="461" y="438"/>
                    </a:lnTo>
                    <a:lnTo>
                      <a:pt x="603" y="0"/>
                    </a:lnTo>
                    <a:lnTo>
                      <a:pt x="745" y="438"/>
                    </a:lnTo>
                    <a:lnTo>
                      <a:pt x="1206" y="438"/>
                    </a:lnTo>
                    <a:lnTo>
                      <a:pt x="834" y="709"/>
                    </a:lnTo>
                    <a:lnTo>
                      <a:pt x="976" y="1147"/>
                    </a:lnTo>
                    <a:lnTo>
                      <a:pt x="603" y="876"/>
                    </a:lnTo>
                    <a:lnTo>
                      <a:pt x="230" y="1147"/>
                    </a:lnTo>
                    <a:lnTo>
                      <a:pt x="372" y="709"/>
                    </a:lnTo>
                    <a:close/>
                  </a:path>
                </a:pathLst>
              </a:custGeom>
              <a:solidFill>
                <a:srgbClr val="ffccff"/>
              </a:solidFill>
              <a:ln w="1908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6135480" y="2808000"/>
                <a:ext cx="576000" cy="360"/>
                <a:chOff x="6135480" y="2808000"/>
                <a:chExt cx="576000" cy="360"/>
              </a:xfrm>
            </p:grpSpPr>
            <p:sp>
              <p:nvSpPr>
                <p:cNvPr id="397" name="直接连接符 322593"/>
                <p:cNvSpPr/>
                <p:nvPr/>
              </p:nvSpPr>
              <p:spPr>
                <a:xfrm>
                  <a:off x="6135480" y="2808000"/>
                  <a:ext cx="57600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 txBox="1"/>
                <p:nvPr/>
              </p:nvSpPr>
              <p:spPr>
                <a:xfrm>
                  <a:off x="6135480" y="2808000"/>
                  <a:ext cx="576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5976720" y="2744640"/>
                <a:ext cx="212400" cy="666360"/>
                <a:chOff x="5976720" y="2744640"/>
                <a:chExt cx="212400" cy="666360"/>
              </a:xfrm>
            </p:grpSpPr>
            <p:sp>
              <p:nvSpPr>
                <p:cNvPr id="400" name="直接连接符 322594"/>
                <p:cNvSpPr/>
                <p:nvPr/>
              </p:nvSpPr>
              <p:spPr>
                <a:xfrm flipH="1">
                  <a:off x="5976720" y="2744640"/>
                  <a:ext cx="212400" cy="66636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 txBox="1"/>
                <p:nvPr/>
              </p:nvSpPr>
              <p:spPr>
                <a:xfrm>
                  <a:off x="5976720" y="2744640"/>
                  <a:ext cx="212400" cy="66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6389640" y="3163680"/>
                <a:ext cx="475920" cy="353520"/>
                <a:chOff x="6389640" y="3163680"/>
                <a:chExt cx="475920" cy="353520"/>
              </a:xfrm>
            </p:grpSpPr>
            <p:sp>
              <p:nvSpPr>
                <p:cNvPr id="403" name="直接连接符 322595"/>
                <p:cNvSpPr/>
                <p:nvPr/>
              </p:nvSpPr>
              <p:spPr>
                <a:xfrm flipV="1">
                  <a:off x="6389640" y="3163680"/>
                  <a:ext cx="475920" cy="35352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 txBox="1"/>
                <p:nvPr/>
              </p:nvSpPr>
              <p:spPr>
                <a:xfrm rot="10800000">
                  <a:off x="6389640" y="3163680"/>
                  <a:ext cx="475920" cy="35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5" name=""/>
            <p:cNvGrpSpPr/>
            <p:nvPr/>
          </p:nvGrpSpPr>
          <p:grpSpPr>
            <a:xfrm>
              <a:off x="6024240" y="3238200"/>
              <a:ext cx="371160" cy="274320"/>
              <a:chOff x="6024240" y="3238200"/>
              <a:chExt cx="371160" cy="274320"/>
            </a:xfrm>
          </p:grpSpPr>
          <p:sp>
            <p:nvSpPr>
              <p:cNvPr id="406" name="直接连接符 322597"/>
              <p:cNvSpPr/>
              <p:nvPr/>
            </p:nvSpPr>
            <p:spPr>
              <a:xfrm>
                <a:off x="6024240" y="3238200"/>
                <a:ext cx="371160" cy="27432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 txBox="1"/>
              <p:nvPr/>
            </p:nvSpPr>
            <p:spPr>
              <a:xfrm>
                <a:off x="6024240" y="3238200"/>
                <a:ext cx="371160" cy="274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6615000" y="2803320"/>
              <a:ext cx="140760" cy="441000"/>
              <a:chOff x="6615000" y="2803320"/>
              <a:chExt cx="140760" cy="441000"/>
            </a:xfrm>
          </p:grpSpPr>
          <p:sp>
            <p:nvSpPr>
              <p:cNvPr id="409" name="直接连接符 322598"/>
              <p:cNvSpPr/>
              <p:nvPr/>
            </p:nvSpPr>
            <p:spPr>
              <a:xfrm>
                <a:off x="6615000" y="2803320"/>
                <a:ext cx="140760" cy="441000"/>
              </a:xfrm>
              <a:prstGeom prst="line">
                <a:avLst/>
              </a:prstGeom>
              <a:ln w="1908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 txBox="1"/>
              <p:nvPr/>
            </p:nvSpPr>
            <p:spPr>
              <a:xfrm>
                <a:off x="6615000" y="2803320"/>
                <a:ext cx="140760" cy="44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任意多边形 322601"/>
          <p:cNvSpPr/>
          <p:nvPr/>
        </p:nvSpPr>
        <p:spPr>
          <a:xfrm rot="4691400">
            <a:off x="6747120" y="3200760"/>
            <a:ext cx="155520" cy="109800"/>
          </a:xfrm>
          <a:custGeom>
            <a:avLst/>
            <a:gdLst/>
            <a:ahLst/>
            <a:rect l="l" t="t" r="r" b="b"/>
            <a:pathLst>
              <a:path fill="none" w="30542" h="21600">
                <a:moveTo>
                  <a:pt x="0" y="1937"/>
                </a:moveTo>
                <a:cubicBezTo>
                  <a:pt x="2722" y="691"/>
                  <a:pt x="5751" y="-1"/>
                  <a:pt x="8942" y="-1"/>
                </a:cubicBezTo>
                <a:cubicBezTo>
                  <a:pt x="20871" y="-1"/>
                  <a:pt x="30542" y="9670"/>
                  <a:pt x="30542" y="21599"/>
                </a:cubicBezTo>
              </a:path>
              <a:path stroke="0" w="30542" h="21600">
                <a:moveTo>
                  <a:pt x="30542" y="21600"/>
                </a:moveTo>
                <a:cubicBezTo>
                  <a:pt x="30531" y="21280"/>
                  <a:pt x="30525" y="20957"/>
                  <a:pt x="30525" y="20633"/>
                </a:cubicBezTo>
                <a:cubicBezTo>
                  <a:pt x="30525" y="9239"/>
                  <a:pt x="37362" y="2"/>
                  <a:pt x="45796" y="2"/>
                </a:cubicBezTo>
                <a:cubicBezTo>
                  <a:pt x="54230" y="2"/>
                  <a:pt x="61067" y="9239"/>
                  <a:pt x="61067" y="20633"/>
                </a:cubicBezTo>
                <a:cubicBezTo>
                  <a:pt x="61067" y="24506"/>
                  <a:pt x="60277" y="28130"/>
                  <a:pt x="58903" y="31225"/>
                </a:cubicBezTo>
                <a:lnTo>
                  <a:pt x="0" y="1937"/>
                </a:lnTo>
                <a:close/>
              </a:path>
            </a:pathLst>
          </a:custGeom>
          <a:noFill/>
          <a:ln w="1908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任意多边形 322602"/>
          <p:cNvSpPr/>
          <p:nvPr/>
        </p:nvSpPr>
        <p:spPr>
          <a:xfrm rot="8535000">
            <a:off x="6346440" y="2313000"/>
            <a:ext cx="111240" cy="101520"/>
          </a:xfrm>
          <a:custGeom>
            <a:avLst/>
            <a:gdLst/>
            <a:ahLst/>
            <a:rect l="l" t="t" r="r" b="b"/>
            <a:pathLst>
              <a:path fill="none" w="30542" h="21600">
                <a:moveTo>
                  <a:pt x="0" y="1937"/>
                </a:moveTo>
                <a:cubicBezTo>
                  <a:pt x="2722" y="691"/>
                  <a:pt x="5751" y="-1"/>
                  <a:pt x="8942" y="-1"/>
                </a:cubicBezTo>
                <a:cubicBezTo>
                  <a:pt x="20871" y="-1"/>
                  <a:pt x="30542" y="9670"/>
                  <a:pt x="30542" y="21599"/>
                </a:cubicBezTo>
              </a:path>
              <a:path stroke="0" w="30542" h="21600">
                <a:moveTo>
                  <a:pt x="30542" y="21600"/>
                </a:moveTo>
                <a:cubicBezTo>
                  <a:pt x="30531" y="21280"/>
                  <a:pt x="30525" y="20957"/>
                  <a:pt x="30525" y="20633"/>
                </a:cubicBezTo>
                <a:cubicBezTo>
                  <a:pt x="30525" y="9239"/>
                  <a:pt x="37362" y="2"/>
                  <a:pt x="45796" y="2"/>
                </a:cubicBezTo>
                <a:cubicBezTo>
                  <a:pt x="54230" y="2"/>
                  <a:pt x="61067" y="9239"/>
                  <a:pt x="61067" y="20633"/>
                </a:cubicBezTo>
                <a:cubicBezTo>
                  <a:pt x="61067" y="24506"/>
                  <a:pt x="60277" y="28130"/>
                  <a:pt x="58903" y="31225"/>
                </a:cubicBezTo>
                <a:lnTo>
                  <a:pt x="0" y="1937"/>
                </a:lnTo>
                <a:close/>
              </a:path>
            </a:pathLst>
          </a:custGeom>
          <a:noFill/>
          <a:ln w="1908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322603"/>
          <p:cNvSpPr/>
          <p:nvPr/>
        </p:nvSpPr>
        <p:spPr>
          <a:xfrm>
            <a:off x="6213600" y="2324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322604"/>
          <p:cNvSpPr/>
          <p:nvPr/>
        </p:nvSpPr>
        <p:spPr>
          <a:xfrm>
            <a:off x="6861240" y="30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组合 322607"/>
          <p:cNvGrpSpPr/>
          <p:nvPr/>
        </p:nvGrpSpPr>
        <p:grpSpPr>
          <a:xfrm>
            <a:off x="3341520" y="1963800"/>
            <a:ext cx="463320" cy="520560"/>
            <a:chOff x="3341520" y="1963800"/>
            <a:chExt cx="463320" cy="520560"/>
          </a:xfrm>
        </p:grpSpPr>
        <p:sp>
          <p:nvSpPr>
            <p:cNvPr id="416" name="任意多边形 322605"/>
            <p:cNvSpPr/>
            <p:nvPr/>
          </p:nvSpPr>
          <p:spPr>
            <a:xfrm rot="13000200">
              <a:off x="3631680" y="2104560"/>
              <a:ext cx="155520" cy="109800"/>
            </a:xfrm>
            <a:custGeom>
              <a:avLst/>
              <a:gdLst/>
              <a:ahLst/>
              <a:rect l="l" t="t" r="r" b="b"/>
              <a:pathLst>
                <a:path fill="none" w="30542" h="21600">
                  <a:moveTo>
                    <a:pt x="0" y="1937"/>
                  </a:moveTo>
                  <a:cubicBezTo>
                    <a:pt x="2722" y="691"/>
                    <a:pt x="5751" y="-1"/>
                    <a:pt x="8942" y="-1"/>
                  </a:cubicBezTo>
                  <a:cubicBezTo>
                    <a:pt x="20871" y="-1"/>
                    <a:pt x="30542" y="9670"/>
                    <a:pt x="30542" y="21599"/>
                  </a:cubicBezTo>
                </a:path>
                <a:path stroke="0" w="30542" h="21600">
                  <a:moveTo>
                    <a:pt x="30542" y="21600"/>
                  </a:moveTo>
                  <a:cubicBezTo>
                    <a:pt x="30531" y="21280"/>
                    <a:pt x="30525" y="20957"/>
                    <a:pt x="30525" y="20633"/>
                  </a:cubicBezTo>
                  <a:cubicBezTo>
                    <a:pt x="30525" y="9239"/>
                    <a:pt x="37362" y="2"/>
                    <a:pt x="45796" y="2"/>
                  </a:cubicBezTo>
                  <a:cubicBezTo>
                    <a:pt x="54230" y="2"/>
                    <a:pt x="61067" y="9239"/>
                    <a:pt x="61067" y="20633"/>
                  </a:cubicBezTo>
                  <a:cubicBezTo>
                    <a:pt x="61067" y="24506"/>
                    <a:pt x="60277" y="28130"/>
                    <a:pt x="58903" y="31225"/>
                  </a:cubicBezTo>
                  <a:lnTo>
                    <a:pt x="0" y="1937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322606"/>
            <p:cNvSpPr/>
            <p:nvPr/>
          </p:nvSpPr>
          <p:spPr>
            <a:xfrm>
              <a:off x="3341520" y="19638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任意多边形 322609"/>
          <p:cNvSpPr/>
          <p:nvPr/>
        </p:nvSpPr>
        <p:spPr>
          <a:xfrm rot="16577400">
            <a:off x="3611520" y="3931920"/>
            <a:ext cx="155520" cy="111240"/>
          </a:xfrm>
          <a:custGeom>
            <a:avLst/>
            <a:gdLst/>
            <a:ahLst/>
            <a:rect l="l" t="t" r="r" b="b"/>
            <a:pathLst>
              <a:path fill="none" w="30542" h="21600">
                <a:moveTo>
                  <a:pt x="0" y="1937"/>
                </a:moveTo>
                <a:cubicBezTo>
                  <a:pt x="2722" y="691"/>
                  <a:pt x="5751" y="-1"/>
                  <a:pt x="8942" y="-1"/>
                </a:cubicBezTo>
                <a:cubicBezTo>
                  <a:pt x="20871" y="-1"/>
                  <a:pt x="30542" y="9670"/>
                  <a:pt x="30542" y="21599"/>
                </a:cubicBezTo>
              </a:path>
              <a:path stroke="0" w="30542" h="21600">
                <a:moveTo>
                  <a:pt x="30542" y="21600"/>
                </a:moveTo>
                <a:cubicBezTo>
                  <a:pt x="30531" y="21280"/>
                  <a:pt x="30525" y="20957"/>
                  <a:pt x="30525" y="20633"/>
                </a:cubicBezTo>
                <a:cubicBezTo>
                  <a:pt x="30525" y="9239"/>
                  <a:pt x="37362" y="2"/>
                  <a:pt x="45796" y="2"/>
                </a:cubicBezTo>
                <a:cubicBezTo>
                  <a:pt x="54230" y="2"/>
                  <a:pt x="61067" y="9239"/>
                  <a:pt x="61067" y="20633"/>
                </a:cubicBezTo>
                <a:cubicBezTo>
                  <a:pt x="61067" y="24506"/>
                  <a:pt x="60277" y="28130"/>
                  <a:pt x="58903" y="31225"/>
                </a:cubicBezTo>
                <a:lnTo>
                  <a:pt x="0" y="1937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22610"/>
          <p:cNvSpPr/>
          <p:nvPr/>
        </p:nvSpPr>
        <p:spPr>
          <a:xfrm>
            <a:off x="3289320" y="35528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任意多边形 322612"/>
          <p:cNvSpPr/>
          <p:nvPr/>
        </p:nvSpPr>
        <p:spPr>
          <a:xfrm rot="5203800">
            <a:off x="3170160" y="3004200"/>
            <a:ext cx="209880" cy="109800"/>
          </a:xfrm>
          <a:custGeom>
            <a:avLst/>
            <a:gdLst/>
            <a:ahLst/>
            <a:rect l="l" t="t" r="r" b="b"/>
            <a:pathLst>
              <a:path fill="none" w="41359" h="21600">
                <a:moveTo>
                  <a:pt x="0" y="13328"/>
                </a:moveTo>
                <a:cubicBezTo>
                  <a:pt x="3245" y="5500"/>
                  <a:pt x="10957" y="0"/>
                  <a:pt x="19953" y="0"/>
                </a:cubicBezTo>
                <a:cubicBezTo>
                  <a:pt x="30903" y="0"/>
                  <a:pt x="39950" y="8148"/>
                  <a:pt x="41361" y="18705"/>
                </a:cubicBezTo>
              </a:path>
              <a:path stroke="0" w="41359" h="21600">
                <a:moveTo>
                  <a:pt x="41359" y="18715"/>
                </a:moveTo>
                <a:cubicBezTo>
                  <a:pt x="39258" y="16383"/>
                  <a:pt x="38040" y="13602"/>
                  <a:pt x="38040" y="10616"/>
                </a:cubicBezTo>
                <a:cubicBezTo>
                  <a:pt x="38040" y="2367"/>
                  <a:pt x="47342" y="-4320"/>
                  <a:pt x="58816" y="-4320"/>
                </a:cubicBezTo>
                <a:cubicBezTo>
                  <a:pt x="70290" y="-4320"/>
                  <a:pt x="79592" y="2367"/>
                  <a:pt x="79592" y="10616"/>
                </a:cubicBezTo>
                <a:cubicBezTo>
                  <a:pt x="79592" y="16172"/>
                  <a:pt x="75372" y="21019"/>
                  <a:pt x="69113" y="23592"/>
                </a:cubicBezTo>
                <a:lnTo>
                  <a:pt x="0" y="13328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322613"/>
          <p:cNvSpPr/>
          <p:nvPr/>
        </p:nvSpPr>
        <p:spPr>
          <a:xfrm>
            <a:off x="3298680" y="2817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322614"/>
          <p:cNvSpPr/>
          <p:nvPr/>
        </p:nvSpPr>
        <p:spPr>
          <a:xfrm>
            <a:off x="1476360" y="420696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= 55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322615"/>
          <p:cNvSpPr/>
          <p:nvPr/>
        </p:nvSpPr>
        <p:spPr>
          <a:xfrm>
            <a:off x="1476360" y="5430960"/>
            <a:ext cx="22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= 11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322616"/>
          <p:cNvSpPr/>
          <p:nvPr/>
        </p:nvSpPr>
        <p:spPr>
          <a:xfrm>
            <a:off x="1476360" y="481824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 = 55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矩形 322617"/>
          <p:cNvSpPr/>
          <p:nvPr/>
        </p:nvSpPr>
        <p:spPr>
          <a:xfrm>
            <a:off x="5578560" y="420696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 = 4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322618"/>
          <p:cNvSpPr/>
          <p:nvPr/>
        </p:nvSpPr>
        <p:spPr>
          <a:xfrm>
            <a:off x="5578560" y="48182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 = 11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矩形 364545"/>
          <p:cNvSpPr/>
          <p:nvPr/>
        </p:nvSpPr>
        <p:spPr>
          <a:xfrm>
            <a:off x="539640" y="1251000"/>
            <a:ext cx="79581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估计三角尺上各个角的度数，再量一量各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少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矩形 292865"/>
          <p:cNvSpPr/>
          <p:nvPr/>
        </p:nvSpPr>
        <p:spPr>
          <a:xfrm>
            <a:off x="468360" y="1152360"/>
            <a:ext cx="8207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图形，哪些是直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些是射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些是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组合 292911"/>
          <p:cNvGrpSpPr/>
          <p:nvPr/>
        </p:nvGrpSpPr>
        <p:grpSpPr>
          <a:xfrm>
            <a:off x="968400" y="2789280"/>
            <a:ext cx="656640" cy="1863360"/>
            <a:chOff x="968400" y="2789280"/>
            <a:chExt cx="656640" cy="1863360"/>
          </a:xfrm>
        </p:grpSpPr>
        <p:grpSp>
          <p:nvGrpSpPr>
            <p:cNvPr id="430" name=""/>
            <p:cNvGrpSpPr/>
            <p:nvPr/>
          </p:nvGrpSpPr>
          <p:grpSpPr>
            <a:xfrm>
              <a:off x="968400" y="2789280"/>
              <a:ext cx="360000" cy="1295280"/>
              <a:chOff x="968400" y="2789280"/>
              <a:chExt cx="360000" cy="1295280"/>
            </a:xfrm>
          </p:grpSpPr>
          <p:sp>
            <p:nvSpPr>
              <p:cNvPr id="431" name="直接连接符 292884"/>
              <p:cNvSpPr/>
              <p:nvPr/>
            </p:nvSpPr>
            <p:spPr>
              <a:xfrm>
                <a:off x="968400" y="2789280"/>
                <a:ext cx="360000" cy="129528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 txBox="1"/>
              <p:nvPr/>
            </p:nvSpPr>
            <p:spPr>
              <a:xfrm>
                <a:off x="968400" y="2789280"/>
                <a:ext cx="360000" cy="1295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矩形 292891"/>
            <p:cNvSpPr/>
            <p:nvPr/>
          </p:nvSpPr>
          <p:spPr>
            <a:xfrm>
              <a:off x="1025640" y="413208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组合 292905"/>
          <p:cNvGrpSpPr/>
          <p:nvPr/>
        </p:nvGrpSpPr>
        <p:grpSpPr>
          <a:xfrm>
            <a:off x="1930320" y="2833560"/>
            <a:ext cx="599400" cy="1819080"/>
            <a:chOff x="1930320" y="2833560"/>
            <a:chExt cx="599400" cy="1819080"/>
          </a:xfrm>
        </p:grpSpPr>
        <p:grpSp>
          <p:nvGrpSpPr>
            <p:cNvPr id="435" name=""/>
            <p:cNvGrpSpPr/>
            <p:nvPr/>
          </p:nvGrpSpPr>
          <p:grpSpPr>
            <a:xfrm>
              <a:off x="2147760" y="2833560"/>
              <a:ext cx="71280" cy="1251000"/>
              <a:chOff x="2147760" y="2833560"/>
              <a:chExt cx="71280" cy="1251000"/>
            </a:xfrm>
          </p:grpSpPr>
          <p:sp>
            <p:nvSpPr>
              <p:cNvPr id="436" name="直接连接符 292885"/>
              <p:cNvSpPr/>
              <p:nvPr/>
            </p:nvSpPr>
            <p:spPr>
              <a:xfrm>
                <a:off x="2147760" y="2833560"/>
                <a:ext cx="71280" cy="125100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 txBox="1"/>
              <p:nvPr/>
            </p:nvSpPr>
            <p:spPr>
              <a:xfrm>
                <a:off x="2147760" y="2833560"/>
                <a:ext cx="71280" cy="1251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矩形 292892"/>
            <p:cNvSpPr/>
            <p:nvPr/>
          </p:nvSpPr>
          <p:spPr>
            <a:xfrm>
              <a:off x="1930320" y="413208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292906"/>
          <p:cNvGrpSpPr/>
          <p:nvPr/>
        </p:nvGrpSpPr>
        <p:grpSpPr>
          <a:xfrm>
            <a:off x="2925720" y="2863800"/>
            <a:ext cx="777600" cy="1788840"/>
            <a:chOff x="2925720" y="2863800"/>
            <a:chExt cx="777600" cy="1788840"/>
          </a:xfrm>
        </p:grpSpPr>
        <p:grpSp>
          <p:nvGrpSpPr>
            <p:cNvPr id="440" name=""/>
            <p:cNvGrpSpPr/>
            <p:nvPr/>
          </p:nvGrpSpPr>
          <p:grpSpPr>
            <a:xfrm>
              <a:off x="3201480" y="2863800"/>
              <a:ext cx="501840" cy="1220760"/>
              <a:chOff x="3201480" y="2863800"/>
              <a:chExt cx="501840" cy="1220760"/>
            </a:xfrm>
          </p:grpSpPr>
          <p:sp>
            <p:nvSpPr>
              <p:cNvPr id="441" name="直接连接符 292886"/>
              <p:cNvSpPr/>
              <p:nvPr/>
            </p:nvSpPr>
            <p:spPr>
              <a:xfrm flipH="1">
                <a:off x="3201480" y="2863800"/>
                <a:ext cx="501480" cy="122076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 txBox="1"/>
              <p:nvPr/>
            </p:nvSpPr>
            <p:spPr>
              <a:xfrm>
                <a:off x="3201840" y="2863800"/>
                <a:ext cx="501480" cy="1220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3" name="矩形 292893"/>
            <p:cNvSpPr/>
            <p:nvPr/>
          </p:nvSpPr>
          <p:spPr>
            <a:xfrm>
              <a:off x="2925720" y="413208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292907"/>
          <p:cNvGrpSpPr/>
          <p:nvPr/>
        </p:nvGrpSpPr>
        <p:grpSpPr>
          <a:xfrm>
            <a:off x="4038480" y="3581280"/>
            <a:ext cx="1081080" cy="1071360"/>
            <a:chOff x="4038480" y="3581280"/>
            <a:chExt cx="1081080" cy="1071360"/>
          </a:xfrm>
        </p:grpSpPr>
        <p:grpSp>
          <p:nvGrpSpPr>
            <p:cNvPr id="445" name=""/>
            <p:cNvGrpSpPr/>
            <p:nvPr/>
          </p:nvGrpSpPr>
          <p:grpSpPr>
            <a:xfrm>
              <a:off x="4038480" y="3581280"/>
              <a:ext cx="1081080" cy="360"/>
              <a:chOff x="4038480" y="3581280"/>
              <a:chExt cx="1081080" cy="360"/>
            </a:xfrm>
          </p:grpSpPr>
          <p:sp>
            <p:nvSpPr>
              <p:cNvPr id="446" name="直接连接符 292887"/>
              <p:cNvSpPr/>
              <p:nvPr/>
            </p:nvSpPr>
            <p:spPr>
              <a:xfrm>
                <a:off x="4038480" y="3581280"/>
                <a:ext cx="108108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 txBox="1"/>
              <p:nvPr/>
            </p:nvSpPr>
            <p:spPr>
              <a:xfrm>
                <a:off x="4038480" y="3581280"/>
                <a:ext cx="108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" name="矩形 292894"/>
            <p:cNvSpPr/>
            <p:nvPr/>
          </p:nvSpPr>
          <p:spPr>
            <a:xfrm>
              <a:off x="4297320" y="413208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组合 292908"/>
          <p:cNvGrpSpPr/>
          <p:nvPr/>
        </p:nvGrpSpPr>
        <p:grpSpPr>
          <a:xfrm>
            <a:off x="5724360" y="2973240"/>
            <a:ext cx="607680" cy="1679400"/>
            <a:chOff x="5724360" y="2973240"/>
            <a:chExt cx="607680" cy="1679400"/>
          </a:xfrm>
        </p:grpSpPr>
        <p:grpSp>
          <p:nvGrpSpPr>
            <p:cNvPr id="450" name=""/>
            <p:cNvGrpSpPr/>
            <p:nvPr/>
          </p:nvGrpSpPr>
          <p:grpSpPr>
            <a:xfrm>
              <a:off x="5724360" y="2973240"/>
              <a:ext cx="250560" cy="1111320"/>
              <a:chOff x="5724360" y="2973240"/>
              <a:chExt cx="250560" cy="1111320"/>
            </a:xfrm>
          </p:grpSpPr>
          <p:sp>
            <p:nvSpPr>
              <p:cNvPr id="451" name="直接连接符 292888"/>
              <p:cNvSpPr/>
              <p:nvPr/>
            </p:nvSpPr>
            <p:spPr>
              <a:xfrm>
                <a:off x="5724360" y="2973240"/>
                <a:ext cx="250560" cy="111132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5724360" y="2973240"/>
                <a:ext cx="250560" cy="1111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3" name="矩形 292895"/>
            <p:cNvSpPr/>
            <p:nvPr/>
          </p:nvSpPr>
          <p:spPr>
            <a:xfrm>
              <a:off x="5732640" y="413208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292909"/>
          <p:cNvGrpSpPr/>
          <p:nvPr/>
        </p:nvGrpSpPr>
        <p:grpSpPr>
          <a:xfrm>
            <a:off x="6702480" y="2860560"/>
            <a:ext cx="599400" cy="1792080"/>
            <a:chOff x="6702480" y="2860560"/>
            <a:chExt cx="599400" cy="1792080"/>
          </a:xfrm>
        </p:grpSpPr>
        <p:grpSp>
          <p:nvGrpSpPr>
            <p:cNvPr id="455" name=""/>
            <p:cNvGrpSpPr/>
            <p:nvPr/>
          </p:nvGrpSpPr>
          <p:grpSpPr>
            <a:xfrm>
              <a:off x="6972120" y="2860560"/>
              <a:ext cx="360" cy="1224000"/>
              <a:chOff x="6972120" y="2860560"/>
              <a:chExt cx="360" cy="1224000"/>
            </a:xfrm>
          </p:grpSpPr>
          <p:sp>
            <p:nvSpPr>
              <p:cNvPr id="456" name="直接连接符 292889"/>
              <p:cNvSpPr/>
              <p:nvPr/>
            </p:nvSpPr>
            <p:spPr>
              <a:xfrm>
                <a:off x="6972120" y="2860560"/>
                <a:ext cx="0" cy="122400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 txBox="1"/>
              <p:nvPr/>
            </p:nvSpPr>
            <p:spPr>
              <a:xfrm>
                <a:off x="6972120" y="2860560"/>
                <a:ext cx="36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" name="矩形 292896"/>
            <p:cNvSpPr/>
            <p:nvPr/>
          </p:nvSpPr>
          <p:spPr>
            <a:xfrm>
              <a:off x="6702480" y="413208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292910"/>
          <p:cNvGrpSpPr/>
          <p:nvPr/>
        </p:nvGrpSpPr>
        <p:grpSpPr>
          <a:xfrm>
            <a:off x="7645320" y="3063960"/>
            <a:ext cx="845640" cy="1588680"/>
            <a:chOff x="7645320" y="3063960"/>
            <a:chExt cx="845640" cy="1588680"/>
          </a:xfrm>
        </p:grpSpPr>
        <p:grpSp>
          <p:nvGrpSpPr>
            <p:cNvPr id="460" name=""/>
            <p:cNvGrpSpPr/>
            <p:nvPr/>
          </p:nvGrpSpPr>
          <p:grpSpPr>
            <a:xfrm>
              <a:off x="7645320" y="3063960"/>
              <a:ext cx="550800" cy="1020600"/>
              <a:chOff x="7645320" y="3063960"/>
              <a:chExt cx="550800" cy="1020600"/>
            </a:xfrm>
          </p:grpSpPr>
          <p:sp>
            <p:nvSpPr>
              <p:cNvPr id="461" name="直接连接符 292890"/>
              <p:cNvSpPr/>
              <p:nvPr/>
            </p:nvSpPr>
            <p:spPr>
              <a:xfrm>
                <a:off x="7645320" y="3063960"/>
                <a:ext cx="550800" cy="102060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 txBox="1"/>
              <p:nvPr/>
            </p:nvSpPr>
            <p:spPr>
              <a:xfrm>
                <a:off x="7645320" y="3063960"/>
                <a:ext cx="550800" cy="1020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3" name="矩形 292897"/>
            <p:cNvSpPr/>
            <p:nvPr/>
          </p:nvSpPr>
          <p:spPr>
            <a:xfrm>
              <a:off x="7891560" y="413208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矩形 292898"/>
          <p:cNvSpPr/>
          <p:nvPr/>
        </p:nvSpPr>
        <p:spPr>
          <a:xfrm>
            <a:off x="1037520" y="463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直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92899"/>
          <p:cNvSpPr/>
          <p:nvPr/>
        </p:nvSpPr>
        <p:spPr>
          <a:xfrm>
            <a:off x="1974240" y="463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线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92900"/>
          <p:cNvSpPr/>
          <p:nvPr/>
        </p:nvSpPr>
        <p:spPr>
          <a:xfrm>
            <a:off x="2982240" y="463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射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92901"/>
          <p:cNvSpPr/>
          <p:nvPr/>
        </p:nvSpPr>
        <p:spPr>
          <a:xfrm>
            <a:off x="4299840" y="463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射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2902"/>
          <p:cNvSpPr/>
          <p:nvPr/>
        </p:nvSpPr>
        <p:spPr>
          <a:xfrm>
            <a:off x="5765400" y="463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射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292903"/>
          <p:cNvSpPr/>
          <p:nvPr/>
        </p:nvSpPr>
        <p:spPr>
          <a:xfrm>
            <a:off x="6773400" y="463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直线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292904"/>
          <p:cNvSpPr/>
          <p:nvPr/>
        </p:nvSpPr>
        <p:spPr>
          <a:xfrm>
            <a:off x="7925760" y="4638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线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任意多边形 324659"/>
          <p:cNvSpPr/>
          <p:nvPr/>
        </p:nvSpPr>
        <p:spPr>
          <a:xfrm rot="15659400">
            <a:off x="7733880" y="2444040"/>
            <a:ext cx="195480" cy="150840"/>
          </a:xfrm>
          <a:custGeom>
            <a:avLst/>
            <a:gdLst/>
            <a:ahLst/>
            <a:rect l="l" t="t" r="r" b="b"/>
            <a:pathLst>
              <a:path fill="none" w="28037" h="21600">
                <a:moveTo>
                  <a:pt x="0" y="12092"/>
                </a:moveTo>
                <a:cubicBezTo>
                  <a:pt x="3515" y="4927"/>
                  <a:pt x="10880" y="0"/>
                  <a:pt x="19395" y="0"/>
                </a:cubicBezTo>
                <a:cubicBezTo>
                  <a:pt x="22470" y="0"/>
                  <a:pt x="25395" y="643"/>
                  <a:pt x="28040" y="1800"/>
                </a:cubicBezTo>
              </a:path>
              <a:path stroke="0" w="28037" h="21600">
                <a:moveTo>
                  <a:pt x="28036" y="1804"/>
                </a:moveTo>
                <a:cubicBezTo>
                  <a:pt x="18840" y="266"/>
                  <a:pt x="11969" y="-5949"/>
                  <a:pt x="11969" y="-13382"/>
                </a:cubicBezTo>
                <a:cubicBezTo>
                  <a:pt x="11969" y="-21972"/>
                  <a:pt x="21146" y="-28936"/>
                  <a:pt x="32466" y="-28936"/>
                </a:cubicBezTo>
                <a:cubicBezTo>
                  <a:pt x="43786" y="-28936"/>
                  <a:pt x="52963" y="-21972"/>
                  <a:pt x="52963" y="-13382"/>
                </a:cubicBezTo>
                <a:cubicBezTo>
                  <a:pt x="52963" y="-7813"/>
                  <a:pt x="49106" y="-2927"/>
                  <a:pt x="43309" y="-180"/>
                </a:cubicBezTo>
                <a:lnTo>
                  <a:pt x="0" y="12092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任意多边形 324656"/>
          <p:cNvSpPr/>
          <p:nvPr/>
        </p:nvSpPr>
        <p:spPr>
          <a:xfrm flipH="1" rot="15426600">
            <a:off x="6999840" y="3533400"/>
            <a:ext cx="104760" cy="104760"/>
          </a:xfrm>
          <a:custGeom>
            <a:avLst/>
            <a:gdLst/>
            <a:ahLst/>
            <a:rect l="l" t="t" r="r" b="b"/>
            <a:pathLst>
              <a:path fill="none" w="21877" h="21600">
                <a:moveTo>
                  <a:pt x="0" y="15982"/>
                </a:moveTo>
                <a:cubicBezTo>
                  <a:pt x="2474" y="6771"/>
                  <a:pt x="10875" y="0"/>
                  <a:pt x="20857" y="0"/>
                </a:cubicBezTo>
                <a:cubicBezTo>
                  <a:pt x="21200" y="0"/>
                  <a:pt x="21541" y="8"/>
                  <a:pt x="21877" y="24"/>
                </a:cubicBezTo>
              </a:path>
              <a:path stroke="0" w="21877" h="21600">
                <a:moveTo>
                  <a:pt x="21876" y="24"/>
                </a:moveTo>
                <a:cubicBezTo>
                  <a:pt x="10289" y="-79"/>
                  <a:pt x="946" y="-6132"/>
                  <a:pt x="946" y="-13584"/>
                </a:cubicBezTo>
                <a:cubicBezTo>
                  <a:pt x="946" y="-21100"/>
                  <a:pt x="10450" y="-27193"/>
                  <a:pt x="22174" y="-27193"/>
                </a:cubicBezTo>
                <a:cubicBezTo>
                  <a:pt x="33898" y="-27193"/>
                  <a:pt x="43402" y="-21100"/>
                  <a:pt x="43402" y="-13584"/>
                </a:cubicBezTo>
                <a:cubicBezTo>
                  <a:pt x="43402" y="-8163"/>
                  <a:pt x="38457" y="-3482"/>
                  <a:pt x="31304" y="-1294"/>
                </a:cubicBezTo>
                <a:lnTo>
                  <a:pt x="0" y="15982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任意多边形 324657"/>
          <p:cNvSpPr/>
          <p:nvPr/>
        </p:nvSpPr>
        <p:spPr>
          <a:xfrm flipH="1" rot="18654600">
            <a:off x="7149240" y="3479760"/>
            <a:ext cx="165240" cy="117360"/>
          </a:xfrm>
          <a:custGeom>
            <a:avLst/>
            <a:gdLst/>
            <a:ahLst/>
            <a:rect l="l" t="t" r="r" b="b"/>
            <a:pathLst>
              <a:path fill="none" w="30199" h="21600">
                <a:moveTo>
                  <a:pt x="0" y="20230"/>
                </a:moveTo>
                <a:cubicBezTo>
                  <a:pt x="710" y="8936"/>
                  <a:pt x="10090" y="0"/>
                  <a:pt x="21557" y="0"/>
                </a:cubicBezTo>
                <a:cubicBezTo>
                  <a:pt x="24632" y="0"/>
                  <a:pt x="27557" y="643"/>
                  <a:pt x="30202" y="1800"/>
                </a:cubicBezTo>
              </a:path>
              <a:path stroke="0" w="30199" h="21600">
                <a:moveTo>
                  <a:pt x="30198" y="1804"/>
                </a:moveTo>
                <a:cubicBezTo>
                  <a:pt x="19829" y="964"/>
                  <a:pt x="11892" y="-3799"/>
                  <a:pt x="11892" y="-9548"/>
                </a:cubicBezTo>
                <a:cubicBezTo>
                  <a:pt x="11892" y="-15891"/>
                  <a:pt x="21553" y="-21033"/>
                  <a:pt x="33470" y="-21033"/>
                </a:cubicBezTo>
                <a:cubicBezTo>
                  <a:pt x="45387" y="-21033"/>
                  <a:pt x="55048" y="-15891"/>
                  <a:pt x="55048" y="-9548"/>
                </a:cubicBezTo>
                <a:cubicBezTo>
                  <a:pt x="55048" y="-4582"/>
                  <a:pt x="49126" y="-352"/>
                  <a:pt x="40839" y="1250"/>
                </a:cubicBezTo>
                <a:lnTo>
                  <a:pt x="0" y="20230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任意多边形 324653"/>
          <p:cNvSpPr/>
          <p:nvPr/>
        </p:nvSpPr>
        <p:spPr>
          <a:xfrm flipH="1" rot="4626600">
            <a:off x="5394240" y="2474280"/>
            <a:ext cx="181080" cy="104760"/>
          </a:xfrm>
          <a:custGeom>
            <a:avLst/>
            <a:gdLst/>
            <a:ahLst/>
            <a:rect l="l" t="t" r="r" b="b"/>
            <a:pathLst>
              <a:path fill="none" w="37466" h="21600">
                <a:moveTo>
                  <a:pt x="0" y="19218"/>
                </a:moveTo>
                <a:cubicBezTo>
                  <a:pt x="1188" y="8405"/>
                  <a:pt x="10347" y="0"/>
                  <a:pt x="21468" y="0"/>
                </a:cubicBezTo>
                <a:cubicBezTo>
                  <a:pt x="27810" y="0"/>
                  <a:pt x="33514" y="2734"/>
                  <a:pt x="37466" y="7087"/>
                </a:cubicBezTo>
              </a:path>
              <a:path stroke="0" w="37466" h="21600">
                <a:moveTo>
                  <a:pt x="37466" y="7087"/>
                </a:moveTo>
                <a:cubicBezTo>
                  <a:pt x="29232" y="5402"/>
                  <a:pt x="23365" y="999"/>
                  <a:pt x="23365" y="-4167"/>
                </a:cubicBezTo>
                <a:cubicBezTo>
                  <a:pt x="23365" y="-10789"/>
                  <a:pt x="33006" y="-16158"/>
                  <a:pt x="44899" y="-16158"/>
                </a:cubicBezTo>
                <a:cubicBezTo>
                  <a:pt x="56792" y="-16158"/>
                  <a:pt x="66433" y="-10789"/>
                  <a:pt x="66433" y="-4167"/>
                </a:cubicBezTo>
                <a:cubicBezTo>
                  <a:pt x="66433" y="930"/>
                  <a:pt x="60722" y="5284"/>
                  <a:pt x="52672" y="7019"/>
                </a:cubicBezTo>
                <a:lnTo>
                  <a:pt x="0" y="19218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任意多边形 324651"/>
          <p:cNvSpPr/>
          <p:nvPr/>
        </p:nvSpPr>
        <p:spPr>
          <a:xfrm flipH="1" rot="7245600">
            <a:off x="5270040" y="2568240"/>
            <a:ext cx="145800" cy="104760"/>
          </a:xfrm>
          <a:custGeom>
            <a:avLst/>
            <a:gdLst/>
            <a:ahLst/>
            <a:rect l="l" t="t" r="r" b="b"/>
            <a:pathLst>
              <a:path fill="none" w="30110" h="21600">
                <a:moveTo>
                  <a:pt x="0" y="19218"/>
                </a:moveTo>
                <a:cubicBezTo>
                  <a:pt x="1188" y="8405"/>
                  <a:pt x="10347" y="0"/>
                  <a:pt x="21468" y="0"/>
                </a:cubicBezTo>
                <a:cubicBezTo>
                  <a:pt x="24543" y="0"/>
                  <a:pt x="27468" y="643"/>
                  <a:pt x="30113" y="1800"/>
                </a:cubicBezTo>
              </a:path>
              <a:path stroke="0" w="30110" h="21600">
                <a:moveTo>
                  <a:pt x="30109" y="1804"/>
                </a:moveTo>
                <a:cubicBezTo>
                  <a:pt x="19852" y="883"/>
                  <a:pt x="12027" y="-4066"/>
                  <a:pt x="12027" y="-10032"/>
                </a:cubicBezTo>
                <a:cubicBezTo>
                  <a:pt x="12027" y="-16654"/>
                  <a:pt x="21668" y="-22023"/>
                  <a:pt x="33561" y="-22023"/>
                </a:cubicBezTo>
                <a:cubicBezTo>
                  <a:pt x="45454" y="-22023"/>
                  <a:pt x="55095" y="-16654"/>
                  <a:pt x="55095" y="-10032"/>
                </a:cubicBezTo>
                <a:cubicBezTo>
                  <a:pt x="55095" y="-4935"/>
                  <a:pt x="49384" y="-581"/>
                  <a:pt x="41334" y="1154"/>
                </a:cubicBezTo>
                <a:lnTo>
                  <a:pt x="0" y="19218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矩形 324609"/>
          <p:cNvSpPr/>
          <p:nvPr/>
        </p:nvSpPr>
        <p:spPr>
          <a:xfrm>
            <a:off x="541440" y="1265400"/>
            <a:ext cx="5470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一数，下图中各有几个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324644"/>
          <p:cNvGrpSpPr/>
          <p:nvPr/>
        </p:nvGrpSpPr>
        <p:grpSpPr>
          <a:xfrm>
            <a:off x="5148360" y="2432160"/>
            <a:ext cx="2808360" cy="1224000"/>
            <a:chOff x="5148360" y="2432160"/>
            <a:chExt cx="2808360" cy="1224000"/>
          </a:xfrm>
        </p:grpSpPr>
        <p:sp>
          <p:nvSpPr>
            <p:cNvPr id="478" name="任意多边形 324642"/>
            <p:cNvSpPr/>
            <p:nvPr/>
          </p:nvSpPr>
          <p:spPr>
            <a:xfrm>
              <a:off x="5148360" y="2432160"/>
              <a:ext cx="2808360" cy="1224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5160960" y="2441880"/>
              <a:ext cx="2087640" cy="1193760"/>
              <a:chOff x="5160960" y="2441880"/>
              <a:chExt cx="2087640" cy="1193760"/>
            </a:xfrm>
          </p:grpSpPr>
          <p:sp>
            <p:nvSpPr>
              <p:cNvPr id="480" name="直接连接符 324643"/>
              <p:cNvSpPr/>
              <p:nvPr/>
            </p:nvSpPr>
            <p:spPr>
              <a:xfrm>
                <a:off x="5160960" y="2441880"/>
                <a:ext cx="2087640" cy="119376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 txBox="1"/>
              <p:nvPr/>
            </p:nvSpPr>
            <p:spPr>
              <a:xfrm>
                <a:off x="5160960" y="2441880"/>
                <a:ext cx="2087640" cy="119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矩形 324645"/>
          <p:cNvSpPr/>
          <p:nvPr/>
        </p:nvSpPr>
        <p:spPr>
          <a:xfrm>
            <a:off x="1923840" y="398952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324646"/>
          <p:cNvSpPr/>
          <p:nvPr/>
        </p:nvSpPr>
        <p:spPr>
          <a:xfrm>
            <a:off x="6082920" y="3989520"/>
            <a:ext cx="9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8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任意多边形 324648"/>
          <p:cNvSpPr/>
          <p:nvPr/>
        </p:nvSpPr>
        <p:spPr>
          <a:xfrm flipH="1" rot="18945000">
            <a:off x="1960200" y="3537000"/>
            <a:ext cx="142920" cy="131760"/>
          </a:xfrm>
          <a:custGeom>
            <a:avLst/>
            <a:gdLst/>
            <a:ahLst/>
            <a:rect l="l" t="t" r="r" b="b"/>
            <a:pathLst>
              <a:path fill="none" w="21600" h="19901">
                <a:moveTo>
                  <a:pt x="9427" y="19901"/>
                </a:moveTo>
                <a:cubicBezTo>
                  <a:pt x="3735" y="16012"/>
                  <a:pt x="0" y="9471"/>
                  <a:pt x="0" y="2058"/>
                </a:cubicBezTo>
                <a:cubicBezTo>
                  <a:pt x="0" y="1361"/>
                  <a:pt x="33" y="672"/>
                  <a:pt x="97" y="-2"/>
                </a:cubicBezTo>
              </a:path>
              <a:path stroke="0" w="21600" h="19901">
                <a:moveTo>
                  <a:pt x="98" y="0"/>
                </a:moveTo>
                <a:cubicBezTo>
                  <a:pt x="-247" y="6"/>
                  <a:pt x="-597" y="10"/>
                  <a:pt x="-945" y="12"/>
                </a:cubicBezTo>
                <a:lnTo>
                  <a:pt x="9427" y="19901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任意多边形 324650"/>
          <p:cNvSpPr/>
          <p:nvPr/>
        </p:nvSpPr>
        <p:spPr>
          <a:xfrm flipH="1" rot="20272800">
            <a:off x="1682280" y="3419280"/>
            <a:ext cx="246240" cy="176040"/>
          </a:xfrm>
          <a:custGeom>
            <a:avLst/>
            <a:gdLst/>
            <a:ahLst/>
            <a:rect l="l" t="t" r="r" b="b"/>
            <a:pathLst>
              <a:path fill="none" w="30110" h="21600">
                <a:moveTo>
                  <a:pt x="0" y="19218"/>
                </a:moveTo>
                <a:cubicBezTo>
                  <a:pt x="1188" y="8405"/>
                  <a:pt x="10347" y="0"/>
                  <a:pt x="21468" y="0"/>
                </a:cubicBezTo>
                <a:cubicBezTo>
                  <a:pt x="24543" y="0"/>
                  <a:pt x="27468" y="643"/>
                  <a:pt x="30113" y="1800"/>
                </a:cubicBezTo>
              </a:path>
              <a:path stroke="0" w="30110" h="21600">
                <a:moveTo>
                  <a:pt x="30109" y="1804"/>
                </a:moveTo>
                <a:cubicBezTo>
                  <a:pt x="19852" y="883"/>
                  <a:pt x="12027" y="-4066"/>
                  <a:pt x="12027" y="-10032"/>
                </a:cubicBezTo>
                <a:cubicBezTo>
                  <a:pt x="12027" y="-16654"/>
                  <a:pt x="21668" y="-22023"/>
                  <a:pt x="33561" y="-22023"/>
                </a:cubicBezTo>
                <a:cubicBezTo>
                  <a:pt x="45454" y="-22023"/>
                  <a:pt x="55095" y="-16654"/>
                  <a:pt x="55095" y="-10032"/>
                </a:cubicBezTo>
                <a:cubicBezTo>
                  <a:pt x="55095" y="-4935"/>
                  <a:pt x="49384" y="-581"/>
                  <a:pt x="41334" y="1154"/>
                </a:cubicBezTo>
                <a:lnTo>
                  <a:pt x="0" y="19218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组合 324641"/>
          <p:cNvGrpSpPr/>
          <p:nvPr/>
        </p:nvGrpSpPr>
        <p:grpSpPr>
          <a:xfrm>
            <a:off x="1015560" y="2358720"/>
            <a:ext cx="2764440" cy="1297800"/>
            <a:chOff x="1015560" y="2358720"/>
            <a:chExt cx="2764440" cy="1297800"/>
          </a:xfrm>
        </p:grpSpPr>
        <p:grpSp>
          <p:nvGrpSpPr>
            <p:cNvPr id="487" name=""/>
            <p:cNvGrpSpPr/>
            <p:nvPr/>
          </p:nvGrpSpPr>
          <p:grpSpPr>
            <a:xfrm>
              <a:off x="1763640" y="3656160"/>
              <a:ext cx="2016360" cy="360"/>
              <a:chOff x="1763640" y="3656160"/>
              <a:chExt cx="2016360" cy="360"/>
            </a:xfrm>
          </p:grpSpPr>
          <p:sp>
            <p:nvSpPr>
              <p:cNvPr id="488" name="直接连接符 324638"/>
              <p:cNvSpPr/>
              <p:nvPr/>
            </p:nvSpPr>
            <p:spPr>
              <a:xfrm>
                <a:off x="1763640" y="3656160"/>
                <a:ext cx="201636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 txBox="1"/>
              <p:nvPr/>
            </p:nvSpPr>
            <p:spPr>
              <a:xfrm>
                <a:off x="1763640" y="3656160"/>
                <a:ext cx="2016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750680" y="2693520"/>
              <a:ext cx="1668960" cy="962280"/>
              <a:chOff x="1750680" y="2693520"/>
              <a:chExt cx="1668960" cy="962280"/>
            </a:xfrm>
          </p:grpSpPr>
          <p:sp>
            <p:nvSpPr>
              <p:cNvPr id="491" name="直接连接符 324639"/>
              <p:cNvSpPr/>
              <p:nvPr/>
            </p:nvSpPr>
            <p:spPr>
              <a:xfrm flipV="1">
                <a:off x="1751040" y="2693520"/>
                <a:ext cx="1668600" cy="96228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 txBox="1"/>
              <p:nvPr/>
            </p:nvSpPr>
            <p:spPr>
              <a:xfrm rot="10800000">
                <a:off x="1750680" y="2693520"/>
                <a:ext cx="1668600" cy="96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015560" y="2358720"/>
              <a:ext cx="747720" cy="1297080"/>
              <a:chOff x="1015560" y="2358720"/>
              <a:chExt cx="747720" cy="1297080"/>
            </a:xfrm>
          </p:grpSpPr>
          <p:sp>
            <p:nvSpPr>
              <p:cNvPr id="494" name="直接连接符 324640"/>
              <p:cNvSpPr/>
              <p:nvPr/>
            </p:nvSpPr>
            <p:spPr>
              <a:xfrm flipH="1" flipV="1">
                <a:off x="1015560" y="2358720"/>
                <a:ext cx="747720" cy="129708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 rot="10800000">
                <a:off x="1015560" y="2358720"/>
                <a:ext cx="747720" cy="129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6" name="任意多边形 324647"/>
          <p:cNvSpPr/>
          <p:nvPr/>
        </p:nvSpPr>
        <p:spPr>
          <a:xfrm flipH="1" rot="20272800">
            <a:off x="1663200" y="3238200"/>
            <a:ext cx="532080" cy="524880"/>
          </a:xfrm>
          <a:custGeom>
            <a:avLst/>
            <a:gdLst/>
            <a:ahLst/>
            <a:rect l="l" t="t" r="r" b="b"/>
            <a:pathLst>
              <a:path fill="none" w="27798" h="27564">
                <a:moveTo>
                  <a:pt x="839" y="27563"/>
                </a:moveTo>
                <a:cubicBezTo>
                  <a:pt x="291" y="25673"/>
                  <a:pt x="0" y="23670"/>
                  <a:pt x="0" y="21600"/>
                </a:cubicBezTo>
                <a:cubicBezTo>
                  <a:pt x="0" y="9671"/>
                  <a:pt x="9671" y="0"/>
                  <a:pt x="21600" y="0"/>
                </a:cubicBezTo>
                <a:cubicBezTo>
                  <a:pt x="23758" y="0"/>
                  <a:pt x="25842" y="316"/>
                  <a:pt x="27803" y="904"/>
                </a:cubicBezTo>
              </a:path>
              <a:path stroke="0" w="27798" h="27564">
                <a:moveTo>
                  <a:pt x="27798" y="908"/>
                </a:moveTo>
                <a:cubicBezTo>
                  <a:pt x="16707" y="658"/>
                  <a:pt x="7926" y="-2740"/>
                  <a:pt x="7926" y="-6895"/>
                </a:cubicBezTo>
                <a:cubicBezTo>
                  <a:pt x="7926" y="-11213"/>
                  <a:pt x="17409" y="-14713"/>
                  <a:pt x="29106" y="-14713"/>
                </a:cubicBezTo>
                <a:cubicBezTo>
                  <a:pt x="40803" y="-14713"/>
                  <a:pt x="50286" y="-11213"/>
                  <a:pt x="50286" y="-6895"/>
                </a:cubicBezTo>
                <a:cubicBezTo>
                  <a:pt x="50286" y="-3180"/>
                  <a:pt x="43265" y="-70"/>
                  <a:pt x="33858" y="725"/>
                </a:cubicBezTo>
                <a:lnTo>
                  <a:pt x="839" y="27563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任意多边形 324654"/>
          <p:cNvSpPr/>
          <p:nvPr/>
        </p:nvSpPr>
        <p:spPr>
          <a:xfrm flipH="1" rot="6710400">
            <a:off x="5296320" y="2487240"/>
            <a:ext cx="453960" cy="228600"/>
          </a:xfrm>
          <a:custGeom>
            <a:avLst/>
            <a:gdLst/>
            <a:ahLst/>
            <a:rect l="l" t="t" r="r" b="b"/>
            <a:pathLst>
              <a:path fill="none" w="33745" h="21600">
                <a:moveTo>
                  <a:pt x="0" y="19218"/>
                </a:moveTo>
                <a:cubicBezTo>
                  <a:pt x="1188" y="8405"/>
                  <a:pt x="10347" y="0"/>
                  <a:pt x="21468" y="0"/>
                </a:cubicBezTo>
                <a:cubicBezTo>
                  <a:pt x="26029" y="0"/>
                  <a:pt x="30260" y="1414"/>
                  <a:pt x="33746" y="3826"/>
                </a:cubicBezTo>
              </a:path>
              <a:path stroke="0" w="33745" h="21600">
                <a:moveTo>
                  <a:pt x="33744" y="3828"/>
                </a:moveTo>
                <a:cubicBezTo>
                  <a:pt x="24353" y="2534"/>
                  <a:pt x="17400" y="-2186"/>
                  <a:pt x="17400" y="-7810"/>
                </a:cubicBezTo>
                <a:cubicBezTo>
                  <a:pt x="17400" y="-14432"/>
                  <a:pt x="27041" y="-19801"/>
                  <a:pt x="38934" y="-19801"/>
                </a:cubicBezTo>
                <a:cubicBezTo>
                  <a:pt x="50827" y="-19801"/>
                  <a:pt x="60468" y="-14432"/>
                  <a:pt x="60468" y="-7810"/>
                </a:cubicBezTo>
                <a:cubicBezTo>
                  <a:pt x="60468" y="-2713"/>
                  <a:pt x="54757" y="1641"/>
                  <a:pt x="46707" y="3376"/>
                </a:cubicBezTo>
                <a:lnTo>
                  <a:pt x="0" y="19218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任意多边形 324655"/>
          <p:cNvSpPr/>
          <p:nvPr/>
        </p:nvSpPr>
        <p:spPr>
          <a:xfrm flipH="1" rot="13800">
            <a:off x="5779800" y="3504960"/>
            <a:ext cx="209520" cy="150840"/>
          </a:xfrm>
          <a:custGeom>
            <a:avLst/>
            <a:gdLst/>
            <a:ahLst/>
            <a:rect l="l" t="t" r="r" b="b"/>
            <a:pathLst>
              <a:path fill="none" w="30149" h="21600">
                <a:moveTo>
                  <a:pt x="0" y="19600"/>
                </a:moveTo>
                <a:cubicBezTo>
                  <a:pt x="1012" y="8604"/>
                  <a:pt x="10255" y="0"/>
                  <a:pt x="21507" y="0"/>
                </a:cubicBezTo>
                <a:cubicBezTo>
                  <a:pt x="24582" y="0"/>
                  <a:pt x="27507" y="643"/>
                  <a:pt x="30152" y="1800"/>
                </a:cubicBezTo>
              </a:path>
              <a:path stroke="0" w="30149" h="21600">
                <a:moveTo>
                  <a:pt x="30148" y="1804"/>
                </a:moveTo>
                <a:cubicBezTo>
                  <a:pt x="19847" y="913"/>
                  <a:pt x="11979" y="-3965"/>
                  <a:pt x="11979" y="-9850"/>
                </a:cubicBezTo>
                <a:cubicBezTo>
                  <a:pt x="11979" y="-16367"/>
                  <a:pt x="21629" y="-21650"/>
                  <a:pt x="33532" y="-21650"/>
                </a:cubicBezTo>
                <a:cubicBezTo>
                  <a:pt x="45435" y="-21650"/>
                  <a:pt x="55085" y="-16367"/>
                  <a:pt x="55085" y="-9850"/>
                </a:cubicBezTo>
                <a:cubicBezTo>
                  <a:pt x="55085" y="-4801"/>
                  <a:pt x="49293" y="-492"/>
                  <a:pt x="41151" y="1192"/>
                </a:cubicBezTo>
                <a:lnTo>
                  <a:pt x="0" y="19600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任意多边形 324658"/>
          <p:cNvSpPr/>
          <p:nvPr/>
        </p:nvSpPr>
        <p:spPr>
          <a:xfrm flipH="1" rot="19261200">
            <a:off x="6848640" y="3377880"/>
            <a:ext cx="504720" cy="282600"/>
          </a:xfrm>
          <a:custGeom>
            <a:avLst/>
            <a:gdLst/>
            <a:ahLst/>
            <a:rect l="l" t="t" r="r" b="b"/>
            <a:pathLst>
              <a:path fill="none" w="37613" h="21600">
                <a:moveTo>
                  <a:pt x="0" y="19218"/>
                </a:moveTo>
                <a:cubicBezTo>
                  <a:pt x="1188" y="8405"/>
                  <a:pt x="10347" y="0"/>
                  <a:pt x="21468" y="0"/>
                </a:cubicBezTo>
                <a:cubicBezTo>
                  <a:pt x="27890" y="0"/>
                  <a:pt x="33657" y="2802"/>
                  <a:pt x="37613" y="7251"/>
                </a:cubicBezTo>
              </a:path>
              <a:path stroke="0" w="37613" h="21600">
                <a:moveTo>
                  <a:pt x="37613" y="7251"/>
                </a:moveTo>
                <a:cubicBezTo>
                  <a:pt x="29434" y="5550"/>
                  <a:pt x="23617" y="1163"/>
                  <a:pt x="23617" y="-3981"/>
                </a:cubicBezTo>
                <a:cubicBezTo>
                  <a:pt x="23617" y="-10603"/>
                  <a:pt x="33258" y="-15972"/>
                  <a:pt x="45151" y="-15972"/>
                </a:cubicBezTo>
                <a:cubicBezTo>
                  <a:pt x="57044" y="-15972"/>
                  <a:pt x="66685" y="-10603"/>
                  <a:pt x="66685" y="-3981"/>
                </a:cubicBezTo>
                <a:cubicBezTo>
                  <a:pt x="66685" y="1116"/>
                  <a:pt x="60974" y="5470"/>
                  <a:pt x="52924" y="7205"/>
                </a:cubicBezTo>
                <a:lnTo>
                  <a:pt x="0" y="19218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矩形 325633"/>
          <p:cNvSpPr/>
          <p:nvPr/>
        </p:nvSpPr>
        <p:spPr>
          <a:xfrm>
            <a:off x="468360" y="1085760"/>
            <a:ext cx="8601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出每个钟面上的时间，量出时针和分针所成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度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矩形 325651"/>
          <p:cNvSpPr/>
          <p:nvPr/>
        </p:nvSpPr>
        <p:spPr>
          <a:xfrm>
            <a:off x="1315800" y="465300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矩形 325652"/>
          <p:cNvSpPr/>
          <p:nvPr/>
        </p:nvSpPr>
        <p:spPr>
          <a:xfrm>
            <a:off x="3454200" y="465300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9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矩形 325653"/>
          <p:cNvSpPr/>
          <p:nvPr/>
        </p:nvSpPr>
        <p:spPr>
          <a:xfrm>
            <a:off x="5472000" y="4653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2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325654"/>
          <p:cNvSpPr/>
          <p:nvPr/>
        </p:nvSpPr>
        <p:spPr>
          <a:xfrm>
            <a:off x="7559640" y="4653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5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325655" descr="p-39"/>
          <p:cNvPicPr/>
          <p:nvPr/>
        </p:nvPicPr>
        <p:blipFill>
          <a:blip r:embed="rId1"/>
          <a:stretch/>
        </p:blipFill>
        <p:spPr>
          <a:xfrm>
            <a:off x="900000" y="2781360"/>
            <a:ext cx="7486920" cy="16095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任意多边形 323616"/>
          <p:cNvSpPr/>
          <p:nvPr/>
        </p:nvSpPr>
        <p:spPr>
          <a:xfrm flipH="1" flipV="1" rot="395400">
            <a:off x="4472640" y="3021120"/>
            <a:ext cx="344520" cy="188280"/>
          </a:xfrm>
          <a:custGeom>
            <a:avLst/>
            <a:gdLst/>
            <a:ahLst/>
            <a:rect l="l" t="t" r="r" b="b"/>
            <a:pathLst>
              <a:path fill="none" w="39686" h="21600">
                <a:moveTo>
                  <a:pt x="39685" y="6151"/>
                </a:moveTo>
                <a:cubicBezTo>
                  <a:pt x="37035" y="15089"/>
                  <a:pt x="28768" y="21600"/>
                  <a:pt x="18979" y="21600"/>
                </a:cubicBezTo>
                <a:cubicBezTo>
                  <a:pt x="10785" y="21600"/>
                  <a:pt x="3657" y="17037"/>
                  <a:pt x="-3" y="10316"/>
                </a:cubicBezTo>
              </a:path>
              <a:path stroke="0" w="39686" h="21600">
                <a:moveTo>
                  <a:pt x="0" y="10311"/>
                </a:moveTo>
                <a:cubicBezTo>
                  <a:pt x="0" y="10422"/>
                  <a:pt x="0" y="10533"/>
                  <a:pt x="-1" y="10642"/>
                </a:cubicBezTo>
                <a:lnTo>
                  <a:pt x="39685" y="6151"/>
                </a:ln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323585"/>
          <p:cNvSpPr/>
          <p:nvPr/>
        </p:nvSpPr>
        <p:spPr>
          <a:xfrm>
            <a:off x="612720" y="1255680"/>
            <a:ext cx="64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估计，再量出图中各角的度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323597"/>
          <p:cNvGrpSpPr/>
          <p:nvPr/>
        </p:nvGrpSpPr>
        <p:grpSpPr>
          <a:xfrm>
            <a:off x="971280" y="2570040"/>
            <a:ext cx="1727280" cy="1076760"/>
            <a:chOff x="971280" y="2570040"/>
            <a:chExt cx="1727280" cy="1076760"/>
          </a:xfrm>
        </p:grpSpPr>
        <p:grpSp>
          <p:nvGrpSpPr>
            <p:cNvPr id="509" name=""/>
            <p:cNvGrpSpPr/>
            <p:nvPr/>
          </p:nvGrpSpPr>
          <p:grpSpPr>
            <a:xfrm>
              <a:off x="982080" y="3646440"/>
              <a:ext cx="1716480" cy="360"/>
              <a:chOff x="982080" y="3646440"/>
              <a:chExt cx="1716480" cy="360"/>
            </a:xfrm>
          </p:grpSpPr>
          <p:sp>
            <p:nvSpPr>
              <p:cNvPr id="510" name="直接连接符 323587"/>
              <p:cNvSpPr/>
              <p:nvPr/>
            </p:nvSpPr>
            <p:spPr>
              <a:xfrm>
                <a:off x="982080" y="3646440"/>
                <a:ext cx="171648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982080" y="3646440"/>
                <a:ext cx="1716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971280" y="2570040"/>
              <a:ext cx="1532880" cy="1076400"/>
              <a:chOff x="971280" y="2570040"/>
              <a:chExt cx="1532880" cy="1076400"/>
            </a:xfrm>
          </p:grpSpPr>
          <p:sp>
            <p:nvSpPr>
              <p:cNvPr id="513" name="直接连接符 323588"/>
              <p:cNvSpPr/>
              <p:nvPr/>
            </p:nvSpPr>
            <p:spPr>
              <a:xfrm flipV="1">
                <a:off x="971640" y="2570040"/>
                <a:ext cx="1532520" cy="107640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 rot="10800000">
                <a:off x="971280" y="2570040"/>
                <a:ext cx="1532520" cy="107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5" name="矩形 323592"/>
          <p:cNvSpPr/>
          <p:nvPr/>
        </p:nvSpPr>
        <p:spPr>
          <a:xfrm>
            <a:off x="1042920" y="4210200"/>
            <a:ext cx="19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= 35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矩形 323593"/>
          <p:cNvSpPr/>
          <p:nvPr/>
        </p:nvSpPr>
        <p:spPr>
          <a:xfrm>
            <a:off x="3792600" y="4210200"/>
            <a:ext cx="21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 = 12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323594"/>
          <p:cNvSpPr/>
          <p:nvPr/>
        </p:nvSpPr>
        <p:spPr>
          <a:xfrm>
            <a:off x="6550200" y="4210200"/>
            <a:ext cx="19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= 9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323608"/>
          <p:cNvGrpSpPr/>
          <p:nvPr/>
        </p:nvGrpSpPr>
        <p:grpSpPr>
          <a:xfrm>
            <a:off x="3779640" y="2671920"/>
            <a:ext cx="1727280" cy="1117440"/>
            <a:chOff x="3779640" y="2671920"/>
            <a:chExt cx="1727280" cy="1117440"/>
          </a:xfrm>
        </p:grpSpPr>
        <p:grpSp>
          <p:nvGrpSpPr>
            <p:cNvPr id="519" name=""/>
            <p:cNvGrpSpPr/>
            <p:nvPr/>
          </p:nvGrpSpPr>
          <p:grpSpPr>
            <a:xfrm>
              <a:off x="3780000" y="2671920"/>
              <a:ext cx="1726920" cy="1117440"/>
              <a:chOff x="3780000" y="2671920"/>
              <a:chExt cx="1726920" cy="1117440"/>
            </a:xfrm>
          </p:grpSpPr>
          <p:sp>
            <p:nvSpPr>
              <p:cNvPr id="520" name="直接连接符 323601"/>
              <p:cNvSpPr/>
              <p:nvPr/>
            </p:nvSpPr>
            <p:spPr>
              <a:xfrm>
                <a:off x="3780000" y="2671920"/>
                <a:ext cx="1726920" cy="111744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 txBox="1"/>
              <p:nvPr/>
            </p:nvSpPr>
            <p:spPr>
              <a:xfrm>
                <a:off x="3780000" y="2671920"/>
                <a:ext cx="1726920" cy="111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3779640" y="2740680"/>
              <a:ext cx="1664640" cy="1014120"/>
              <a:chOff x="3779640" y="2740680"/>
              <a:chExt cx="1664640" cy="1014120"/>
            </a:xfrm>
          </p:grpSpPr>
          <p:sp>
            <p:nvSpPr>
              <p:cNvPr id="523" name="直接连接符 323602"/>
              <p:cNvSpPr/>
              <p:nvPr/>
            </p:nvSpPr>
            <p:spPr>
              <a:xfrm flipV="1">
                <a:off x="3780000" y="2740680"/>
                <a:ext cx="1664280" cy="101412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 txBox="1"/>
              <p:nvPr/>
            </p:nvSpPr>
            <p:spPr>
              <a:xfrm rot="10800000">
                <a:off x="3779640" y="2740680"/>
                <a:ext cx="1664280" cy="1014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5" name="组合 323607"/>
          <p:cNvGrpSpPr/>
          <p:nvPr/>
        </p:nvGrpSpPr>
        <p:grpSpPr>
          <a:xfrm>
            <a:off x="6355080" y="2600640"/>
            <a:ext cx="2238480" cy="1258920"/>
            <a:chOff x="6355080" y="2600640"/>
            <a:chExt cx="2238480" cy="1258920"/>
          </a:xfrm>
        </p:grpSpPr>
        <p:grpSp>
          <p:nvGrpSpPr>
            <p:cNvPr id="526" name=""/>
            <p:cNvGrpSpPr/>
            <p:nvPr/>
          </p:nvGrpSpPr>
          <p:grpSpPr>
            <a:xfrm>
              <a:off x="6355080" y="2602800"/>
              <a:ext cx="904320" cy="1256760"/>
              <a:chOff x="6355080" y="2602800"/>
              <a:chExt cx="904320" cy="1256760"/>
            </a:xfrm>
          </p:grpSpPr>
          <p:sp>
            <p:nvSpPr>
              <p:cNvPr id="527" name="直接连接符 323604"/>
              <p:cNvSpPr/>
              <p:nvPr/>
            </p:nvSpPr>
            <p:spPr>
              <a:xfrm flipH="1">
                <a:off x="6355080" y="2603160"/>
                <a:ext cx="904320" cy="125640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 txBox="1"/>
              <p:nvPr/>
            </p:nvSpPr>
            <p:spPr>
              <a:xfrm rot="7544400">
                <a:off x="6032880" y="3231000"/>
                <a:ext cx="1548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"/>
            <p:cNvGrpSpPr/>
            <p:nvPr/>
          </p:nvGrpSpPr>
          <p:grpSpPr>
            <a:xfrm>
              <a:off x="7256880" y="2600640"/>
              <a:ext cx="1336680" cy="962280"/>
              <a:chOff x="7256880" y="2600640"/>
              <a:chExt cx="1336680" cy="962280"/>
            </a:xfrm>
          </p:grpSpPr>
          <p:sp>
            <p:nvSpPr>
              <p:cNvPr id="530" name="直接连接符 323605"/>
              <p:cNvSpPr/>
              <p:nvPr/>
            </p:nvSpPr>
            <p:spPr>
              <a:xfrm>
                <a:off x="7256880" y="2601000"/>
                <a:ext cx="1336320" cy="96192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 txBox="1"/>
              <p:nvPr/>
            </p:nvSpPr>
            <p:spPr>
              <a:xfrm rot="18345000">
                <a:off x="7924680" y="2258280"/>
                <a:ext cx="360" cy="1646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任意多边形 323610"/>
          <p:cNvSpPr/>
          <p:nvPr/>
        </p:nvSpPr>
        <p:spPr>
          <a:xfrm flipH="1" flipV="1" rot="5824800">
            <a:off x="1243800" y="3467880"/>
            <a:ext cx="216000" cy="136800"/>
          </a:xfrm>
          <a:custGeom>
            <a:avLst/>
            <a:gdLst/>
            <a:ahLst/>
            <a:rect l="l" t="t" r="r" b="b"/>
            <a:pathLst>
              <a:path fill="none" w="34419" h="21600">
                <a:moveTo>
                  <a:pt x="34419" y="1258"/>
                </a:moveTo>
                <a:cubicBezTo>
                  <a:pt x="33765" y="12605"/>
                  <a:pt x="24361" y="21600"/>
                  <a:pt x="12856" y="21600"/>
                </a:cubicBezTo>
                <a:cubicBezTo>
                  <a:pt x="8039" y="21600"/>
                  <a:pt x="3591" y="20023"/>
                  <a:pt x="-1" y="17358"/>
                </a:cubicBezTo>
              </a:path>
              <a:path stroke="0" w="34419" h="21600">
                <a:moveTo>
                  <a:pt x="0" y="17357"/>
                </a:moveTo>
                <a:cubicBezTo>
                  <a:pt x="0" y="17358"/>
                  <a:pt x="0" y="17359"/>
                  <a:pt x="0" y="17360"/>
                </a:cubicBezTo>
                <a:cubicBezTo>
                  <a:pt x="0" y="17365"/>
                  <a:pt x="0" y="17369"/>
                  <a:pt x="0" y="17374"/>
                </a:cubicBezTo>
                <a:lnTo>
                  <a:pt x="34419" y="1258"/>
                </a:ln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323614"/>
          <p:cNvSpPr/>
          <p:nvPr/>
        </p:nvSpPr>
        <p:spPr>
          <a:xfrm>
            <a:off x="1476360" y="3197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323620"/>
          <p:cNvSpPr/>
          <p:nvPr/>
        </p:nvSpPr>
        <p:spPr>
          <a:xfrm>
            <a:off x="4486320" y="253044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323622"/>
          <p:cNvSpPr/>
          <p:nvPr/>
        </p:nvSpPr>
        <p:spPr>
          <a:xfrm flipH="1" flipV="1" rot="10083600">
            <a:off x="7122240" y="2683800"/>
            <a:ext cx="327240" cy="189000"/>
          </a:xfrm>
          <a:custGeom>
            <a:avLst/>
            <a:gdLst/>
            <a:ahLst/>
            <a:rect l="l" t="t" r="r" b="b"/>
            <a:pathLst>
              <a:path fill="none" w="37679" h="21600">
                <a:moveTo>
                  <a:pt x="37678" y="10812"/>
                </a:moveTo>
                <a:cubicBezTo>
                  <a:pt x="33943" y="17263"/>
                  <a:pt x="26967" y="21599"/>
                  <a:pt x="18979" y="21599"/>
                </a:cubicBezTo>
                <a:cubicBezTo>
                  <a:pt x="10785" y="21599"/>
                  <a:pt x="3657" y="17036"/>
                  <a:pt x="-3" y="10315"/>
                </a:cubicBezTo>
              </a:path>
              <a:path stroke="0" w="37679" h="21600">
                <a:moveTo>
                  <a:pt x="0" y="10311"/>
                </a:moveTo>
                <a:cubicBezTo>
                  <a:pt x="-4" y="10676"/>
                  <a:pt x="-18" y="11031"/>
                  <a:pt x="-40" y="11371"/>
                </a:cubicBezTo>
                <a:lnTo>
                  <a:pt x="37678" y="10812"/>
                </a:lnTo>
                <a:close/>
              </a:path>
            </a:pathLst>
          </a:custGeom>
          <a:noFill/>
          <a:ln w="1908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323623"/>
          <p:cNvSpPr/>
          <p:nvPr/>
        </p:nvSpPr>
        <p:spPr>
          <a:xfrm>
            <a:off x="7159680" y="2784600"/>
            <a:ext cx="44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327681"/>
          <p:cNvSpPr/>
          <p:nvPr/>
        </p:nvSpPr>
        <p:spPr>
          <a:xfrm>
            <a:off x="539640" y="1052640"/>
            <a:ext cx="8207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一张正方形纸对折两次，打开后再沿一条对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对折，再打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下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327728"/>
          <p:cNvGrpSpPr/>
          <p:nvPr/>
        </p:nvGrpSpPr>
        <p:grpSpPr>
          <a:xfrm>
            <a:off x="969840" y="2387520"/>
            <a:ext cx="1657440" cy="2262240"/>
            <a:chOff x="969840" y="2387520"/>
            <a:chExt cx="1657440" cy="2262240"/>
          </a:xfrm>
        </p:grpSpPr>
        <p:sp>
          <p:nvSpPr>
            <p:cNvPr id="539" name="矩形 327685"/>
            <p:cNvSpPr/>
            <p:nvPr/>
          </p:nvSpPr>
          <p:spPr>
            <a:xfrm>
              <a:off x="969840" y="2387520"/>
              <a:ext cx="1657440" cy="165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矩形 327697"/>
            <p:cNvSpPr/>
            <p:nvPr/>
          </p:nvSpPr>
          <p:spPr>
            <a:xfrm>
              <a:off x="1518120" y="412920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组合 327706"/>
          <p:cNvGrpSpPr/>
          <p:nvPr/>
        </p:nvGrpSpPr>
        <p:grpSpPr>
          <a:xfrm>
            <a:off x="1732680" y="4710240"/>
            <a:ext cx="6145200" cy="520560"/>
            <a:chOff x="1732680" y="4710240"/>
            <a:chExt cx="6145200" cy="520560"/>
          </a:xfrm>
        </p:grpSpPr>
        <p:sp>
          <p:nvSpPr>
            <p:cNvPr id="542" name="矩形 327701"/>
            <p:cNvSpPr/>
            <p:nvPr/>
          </p:nvSpPr>
          <p:spPr>
            <a:xfrm>
              <a:off x="1732680" y="4710240"/>
              <a:ext cx="614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能直接从图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中分别找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5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35º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角吗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矩形 327702"/>
            <p:cNvSpPr/>
            <p:nvPr/>
          </p:nvSpPr>
          <p:spPr>
            <a:xfrm>
              <a:off x="5819400" y="4710240"/>
              <a:ext cx="114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、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组合 327729"/>
          <p:cNvGrpSpPr/>
          <p:nvPr/>
        </p:nvGrpSpPr>
        <p:grpSpPr>
          <a:xfrm>
            <a:off x="2771640" y="2387520"/>
            <a:ext cx="1473480" cy="2262240"/>
            <a:chOff x="2771640" y="2387520"/>
            <a:chExt cx="1473480" cy="2262240"/>
          </a:xfrm>
        </p:grpSpPr>
        <p:sp>
          <p:nvSpPr>
            <p:cNvPr id="545" name="矩形 327686"/>
            <p:cNvSpPr/>
            <p:nvPr/>
          </p:nvSpPr>
          <p:spPr>
            <a:xfrm>
              <a:off x="3414600" y="2387520"/>
              <a:ext cx="830520" cy="1654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矩形 327698"/>
            <p:cNvSpPr/>
            <p:nvPr/>
          </p:nvSpPr>
          <p:spPr>
            <a:xfrm>
              <a:off x="3553200" y="412920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2771640" y="3413160"/>
              <a:ext cx="505080" cy="360"/>
              <a:chOff x="2771640" y="3413160"/>
              <a:chExt cx="505080" cy="360"/>
            </a:xfrm>
          </p:grpSpPr>
          <p:sp>
            <p:nvSpPr>
              <p:cNvPr id="548" name="直接连接符 327703"/>
              <p:cNvSpPr/>
              <p:nvPr/>
            </p:nvSpPr>
            <p:spPr>
              <a:xfrm>
                <a:off x="2771640" y="3413160"/>
                <a:ext cx="50508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 txBox="1"/>
              <p:nvPr/>
            </p:nvSpPr>
            <p:spPr>
              <a:xfrm>
                <a:off x="2771640" y="3413160"/>
                <a:ext cx="50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0" name="组合 327730"/>
          <p:cNvGrpSpPr/>
          <p:nvPr/>
        </p:nvGrpSpPr>
        <p:grpSpPr>
          <a:xfrm>
            <a:off x="4356000" y="3216240"/>
            <a:ext cx="1508400" cy="1433520"/>
            <a:chOff x="4356000" y="3216240"/>
            <a:chExt cx="1508400" cy="1433520"/>
          </a:xfrm>
        </p:grpSpPr>
        <p:sp>
          <p:nvSpPr>
            <p:cNvPr id="551" name="矩形 327687"/>
            <p:cNvSpPr/>
            <p:nvPr/>
          </p:nvSpPr>
          <p:spPr>
            <a:xfrm>
              <a:off x="5033880" y="3216240"/>
              <a:ext cx="830520" cy="825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矩形 327699"/>
            <p:cNvSpPr/>
            <p:nvPr/>
          </p:nvSpPr>
          <p:spPr>
            <a:xfrm>
              <a:off x="5134320" y="412920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"/>
            <p:cNvGrpSpPr/>
            <p:nvPr/>
          </p:nvGrpSpPr>
          <p:grpSpPr>
            <a:xfrm>
              <a:off x="4356000" y="3413160"/>
              <a:ext cx="505080" cy="360"/>
              <a:chOff x="4356000" y="3413160"/>
              <a:chExt cx="505080" cy="360"/>
            </a:xfrm>
          </p:grpSpPr>
          <p:sp>
            <p:nvSpPr>
              <p:cNvPr id="554" name="直接连接符 327704"/>
              <p:cNvSpPr/>
              <p:nvPr/>
            </p:nvSpPr>
            <p:spPr>
              <a:xfrm>
                <a:off x="4356000" y="3413160"/>
                <a:ext cx="50508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 txBox="1"/>
              <p:nvPr/>
            </p:nvSpPr>
            <p:spPr>
              <a:xfrm>
                <a:off x="4356000" y="3413160"/>
                <a:ext cx="50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6" name="组合 327731"/>
          <p:cNvGrpSpPr/>
          <p:nvPr/>
        </p:nvGrpSpPr>
        <p:grpSpPr>
          <a:xfrm>
            <a:off x="6012000" y="2387520"/>
            <a:ext cx="2303280" cy="2262240"/>
            <a:chOff x="6012000" y="2387520"/>
            <a:chExt cx="2303280" cy="2262240"/>
          </a:xfrm>
        </p:grpSpPr>
        <p:grpSp>
          <p:nvGrpSpPr>
            <p:cNvPr id="557" name="组合 327695"/>
            <p:cNvGrpSpPr/>
            <p:nvPr/>
          </p:nvGrpSpPr>
          <p:grpSpPr>
            <a:xfrm>
              <a:off x="6653160" y="2387520"/>
              <a:ext cx="1662120" cy="1654200"/>
              <a:chOff x="6653160" y="2387520"/>
              <a:chExt cx="1662120" cy="1654200"/>
            </a:xfrm>
          </p:grpSpPr>
          <p:sp>
            <p:nvSpPr>
              <p:cNvPr id="558" name="矩形 327690"/>
              <p:cNvSpPr/>
              <p:nvPr/>
            </p:nvSpPr>
            <p:spPr>
              <a:xfrm>
                <a:off x="6657840" y="2387520"/>
                <a:ext cx="1657440" cy="16542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9" name=""/>
              <p:cNvGrpSpPr/>
              <p:nvPr/>
            </p:nvGrpSpPr>
            <p:grpSpPr>
              <a:xfrm>
                <a:off x="6676920" y="2400480"/>
                <a:ext cx="1604880" cy="1604880"/>
                <a:chOff x="6676920" y="2400480"/>
                <a:chExt cx="1604880" cy="1604880"/>
              </a:xfrm>
            </p:grpSpPr>
            <p:sp>
              <p:nvSpPr>
                <p:cNvPr id="560" name="直接连接符 327691"/>
                <p:cNvSpPr/>
                <p:nvPr/>
              </p:nvSpPr>
              <p:spPr>
                <a:xfrm flipH="1" flipV="1">
                  <a:off x="6676920" y="2400480"/>
                  <a:ext cx="1604880" cy="160488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 txBox="1"/>
                <p:nvPr/>
              </p:nvSpPr>
              <p:spPr>
                <a:xfrm rot="10800000">
                  <a:off x="6676920" y="2400480"/>
                  <a:ext cx="1604880" cy="160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653160" y="3213000"/>
                <a:ext cx="1655640" cy="360"/>
                <a:chOff x="6653160" y="3213000"/>
                <a:chExt cx="1655640" cy="360"/>
              </a:xfrm>
            </p:grpSpPr>
            <p:sp>
              <p:nvSpPr>
                <p:cNvPr id="563" name="直接连接符 327693"/>
                <p:cNvSpPr/>
                <p:nvPr/>
              </p:nvSpPr>
              <p:spPr>
                <a:xfrm>
                  <a:off x="6653160" y="3213000"/>
                  <a:ext cx="1655640" cy="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 txBox="1"/>
                <p:nvPr/>
              </p:nvSpPr>
              <p:spPr>
                <a:xfrm>
                  <a:off x="6653160" y="3213000"/>
                  <a:ext cx="1655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486560" y="2414520"/>
                <a:ext cx="360" cy="1625760"/>
                <a:chOff x="7486560" y="2414520"/>
                <a:chExt cx="360" cy="1625760"/>
              </a:xfrm>
            </p:grpSpPr>
            <p:sp>
              <p:nvSpPr>
                <p:cNvPr id="566" name="直接连接符 327694"/>
                <p:cNvSpPr/>
                <p:nvPr/>
              </p:nvSpPr>
              <p:spPr>
                <a:xfrm>
                  <a:off x="7486560" y="2414520"/>
                  <a:ext cx="0" cy="162576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 txBox="1"/>
                <p:nvPr/>
              </p:nvSpPr>
              <p:spPr>
                <a:xfrm>
                  <a:off x="7486560" y="2414520"/>
                  <a:ext cx="360" cy="162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8" name="矩形 327700"/>
            <p:cNvSpPr/>
            <p:nvPr/>
          </p:nvSpPr>
          <p:spPr>
            <a:xfrm>
              <a:off x="7199640" y="4129200"/>
              <a:ext cx="59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6012000" y="3413160"/>
              <a:ext cx="504720" cy="360"/>
              <a:chOff x="6012000" y="3413160"/>
              <a:chExt cx="504720" cy="360"/>
            </a:xfrm>
          </p:grpSpPr>
          <p:sp>
            <p:nvSpPr>
              <p:cNvPr id="570" name="直接连接符 327705"/>
              <p:cNvSpPr/>
              <p:nvPr/>
            </p:nvSpPr>
            <p:spPr>
              <a:xfrm>
                <a:off x="6012000" y="3413160"/>
                <a:ext cx="50472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 txBox="1"/>
              <p:nvPr/>
            </p:nvSpPr>
            <p:spPr>
              <a:xfrm>
                <a:off x="6012000" y="3413160"/>
                <a:ext cx="50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2" name="矩形 327707"/>
          <p:cNvSpPr/>
          <p:nvPr/>
        </p:nvSpPr>
        <p:spPr>
          <a:xfrm>
            <a:off x="1692360" y="5178600"/>
            <a:ext cx="5778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= 45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 = 45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= 135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 = 90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 = 90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组合 327712"/>
          <p:cNvGrpSpPr/>
          <p:nvPr/>
        </p:nvGrpSpPr>
        <p:grpSpPr>
          <a:xfrm>
            <a:off x="6643800" y="2514600"/>
            <a:ext cx="492120" cy="504000"/>
            <a:chOff x="6643800" y="2514600"/>
            <a:chExt cx="492120" cy="504000"/>
          </a:xfrm>
        </p:grpSpPr>
        <p:sp>
          <p:nvSpPr>
            <p:cNvPr id="574" name="任意多边形 327708"/>
            <p:cNvSpPr/>
            <p:nvPr/>
          </p:nvSpPr>
          <p:spPr>
            <a:xfrm>
              <a:off x="6659640" y="2514600"/>
              <a:ext cx="183960" cy="122400"/>
            </a:xfrm>
            <a:custGeom>
              <a:avLst/>
              <a:gdLst/>
              <a:ahLst/>
              <a:rect l="l" t="t" r="r" b="b"/>
              <a:pathLst>
                <a:path fill="none" w="32540" h="21600">
                  <a:moveTo>
                    <a:pt x="32539" y="6625"/>
                  </a:moveTo>
                  <a:cubicBezTo>
                    <a:pt x="29742" y="15318"/>
                    <a:pt x="21595" y="21600"/>
                    <a:pt x="11980" y="21600"/>
                  </a:cubicBezTo>
                  <a:cubicBezTo>
                    <a:pt x="7547" y="21600"/>
                    <a:pt x="3425" y="20264"/>
                    <a:pt x="-3" y="17974"/>
                  </a:cubicBezTo>
                </a:path>
                <a:path stroke="0" w="32540" h="21600">
                  <a:moveTo>
                    <a:pt x="0" y="17972"/>
                  </a:moveTo>
                  <a:cubicBezTo>
                    <a:pt x="0" y="17992"/>
                    <a:pt x="0" y="18013"/>
                    <a:pt x="0" y="18033"/>
                  </a:cubicBezTo>
                  <a:cubicBezTo>
                    <a:pt x="0" y="18180"/>
                    <a:pt x="0" y="18325"/>
                    <a:pt x="-1" y="18468"/>
                  </a:cubicBezTo>
                  <a:lnTo>
                    <a:pt x="32539" y="6625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327709"/>
            <p:cNvSpPr/>
            <p:nvPr/>
          </p:nvSpPr>
          <p:spPr>
            <a:xfrm>
              <a:off x="6643800" y="2558880"/>
              <a:ext cx="49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327713"/>
          <p:cNvGrpSpPr/>
          <p:nvPr/>
        </p:nvGrpSpPr>
        <p:grpSpPr>
          <a:xfrm>
            <a:off x="6948360" y="2827440"/>
            <a:ext cx="492120" cy="459720"/>
            <a:chOff x="6948360" y="2827440"/>
            <a:chExt cx="492120" cy="459720"/>
          </a:xfrm>
        </p:grpSpPr>
        <p:sp>
          <p:nvSpPr>
            <p:cNvPr id="577" name="任意多边形 327710"/>
            <p:cNvSpPr/>
            <p:nvPr/>
          </p:nvSpPr>
          <p:spPr>
            <a:xfrm flipH="1" rot="5503200">
              <a:off x="7252560" y="3072960"/>
              <a:ext cx="131760" cy="122400"/>
            </a:xfrm>
            <a:custGeom>
              <a:avLst/>
              <a:gdLst/>
              <a:ahLst/>
              <a:rect l="l" t="t" r="r" b="b"/>
              <a:pathLst>
                <a:path fill="none" w="23212" h="21600">
                  <a:moveTo>
                    <a:pt x="23211" y="6625"/>
                  </a:moveTo>
                  <a:cubicBezTo>
                    <a:pt x="20414" y="15318"/>
                    <a:pt x="12267" y="21600"/>
                    <a:pt x="2652" y="21600"/>
                  </a:cubicBezTo>
                  <a:cubicBezTo>
                    <a:pt x="1751" y="21600"/>
                    <a:pt x="862" y="21545"/>
                    <a:pt x="-4" y="21438"/>
                  </a:cubicBezTo>
                </a:path>
                <a:path stroke="0" w="23212" h="21600">
                  <a:moveTo>
                    <a:pt x="0" y="21436"/>
                  </a:moveTo>
                  <a:cubicBezTo>
                    <a:pt x="0" y="21490"/>
                    <a:pt x="0" y="21543"/>
                    <a:pt x="0" y="21597"/>
                  </a:cubicBezTo>
                  <a:cubicBezTo>
                    <a:pt x="0" y="21744"/>
                    <a:pt x="0" y="21889"/>
                    <a:pt x="-1" y="22032"/>
                  </a:cubicBezTo>
                  <a:lnTo>
                    <a:pt x="23211" y="6625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327711"/>
            <p:cNvSpPr/>
            <p:nvPr/>
          </p:nvSpPr>
          <p:spPr>
            <a:xfrm>
              <a:off x="6948360" y="2827440"/>
              <a:ext cx="49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组合 327717"/>
          <p:cNvGrpSpPr/>
          <p:nvPr/>
        </p:nvGrpSpPr>
        <p:grpSpPr>
          <a:xfrm>
            <a:off x="7396920" y="2708280"/>
            <a:ext cx="690840" cy="491040"/>
            <a:chOff x="7396920" y="2708280"/>
            <a:chExt cx="690840" cy="491040"/>
          </a:xfrm>
        </p:grpSpPr>
        <p:sp>
          <p:nvSpPr>
            <p:cNvPr id="580" name="任意多边形 327715"/>
            <p:cNvSpPr/>
            <p:nvPr/>
          </p:nvSpPr>
          <p:spPr>
            <a:xfrm rot="16096800">
              <a:off x="7447320" y="2985120"/>
              <a:ext cx="162000" cy="258120"/>
            </a:xfrm>
            <a:custGeom>
              <a:avLst/>
              <a:gdLst/>
              <a:ahLst/>
              <a:rect l="l" t="t" r="r" b="b"/>
              <a:pathLst>
                <a:path fill="none" w="24253" h="38948">
                  <a:moveTo>
                    <a:pt x="15522" y="0"/>
                  </a:moveTo>
                  <a:cubicBezTo>
                    <a:pt x="20821" y="3936"/>
                    <a:pt x="24253" y="10241"/>
                    <a:pt x="24253" y="17348"/>
                  </a:cubicBezTo>
                  <a:cubicBezTo>
                    <a:pt x="24253" y="29277"/>
                    <a:pt x="14582" y="38948"/>
                    <a:pt x="2653" y="38948"/>
                  </a:cubicBezTo>
                  <a:cubicBezTo>
                    <a:pt x="1752" y="38948"/>
                    <a:pt x="863" y="38893"/>
                    <a:pt x="-3" y="38786"/>
                  </a:cubicBezTo>
                </a:path>
                <a:path stroke="0" w="24253" h="38948">
                  <a:moveTo>
                    <a:pt x="0" y="38784"/>
                  </a:moveTo>
                  <a:cubicBezTo>
                    <a:pt x="66" y="40115"/>
                    <a:pt x="100" y="41502"/>
                    <a:pt x="100" y="42925"/>
                  </a:cubicBezTo>
                  <a:cubicBezTo>
                    <a:pt x="100" y="43824"/>
                    <a:pt x="86" y="44709"/>
                    <a:pt x="60" y="45570"/>
                  </a:cubicBezTo>
                  <a:lnTo>
                    <a:pt x="15522" y="0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矩形 327716"/>
            <p:cNvSpPr/>
            <p:nvPr/>
          </p:nvSpPr>
          <p:spPr>
            <a:xfrm flipH="1">
              <a:off x="7596720" y="2708280"/>
              <a:ext cx="49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327727"/>
          <p:cNvGrpSpPr/>
          <p:nvPr/>
        </p:nvGrpSpPr>
        <p:grpSpPr>
          <a:xfrm>
            <a:off x="7020000" y="3213000"/>
            <a:ext cx="445680" cy="459720"/>
            <a:chOff x="7020000" y="3213000"/>
            <a:chExt cx="445680" cy="459720"/>
          </a:xfrm>
        </p:grpSpPr>
        <p:grpSp>
          <p:nvGrpSpPr>
            <p:cNvPr id="583" name="组合 327721"/>
            <p:cNvGrpSpPr/>
            <p:nvPr/>
          </p:nvGrpSpPr>
          <p:grpSpPr>
            <a:xfrm>
              <a:off x="7321320" y="3213720"/>
              <a:ext cx="144360" cy="144360"/>
              <a:chOff x="7321320" y="3213720"/>
              <a:chExt cx="144360" cy="144360"/>
            </a:xfrm>
          </p:grpSpPr>
          <p:grpSp>
            <p:nvGrpSpPr>
              <p:cNvPr id="584" name=""/>
              <p:cNvGrpSpPr/>
              <p:nvPr/>
            </p:nvGrpSpPr>
            <p:grpSpPr>
              <a:xfrm>
                <a:off x="7321320" y="3355920"/>
                <a:ext cx="144360" cy="360"/>
                <a:chOff x="7321320" y="3355920"/>
                <a:chExt cx="144360" cy="360"/>
              </a:xfrm>
            </p:grpSpPr>
            <p:sp>
              <p:nvSpPr>
                <p:cNvPr id="585" name="直接连接符 327722"/>
                <p:cNvSpPr/>
                <p:nvPr/>
              </p:nvSpPr>
              <p:spPr>
                <a:xfrm flipH="1">
                  <a:off x="7321320" y="3356280"/>
                  <a:ext cx="1443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 txBox="1"/>
                <p:nvPr/>
              </p:nvSpPr>
              <p:spPr>
                <a:xfrm rot="10800000">
                  <a:off x="7321320" y="3355920"/>
                  <a:ext cx="1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7322400" y="3213720"/>
                <a:ext cx="360" cy="144360"/>
                <a:chOff x="7322400" y="3213720"/>
                <a:chExt cx="360" cy="144360"/>
              </a:xfrm>
            </p:grpSpPr>
            <p:sp>
              <p:nvSpPr>
                <p:cNvPr id="588" name="直接连接符 327723"/>
                <p:cNvSpPr/>
                <p:nvPr/>
              </p:nvSpPr>
              <p:spPr>
                <a:xfrm>
                  <a:off x="7322760" y="3213720"/>
                  <a:ext cx="0" cy="14436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 txBox="1"/>
                <p:nvPr/>
              </p:nvSpPr>
              <p:spPr>
                <a:xfrm rot="5400000">
                  <a:off x="7250400" y="3285720"/>
                  <a:ext cx="1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0" name="矩形 327724"/>
            <p:cNvSpPr/>
            <p:nvPr/>
          </p:nvSpPr>
          <p:spPr>
            <a:xfrm>
              <a:off x="7020000" y="321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组合 327726"/>
          <p:cNvGrpSpPr/>
          <p:nvPr/>
        </p:nvGrpSpPr>
        <p:grpSpPr>
          <a:xfrm>
            <a:off x="6659640" y="3573360"/>
            <a:ext cx="406080" cy="459720"/>
            <a:chOff x="6659640" y="3573360"/>
            <a:chExt cx="406080" cy="459720"/>
          </a:xfrm>
        </p:grpSpPr>
        <p:grpSp>
          <p:nvGrpSpPr>
            <p:cNvPr id="592" name="组合 327720"/>
            <p:cNvGrpSpPr/>
            <p:nvPr/>
          </p:nvGrpSpPr>
          <p:grpSpPr>
            <a:xfrm>
              <a:off x="6659640" y="3884400"/>
              <a:ext cx="144360" cy="144360"/>
              <a:chOff x="6659640" y="3884400"/>
              <a:chExt cx="144360" cy="144360"/>
            </a:xfrm>
          </p:grpSpPr>
          <p:grpSp>
            <p:nvGrpSpPr>
              <p:cNvPr id="593" name=""/>
              <p:cNvGrpSpPr/>
              <p:nvPr/>
            </p:nvGrpSpPr>
            <p:grpSpPr>
              <a:xfrm>
                <a:off x="6659640" y="3886200"/>
                <a:ext cx="144360" cy="360"/>
                <a:chOff x="6659640" y="3886200"/>
                <a:chExt cx="144360" cy="360"/>
              </a:xfrm>
            </p:grpSpPr>
            <p:sp>
              <p:nvSpPr>
                <p:cNvPr id="594" name="直接连接符 327718"/>
                <p:cNvSpPr/>
                <p:nvPr/>
              </p:nvSpPr>
              <p:spPr>
                <a:xfrm>
                  <a:off x="6659640" y="3886200"/>
                  <a:ext cx="144360" cy="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 txBox="1"/>
                <p:nvPr/>
              </p:nvSpPr>
              <p:spPr>
                <a:xfrm>
                  <a:off x="6659640" y="3886200"/>
                  <a:ext cx="1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"/>
              <p:cNvGrpSpPr/>
              <p:nvPr/>
            </p:nvGrpSpPr>
            <p:grpSpPr>
              <a:xfrm>
                <a:off x="6802560" y="3884400"/>
                <a:ext cx="360" cy="144360"/>
                <a:chOff x="6802560" y="3884400"/>
                <a:chExt cx="360" cy="144360"/>
              </a:xfrm>
            </p:grpSpPr>
            <p:sp>
              <p:nvSpPr>
                <p:cNvPr id="597" name="直接连接符 327719"/>
                <p:cNvSpPr/>
                <p:nvPr/>
              </p:nvSpPr>
              <p:spPr>
                <a:xfrm flipV="1">
                  <a:off x="6802560" y="3884400"/>
                  <a:ext cx="0" cy="144360"/>
                </a:xfrm>
                <a:prstGeom prst="line">
                  <a:avLst/>
                </a:prstGeom>
                <a:ln w="19080">
                  <a:solidFill>
                    <a:srgbClr val="ff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 txBox="1"/>
                <p:nvPr/>
              </p:nvSpPr>
              <p:spPr>
                <a:xfrm rot="16200000">
                  <a:off x="6730560" y="3956400"/>
                  <a:ext cx="144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矩形 327725"/>
            <p:cNvSpPr/>
            <p:nvPr/>
          </p:nvSpPr>
          <p:spPr>
            <a:xfrm>
              <a:off x="6732720" y="357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矩形 328705"/>
          <p:cNvSpPr/>
          <p:nvPr/>
        </p:nvSpPr>
        <p:spPr>
          <a:xfrm>
            <a:off x="611280" y="981000"/>
            <a:ext cx="60465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一副三角尺拼出下面度数的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矩形 328720"/>
          <p:cNvSpPr/>
          <p:nvPr/>
        </p:nvSpPr>
        <p:spPr>
          <a:xfrm>
            <a:off x="1614240" y="1981080"/>
            <a:ext cx="64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5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图片 328723" descr="p-40"/>
          <p:cNvPicPr/>
          <p:nvPr/>
        </p:nvPicPr>
        <p:blipFill>
          <a:blip r:embed="rId1"/>
          <a:stretch/>
        </p:blipFill>
        <p:spPr>
          <a:xfrm>
            <a:off x="1117440" y="2781360"/>
            <a:ext cx="7199640" cy="2873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矩形 332802"/>
          <p:cNvSpPr/>
          <p:nvPr/>
        </p:nvSpPr>
        <p:spPr>
          <a:xfrm>
            <a:off x="539640" y="1255680"/>
            <a:ext cx="6912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量出下面各角的度数，你能发现什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332808"/>
          <p:cNvGrpSpPr/>
          <p:nvPr/>
        </p:nvGrpSpPr>
        <p:grpSpPr>
          <a:xfrm>
            <a:off x="1509840" y="2362320"/>
            <a:ext cx="4680000" cy="1514160"/>
            <a:chOff x="1509840" y="2362320"/>
            <a:chExt cx="4680000" cy="1514160"/>
          </a:xfrm>
        </p:grpSpPr>
        <p:grpSp>
          <p:nvGrpSpPr>
            <p:cNvPr id="605" name=""/>
            <p:cNvGrpSpPr/>
            <p:nvPr/>
          </p:nvGrpSpPr>
          <p:grpSpPr>
            <a:xfrm>
              <a:off x="1509840" y="2660760"/>
              <a:ext cx="4464000" cy="936360"/>
              <a:chOff x="1509840" y="2660760"/>
              <a:chExt cx="4464000" cy="936360"/>
            </a:xfrm>
          </p:grpSpPr>
          <p:sp>
            <p:nvSpPr>
              <p:cNvPr id="606" name="直接连接符 332809"/>
              <p:cNvSpPr/>
              <p:nvPr/>
            </p:nvSpPr>
            <p:spPr>
              <a:xfrm>
                <a:off x="1509840" y="2660760"/>
                <a:ext cx="4464000" cy="93636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 txBox="1"/>
              <p:nvPr/>
            </p:nvSpPr>
            <p:spPr>
              <a:xfrm>
                <a:off x="1509840" y="2660760"/>
                <a:ext cx="4464000" cy="9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581120" y="2660400"/>
              <a:ext cx="4608720" cy="936360"/>
              <a:chOff x="1581120" y="2660400"/>
              <a:chExt cx="4608720" cy="936360"/>
            </a:xfrm>
          </p:grpSpPr>
          <p:sp>
            <p:nvSpPr>
              <p:cNvPr id="609" name="直接连接符 332810"/>
              <p:cNvSpPr/>
              <p:nvPr/>
            </p:nvSpPr>
            <p:spPr>
              <a:xfrm flipV="1">
                <a:off x="1581120" y="2660400"/>
                <a:ext cx="4608720" cy="93636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 txBox="1"/>
              <p:nvPr/>
            </p:nvSpPr>
            <p:spPr>
              <a:xfrm rot="10800000">
                <a:off x="1581120" y="2660040"/>
                <a:ext cx="4608720" cy="9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1" name="任意多边形 332811"/>
            <p:cNvSpPr/>
            <p:nvPr/>
          </p:nvSpPr>
          <p:spPr>
            <a:xfrm rot="17979000">
              <a:off x="3654360" y="2727000"/>
              <a:ext cx="403200" cy="622440"/>
            </a:xfrm>
            <a:custGeom>
              <a:avLst/>
              <a:gdLst/>
              <a:ahLst/>
              <a:rect l="l" t="t" r="r" b="b"/>
              <a:pathLst>
                <a:path fill="none" w="21600" h="33323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5923"/>
                    <a:pt x="20330" y="29949"/>
                    <a:pt x="18144" y="33325"/>
                  </a:cubicBezTo>
                </a:path>
                <a:path stroke="0" w="21600" h="33323">
                  <a:moveTo>
                    <a:pt x="18141" y="33323"/>
                  </a:moveTo>
                  <a:cubicBezTo>
                    <a:pt x="20120" y="28372"/>
                    <a:pt x="23165" y="25201"/>
                    <a:pt x="26581" y="25201"/>
                  </a:cubicBezTo>
                  <a:cubicBezTo>
                    <a:pt x="32546" y="25201"/>
                    <a:pt x="37381" y="34872"/>
                    <a:pt x="37381" y="46801"/>
                  </a:cubicBezTo>
                  <a:cubicBezTo>
                    <a:pt x="37381" y="49192"/>
                    <a:pt x="37187" y="51491"/>
                    <a:pt x="36829" y="53637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任意多边形 332812"/>
            <p:cNvSpPr/>
            <p:nvPr/>
          </p:nvSpPr>
          <p:spPr>
            <a:xfrm flipV="1" rot="3621000">
              <a:off x="3654360" y="2935800"/>
              <a:ext cx="403200" cy="622440"/>
            </a:xfrm>
            <a:custGeom>
              <a:avLst/>
              <a:gdLst/>
              <a:ahLst/>
              <a:rect l="l" t="t" r="r" b="b"/>
              <a:pathLst>
                <a:path fill="none" w="21600" h="33323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25923"/>
                    <a:pt x="20330" y="29949"/>
                    <a:pt x="18144" y="33325"/>
                  </a:cubicBezTo>
                </a:path>
                <a:path stroke="0" w="21600" h="33323">
                  <a:moveTo>
                    <a:pt x="18141" y="33323"/>
                  </a:moveTo>
                  <a:cubicBezTo>
                    <a:pt x="20120" y="28372"/>
                    <a:pt x="23165" y="25201"/>
                    <a:pt x="26581" y="25201"/>
                  </a:cubicBezTo>
                  <a:cubicBezTo>
                    <a:pt x="32546" y="25201"/>
                    <a:pt x="37381" y="34872"/>
                    <a:pt x="37381" y="46801"/>
                  </a:cubicBezTo>
                  <a:cubicBezTo>
                    <a:pt x="37381" y="49192"/>
                    <a:pt x="37187" y="51491"/>
                    <a:pt x="36829" y="53637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任意多边形 332813"/>
            <p:cNvSpPr/>
            <p:nvPr/>
          </p:nvSpPr>
          <p:spPr>
            <a:xfrm flipV="1" rot="18967200">
              <a:off x="4384800" y="3052440"/>
              <a:ext cx="185760" cy="185760"/>
            </a:xfrm>
            <a:custGeom>
              <a:avLst/>
              <a:gdLst/>
              <a:ahLst/>
              <a:rect l="l" t="t" r="r" b="b"/>
              <a:pathLst>
                <a:path fill="none" w="21560" h="21600">
                  <a:moveTo>
                    <a:pt x="0" y="0"/>
                  </a:moveTo>
                  <a:cubicBezTo>
                    <a:pt x="11489" y="0"/>
                    <a:pt x="20882" y="8969"/>
                    <a:pt x="21560" y="20282"/>
                  </a:cubicBezTo>
                </a:path>
                <a:path stroke="0" w="21560" h="21600">
                  <a:moveTo>
                    <a:pt x="21560" y="20288"/>
                  </a:moveTo>
                  <a:cubicBezTo>
                    <a:pt x="21547" y="19854"/>
                    <a:pt x="21540" y="19416"/>
                    <a:pt x="21540" y="18974"/>
                  </a:cubicBezTo>
                  <a:cubicBezTo>
                    <a:pt x="21540" y="7045"/>
                    <a:pt x="26375" y="-2626"/>
                    <a:pt x="32340" y="-2626"/>
                  </a:cubicBezTo>
                  <a:cubicBezTo>
                    <a:pt x="38305" y="-2626"/>
                    <a:pt x="43140" y="7045"/>
                    <a:pt x="43140" y="18974"/>
                  </a:cubicBezTo>
                  <a:cubicBezTo>
                    <a:pt x="43140" y="21365"/>
                    <a:pt x="42946" y="23664"/>
                    <a:pt x="42588" y="2581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任意多边形 332814"/>
            <p:cNvSpPr/>
            <p:nvPr/>
          </p:nvSpPr>
          <p:spPr>
            <a:xfrm flipH="1" flipV="1" rot="2632800">
              <a:off x="3050280" y="3039120"/>
              <a:ext cx="185760" cy="185400"/>
            </a:xfrm>
            <a:custGeom>
              <a:avLst/>
              <a:gdLst/>
              <a:ahLst/>
              <a:rect l="l" t="t" r="r" b="b"/>
              <a:pathLst>
                <a:path fill="none" w="21560" h="21600">
                  <a:moveTo>
                    <a:pt x="0" y="0"/>
                  </a:moveTo>
                  <a:cubicBezTo>
                    <a:pt x="11489" y="0"/>
                    <a:pt x="20882" y="8969"/>
                    <a:pt x="21560" y="20282"/>
                  </a:cubicBezTo>
                </a:path>
                <a:path stroke="0" w="21560" h="21600">
                  <a:moveTo>
                    <a:pt x="21560" y="20288"/>
                  </a:moveTo>
                  <a:cubicBezTo>
                    <a:pt x="21547" y="19854"/>
                    <a:pt x="21540" y="19416"/>
                    <a:pt x="21540" y="18974"/>
                  </a:cubicBezTo>
                  <a:cubicBezTo>
                    <a:pt x="21540" y="7045"/>
                    <a:pt x="26375" y="-2626"/>
                    <a:pt x="32340" y="-2626"/>
                  </a:cubicBezTo>
                  <a:cubicBezTo>
                    <a:pt x="38305" y="-2626"/>
                    <a:pt x="43140" y="7045"/>
                    <a:pt x="43140" y="18974"/>
                  </a:cubicBezTo>
                  <a:cubicBezTo>
                    <a:pt x="43140" y="21365"/>
                    <a:pt x="42946" y="23664"/>
                    <a:pt x="42588" y="25810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矩形 332815"/>
            <p:cNvSpPr/>
            <p:nvPr/>
          </p:nvSpPr>
          <p:spPr>
            <a:xfrm>
              <a:off x="3670560" y="2362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矩形 332816"/>
            <p:cNvSpPr/>
            <p:nvPr/>
          </p:nvSpPr>
          <p:spPr>
            <a:xfrm>
              <a:off x="4605480" y="2851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矩形 332817"/>
            <p:cNvSpPr/>
            <p:nvPr/>
          </p:nvSpPr>
          <p:spPr>
            <a:xfrm>
              <a:off x="3670560" y="3355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矩形 332818"/>
            <p:cNvSpPr/>
            <p:nvPr/>
          </p:nvSpPr>
          <p:spPr>
            <a:xfrm>
              <a:off x="2589480" y="28512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矩形 332819"/>
          <p:cNvSpPr/>
          <p:nvPr/>
        </p:nvSpPr>
        <p:spPr>
          <a:xfrm>
            <a:off x="1971000" y="41338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= 15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矩形 332820"/>
          <p:cNvSpPr/>
          <p:nvPr/>
        </p:nvSpPr>
        <p:spPr>
          <a:xfrm>
            <a:off x="4779360" y="4133880"/>
            <a:ext cx="15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2 = 3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矩形 332821"/>
          <p:cNvSpPr/>
          <p:nvPr/>
        </p:nvSpPr>
        <p:spPr>
          <a:xfrm>
            <a:off x="1971000" y="4925880"/>
            <a:ext cx="171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= 15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矩形 332822"/>
          <p:cNvSpPr/>
          <p:nvPr/>
        </p:nvSpPr>
        <p:spPr>
          <a:xfrm>
            <a:off x="4779360" y="4925880"/>
            <a:ext cx="15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∠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 = 3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09250"/>
          <p:cNvSpPr/>
          <p:nvPr/>
        </p:nvSpPr>
        <p:spPr>
          <a:xfrm>
            <a:off x="468360" y="1406520"/>
            <a:ext cx="8207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是两条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  <a:ea typeface="方正黑体"/>
              </a:rPr>
              <a:t>直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直线没有端点，可以向两端无限延伸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332000" y="3635280"/>
            <a:ext cx="2736720" cy="360"/>
            <a:chOff x="1332000" y="3635280"/>
            <a:chExt cx="2736720" cy="360"/>
          </a:xfrm>
        </p:grpSpPr>
        <p:sp>
          <p:nvSpPr>
            <p:cNvPr id="55" name="直接连接符 309252"/>
            <p:cNvSpPr/>
            <p:nvPr/>
          </p:nvSpPr>
          <p:spPr>
            <a:xfrm>
              <a:off x="1332000" y="3635280"/>
              <a:ext cx="2736720" cy="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1332000" y="3635280"/>
              <a:ext cx="27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135040" y="3092400"/>
            <a:ext cx="2892960" cy="696960"/>
            <a:chOff x="5135040" y="3092400"/>
            <a:chExt cx="2892960" cy="696960"/>
          </a:xfrm>
        </p:grpSpPr>
        <p:sp>
          <p:nvSpPr>
            <p:cNvPr id="58" name="直接连接符 309255"/>
            <p:cNvSpPr/>
            <p:nvPr/>
          </p:nvSpPr>
          <p:spPr>
            <a:xfrm flipH="1">
              <a:off x="5135040" y="3092400"/>
              <a:ext cx="2892600" cy="696960"/>
            </a:xfrm>
            <a:prstGeom prst="line">
              <a:avLst/>
            </a:prstGeom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5135400" y="3092400"/>
              <a:ext cx="2892600" cy="696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309262"/>
          <p:cNvGrpSpPr/>
          <p:nvPr/>
        </p:nvGrpSpPr>
        <p:grpSpPr>
          <a:xfrm>
            <a:off x="971640" y="3971880"/>
            <a:ext cx="7129440" cy="1689120"/>
            <a:chOff x="971640" y="3971880"/>
            <a:chExt cx="7129440" cy="1689120"/>
          </a:xfrm>
        </p:grpSpPr>
        <p:pic>
          <p:nvPicPr>
            <p:cNvPr id="61" name="图片 309261" descr="P-049"/>
            <p:cNvPicPr/>
            <p:nvPr/>
          </p:nvPicPr>
          <p:blipFill>
            <a:blip r:embed="rId1"/>
            <a:stretch/>
          </p:blipFill>
          <p:spPr>
            <a:xfrm>
              <a:off x="984240" y="4754520"/>
              <a:ext cx="5923080" cy="59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矩形 309258"/>
            <p:cNvSpPr/>
            <p:nvPr/>
          </p:nvSpPr>
          <p:spPr>
            <a:xfrm>
              <a:off x="971640" y="4795560"/>
              <a:ext cx="59706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直线、射线与线段有什么联系和区别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图片 309259" descr="小精灵-03"/>
            <p:cNvPicPr/>
            <p:nvPr/>
          </p:nvPicPr>
          <p:blipFill>
            <a:blip r:embed="rId2"/>
            <a:stretch/>
          </p:blipFill>
          <p:spPr>
            <a:xfrm>
              <a:off x="6859800" y="3971880"/>
              <a:ext cx="1241280" cy="1689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矩形 333825"/>
          <p:cNvSpPr/>
          <p:nvPr/>
        </p:nvSpPr>
        <p:spPr>
          <a:xfrm>
            <a:off x="539640" y="1197000"/>
            <a:ext cx="648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8.*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一数，下面的图形各有几个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矩形 333826"/>
          <p:cNvSpPr/>
          <p:nvPr/>
        </p:nvSpPr>
        <p:spPr>
          <a:xfrm>
            <a:off x="1681200" y="37735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组合 333840"/>
          <p:cNvGrpSpPr/>
          <p:nvPr/>
        </p:nvGrpSpPr>
        <p:grpSpPr>
          <a:xfrm>
            <a:off x="3849840" y="2295000"/>
            <a:ext cx="2017440" cy="1026360"/>
            <a:chOff x="3849840" y="2295000"/>
            <a:chExt cx="2017440" cy="1026360"/>
          </a:xfrm>
        </p:grpSpPr>
        <p:grpSp>
          <p:nvGrpSpPr>
            <p:cNvPr id="626" name=""/>
            <p:cNvGrpSpPr/>
            <p:nvPr/>
          </p:nvGrpSpPr>
          <p:grpSpPr>
            <a:xfrm>
              <a:off x="3849840" y="3321000"/>
              <a:ext cx="2017440" cy="360"/>
              <a:chOff x="3849840" y="3321000"/>
              <a:chExt cx="2017440" cy="360"/>
            </a:xfrm>
          </p:grpSpPr>
          <p:sp>
            <p:nvSpPr>
              <p:cNvPr id="627" name="直接连接符 333837"/>
              <p:cNvSpPr/>
              <p:nvPr/>
            </p:nvSpPr>
            <p:spPr>
              <a:xfrm>
                <a:off x="3849840" y="3321000"/>
                <a:ext cx="201744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 txBox="1"/>
              <p:nvPr/>
            </p:nvSpPr>
            <p:spPr>
              <a:xfrm>
                <a:off x="3849840" y="3321000"/>
                <a:ext cx="201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3849840" y="2295000"/>
              <a:ext cx="1764720" cy="1025640"/>
              <a:chOff x="3849840" y="2295000"/>
              <a:chExt cx="1764720" cy="1025640"/>
            </a:xfrm>
          </p:grpSpPr>
          <p:sp>
            <p:nvSpPr>
              <p:cNvPr id="630" name="直接连接符 333838"/>
              <p:cNvSpPr/>
              <p:nvPr/>
            </p:nvSpPr>
            <p:spPr>
              <a:xfrm flipV="1">
                <a:off x="3849840" y="2295000"/>
                <a:ext cx="1764720" cy="102564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 rot="10800000">
                <a:off x="3849840" y="2295000"/>
                <a:ext cx="1764720" cy="102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849840" y="2784240"/>
              <a:ext cx="1962000" cy="536400"/>
              <a:chOff x="3849840" y="2784240"/>
              <a:chExt cx="1962000" cy="536400"/>
            </a:xfrm>
          </p:grpSpPr>
          <p:sp>
            <p:nvSpPr>
              <p:cNvPr id="633" name="直接连接符 333839"/>
              <p:cNvSpPr/>
              <p:nvPr/>
            </p:nvSpPr>
            <p:spPr>
              <a:xfrm flipV="1">
                <a:off x="3849840" y="2784240"/>
                <a:ext cx="1962000" cy="53640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 rot="10800000">
                <a:off x="3849840" y="2784240"/>
                <a:ext cx="1962000" cy="53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5" name="组合 333842"/>
          <p:cNvGrpSpPr/>
          <p:nvPr/>
        </p:nvGrpSpPr>
        <p:grpSpPr>
          <a:xfrm>
            <a:off x="6443280" y="1846440"/>
            <a:ext cx="2016360" cy="1474920"/>
            <a:chOff x="6443280" y="1846440"/>
            <a:chExt cx="2016360" cy="1474920"/>
          </a:xfrm>
        </p:grpSpPr>
        <p:grpSp>
          <p:nvGrpSpPr>
            <p:cNvPr id="636" name=""/>
            <p:cNvGrpSpPr/>
            <p:nvPr/>
          </p:nvGrpSpPr>
          <p:grpSpPr>
            <a:xfrm>
              <a:off x="6443640" y="3321000"/>
              <a:ext cx="2016000" cy="360"/>
              <a:chOff x="6443640" y="3321000"/>
              <a:chExt cx="2016000" cy="360"/>
            </a:xfrm>
          </p:grpSpPr>
          <p:sp>
            <p:nvSpPr>
              <p:cNvPr id="637" name="直接连接符 333831"/>
              <p:cNvSpPr/>
              <p:nvPr/>
            </p:nvSpPr>
            <p:spPr>
              <a:xfrm>
                <a:off x="6443640" y="3321000"/>
                <a:ext cx="201600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 txBox="1"/>
              <p:nvPr/>
            </p:nvSpPr>
            <p:spPr>
              <a:xfrm>
                <a:off x="6443640" y="3321000"/>
                <a:ext cx="201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443280" y="2296080"/>
              <a:ext cx="1763280" cy="1024560"/>
              <a:chOff x="6443280" y="2296080"/>
              <a:chExt cx="1763280" cy="1024560"/>
            </a:xfrm>
          </p:grpSpPr>
          <p:sp>
            <p:nvSpPr>
              <p:cNvPr id="640" name="直接连接符 333832"/>
              <p:cNvSpPr/>
              <p:nvPr/>
            </p:nvSpPr>
            <p:spPr>
              <a:xfrm flipV="1">
                <a:off x="6443640" y="2296080"/>
                <a:ext cx="1762920" cy="102456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 txBox="1"/>
              <p:nvPr/>
            </p:nvSpPr>
            <p:spPr>
              <a:xfrm rot="10800000">
                <a:off x="6443280" y="2296080"/>
                <a:ext cx="1762920" cy="102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6443280" y="2784960"/>
              <a:ext cx="1960560" cy="535680"/>
              <a:chOff x="6443280" y="2784960"/>
              <a:chExt cx="1960560" cy="535680"/>
            </a:xfrm>
          </p:grpSpPr>
          <p:sp>
            <p:nvSpPr>
              <p:cNvPr id="643" name="直接连接符 333836"/>
              <p:cNvSpPr/>
              <p:nvPr/>
            </p:nvSpPr>
            <p:spPr>
              <a:xfrm flipV="1">
                <a:off x="6443640" y="2784960"/>
                <a:ext cx="1960200" cy="53568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 txBox="1"/>
              <p:nvPr/>
            </p:nvSpPr>
            <p:spPr>
              <a:xfrm rot="10800000">
                <a:off x="6443280" y="2784960"/>
                <a:ext cx="1960200" cy="535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443280" y="1846440"/>
              <a:ext cx="1455120" cy="1474560"/>
              <a:chOff x="6443280" y="1846440"/>
              <a:chExt cx="1455120" cy="1474560"/>
            </a:xfrm>
          </p:grpSpPr>
          <p:sp>
            <p:nvSpPr>
              <p:cNvPr id="646" name="直接连接符 333841"/>
              <p:cNvSpPr/>
              <p:nvPr/>
            </p:nvSpPr>
            <p:spPr>
              <a:xfrm flipV="1">
                <a:off x="6443640" y="1846440"/>
                <a:ext cx="1454760" cy="147456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 txBox="1"/>
              <p:nvPr/>
            </p:nvSpPr>
            <p:spPr>
              <a:xfrm rot="10800000">
                <a:off x="6443280" y="1846440"/>
                <a:ext cx="1454760" cy="147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8" name="组合 333847"/>
          <p:cNvGrpSpPr/>
          <p:nvPr/>
        </p:nvGrpSpPr>
        <p:grpSpPr>
          <a:xfrm>
            <a:off x="1257120" y="2836440"/>
            <a:ext cx="2017800" cy="537480"/>
            <a:chOff x="1257120" y="2836440"/>
            <a:chExt cx="2017800" cy="537480"/>
          </a:xfrm>
        </p:grpSpPr>
        <p:grpSp>
          <p:nvGrpSpPr>
            <p:cNvPr id="649" name=""/>
            <p:cNvGrpSpPr/>
            <p:nvPr/>
          </p:nvGrpSpPr>
          <p:grpSpPr>
            <a:xfrm>
              <a:off x="1257480" y="3373560"/>
              <a:ext cx="2017440" cy="360"/>
              <a:chOff x="1257480" y="3373560"/>
              <a:chExt cx="2017440" cy="360"/>
            </a:xfrm>
          </p:grpSpPr>
          <p:sp>
            <p:nvSpPr>
              <p:cNvPr id="650" name="直接连接符 333844"/>
              <p:cNvSpPr/>
              <p:nvPr/>
            </p:nvSpPr>
            <p:spPr>
              <a:xfrm>
                <a:off x="1257480" y="3373560"/>
                <a:ext cx="201744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 txBox="1"/>
              <p:nvPr/>
            </p:nvSpPr>
            <p:spPr>
              <a:xfrm>
                <a:off x="1257480" y="3373560"/>
                <a:ext cx="201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1257120" y="2836440"/>
              <a:ext cx="1962000" cy="536760"/>
              <a:chOff x="1257120" y="2836440"/>
              <a:chExt cx="1962000" cy="536760"/>
            </a:xfrm>
          </p:grpSpPr>
          <p:sp>
            <p:nvSpPr>
              <p:cNvPr id="653" name="直接连接符 333846"/>
              <p:cNvSpPr/>
              <p:nvPr/>
            </p:nvSpPr>
            <p:spPr>
              <a:xfrm flipV="1">
                <a:off x="1257480" y="2836440"/>
                <a:ext cx="1961640" cy="53676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 txBox="1"/>
              <p:nvPr/>
            </p:nvSpPr>
            <p:spPr>
              <a:xfrm rot="10800000">
                <a:off x="1257120" y="2836440"/>
                <a:ext cx="1961640" cy="536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矩形 333848"/>
          <p:cNvSpPr/>
          <p:nvPr/>
        </p:nvSpPr>
        <p:spPr>
          <a:xfrm>
            <a:off x="4354560" y="37735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矩形 333849"/>
          <p:cNvSpPr/>
          <p:nvPr/>
        </p:nvSpPr>
        <p:spPr>
          <a:xfrm>
            <a:off x="6780240" y="377352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个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组合 333856"/>
          <p:cNvGrpSpPr/>
          <p:nvPr/>
        </p:nvGrpSpPr>
        <p:grpSpPr>
          <a:xfrm>
            <a:off x="2195640" y="4413240"/>
            <a:ext cx="4752360" cy="1679400"/>
            <a:chOff x="2195640" y="4413240"/>
            <a:chExt cx="4752360" cy="1679400"/>
          </a:xfrm>
        </p:grpSpPr>
        <p:grpSp>
          <p:nvGrpSpPr>
            <p:cNvPr id="658" name="组合 333855"/>
            <p:cNvGrpSpPr/>
            <p:nvPr/>
          </p:nvGrpSpPr>
          <p:grpSpPr>
            <a:xfrm>
              <a:off x="2195640" y="4960800"/>
              <a:ext cx="3312360" cy="531720"/>
              <a:chOff x="2195640" y="4960800"/>
              <a:chExt cx="3312360" cy="531720"/>
            </a:xfrm>
          </p:grpSpPr>
          <p:pic>
            <p:nvPicPr>
              <p:cNvPr id="659" name="图片 333853" descr="P-030"/>
              <p:cNvPicPr/>
              <p:nvPr/>
            </p:nvPicPr>
            <p:blipFill>
              <a:blip r:embed="rId1"/>
              <a:srcRect l="37793" t="0" r="0" b="0"/>
              <a:stretch/>
            </p:blipFill>
            <p:spPr>
              <a:xfrm>
                <a:off x="3397320" y="4960800"/>
                <a:ext cx="211068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0" name="图片 333854" descr="P-030"/>
              <p:cNvPicPr/>
              <p:nvPr/>
            </p:nvPicPr>
            <p:blipFill>
              <a:blip r:embed="rId2"/>
              <a:srcRect l="0" t="0" r="63662" b="0"/>
              <a:stretch/>
            </p:blipFill>
            <p:spPr>
              <a:xfrm>
                <a:off x="2195640" y="4960800"/>
                <a:ext cx="1233360" cy="531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1" name="矩形 333850"/>
            <p:cNvSpPr/>
            <p:nvPr/>
          </p:nvSpPr>
          <p:spPr>
            <a:xfrm>
              <a:off x="2230200" y="4989240"/>
              <a:ext cx="34812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你发现了什么规律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2" name="图片 333851" descr="小精灵-06"/>
            <p:cNvPicPr/>
            <p:nvPr/>
          </p:nvPicPr>
          <p:blipFill>
            <a:blip r:embed="rId3"/>
            <a:stretch/>
          </p:blipFill>
          <p:spPr>
            <a:xfrm>
              <a:off x="5638680" y="4413240"/>
              <a:ext cx="1309320" cy="16794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r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3" name="组合 319492"/>
          <p:cNvGrpSpPr/>
          <p:nvPr/>
        </p:nvGrpSpPr>
        <p:grpSpPr>
          <a:xfrm>
            <a:off x="684360" y="2038320"/>
            <a:ext cx="679320" cy="671400"/>
            <a:chOff x="684360" y="2038320"/>
            <a:chExt cx="679320" cy="671400"/>
          </a:xfrm>
        </p:grpSpPr>
        <p:pic>
          <p:nvPicPr>
            <p:cNvPr id="664" name="图片 319493" descr="yaya 拷贝"/>
            <p:cNvPicPr/>
            <p:nvPr/>
          </p:nvPicPr>
          <p:blipFill>
            <a:blip r:embed="rId1"/>
            <a:stretch/>
          </p:blipFill>
          <p:spPr>
            <a:xfrm>
              <a:off x="684360" y="2038320"/>
              <a:ext cx="679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5" name="矩形 319494"/>
            <p:cNvSpPr/>
            <p:nvPr/>
          </p:nvSpPr>
          <p:spPr>
            <a:xfrm>
              <a:off x="753840" y="21780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粗圆简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粗圆简体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任意多边形 319502"/>
          <p:cNvSpPr/>
          <p:nvPr/>
        </p:nvSpPr>
        <p:spPr>
          <a:xfrm rot="16200000">
            <a:off x="2371680" y="3832200"/>
            <a:ext cx="162000" cy="324000"/>
          </a:xfrm>
          <a:custGeom>
            <a:avLst/>
            <a:gdLst/>
            <a:ahLst/>
            <a:rect l="l" t="t" r="r" b="b"/>
            <a:pathLst>
              <a:path fill="none" w="21758" h="43200">
                <a:moveTo>
                  <a:pt x="158" y="0"/>
                </a:moveTo>
                <a:cubicBezTo>
                  <a:pt x="12087" y="0"/>
                  <a:pt x="21758" y="9671"/>
                  <a:pt x="21758" y="21600"/>
                </a:cubicBezTo>
                <a:cubicBezTo>
                  <a:pt x="21758" y="33529"/>
                  <a:pt x="12087" y="43200"/>
                  <a:pt x="158" y="43200"/>
                </a:cubicBezTo>
                <a:cubicBezTo>
                  <a:pt x="105" y="43200"/>
                  <a:pt x="52" y="43200"/>
                  <a:pt x="0" y="43199"/>
                </a:cubicBezTo>
              </a:path>
              <a:path stroke="0" w="21758" h="43200">
                <a:moveTo>
                  <a:pt x="0" y="43199"/>
                </a:moveTo>
                <a:cubicBezTo>
                  <a:pt x="1922" y="47099"/>
                  <a:pt x="3108" y="52453"/>
                  <a:pt x="3108" y="58361"/>
                </a:cubicBezTo>
                <a:cubicBezTo>
                  <a:pt x="3108" y="60752"/>
                  <a:pt x="2914" y="63051"/>
                  <a:pt x="2556" y="65197"/>
                </a:cubicBezTo>
                <a:lnTo>
                  <a:pt x="158" y="0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矩形 319489"/>
          <p:cNvSpPr/>
          <p:nvPr/>
        </p:nvSpPr>
        <p:spPr>
          <a:xfrm>
            <a:off x="2025720" y="414504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1476360" y="4073400"/>
            <a:ext cx="1940040" cy="360"/>
            <a:chOff x="1476360" y="4073400"/>
            <a:chExt cx="1940040" cy="360"/>
          </a:xfrm>
        </p:grpSpPr>
        <p:sp>
          <p:nvSpPr>
            <p:cNvPr id="669" name="直接连接符 319500"/>
            <p:cNvSpPr/>
            <p:nvPr/>
          </p:nvSpPr>
          <p:spPr>
            <a:xfrm>
              <a:off x="1476360" y="4073400"/>
              <a:ext cx="1940040" cy="0"/>
            </a:xfrm>
            <a:prstGeom prst="line">
              <a:avLst/>
            </a:prstGeom>
            <a:ln w="255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1476360" y="4073400"/>
              <a:ext cx="1940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1" name="矩形 319501"/>
          <p:cNvSpPr/>
          <p:nvPr/>
        </p:nvSpPr>
        <p:spPr>
          <a:xfrm>
            <a:off x="2276280" y="3706920"/>
            <a:ext cx="3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组合 319513"/>
          <p:cNvGrpSpPr/>
          <p:nvPr/>
        </p:nvGrpSpPr>
        <p:grpSpPr>
          <a:xfrm>
            <a:off x="6064200" y="3919680"/>
            <a:ext cx="1892520" cy="971280"/>
            <a:chOff x="6064200" y="3919680"/>
            <a:chExt cx="1892520" cy="971280"/>
          </a:xfrm>
        </p:grpSpPr>
        <p:sp>
          <p:nvSpPr>
            <p:cNvPr id="673" name="矩形 319499"/>
            <p:cNvSpPr/>
            <p:nvPr/>
          </p:nvSpPr>
          <p:spPr>
            <a:xfrm>
              <a:off x="6156360" y="437040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周角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6254640" y="4289400"/>
              <a:ext cx="1702080" cy="360"/>
              <a:chOff x="6254640" y="4289400"/>
              <a:chExt cx="1702080" cy="360"/>
            </a:xfrm>
          </p:grpSpPr>
          <p:sp>
            <p:nvSpPr>
              <p:cNvPr id="675" name="直接连接符 319508"/>
              <p:cNvSpPr/>
              <p:nvPr/>
            </p:nvSpPr>
            <p:spPr>
              <a:xfrm>
                <a:off x="6254640" y="4289400"/>
                <a:ext cx="170208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 txBox="1"/>
              <p:nvPr/>
            </p:nvSpPr>
            <p:spPr>
              <a:xfrm>
                <a:off x="6254640" y="4289400"/>
                <a:ext cx="1702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7" name="矩形 319509"/>
            <p:cNvSpPr/>
            <p:nvPr/>
          </p:nvSpPr>
          <p:spPr>
            <a:xfrm>
              <a:off x="6064200" y="391968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椭圆 319510"/>
            <p:cNvSpPr/>
            <p:nvPr/>
          </p:nvSpPr>
          <p:spPr>
            <a:xfrm>
              <a:off x="6068880" y="4120920"/>
              <a:ext cx="327240" cy="326880"/>
            </a:xfrm>
            <a:prstGeom prst="ellipse">
              <a:avLst/>
            </a:prstGeom>
            <a:noFill/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9" name="组合 319532"/>
          <p:cNvGrpSpPr/>
          <p:nvPr/>
        </p:nvGrpSpPr>
        <p:grpSpPr>
          <a:xfrm>
            <a:off x="1762200" y="4797360"/>
            <a:ext cx="6194160" cy="1548000"/>
            <a:chOff x="1762200" y="4797360"/>
            <a:chExt cx="6194160" cy="1548000"/>
          </a:xfrm>
        </p:grpSpPr>
        <p:grpSp>
          <p:nvGrpSpPr>
            <p:cNvPr id="680" name="组合 319524"/>
            <p:cNvGrpSpPr/>
            <p:nvPr/>
          </p:nvGrpSpPr>
          <p:grpSpPr>
            <a:xfrm>
              <a:off x="3105000" y="5213520"/>
              <a:ext cx="4851360" cy="531720"/>
              <a:chOff x="3105000" y="5213520"/>
              <a:chExt cx="4851360" cy="531720"/>
            </a:xfrm>
          </p:grpSpPr>
          <p:pic>
            <p:nvPicPr>
              <p:cNvPr id="681" name="图片 319522" descr="P-030"/>
              <p:cNvPicPr/>
              <p:nvPr/>
            </p:nvPicPr>
            <p:blipFill>
              <a:blip r:embed="rId2"/>
              <a:srcRect l="0" t="0" r="4445" b="0"/>
              <a:stretch/>
            </p:blipFill>
            <p:spPr>
              <a:xfrm>
                <a:off x="3105000" y="5213520"/>
                <a:ext cx="344880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2" name="图片 319523" descr="P-030"/>
              <p:cNvPicPr/>
              <p:nvPr/>
            </p:nvPicPr>
            <p:blipFill>
              <a:blip r:embed="rId3"/>
              <a:srcRect l="63660" t="0" r="0" b="0"/>
              <a:stretch/>
            </p:blipFill>
            <p:spPr>
              <a:xfrm>
                <a:off x="6415200" y="5213520"/>
                <a:ext cx="1311480" cy="53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矩形 319514"/>
              <p:cNvSpPr/>
              <p:nvPr/>
            </p:nvSpPr>
            <p:spPr>
              <a:xfrm>
                <a:off x="3373200" y="5234040"/>
                <a:ext cx="45831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你还在哪儿见到过这样的角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?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4" name="图片 319525" descr="小精灵-019"/>
            <p:cNvPicPr/>
            <p:nvPr/>
          </p:nvPicPr>
          <p:blipFill>
            <a:blip r:embed="rId4"/>
            <a:stretch/>
          </p:blipFill>
          <p:spPr>
            <a:xfrm>
              <a:off x="1762200" y="4797360"/>
              <a:ext cx="1214280" cy="154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5" name="图片 319527" descr="P-41-3"/>
          <p:cNvPicPr/>
          <p:nvPr/>
        </p:nvPicPr>
        <p:blipFill>
          <a:blip r:embed="rId5"/>
          <a:stretch/>
        </p:blipFill>
        <p:spPr>
          <a:xfrm>
            <a:off x="5513400" y="1936800"/>
            <a:ext cx="2730600" cy="1923840"/>
          </a:xfrm>
          <a:prstGeom prst="rect">
            <a:avLst/>
          </a:prstGeom>
          <a:ln w="0">
            <a:noFill/>
          </a:ln>
        </p:spPr>
      </p:pic>
      <p:pic>
        <p:nvPicPr>
          <p:cNvPr id="686" name="图片 319528" descr="P-41-2"/>
          <p:cNvPicPr/>
          <p:nvPr/>
        </p:nvPicPr>
        <p:blipFill>
          <a:blip r:embed="rId6"/>
          <a:stretch/>
        </p:blipFill>
        <p:spPr>
          <a:xfrm>
            <a:off x="1263600" y="2143080"/>
            <a:ext cx="2498760" cy="1449360"/>
          </a:xfrm>
          <a:prstGeom prst="rect">
            <a:avLst/>
          </a:prstGeom>
          <a:ln w="0">
            <a:noFill/>
          </a:ln>
        </p:spPr>
      </p:pic>
      <p:grpSp>
        <p:nvGrpSpPr>
          <p:cNvPr id="687" name="组合 319529"/>
          <p:cNvGrpSpPr/>
          <p:nvPr/>
        </p:nvGrpSpPr>
        <p:grpSpPr>
          <a:xfrm>
            <a:off x="611280" y="1054080"/>
            <a:ext cx="2844720" cy="847440"/>
            <a:chOff x="611280" y="1054080"/>
            <a:chExt cx="2844720" cy="847440"/>
          </a:xfrm>
        </p:grpSpPr>
        <p:pic>
          <p:nvPicPr>
            <p:cNvPr id="688" name="图片 319530" descr="虫子-01"/>
            <p:cNvPicPr/>
            <p:nvPr/>
          </p:nvPicPr>
          <p:blipFill>
            <a:blip r:embed="rId7"/>
            <a:stretch/>
          </p:blipFill>
          <p:spPr>
            <a:xfrm>
              <a:off x="611280" y="1054080"/>
              <a:ext cx="28447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矩形 319531"/>
            <p:cNvSpPr/>
            <p:nvPr/>
          </p:nvSpPr>
          <p:spPr>
            <a:xfrm>
              <a:off x="801720" y="118080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角 的 分 类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图片 335911" descr="p-41"/>
          <p:cNvPicPr/>
          <p:nvPr/>
        </p:nvPicPr>
        <p:blipFill>
          <a:blip r:embed="rId1"/>
          <a:stretch/>
        </p:blipFill>
        <p:spPr>
          <a:xfrm>
            <a:off x="2309760" y="2475000"/>
            <a:ext cx="4206960" cy="3833640"/>
          </a:xfrm>
          <a:prstGeom prst="rect">
            <a:avLst/>
          </a:prstGeom>
          <a:ln w="0">
            <a:noFill/>
          </a:ln>
        </p:spPr>
      </p:pic>
      <p:grpSp>
        <p:nvGrpSpPr>
          <p:cNvPr id="691" name="组合 335873"/>
          <p:cNvGrpSpPr/>
          <p:nvPr/>
        </p:nvGrpSpPr>
        <p:grpSpPr>
          <a:xfrm>
            <a:off x="650880" y="1125360"/>
            <a:ext cx="679320" cy="671400"/>
            <a:chOff x="650880" y="1125360"/>
            <a:chExt cx="679320" cy="671400"/>
          </a:xfrm>
        </p:grpSpPr>
        <p:pic>
          <p:nvPicPr>
            <p:cNvPr id="692" name="图片 335874" descr="yaya 拷贝"/>
            <p:cNvPicPr/>
            <p:nvPr/>
          </p:nvPicPr>
          <p:blipFill>
            <a:blip r:embed="rId2"/>
            <a:stretch/>
          </p:blipFill>
          <p:spPr>
            <a:xfrm>
              <a:off x="650880" y="1125360"/>
              <a:ext cx="679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矩形 335875"/>
            <p:cNvSpPr/>
            <p:nvPr/>
          </p:nvSpPr>
          <p:spPr>
            <a:xfrm>
              <a:off x="720360" y="126504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粗圆简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粗圆简体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矩形 335888"/>
          <p:cNvSpPr/>
          <p:nvPr/>
        </p:nvSpPr>
        <p:spPr>
          <a:xfrm>
            <a:off x="1330200" y="1270080"/>
            <a:ext cx="7345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锐角、钝角、直角、平角和周角之间有什么关系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5" name="组合 335895"/>
          <p:cNvGrpSpPr/>
          <p:nvPr/>
        </p:nvGrpSpPr>
        <p:grpSpPr>
          <a:xfrm>
            <a:off x="5003640" y="2216160"/>
            <a:ext cx="3451320" cy="1268280"/>
            <a:chOff x="5003640" y="2216160"/>
            <a:chExt cx="3451320" cy="1268280"/>
          </a:xfrm>
        </p:grpSpPr>
        <p:pic>
          <p:nvPicPr>
            <p:cNvPr id="696" name="图片 335892" descr="777"/>
            <p:cNvPicPr/>
            <p:nvPr/>
          </p:nvPicPr>
          <p:blipFill>
            <a:blip r:embed="rId3"/>
            <a:stretch/>
          </p:blipFill>
          <p:spPr>
            <a:xfrm flipH="1">
              <a:off x="5003640" y="2216160"/>
              <a:ext cx="34336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矩形 335893"/>
            <p:cNvSpPr/>
            <p:nvPr/>
          </p:nvSpPr>
          <p:spPr>
            <a:xfrm>
              <a:off x="5543280" y="2558880"/>
              <a:ext cx="23097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这是锐角，小于 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90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矩形 335894"/>
            <p:cNvSpPr/>
            <p:nvPr/>
          </p:nvSpPr>
          <p:spPr>
            <a:xfrm>
              <a:off x="7951320" y="2558880"/>
              <a:ext cx="503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9" name="组合 335902"/>
          <p:cNvGrpSpPr/>
          <p:nvPr/>
        </p:nvGrpSpPr>
        <p:grpSpPr>
          <a:xfrm>
            <a:off x="1020600" y="1989000"/>
            <a:ext cx="2757240" cy="1279440"/>
            <a:chOff x="1020600" y="1989000"/>
            <a:chExt cx="2757240" cy="1279440"/>
          </a:xfrm>
        </p:grpSpPr>
        <p:pic>
          <p:nvPicPr>
            <p:cNvPr id="700" name="图片 335901" descr="kk"/>
            <p:cNvPicPr/>
            <p:nvPr/>
          </p:nvPicPr>
          <p:blipFill>
            <a:blip r:embed="rId4"/>
            <a:srcRect l="0" t="0" r="11670" b="0"/>
            <a:stretch/>
          </p:blipFill>
          <p:spPr>
            <a:xfrm>
              <a:off x="1020600" y="1989000"/>
              <a:ext cx="2757240" cy="1279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1" name="组合 335899"/>
            <p:cNvGrpSpPr/>
            <p:nvPr/>
          </p:nvGrpSpPr>
          <p:grpSpPr>
            <a:xfrm>
              <a:off x="1418760" y="2133360"/>
              <a:ext cx="1919520" cy="1029600"/>
              <a:chOff x="1418760" y="2133360"/>
              <a:chExt cx="1919520" cy="1029600"/>
            </a:xfrm>
          </p:grpSpPr>
          <p:sp>
            <p:nvSpPr>
              <p:cNvPr id="702" name="矩形 335896"/>
              <p:cNvSpPr/>
              <p:nvPr/>
            </p:nvSpPr>
            <p:spPr>
              <a:xfrm>
                <a:off x="1418760" y="2133360"/>
                <a:ext cx="1919520" cy="9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钝角大于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90 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，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而小于</a:t>
                </a: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80  </a:t>
                </a:r>
                <a:r>
                  <a:rPr b="1" lang="zh-CN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。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矩形 335897"/>
              <p:cNvSpPr/>
              <p:nvPr/>
            </p:nvSpPr>
            <p:spPr>
              <a:xfrm>
                <a:off x="2989440" y="2196720"/>
                <a:ext cx="31320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°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矩形 335898"/>
              <p:cNvSpPr/>
              <p:nvPr/>
            </p:nvSpPr>
            <p:spPr>
              <a:xfrm>
                <a:off x="2819520" y="2633400"/>
                <a:ext cx="313200" cy="52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华文行楷"/>
                  </a:rPr>
                  <a:t>°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5" name="组合 335909"/>
          <p:cNvGrpSpPr/>
          <p:nvPr/>
        </p:nvGrpSpPr>
        <p:grpSpPr>
          <a:xfrm>
            <a:off x="4643280" y="5084640"/>
            <a:ext cx="3005280" cy="1279440"/>
            <a:chOff x="4643280" y="5084640"/>
            <a:chExt cx="3005280" cy="1279440"/>
          </a:xfrm>
        </p:grpSpPr>
        <p:pic>
          <p:nvPicPr>
            <p:cNvPr id="706" name="图片 335904" descr="kk"/>
            <p:cNvPicPr/>
            <p:nvPr/>
          </p:nvPicPr>
          <p:blipFill>
            <a:blip r:embed="rId5"/>
            <a:srcRect l="0" t="0" r="11670" b="0"/>
            <a:stretch/>
          </p:blipFill>
          <p:spPr>
            <a:xfrm rot="10800000">
              <a:off x="4643280" y="5084640"/>
              <a:ext cx="30052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矩形 335906"/>
            <p:cNvSpPr/>
            <p:nvPr/>
          </p:nvSpPr>
          <p:spPr>
            <a:xfrm>
              <a:off x="5357520" y="5229000"/>
              <a:ext cx="199260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平角等于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80  </a:t>
              </a: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等于两个直角。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矩形 335907"/>
            <p:cNvSpPr/>
            <p:nvPr/>
          </p:nvSpPr>
          <p:spPr>
            <a:xfrm>
              <a:off x="7026840" y="5292720"/>
              <a:ext cx="313200" cy="5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"/>
          <p:cNvGrpSpPr/>
          <p:nvPr/>
        </p:nvGrpSpPr>
        <p:grpSpPr>
          <a:xfrm>
            <a:off x="2556000" y="3860640"/>
            <a:ext cx="4464000" cy="936720"/>
            <a:chOff x="2556000" y="3860640"/>
            <a:chExt cx="4464000" cy="936720"/>
          </a:xfrm>
        </p:grpSpPr>
        <p:sp>
          <p:nvSpPr>
            <p:cNvPr id="710" name="直接连接符 336903"/>
            <p:cNvSpPr/>
            <p:nvPr/>
          </p:nvSpPr>
          <p:spPr>
            <a:xfrm>
              <a:off x="2556000" y="3860640"/>
              <a:ext cx="4464000" cy="936720"/>
            </a:xfrm>
            <a:prstGeom prst="line">
              <a:avLst/>
            </a:prstGeom>
            <a:ln w="255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 txBox="1"/>
            <p:nvPr/>
          </p:nvSpPr>
          <p:spPr>
            <a:xfrm>
              <a:off x="2556000" y="3860640"/>
              <a:ext cx="446400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2627280" y="3875040"/>
            <a:ext cx="4608720" cy="936720"/>
            <a:chOff x="2627280" y="3875040"/>
            <a:chExt cx="4608720" cy="936720"/>
          </a:xfrm>
        </p:grpSpPr>
        <p:sp>
          <p:nvSpPr>
            <p:cNvPr id="713" name="直接连接符 336904"/>
            <p:cNvSpPr/>
            <p:nvPr/>
          </p:nvSpPr>
          <p:spPr>
            <a:xfrm flipV="1">
              <a:off x="2627280" y="3875040"/>
              <a:ext cx="4608720" cy="936720"/>
            </a:xfrm>
            <a:prstGeom prst="line">
              <a:avLst/>
            </a:prstGeom>
            <a:ln w="255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 txBox="1"/>
            <p:nvPr/>
          </p:nvSpPr>
          <p:spPr>
            <a:xfrm rot="10800000">
              <a:off x="2627280" y="3875040"/>
              <a:ext cx="460872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任意多边形 336906"/>
          <p:cNvSpPr/>
          <p:nvPr/>
        </p:nvSpPr>
        <p:spPr>
          <a:xfrm rot="17979000">
            <a:off x="4700520" y="3941640"/>
            <a:ext cx="403200" cy="622440"/>
          </a:xfrm>
          <a:custGeom>
            <a:avLst/>
            <a:gdLst/>
            <a:ahLst/>
            <a:rect l="l" t="t" r="r" b="b"/>
            <a:pathLst>
              <a:path fill="none" w="21600" h="33323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5923"/>
                  <a:pt x="20330" y="29949"/>
                  <a:pt x="18144" y="33325"/>
                </a:cubicBezTo>
              </a:path>
              <a:path stroke="0" w="21600" h="33323">
                <a:moveTo>
                  <a:pt x="18141" y="33323"/>
                </a:moveTo>
                <a:cubicBezTo>
                  <a:pt x="20120" y="28372"/>
                  <a:pt x="23165" y="25201"/>
                  <a:pt x="26581" y="25201"/>
                </a:cubicBezTo>
                <a:cubicBezTo>
                  <a:pt x="32546" y="25201"/>
                  <a:pt x="37381" y="34872"/>
                  <a:pt x="37381" y="46801"/>
                </a:cubicBezTo>
                <a:cubicBezTo>
                  <a:pt x="37381" y="49192"/>
                  <a:pt x="37187" y="51491"/>
                  <a:pt x="36829" y="53637"/>
                </a:cubicBez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任意多边形 336907"/>
          <p:cNvSpPr/>
          <p:nvPr/>
        </p:nvSpPr>
        <p:spPr>
          <a:xfrm flipV="1" rot="3621000">
            <a:off x="4700520" y="4150440"/>
            <a:ext cx="403200" cy="622440"/>
          </a:xfrm>
          <a:custGeom>
            <a:avLst/>
            <a:gdLst/>
            <a:ahLst/>
            <a:rect l="l" t="t" r="r" b="b"/>
            <a:pathLst>
              <a:path fill="none" w="21600" h="33323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5923"/>
                  <a:pt x="20330" y="29949"/>
                  <a:pt x="18144" y="33325"/>
                </a:cubicBezTo>
              </a:path>
              <a:path stroke="0" w="21600" h="33323">
                <a:moveTo>
                  <a:pt x="18141" y="33323"/>
                </a:moveTo>
                <a:cubicBezTo>
                  <a:pt x="20120" y="28372"/>
                  <a:pt x="23165" y="25201"/>
                  <a:pt x="26581" y="25201"/>
                </a:cubicBezTo>
                <a:cubicBezTo>
                  <a:pt x="32546" y="25201"/>
                  <a:pt x="37381" y="34872"/>
                  <a:pt x="37381" y="46801"/>
                </a:cubicBezTo>
                <a:cubicBezTo>
                  <a:pt x="37381" y="49192"/>
                  <a:pt x="37187" y="51491"/>
                  <a:pt x="36829" y="53637"/>
                </a:cubicBez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任意多边形 336908"/>
          <p:cNvSpPr/>
          <p:nvPr/>
        </p:nvSpPr>
        <p:spPr>
          <a:xfrm flipV="1" rot="18967200">
            <a:off x="5430960" y="4266720"/>
            <a:ext cx="185760" cy="185760"/>
          </a:xfrm>
          <a:custGeom>
            <a:avLst/>
            <a:gdLst/>
            <a:ahLst/>
            <a:rect l="l" t="t" r="r" b="b"/>
            <a:pathLst>
              <a:path fill="none" w="21560" h="21600">
                <a:moveTo>
                  <a:pt x="0" y="0"/>
                </a:moveTo>
                <a:cubicBezTo>
                  <a:pt x="11489" y="0"/>
                  <a:pt x="20882" y="8969"/>
                  <a:pt x="21560" y="20282"/>
                </a:cubicBezTo>
              </a:path>
              <a:path stroke="0" w="21560" h="21600">
                <a:moveTo>
                  <a:pt x="21560" y="20288"/>
                </a:moveTo>
                <a:cubicBezTo>
                  <a:pt x="21547" y="19854"/>
                  <a:pt x="21540" y="19416"/>
                  <a:pt x="21540" y="18974"/>
                </a:cubicBezTo>
                <a:cubicBezTo>
                  <a:pt x="21540" y="7045"/>
                  <a:pt x="26375" y="-2626"/>
                  <a:pt x="32340" y="-2626"/>
                </a:cubicBezTo>
                <a:cubicBezTo>
                  <a:pt x="38305" y="-2626"/>
                  <a:pt x="43140" y="7045"/>
                  <a:pt x="43140" y="18974"/>
                </a:cubicBezTo>
                <a:cubicBezTo>
                  <a:pt x="43140" y="21365"/>
                  <a:pt x="42946" y="23664"/>
                  <a:pt x="42588" y="25810"/>
                </a:cubicBez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任意多边形 336909"/>
          <p:cNvSpPr/>
          <p:nvPr/>
        </p:nvSpPr>
        <p:spPr>
          <a:xfrm flipH="1" flipV="1" rot="2632800">
            <a:off x="4097160" y="4254120"/>
            <a:ext cx="185760" cy="185760"/>
          </a:xfrm>
          <a:custGeom>
            <a:avLst/>
            <a:gdLst/>
            <a:ahLst/>
            <a:rect l="l" t="t" r="r" b="b"/>
            <a:pathLst>
              <a:path fill="none" w="21560" h="21600">
                <a:moveTo>
                  <a:pt x="0" y="0"/>
                </a:moveTo>
                <a:cubicBezTo>
                  <a:pt x="11489" y="0"/>
                  <a:pt x="20882" y="8969"/>
                  <a:pt x="21560" y="20282"/>
                </a:cubicBezTo>
              </a:path>
              <a:path stroke="0" w="21560" h="21600">
                <a:moveTo>
                  <a:pt x="21560" y="20288"/>
                </a:moveTo>
                <a:cubicBezTo>
                  <a:pt x="21547" y="19854"/>
                  <a:pt x="21540" y="19416"/>
                  <a:pt x="21540" y="18974"/>
                </a:cubicBezTo>
                <a:cubicBezTo>
                  <a:pt x="21540" y="7045"/>
                  <a:pt x="26375" y="-2626"/>
                  <a:pt x="32340" y="-2626"/>
                </a:cubicBezTo>
                <a:cubicBezTo>
                  <a:pt x="38305" y="-2626"/>
                  <a:pt x="43140" y="7045"/>
                  <a:pt x="43140" y="18974"/>
                </a:cubicBezTo>
                <a:cubicBezTo>
                  <a:pt x="43140" y="21365"/>
                  <a:pt x="42946" y="23664"/>
                  <a:pt x="42588" y="25810"/>
                </a:cubicBezTo>
                <a:lnTo>
                  <a:pt x="0" y="0"/>
                </a:lnTo>
                <a:close/>
              </a:path>
            </a:pathLst>
          </a:custGeom>
          <a:noFill/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矩形 336910"/>
          <p:cNvSpPr/>
          <p:nvPr/>
        </p:nvSpPr>
        <p:spPr>
          <a:xfrm>
            <a:off x="4716360" y="360216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矩形 336911"/>
          <p:cNvSpPr/>
          <p:nvPr/>
        </p:nvSpPr>
        <p:spPr>
          <a:xfrm>
            <a:off x="5651280" y="4091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矩形 336912"/>
          <p:cNvSpPr/>
          <p:nvPr/>
        </p:nvSpPr>
        <p:spPr>
          <a:xfrm>
            <a:off x="4716360" y="459576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336913"/>
          <p:cNvSpPr/>
          <p:nvPr/>
        </p:nvSpPr>
        <p:spPr>
          <a:xfrm>
            <a:off x="3635280" y="4091040"/>
            <a:ext cx="34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组合 336919"/>
          <p:cNvGrpSpPr/>
          <p:nvPr/>
        </p:nvGrpSpPr>
        <p:grpSpPr>
          <a:xfrm>
            <a:off x="1371600" y="1268280"/>
            <a:ext cx="6729480" cy="1593720"/>
            <a:chOff x="1371600" y="1268280"/>
            <a:chExt cx="6729480" cy="1593720"/>
          </a:xfrm>
        </p:grpSpPr>
        <p:pic>
          <p:nvPicPr>
            <p:cNvPr id="724" name="图片 336917" descr="P-041"/>
            <p:cNvPicPr/>
            <p:nvPr/>
          </p:nvPicPr>
          <p:blipFill>
            <a:blip r:embed="rId1"/>
            <a:stretch/>
          </p:blipFill>
          <p:spPr>
            <a:xfrm>
              <a:off x="2701800" y="1523880"/>
              <a:ext cx="3478320" cy="102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图片 336915" descr="小精灵-09"/>
            <p:cNvPicPr/>
            <p:nvPr/>
          </p:nvPicPr>
          <p:blipFill>
            <a:blip r:embed="rId2"/>
            <a:stretch/>
          </p:blipFill>
          <p:spPr>
            <a:xfrm>
              <a:off x="1371600" y="1268280"/>
              <a:ext cx="1258920" cy="15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图片 336918" descr="P-041"/>
            <p:cNvPicPr/>
            <p:nvPr/>
          </p:nvPicPr>
          <p:blipFill>
            <a:blip r:embed="rId3"/>
            <a:srcRect l="25287" t="0" r="0" b="0"/>
            <a:stretch/>
          </p:blipFill>
          <p:spPr>
            <a:xfrm>
              <a:off x="5118120" y="1523880"/>
              <a:ext cx="2598840" cy="102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矩形 336897"/>
            <p:cNvSpPr/>
            <p:nvPr/>
          </p:nvSpPr>
          <p:spPr>
            <a:xfrm>
              <a:off x="2892600" y="1434960"/>
              <a:ext cx="520848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下图中只量一个角的度数，你能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说出其他三个角各是多少度吗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8" name="组合 337921"/>
          <p:cNvGrpSpPr/>
          <p:nvPr/>
        </p:nvGrpSpPr>
        <p:grpSpPr>
          <a:xfrm>
            <a:off x="723960" y="1917720"/>
            <a:ext cx="679320" cy="671400"/>
            <a:chOff x="723960" y="1917720"/>
            <a:chExt cx="679320" cy="671400"/>
          </a:xfrm>
        </p:grpSpPr>
        <p:pic>
          <p:nvPicPr>
            <p:cNvPr id="729" name="图片 337922" descr="yaya 拷贝"/>
            <p:cNvPicPr/>
            <p:nvPr/>
          </p:nvPicPr>
          <p:blipFill>
            <a:blip r:embed="rId1"/>
            <a:stretch/>
          </p:blipFill>
          <p:spPr>
            <a:xfrm>
              <a:off x="723960" y="1917720"/>
              <a:ext cx="67932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矩形 337923"/>
            <p:cNvSpPr/>
            <p:nvPr/>
          </p:nvSpPr>
          <p:spPr>
            <a:xfrm>
              <a:off x="793440" y="205740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粗圆简体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方正粗圆简体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矩形 337924"/>
          <p:cNvSpPr/>
          <p:nvPr/>
        </p:nvSpPr>
        <p:spPr>
          <a:xfrm>
            <a:off x="1403280" y="20764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怎样画一个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5</a:t>
            </a:r>
            <a:r>
              <a:rPr b="1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2" name="图片 337941" descr="p-42"/>
          <p:cNvPicPr/>
          <p:nvPr/>
        </p:nvPicPr>
        <p:blipFill>
          <a:blip r:embed="rId2"/>
          <a:stretch/>
        </p:blipFill>
        <p:spPr>
          <a:xfrm>
            <a:off x="3544920" y="2349360"/>
            <a:ext cx="5059440" cy="4002120"/>
          </a:xfrm>
          <a:prstGeom prst="rect">
            <a:avLst/>
          </a:prstGeom>
          <a:ln w="0">
            <a:noFill/>
          </a:ln>
        </p:spPr>
      </p:pic>
      <p:grpSp>
        <p:nvGrpSpPr>
          <p:cNvPr id="733" name="组合 337945"/>
          <p:cNvGrpSpPr/>
          <p:nvPr/>
        </p:nvGrpSpPr>
        <p:grpSpPr>
          <a:xfrm>
            <a:off x="1284120" y="2709720"/>
            <a:ext cx="2279880" cy="3135600"/>
            <a:chOff x="1284120" y="2709720"/>
            <a:chExt cx="2279880" cy="3135600"/>
          </a:xfrm>
        </p:grpSpPr>
        <p:pic>
          <p:nvPicPr>
            <p:cNvPr id="734" name="图片 337943" descr="小精灵-014"/>
            <p:cNvPicPr/>
            <p:nvPr/>
          </p:nvPicPr>
          <p:blipFill>
            <a:blip r:embed="rId3"/>
            <a:stretch/>
          </p:blipFill>
          <p:spPr>
            <a:xfrm>
              <a:off x="1311120" y="4305240"/>
              <a:ext cx="1497240" cy="154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图片 337944" descr="P-038"/>
            <p:cNvPicPr/>
            <p:nvPr/>
          </p:nvPicPr>
          <p:blipFill>
            <a:blip r:embed="rId4"/>
            <a:srcRect l="-5934" t="-16740" r="-10899" b="-14865"/>
            <a:stretch/>
          </p:blipFill>
          <p:spPr>
            <a:xfrm>
              <a:off x="1284120" y="2709720"/>
              <a:ext cx="2279880" cy="178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矩形 337942"/>
            <p:cNvSpPr/>
            <p:nvPr/>
          </p:nvSpPr>
          <p:spPr>
            <a:xfrm>
              <a:off x="1749960" y="2865600"/>
              <a:ext cx="1171440" cy="11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画角的步骤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是这样的。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7" name="组合 337949"/>
          <p:cNvGrpSpPr/>
          <p:nvPr/>
        </p:nvGrpSpPr>
        <p:grpSpPr>
          <a:xfrm>
            <a:off x="611280" y="1052640"/>
            <a:ext cx="2844720" cy="847440"/>
            <a:chOff x="611280" y="1052640"/>
            <a:chExt cx="2844720" cy="847440"/>
          </a:xfrm>
        </p:grpSpPr>
        <p:pic>
          <p:nvPicPr>
            <p:cNvPr id="738" name="图片 337950" descr="虫子-01"/>
            <p:cNvPicPr/>
            <p:nvPr/>
          </p:nvPicPr>
          <p:blipFill>
            <a:blip r:embed="rId5"/>
            <a:stretch/>
          </p:blipFill>
          <p:spPr>
            <a:xfrm>
              <a:off x="611280" y="1052640"/>
              <a:ext cx="28447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矩形 337951"/>
            <p:cNvSpPr/>
            <p:nvPr/>
          </p:nvSpPr>
          <p:spPr>
            <a:xfrm>
              <a:off x="801720" y="117936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画    角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组合 339985"/>
          <p:cNvGrpSpPr/>
          <p:nvPr/>
        </p:nvGrpSpPr>
        <p:grpSpPr>
          <a:xfrm>
            <a:off x="1474920" y="968400"/>
            <a:ext cx="4897440" cy="2616120"/>
            <a:chOff x="1474920" y="968400"/>
            <a:chExt cx="4897440" cy="2616120"/>
          </a:xfrm>
        </p:grpSpPr>
        <p:pic>
          <p:nvPicPr>
            <p:cNvPr id="741" name="图片 339986" descr=""/>
            <p:cNvPicPr/>
            <p:nvPr/>
          </p:nvPicPr>
          <p:blipFill>
            <a:blip r:embed="rId1"/>
            <a:stretch/>
          </p:blipFill>
          <p:spPr>
            <a:xfrm>
              <a:off x="1474920" y="968400"/>
              <a:ext cx="4897440" cy="26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椭圆 339987"/>
            <p:cNvSpPr/>
            <p:nvPr/>
          </p:nvSpPr>
          <p:spPr>
            <a:xfrm>
              <a:off x="3880800" y="3372120"/>
              <a:ext cx="56880" cy="56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"/>
          <p:cNvGrpSpPr/>
          <p:nvPr/>
        </p:nvGrpSpPr>
        <p:grpSpPr>
          <a:xfrm>
            <a:off x="3906720" y="3397320"/>
            <a:ext cx="3176640" cy="360"/>
            <a:chOff x="3906720" y="3397320"/>
            <a:chExt cx="3176640" cy="360"/>
          </a:xfrm>
        </p:grpSpPr>
        <p:sp>
          <p:nvSpPr>
            <p:cNvPr id="744" name="直接连接符 339976"/>
            <p:cNvSpPr/>
            <p:nvPr/>
          </p:nvSpPr>
          <p:spPr>
            <a:xfrm>
              <a:off x="3906720" y="3397320"/>
              <a:ext cx="3176640" cy="0"/>
            </a:xfrm>
            <a:prstGeom prst="line">
              <a:avLst/>
            </a:prstGeom>
            <a:ln w="25560">
              <a:solidFill>
                <a:srgbClr val="ff0066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 txBox="1"/>
            <p:nvPr/>
          </p:nvSpPr>
          <p:spPr>
            <a:xfrm>
              <a:off x="3906720" y="3397320"/>
              <a:ext cx="3176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矩形 339980"/>
          <p:cNvSpPr/>
          <p:nvPr/>
        </p:nvSpPr>
        <p:spPr>
          <a:xfrm>
            <a:off x="4678560" y="922320"/>
            <a:ext cx="371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3905280" y="1077840"/>
            <a:ext cx="1068480" cy="2322720"/>
            <a:chOff x="3905280" y="1077840"/>
            <a:chExt cx="1068480" cy="2322720"/>
          </a:xfrm>
        </p:grpSpPr>
        <p:sp>
          <p:nvSpPr>
            <p:cNvPr id="748" name="直接连接符 339981"/>
            <p:cNvSpPr/>
            <p:nvPr/>
          </p:nvSpPr>
          <p:spPr>
            <a:xfrm flipV="1">
              <a:off x="3905280" y="1077840"/>
              <a:ext cx="1068480" cy="2322720"/>
            </a:xfrm>
            <a:prstGeom prst="line">
              <a:avLst/>
            </a:prstGeom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 rot="10800000">
              <a:off x="3905280" y="1077840"/>
              <a:ext cx="1068480" cy="2322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矩形 339982"/>
          <p:cNvSpPr/>
          <p:nvPr/>
        </p:nvSpPr>
        <p:spPr>
          <a:xfrm>
            <a:off x="468360" y="3716280"/>
            <a:ext cx="82090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一条射线，使量角器的中心和射线的端点重合，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刻度线和射线重合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339983"/>
          <p:cNvSpPr/>
          <p:nvPr/>
        </p:nvSpPr>
        <p:spPr>
          <a:xfrm>
            <a:off x="468360" y="4836960"/>
            <a:ext cx="82090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量角器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5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刻度线的地方点一个点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339984"/>
          <p:cNvSpPr/>
          <p:nvPr/>
        </p:nvSpPr>
        <p:spPr>
          <a:xfrm>
            <a:off x="468360" y="5329080"/>
            <a:ext cx="820908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以画出的射线的端点为端点，通过刚画的点，再画一条射线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组合 342023"/>
          <p:cNvGrpSpPr/>
          <p:nvPr/>
        </p:nvGrpSpPr>
        <p:grpSpPr>
          <a:xfrm>
            <a:off x="1690560" y="1184400"/>
            <a:ext cx="4897440" cy="2616120"/>
            <a:chOff x="1690560" y="1184400"/>
            <a:chExt cx="4897440" cy="2616120"/>
          </a:xfrm>
        </p:grpSpPr>
        <p:pic>
          <p:nvPicPr>
            <p:cNvPr id="754" name="图片 342024" descr=""/>
            <p:cNvPicPr/>
            <p:nvPr/>
          </p:nvPicPr>
          <p:blipFill>
            <a:blip r:embed="rId1"/>
            <a:stretch/>
          </p:blipFill>
          <p:spPr>
            <a:xfrm>
              <a:off x="1690560" y="1184400"/>
              <a:ext cx="4897440" cy="26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椭圆 342025"/>
            <p:cNvSpPr/>
            <p:nvPr/>
          </p:nvSpPr>
          <p:spPr>
            <a:xfrm>
              <a:off x="4096440" y="3588120"/>
              <a:ext cx="56880" cy="56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矩形 342027"/>
          <p:cNvSpPr/>
          <p:nvPr/>
        </p:nvSpPr>
        <p:spPr>
          <a:xfrm>
            <a:off x="4894560" y="1138320"/>
            <a:ext cx="371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·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组合 342030"/>
          <p:cNvGrpSpPr/>
          <p:nvPr/>
        </p:nvGrpSpPr>
        <p:grpSpPr>
          <a:xfrm>
            <a:off x="4120920" y="1293480"/>
            <a:ext cx="3178440" cy="2322360"/>
            <a:chOff x="4120920" y="1293480"/>
            <a:chExt cx="3178440" cy="2322360"/>
          </a:xfrm>
        </p:grpSpPr>
        <p:grpSp>
          <p:nvGrpSpPr>
            <p:cNvPr id="758" name=""/>
            <p:cNvGrpSpPr/>
            <p:nvPr/>
          </p:nvGrpSpPr>
          <p:grpSpPr>
            <a:xfrm>
              <a:off x="4122720" y="3613320"/>
              <a:ext cx="3176640" cy="360"/>
              <a:chOff x="4122720" y="3613320"/>
              <a:chExt cx="3176640" cy="360"/>
            </a:xfrm>
          </p:grpSpPr>
          <p:sp>
            <p:nvSpPr>
              <p:cNvPr id="759" name="直接连接符 342026"/>
              <p:cNvSpPr/>
              <p:nvPr/>
            </p:nvSpPr>
            <p:spPr>
              <a:xfrm>
                <a:off x="4122720" y="3613320"/>
                <a:ext cx="317664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4122720" y="3613320"/>
                <a:ext cx="3176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4120920" y="1293480"/>
              <a:ext cx="1068480" cy="2322360"/>
              <a:chOff x="4120920" y="1293480"/>
              <a:chExt cx="1068480" cy="2322360"/>
            </a:xfrm>
          </p:grpSpPr>
          <p:sp>
            <p:nvSpPr>
              <p:cNvPr id="762" name="直接连接符 342028"/>
              <p:cNvSpPr/>
              <p:nvPr/>
            </p:nvSpPr>
            <p:spPr>
              <a:xfrm flipV="1">
                <a:off x="4121280" y="1293480"/>
                <a:ext cx="1068120" cy="232236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 txBox="1"/>
              <p:nvPr/>
            </p:nvSpPr>
            <p:spPr>
              <a:xfrm rot="10800000">
                <a:off x="4120920" y="1293480"/>
                <a:ext cx="1068120" cy="232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037E-007 L 8.33333E-007 0.38357 E">
                                      <p:cBhvr>
                                        <p:cTn id="749" dur="2000" fill="hold"/>
                                        <p:tgtEl>
                                          <p:spTgt spid="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矩形 343041"/>
          <p:cNvSpPr/>
          <p:nvPr/>
        </p:nvSpPr>
        <p:spPr>
          <a:xfrm>
            <a:off x="539640" y="1052640"/>
            <a:ext cx="4896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角各是哪一种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组合 343057"/>
          <p:cNvGrpSpPr/>
          <p:nvPr/>
        </p:nvGrpSpPr>
        <p:grpSpPr>
          <a:xfrm>
            <a:off x="1168560" y="2058840"/>
            <a:ext cx="2514600" cy="1224000"/>
            <a:chOff x="1168560" y="2058840"/>
            <a:chExt cx="2514600" cy="1224000"/>
          </a:xfrm>
        </p:grpSpPr>
        <p:sp>
          <p:nvSpPr>
            <p:cNvPr id="766" name="任意多边形 343056"/>
            <p:cNvSpPr/>
            <p:nvPr/>
          </p:nvSpPr>
          <p:spPr>
            <a:xfrm flipH="1">
              <a:off x="2412360" y="3062160"/>
              <a:ext cx="353880" cy="207720"/>
            </a:xfrm>
            <a:custGeom>
              <a:avLst/>
              <a:gdLst/>
              <a:ahLst/>
              <a:rect l="l" t="t" r="r" b="b"/>
              <a:pathLst>
                <a:path fill="none" w="36715" h="21600">
                  <a:moveTo>
                    <a:pt x="0" y="6169"/>
                  </a:moveTo>
                  <a:cubicBezTo>
                    <a:pt x="3896" y="2353"/>
                    <a:pt x="9231" y="0"/>
                    <a:pt x="15115" y="0"/>
                  </a:cubicBezTo>
                  <a:cubicBezTo>
                    <a:pt x="27044" y="0"/>
                    <a:pt x="36715" y="9671"/>
                    <a:pt x="36715" y="21600"/>
                  </a:cubicBezTo>
                </a:path>
                <a:path stroke="0" w="36715" h="21600">
                  <a:moveTo>
                    <a:pt x="36715" y="21600"/>
                  </a:moveTo>
                  <a:cubicBezTo>
                    <a:pt x="36551" y="20612"/>
                    <a:pt x="36466" y="19595"/>
                    <a:pt x="36466" y="18558"/>
                  </a:cubicBezTo>
                  <a:cubicBezTo>
                    <a:pt x="36466" y="8332"/>
                    <a:pt x="44685" y="43"/>
                    <a:pt x="54823" y="43"/>
                  </a:cubicBezTo>
                  <a:cubicBezTo>
                    <a:pt x="64961" y="43"/>
                    <a:pt x="73180" y="8332"/>
                    <a:pt x="73180" y="18558"/>
                  </a:cubicBezTo>
                  <a:cubicBezTo>
                    <a:pt x="73180" y="23621"/>
                    <a:pt x="71165" y="28209"/>
                    <a:pt x="67900" y="31552"/>
                  </a:cubicBezTo>
                  <a:lnTo>
                    <a:pt x="0" y="6169"/>
                  </a:lnTo>
                  <a:close/>
                </a:path>
              </a:pathLst>
            </a:custGeom>
            <a:noFill/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1168560" y="3277800"/>
              <a:ext cx="1474560" cy="360"/>
              <a:chOff x="1168560" y="3277800"/>
              <a:chExt cx="1474560" cy="360"/>
            </a:xfrm>
          </p:grpSpPr>
          <p:sp>
            <p:nvSpPr>
              <p:cNvPr id="768" name="直接连接符 343052"/>
              <p:cNvSpPr/>
              <p:nvPr/>
            </p:nvSpPr>
            <p:spPr>
              <a:xfrm>
                <a:off x="1168560" y="3277800"/>
                <a:ext cx="147456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 txBox="1"/>
              <p:nvPr/>
            </p:nvSpPr>
            <p:spPr>
              <a:xfrm>
                <a:off x="1168560" y="3277800"/>
                <a:ext cx="1474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"/>
            <p:cNvGrpSpPr/>
            <p:nvPr/>
          </p:nvGrpSpPr>
          <p:grpSpPr>
            <a:xfrm>
              <a:off x="2638440" y="2058840"/>
              <a:ext cx="1044720" cy="1224000"/>
              <a:chOff x="2638440" y="2058840"/>
              <a:chExt cx="1044720" cy="1224000"/>
            </a:xfrm>
          </p:grpSpPr>
          <p:sp>
            <p:nvSpPr>
              <p:cNvPr id="771" name="直接连接符 343053"/>
              <p:cNvSpPr/>
              <p:nvPr/>
            </p:nvSpPr>
            <p:spPr>
              <a:xfrm flipV="1">
                <a:off x="2638440" y="2058840"/>
                <a:ext cx="1044720" cy="122400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 txBox="1"/>
              <p:nvPr/>
            </p:nvSpPr>
            <p:spPr>
              <a:xfrm rot="10800000">
                <a:off x="2638440" y="2058840"/>
                <a:ext cx="104472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3" name="矩形 343055"/>
            <p:cNvSpPr/>
            <p:nvPr/>
          </p:nvSpPr>
          <p:spPr>
            <a:xfrm>
              <a:off x="2247840" y="25333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组合 343065"/>
          <p:cNvGrpSpPr/>
          <p:nvPr/>
        </p:nvGrpSpPr>
        <p:grpSpPr>
          <a:xfrm>
            <a:off x="5165640" y="1773360"/>
            <a:ext cx="1474920" cy="1511280"/>
            <a:chOff x="5165640" y="1773360"/>
            <a:chExt cx="1474920" cy="1511280"/>
          </a:xfrm>
        </p:grpSpPr>
        <p:sp>
          <p:nvSpPr>
            <p:cNvPr id="775" name="矩形 343064"/>
            <p:cNvSpPr/>
            <p:nvPr/>
          </p:nvSpPr>
          <p:spPr>
            <a:xfrm>
              <a:off x="6414840" y="3062520"/>
              <a:ext cx="216000" cy="215640"/>
            </a:xfrm>
            <a:prstGeom prst="rect">
              <a:avLst/>
            </a:prstGeom>
            <a:noFill/>
            <a:ln w="2232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5165640" y="3278160"/>
              <a:ext cx="1474920" cy="360"/>
              <a:chOff x="5165640" y="3278160"/>
              <a:chExt cx="1474920" cy="360"/>
            </a:xfrm>
          </p:grpSpPr>
          <p:sp>
            <p:nvSpPr>
              <p:cNvPr id="777" name="直接连接符 343060"/>
              <p:cNvSpPr/>
              <p:nvPr/>
            </p:nvSpPr>
            <p:spPr>
              <a:xfrm>
                <a:off x="5165640" y="3278160"/>
                <a:ext cx="147492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 txBox="1"/>
              <p:nvPr/>
            </p:nvSpPr>
            <p:spPr>
              <a:xfrm>
                <a:off x="5165640" y="3278160"/>
                <a:ext cx="147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" name="矩形 343062"/>
            <p:cNvSpPr/>
            <p:nvPr/>
          </p:nvSpPr>
          <p:spPr>
            <a:xfrm>
              <a:off x="6068880" y="26193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6631920" y="1773360"/>
              <a:ext cx="360" cy="1511280"/>
              <a:chOff x="6631920" y="1773360"/>
              <a:chExt cx="360" cy="1511280"/>
            </a:xfrm>
          </p:grpSpPr>
          <p:sp>
            <p:nvSpPr>
              <p:cNvPr id="781" name="直接连接符 343063"/>
              <p:cNvSpPr/>
              <p:nvPr/>
            </p:nvSpPr>
            <p:spPr>
              <a:xfrm flipV="1">
                <a:off x="6632280" y="1773360"/>
                <a:ext cx="0" cy="151128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 txBox="1"/>
              <p:nvPr/>
            </p:nvSpPr>
            <p:spPr>
              <a:xfrm rot="10800000">
                <a:off x="6631920" y="1773360"/>
                <a:ext cx="360" cy="151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3" name="组合 343072"/>
          <p:cNvGrpSpPr/>
          <p:nvPr/>
        </p:nvGrpSpPr>
        <p:grpSpPr>
          <a:xfrm>
            <a:off x="1116000" y="4322880"/>
            <a:ext cx="2246400" cy="1062000"/>
            <a:chOff x="1116000" y="4322880"/>
            <a:chExt cx="2246400" cy="1062000"/>
          </a:xfrm>
        </p:grpSpPr>
        <p:sp>
          <p:nvSpPr>
            <p:cNvPr id="784" name="任意多边形 343067"/>
            <p:cNvSpPr/>
            <p:nvPr/>
          </p:nvSpPr>
          <p:spPr>
            <a:xfrm flipH="1">
              <a:off x="1960560" y="4852800"/>
              <a:ext cx="416160" cy="207720"/>
            </a:xfrm>
            <a:custGeom>
              <a:avLst/>
              <a:gdLst/>
              <a:ahLst/>
              <a:rect l="l" t="t" r="r" b="b"/>
              <a:pathLst>
                <a:path fill="none" w="43190" h="21600">
                  <a:moveTo>
                    <a:pt x="0" y="20957"/>
                  </a:moveTo>
                  <a:cubicBezTo>
                    <a:pt x="341" y="9323"/>
                    <a:pt x="9877" y="0"/>
                    <a:pt x="21590" y="0"/>
                  </a:cubicBezTo>
                  <a:cubicBezTo>
                    <a:pt x="33519" y="0"/>
                    <a:pt x="43190" y="9671"/>
                    <a:pt x="43190" y="21600"/>
                  </a:cubicBezTo>
                </a:path>
                <a:path stroke="0" w="43190" h="21600">
                  <a:moveTo>
                    <a:pt x="43190" y="21600"/>
                  </a:moveTo>
                  <a:cubicBezTo>
                    <a:pt x="39546" y="19609"/>
                    <a:pt x="37313" y="16926"/>
                    <a:pt x="37313" y="13974"/>
                  </a:cubicBezTo>
                  <a:cubicBezTo>
                    <a:pt x="37313" y="7832"/>
                    <a:pt x="46981" y="2853"/>
                    <a:pt x="58908" y="2853"/>
                  </a:cubicBezTo>
                  <a:cubicBezTo>
                    <a:pt x="70835" y="2853"/>
                    <a:pt x="80503" y="7832"/>
                    <a:pt x="80503" y="13974"/>
                  </a:cubicBezTo>
                  <a:cubicBezTo>
                    <a:pt x="80503" y="18839"/>
                    <a:pt x="74438" y="22974"/>
                    <a:pt x="65994" y="24483"/>
                  </a:cubicBezTo>
                  <a:lnTo>
                    <a:pt x="0" y="20957"/>
                  </a:lnTo>
                  <a:close/>
                </a:path>
              </a:pathLst>
            </a:custGeom>
            <a:noFill/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5" name=""/>
            <p:cNvGrpSpPr/>
            <p:nvPr/>
          </p:nvGrpSpPr>
          <p:grpSpPr>
            <a:xfrm>
              <a:off x="1116000" y="5065560"/>
              <a:ext cx="2246400" cy="360"/>
              <a:chOff x="1116000" y="5065560"/>
              <a:chExt cx="2246400" cy="360"/>
            </a:xfrm>
          </p:grpSpPr>
          <p:sp>
            <p:nvSpPr>
              <p:cNvPr id="786" name="直接连接符 343068"/>
              <p:cNvSpPr/>
              <p:nvPr/>
            </p:nvSpPr>
            <p:spPr>
              <a:xfrm>
                <a:off x="1116000" y="5065560"/>
                <a:ext cx="224640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 txBox="1"/>
              <p:nvPr/>
            </p:nvSpPr>
            <p:spPr>
              <a:xfrm>
                <a:off x="1116000" y="5065560"/>
                <a:ext cx="2246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8" name="矩形 343070"/>
            <p:cNvSpPr/>
            <p:nvPr/>
          </p:nvSpPr>
          <p:spPr>
            <a:xfrm>
              <a:off x="2032200" y="43228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矩形 343071"/>
            <p:cNvSpPr/>
            <p:nvPr/>
          </p:nvSpPr>
          <p:spPr>
            <a:xfrm>
              <a:off x="1993680" y="46814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343079"/>
          <p:cNvGrpSpPr/>
          <p:nvPr/>
        </p:nvGrpSpPr>
        <p:grpSpPr>
          <a:xfrm>
            <a:off x="4732200" y="4005000"/>
            <a:ext cx="2052360" cy="1141560"/>
            <a:chOff x="4732200" y="4005000"/>
            <a:chExt cx="2052360" cy="1141560"/>
          </a:xfrm>
        </p:grpSpPr>
        <p:sp>
          <p:nvSpPr>
            <p:cNvPr id="791" name="任意多边形 343074"/>
            <p:cNvSpPr/>
            <p:nvPr/>
          </p:nvSpPr>
          <p:spPr>
            <a:xfrm flipH="1" rot="1390200">
              <a:off x="5019840" y="4901760"/>
              <a:ext cx="101520" cy="142920"/>
            </a:xfrm>
            <a:custGeom>
              <a:avLst/>
              <a:gdLst/>
              <a:ahLst/>
              <a:rect l="l" t="t" r="r" b="b"/>
              <a:pathLst>
                <a:path fill="none" w="22079" h="31214">
                  <a:moveTo>
                    <a:pt x="2257" y="31213"/>
                  </a:moveTo>
                  <a:cubicBezTo>
                    <a:pt x="811" y="28321"/>
                    <a:pt x="0" y="25055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21761" y="0"/>
                    <a:pt x="21921" y="2"/>
                    <a:pt x="22079" y="5"/>
                  </a:cubicBezTo>
                </a:path>
                <a:path stroke="0" w="22079" h="31214">
                  <a:moveTo>
                    <a:pt x="22079" y="5"/>
                  </a:moveTo>
                  <a:cubicBezTo>
                    <a:pt x="22149" y="5"/>
                    <a:pt x="22114" y="5"/>
                    <a:pt x="22079" y="5"/>
                  </a:cubicBezTo>
                  <a:cubicBezTo>
                    <a:pt x="10773" y="5"/>
                    <a:pt x="1608" y="-2678"/>
                    <a:pt x="1608" y="-5988"/>
                  </a:cubicBezTo>
                  <a:cubicBezTo>
                    <a:pt x="1608" y="-9298"/>
                    <a:pt x="10773" y="-11981"/>
                    <a:pt x="22079" y="-11981"/>
                  </a:cubicBezTo>
                  <a:cubicBezTo>
                    <a:pt x="33385" y="-11981"/>
                    <a:pt x="42550" y="-9298"/>
                    <a:pt x="42550" y="-5988"/>
                  </a:cubicBezTo>
                  <a:cubicBezTo>
                    <a:pt x="42550" y="-3038"/>
                    <a:pt x="35272" y="-587"/>
                    <a:pt x="25693" y="-88"/>
                  </a:cubicBezTo>
                  <a:lnTo>
                    <a:pt x="2257" y="31213"/>
                  </a:lnTo>
                  <a:close/>
                </a:path>
              </a:pathLst>
            </a:custGeom>
            <a:noFill/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2" name=""/>
            <p:cNvGrpSpPr/>
            <p:nvPr/>
          </p:nvGrpSpPr>
          <p:grpSpPr>
            <a:xfrm>
              <a:off x="4732200" y="5067360"/>
              <a:ext cx="2052360" cy="360"/>
              <a:chOff x="4732200" y="5067360"/>
              <a:chExt cx="2052360" cy="360"/>
            </a:xfrm>
          </p:grpSpPr>
          <p:sp>
            <p:nvSpPr>
              <p:cNvPr id="793" name="直接连接符 343075"/>
              <p:cNvSpPr/>
              <p:nvPr/>
            </p:nvSpPr>
            <p:spPr>
              <a:xfrm>
                <a:off x="4732200" y="5067360"/>
                <a:ext cx="205236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 txBox="1"/>
              <p:nvPr/>
            </p:nvSpPr>
            <p:spPr>
              <a:xfrm>
                <a:off x="4732200" y="5067360"/>
                <a:ext cx="2052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5" name="矩形 343077"/>
            <p:cNvSpPr/>
            <p:nvPr/>
          </p:nvSpPr>
          <p:spPr>
            <a:xfrm>
              <a:off x="5162400" y="462600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6" name=""/>
            <p:cNvGrpSpPr/>
            <p:nvPr/>
          </p:nvGrpSpPr>
          <p:grpSpPr>
            <a:xfrm>
              <a:off x="4736520" y="4005000"/>
              <a:ext cx="1832400" cy="1058760"/>
              <a:chOff x="4736520" y="4005000"/>
              <a:chExt cx="1832400" cy="1058760"/>
            </a:xfrm>
          </p:grpSpPr>
          <p:sp>
            <p:nvSpPr>
              <p:cNvPr id="797" name="直接连接符 343078"/>
              <p:cNvSpPr/>
              <p:nvPr/>
            </p:nvSpPr>
            <p:spPr>
              <a:xfrm flipV="1">
                <a:off x="4736880" y="4005000"/>
                <a:ext cx="1832040" cy="105876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 txBox="1"/>
              <p:nvPr/>
            </p:nvSpPr>
            <p:spPr>
              <a:xfrm rot="10800000">
                <a:off x="4736520" y="4005000"/>
                <a:ext cx="1832040" cy="1058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矩形 343080"/>
          <p:cNvSpPr/>
          <p:nvPr/>
        </p:nvSpPr>
        <p:spPr>
          <a:xfrm>
            <a:off x="2895480" y="282744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钝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矩形 343081"/>
          <p:cNvSpPr/>
          <p:nvPr/>
        </p:nvSpPr>
        <p:spPr>
          <a:xfrm>
            <a:off x="6732720" y="282744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直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矩形 343082"/>
          <p:cNvSpPr/>
          <p:nvPr/>
        </p:nvSpPr>
        <p:spPr>
          <a:xfrm>
            <a:off x="1744560" y="51451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平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矩形 343083"/>
          <p:cNvSpPr/>
          <p:nvPr/>
        </p:nvSpPr>
        <p:spPr>
          <a:xfrm>
            <a:off x="4479840" y="51451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锐角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矩形 365569"/>
          <p:cNvSpPr/>
          <p:nvPr/>
        </p:nvSpPr>
        <p:spPr>
          <a:xfrm>
            <a:off x="539640" y="1281240"/>
            <a:ext cx="5688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别画出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5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5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10293" descr="p-35"/>
          <p:cNvPicPr/>
          <p:nvPr/>
        </p:nvPicPr>
        <p:blipFill>
          <a:blip r:embed="rId1"/>
          <a:stretch/>
        </p:blipFill>
        <p:spPr>
          <a:xfrm>
            <a:off x="1841400" y="2081160"/>
            <a:ext cx="4724640" cy="3670200"/>
          </a:xfrm>
          <a:prstGeom prst="rect">
            <a:avLst/>
          </a:prstGeom>
          <a:ln w="0">
            <a:noFill/>
          </a:ln>
        </p:spPr>
      </p:pic>
      <p:grpSp>
        <p:nvGrpSpPr>
          <p:cNvPr id="65" name="组合 310296"/>
          <p:cNvGrpSpPr/>
          <p:nvPr/>
        </p:nvGrpSpPr>
        <p:grpSpPr>
          <a:xfrm>
            <a:off x="6300720" y="2800440"/>
            <a:ext cx="2449440" cy="2068560"/>
            <a:chOff x="6300720" y="2800440"/>
            <a:chExt cx="2449440" cy="2068560"/>
          </a:xfrm>
        </p:grpSpPr>
        <p:pic>
          <p:nvPicPr>
            <p:cNvPr id="66" name="图片 310295" descr="P-050"/>
            <p:cNvPicPr/>
            <p:nvPr/>
          </p:nvPicPr>
          <p:blipFill>
            <a:blip r:embed="rId2"/>
            <a:stretch/>
          </p:blipFill>
          <p:spPr>
            <a:xfrm>
              <a:off x="6300720" y="2846520"/>
              <a:ext cx="2397240" cy="20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矩形 310287"/>
            <p:cNvSpPr/>
            <p:nvPr/>
          </p:nvSpPr>
          <p:spPr>
            <a:xfrm>
              <a:off x="6516720" y="2800440"/>
              <a:ext cx="223344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线段有两个端点，直线没有端点，射线只有一个端点。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310301"/>
          <p:cNvGrpSpPr/>
          <p:nvPr/>
        </p:nvGrpSpPr>
        <p:grpSpPr>
          <a:xfrm>
            <a:off x="3924360" y="1992240"/>
            <a:ext cx="3794040" cy="571320"/>
            <a:chOff x="3924360" y="1992240"/>
            <a:chExt cx="3794040" cy="571320"/>
          </a:xfrm>
        </p:grpSpPr>
        <p:pic>
          <p:nvPicPr>
            <p:cNvPr id="69" name="图片 310299" descr="P-030"/>
            <p:cNvPicPr/>
            <p:nvPr/>
          </p:nvPicPr>
          <p:blipFill>
            <a:blip r:embed="rId3"/>
            <a:srcRect l="0" t="0" r="34272" b="0"/>
            <a:stretch/>
          </p:blipFill>
          <p:spPr>
            <a:xfrm>
              <a:off x="3924360" y="1996920"/>
              <a:ext cx="237456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图片 310300" descr="P-030"/>
            <p:cNvPicPr/>
            <p:nvPr/>
          </p:nvPicPr>
          <p:blipFill>
            <a:blip r:embed="rId4"/>
            <a:srcRect l="52946" t="0" r="0" b="0"/>
            <a:stretch/>
          </p:blipFill>
          <p:spPr>
            <a:xfrm>
              <a:off x="5506920" y="1996920"/>
              <a:ext cx="17002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矩形 310277"/>
            <p:cNvSpPr/>
            <p:nvPr/>
          </p:nvSpPr>
          <p:spPr>
            <a:xfrm>
              <a:off x="4209840" y="1992240"/>
              <a:ext cx="35085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线段可以量出长度。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310304"/>
          <p:cNvGrpSpPr/>
          <p:nvPr/>
        </p:nvGrpSpPr>
        <p:grpSpPr>
          <a:xfrm>
            <a:off x="611280" y="1628640"/>
            <a:ext cx="2520720" cy="1405080"/>
            <a:chOff x="611280" y="1628640"/>
            <a:chExt cx="2520720" cy="1405080"/>
          </a:xfrm>
        </p:grpSpPr>
        <p:pic>
          <p:nvPicPr>
            <p:cNvPr id="73" name="图片 310303" descr="P-051"/>
            <p:cNvPicPr/>
            <p:nvPr/>
          </p:nvPicPr>
          <p:blipFill>
            <a:blip r:embed="rId5"/>
            <a:stretch/>
          </p:blipFill>
          <p:spPr>
            <a:xfrm>
              <a:off x="618840" y="1679400"/>
              <a:ext cx="2498400" cy="13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矩形 310281"/>
            <p:cNvSpPr/>
            <p:nvPr/>
          </p:nvSpPr>
          <p:spPr>
            <a:xfrm>
              <a:off x="611280" y="1628640"/>
              <a:ext cx="252072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直线和射线都可以无限延伸。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310306"/>
          <p:cNvGrpSpPr/>
          <p:nvPr/>
        </p:nvGrpSpPr>
        <p:grpSpPr>
          <a:xfrm>
            <a:off x="3324240" y="4719600"/>
            <a:ext cx="2327400" cy="1230480"/>
            <a:chOff x="3324240" y="4719600"/>
            <a:chExt cx="2327400" cy="1230480"/>
          </a:xfrm>
        </p:grpSpPr>
        <p:pic>
          <p:nvPicPr>
            <p:cNvPr id="76" name="图片 310305" descr="P-005"/>
            <p:cNvPicPr/>
            <p:nvPr/>
          </p:nvPicPr>
          <p:blipFill>
            <a:blip r:embed="rId6"/>
            <a:srcRect l="-7264" t="-15346" r="-2619" b="-29770"/>
            <a:stretch/>
          </p:blipFill>
          <p:spPr>
            <a:xfrm>
              <a:off x="3324240" y="4719600"/>
              <a:ext cx="2327400" cy="12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矩形 310285"/>
            <p:cNvSpPr/>
            <p:nvPr/>
          </p:nvSpPr>
          <p:spPr>
            <a:xfrm>
              <a:off x="3524400" y="5141880"/>
              <a:ext cx="2092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还有什么呢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矩形 344065"/>
          <p:cNvSpPr/>
          <p:nvPr/>
        </p:nvSpPr>
        <p:spPr>
          <a:xfrm>
            <a:off x="611280" y="1433520"/>
            <a:ext cx="6480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估计，再量出图中各角的度数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组合 344088"/>
          <p:cNvGrpSpPr/>
          <p:nvPr/>
        </p:nvGrpSpPr>
        <p:grpSpPr>
          <a:xfrm>
            <a:off x="1086840" y="2460600"/>
            <a:ext cx="1748880" cy="2328120"/>
            <a:chOff x="1086840" y="2460600"/>
            <a:chExt cx="1748880" cy="2328120"/>
          </a:xfrm>
        </p:grpSpPr>
        <p:sp>
          <p:nvSpPr>
            <p:cNvPr id="806" name="任意多边形 344082"/>
            <p:cNvSpPr/>
            <p:nvPr/>
          </p:nvSpPr>
          <p:spPr>
            <a:xfrm>
              <a:off x="1346400" y="2563560"/>
              <a:ext cx="87480" cy="144720"/>
            </a:xfrm>
            <a:custGeom>
              <a:avLst/>
              <a:gdLst/>
              <a:ahLst/>
              <a:rect l="l" t="t" r="r" b="b"/>
              <a:pathLst>
                <a:path fill="none" w="22489" h="37430">
                  <a:moveTo>
                    <a:pt x="15584" y="0"/>
                  </a:moveTo>
                  <a:cubicBezTo>
                    <a:pt x="19832" y="3944"/>
                    <a:pt x="22489" y="9577"/>
                    <a:pt x="22489" y="15830"/>
                  </a:cubicBezTo>
                  <a:cubicBezTo>
                    <a:pt x="22489" y="27759"/>
                    <a:pt x="12818" y="37430"/>
                    <a:pt x="889" y="37430"/>
                  </a:cubicBezTo>
                  <a:cubicBezTo>
                    <a:pt x="590" y="37430"/>
                    <a:pt x="292" y="37424"/>
                    <a:pt x="0" y="37412"/>
                  </a:cubicBezTo>
                </a:path>
                <a:path stroke="0" w="22489" h="37430">
                  <a:moveTo>
                    <a:pt x="0" y="37411"/>
                  </a:moveTo>
                  <a:cubicBezTo>
                    <a:pt x="36" y="38491"/>
                    <a:pt x="55" y="39607"/>
                    <a:pt x="55" y="40747"/>
                  </a:cubicBezTo>
                  <a:cubicBezTo>
                    <a:pt x="55" y="41464"/>
                    <a:pt x="48" y="42172"/>
                    <a:pt x="33" y="42862"/>
                  </a:cubicBezTo>
                  <a:lnTo>
                    <a:pt x="15584" y="0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7" name="组合 344072"/>
            <p:cNvGrpSpPr/>
            <p:nvPr/>
          </p:nvGrpSpPr>
          <p:grpSpPr>
            <a:xfrm>
              <a:off x="1187640" y="2557440"/>
              <a:ext cx="1513080" cy="1512720"/>
              <a:chOff x="1187640" y="2557440"/>
              <a:chExt cx="1513080" cy="1512720"/>
            </a:xfrm>
          </p:grpSpPr>
          <p:sp>
            <p:nvSpPr>
              <p:cNvPr id="808" name="矩形 344066"/>
              <p:cNvSpPr/>
              <p:nvPr/>
            </p:nvSpPr>
            <p:spPr>
              <a:xfrm>
                <a:off x="1187640" y="2557440"/>
                <a:ext cx="1513080" cy="1512720"/>
              </a:xfrm>
              <a:prstGeom prst="rect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9" name=""/>
              <p:cNvGrpSpPr/>
              <p:nvPr/>
            </p:nvGrpSpPr>
            <p:grpSpPr>
              <a:xfrm>
                <a:off x="1187640" y="2557440"/>
                <a:ext cx="1513080" cy="1512720"/>
                <a:chOff x="1187640" y="2557440"/>
                <a:chExt cx="1513080" cy="1512720"/>
              </a:xfrm>
            </p:grpSpPr>
            <p:sp>
              <p:nvSpPr>
                <p:cNvPr id="810" name="直接连接符 344067"/>
                <p:cNvSpPr/>
                <p:nvPr/>
              </p:nvSpPr>
              <p:spPr>
                <a:xfrm>
                  <a:off x="1187640" y="2557440"/>
                  <a:ext cx="1513080" cy="1512720"/>
                </a:xfrm>
                <a:prstGeom prst="line">
                  <a:avLst/>
                </a:prstGeom>
                <a:ln w="25560">
                  <a:solidFill>
                    <a:srgbClr val="0066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"/>
                <p:cNvSpPr txBox="1"/>
                <p:nvPr/>
              </p:nvSpPr>
              <p:spPr>
                <a:xfrm>
                  <a:off x="1187640" y="2557440"/>
                  <a:ext cx="1513080" cy="151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2" name="矩形 344083"/>
            <p:cNvSpPr/>
            <p:nvPr/>
          </p:nvSpPr>
          <p:spPr>
            <a:xfrm>
              <a:off x="1403280" y="246060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矩形 344084"/>
            <p:cNvSpPr/>
            <p:nvPr/>
          </p:nvSpPr>
          <p:spPr>
            <a:xfrm>
              <a:off x="1086840" y="4182840"/>
              <a:ext cx="17488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=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____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组合 344089"/>
          <p:cNvGrpSpPr/>
          <p:nvPr/>
        </p:nvGrpSpPr>
        <p:grpSpPr>
          <a:xfrm>
            <a:off x="3809160" y="2557080"/>
            <a:ext cx="1743120" cy="2231640"/>
            <a:chOff x="3809160" y="2557080"/>
            <a:chExt cx="1743120" cy="2231640"/>
          </a:xfrm>
        </p:grpSpPr>
        <p:sp>
          <p:nvSpPr>
            <p:cNvPr id="815" name="任意多边形 344075"/>
            <p:cNvSpPr/>
            <p:nvPr/>
          </p:nvSpPr>
          <p:spPr>
            <a:xfrm>
              <a:off x="4689720" y="3179520"/>
              <a:ext cx="131760" cy="250920"/>
            </a:xfrm>
            <a:custGeom>
              <a:avLst/>
              <a:gdLst/>
              <a:ahLst/>
              <a:rect l="l" t="t" r="r" b="b"/>
              <a:pathLst>
                <a:path fill="none" w="21600" h="41627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  <a:cubicBezTo>
                    <a:pt x="21600" y="30666"/>
                    <a:pt x="16015" y="38428"/>
                    <a:pt x="8100" y="41630"/>
                  </a:cubicBezTo>
                </a:path>
                <a:path stroke="0" w="21600" h="41627">
                  <a:moveTo>
                    <a:pt x="8092" y="41626"/>
                  </a:moveTo>
                  <a:cubicBezTo>
                    <a:pt x="12691" y="44107"/>
                    <a:pt x="16072" y="52502"/>
                    <a:pt x="16072" y="62477"/>
                  </a:cubicBezTo>
                  <a:cubicBezTo>
                    <a:pt x="16072" y="64868"/>
                    <a:pt x="15878" y="67167"/>
                    <a:pt x="15520" y="69313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" name=""/>
            <p:cNvGrpSpPr/>
            <p:nvPr/>
          </p:nvGrpSpPr>
          <p:grpSpPr>
            <a:xfrm>
              <a:off x="4680000" y="3314520"/>
              <a:ext cx="379440" cy="655560"/>
              <a:chOff x="4680000" y="3314520"/>
              <a:chExt cx="379440" cy="655560"/>
            </a:xfrm>
          </p:grpSpPr>
          <p:sp>
            <p:nvSpPr>
              <p:cNvPr id="817" name="直接连接符 344076"/>
              <p:cNvSpPr/>
              <p:nvPr/>
            </p:nvSpPr>
            <p:spPr>
              <a:xfrm>
                <a:off x="4680000" y="3314520"/>
                <a:ext cx="379440" cy="65556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 txBox="1"/>
              <p:nvPr/>
            </p:nvSpPr>
            <p:spPr>
              <a:xfrm>
                <a:off x="4680000" y="3314520"/>
                <a:ext cx="379440" cy="655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椭圆 344068"/>
            <p:cNvSpPr/>
            <p:nvPr/>
          </p:nvSpPr>
          <p:spPr>
            <a:xfrm>
              <a:off x="3922920" y="2558880"/>
              <a:ext cx="1511280" cy="15112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4678200" y="2557080"/>
              <a:ext cx="360" cy="757080"/>
              <a:chOff x="4678200" y="2557080"/>
              <a:chExt cx="360" cy="757080"/>
            </a:xfrm>
          </p:grpSpPr>
          <p:sp>
            <p:nvSpPr>
              <p:cNvPr id="821" name="直接连接符 344073"/>
              <p:cNvSpPr/>
              <p:nvPr/>
            </p:nvSpPr>
            <p:spPr>
              <a:xfrm flipV="1">
                <a:off x="4678560" y="2557080"/>
                <a:ext cx="0" cy="75708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 txBox="1"/>
              <p:nvPr/>
            </p:nvSpPr>
            <p:spPr>
              <a:xfrm rot="10800000">
                <a:off x="4678200" y="2557080"/>
                <a:ext cx="360" cy="757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矩形 344069"/>
            <p:cNvSpPr/>
            <p:nvPr/>
          </p:nvSpPr>
          <p:spPr>
            <a:xfrm>
              <a:off x="4503600" y="2948040"/>
              <a:ext cx="34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·</a:t>
              </a:r>
              <a:endParaRPr b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矩形 344078"/>
            <p:cNvSpPr/>
            <p:nvPr/>
          </p:nvSpPr>
          <p:spPr>
            <a:xfrm>
              <a:off x="4788000" y="300492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矩形 344085"/>
            <p:cNvSpPr/>
            <p:nvPr/>
          </p:nvSpPr>
          <p:spPr>
            <a:xfrm>
              <a:off x="3809160" y="4182840"/>
              <a:ext cx="17431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 =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____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344090"/>
          <p:cNvGrpSpPr/>
          <p:nvPr/>
        </p:nvGrpSpPr>
        <p:grpSpPr>
          <a:xfrm>
            <a:off x="6509520" y="2611440"/>
            <a:ext cx="1748880" cy="2177280"/>
            <a:chOff x="6509520" y="2611440"/>
            <a:chExt cx="1748880" cy="2177280"/>
          </a:xfrm>
        </p:grpSpPr>
        <p:grpSp>
          <p:nvGrpSpPr>
            <p:cNvPr id="827" name="组合 344081"/>
            <p:cNvGrpSpPr/>
            <p:nvPr/>
          </p:nvGrpSpPr>
          <p:grpSpPr>
            <a:xfrm>
              <a:off x="6584760" y="2611440"/>
              <a:ext cx="1585800" cy="1459800"/>
              <a:chOff x="6584760" y="2611440"/>
              <a:chExt cx="1585800" cy="1459800"/>
            </a:xfrm>
          </p:grpSpPr>
          <p:sp>
            <p:nvSpPr>
              <p:cNvPr id="828" name="任意多边形 344079"/>
              <p:cNvSpPr/>
              <p:nvPr/>
            </p:nvSpPr>
            <p:spPr>
              <a:xfrm>
                <a:off x="6699240" y="3848040"/>
                <a:ext cx="176040" cy="218880"/>
              </a:xfrm>
              <a:custGeom>
                <a:avLst/>
                <a:gdLst/>
                <a:ahLst/>
                <a:rect l="l" t="t" r="r" b="b"/>
                <a:pathLst>
                  <a:path fill="none" w="21600" h="27116">
                    <a:moveTo>
                      <a:pt x="0" y="0"/>
                    </a:moveTo>
                    <a:cubicBezTo>
                      <a:pt x="11929" y="0"/>
                      <a:pt x="21600" y="9671"/>
                      <a:pt x="21600" y="21600"/>
                    </a:cubicBezTo>
                    <a:cubicBezTo>
                      <a:pt x="21600" y="23510"/>
                      <a:pt x="21352" y="25362"/>
                      <a:pt x="20888" y="27120"/>
                    </a:cubicBezTo>
                  </a:path>
                  <a:path stroke="0" w="21600" h="27116">
                    <a:moveTo>
                      <a:pt x="20883" y="27115"/>
                    </a:moveTo>
                    <a:cubicBezTo>
                      <a:pt x="22133" y="17945"/>
                      <a:pt x="26323" y="11213"/>
                      <a:pt x="31300" y="11213"/>
                    </a:cubicBezTo>
                    <a:cubicBezTo>
                      <a:pt x="37265" y="11213"/>
                      <a:pt x="42100" y="20884"/>
                      <a:pt x="42100" y="32813"/>
                    </a:cubicBezTo>
                    <a:cubicBezTo>
                      <a:pt x="42100" y="35204"/>
                      <a:pt x="41906" y="37503"/>
                      <a:pt x="41548" y="39649"/>
                    </a:cubicBezTo>
                    <a:lnTo>
                      <a:pt x="0" y="0"/>
                    </a:lnTo>
                    <a:close/>
                  </a:path>
                </a:pathLst>
              </a:custGeom>
              <a:noFill/>
              <a:ln w="1908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等腰三角形 344070"/>
              <p:cNvSpPr/>
              <p:nvPr/>
            </p:nvSpPr>
            <p:spPr>
              <a:xfrm>
                <a:off x="6584760" y="2611440"/>
                <a:ext cx="1585800" cy="1458720"/>
              </a:xfrm>
              <a:prstGeom prst="triangle">
                <a:avLst>
                  <a:gd name="adj" fmla="val 50000"/>
                </a:avLst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矩形 344080"/>
              <p:cNvSpPr/>
              <p:nvPr/>
            </p:nvSpPr>
            <p:spPr>
              <a:xfrm>
                <a:off x="6818040" y="358128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1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1" name="矩形 344086"/>
            <p:cNvSpPr/>
            <p:nvPr/>
          </p:nvSpPr>
          <p:spPr>
            <a:xfrm>
              <a:off x="6509520" y="4182840"/>
              <a:ext cx="17488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= 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____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2" name="矩形 344092"/>
          <p:cNvSpPr/>
          <p:nvPr/>
        </p:nvSpPr>
        <p:spPr>
          <a:xfrm>
            <a:off x="2230200" y="427824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5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矩形 344093"/>
          <p:cNvSpPr/>
          <p:nvPr/>
        </p:nvSpPr>
        <p:spPr>
          <a:xfrm>
            <a:off x="4852800" y="42782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5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344094"/>
          <p:cNvSpPr/>
          <p:nvPr/>
        </p:nvSpPr>
        <p:spPr>
          <a:xfrm>
            <a:off x="7688160" y="427824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6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矩形 346113"/>
          <p:cNvSpPr/>
          <p:nvPr/>
        </p:nvSpPr>
        <p:spPr>
          <a:xfrm>
            <a:off x="611280" y="1052640"/>
            <a:ext cx="84326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择合适的方法画出下列各角，并说说它们分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哪一种角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矩形 346139"/>
          <p:cNvSpPr/>
          <p:nvPr/>
        </p:nvSpPr>
        <p:spPr>
          <a:xfrm>
            <a:off x="1166760" y="262908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矩形 346140"/>
          <p:cNvSpPr/>
          <p:nvPr/>
        </p:nvSpPr>
        <p:spPr>
          <a:xfrm>
            <a:off x="2411280" y="262908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矩形 346141"/>
          <p:cNvSpPr/>
          <p:nvPr/>
        </p:nvSpPr>
        <p:spPr>
          <a:xfrm>
            <a:off x="3655800" y="262908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矩形 346142"/>
          <p:cNvSpPr/>
          <p:nvPr/>
        </p:nvSpPr>
        <p:spPr>
          <a:xfrm>
            <a:off x="4900680" y="262908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346143"/>
          <p:cNvSpPr/>
          <p:nvPr/>
        </p:nvSpPr>
        <p:spPr>
          <a:xfrm>
            <a:off x="6145200" y="26290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矩形 346145"/>
          <p:cNvSpPr/>
          <p:nvPr/>
        </p:nvSpPr>
        <p:spPr>
          <a:xfrm>
            <a:off x="7569000" y="262908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图片 346147" descr="p-43"/>
          <p:cNvPicPr/>
          <p:nvPr/>
        </p:nvPicPr>
        <p:blipFill>
          <a:blip r:embed="rId1"/>
          <a:stretch/>
        </p:blipFill>
        <p:spPr>
          <a:xfrm>
            <a:off x="947880" y="3284640"/>
            <a:ext cx="7296120" cy="253980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矩形 366593"/>
          <p:cNvSpPr/>
          <p:nvPr/>
        </p:nvSpPr>
        <p:spPr>
          <a:xfrm>
            <a:off x="684360" y="1268280"/>
            <a:ext cx="777708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两个硬纸条钉在一起，旋转硬纸条，使它们 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组成下面的角，再用三角尺或量角器测量一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，看自己估计得准不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矩形 366594"/>
          <p:cNvSpPr/>
          <p:nvPr/>
        </p:nvSpPr>
        <p:spPr>
          <a:xfrm>
            <a:off x="1166760" y="348624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366595"/>
          <p:cNvSpPr/>
          <p:nvPr/>
        </p:nvSpPr>
        <p:spPr>
          <a:xfrm>
            <a:off x="2647800" y="348624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366596"/>
          <p:cNvSpPr/>
          <p:nvPr/>
        </p:nvSpPr>
        <p:spPr>
          <a:xfrm>
            <a:off x="4128840" y="34862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2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66597"/>
          <p:cNvSpPr/>
          <p:nvPr/>
        </p:nvSpPr>
        <p:spPr>
          <a:xfrm>
            <a:off x="5775120" y="34862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366598"/>
          <p:cNvSpPr/>
          <p:nvPr/>
        </p:nvSpPr>
        <p:spPr>
          <a:xfrm>
            <a:off x="7422840" y="34862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矩形 347137"/>
          <p:cNvSpPr/>
          <p:nvPr/>
        </p:nvSpPr>
        <p:spPr>
          <a:xfrm>
            <a:off x="541440" y="1197000"/>
            <a:ext cx="31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看图填一填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347138"/>
          <p:cNvSpPr/>
          <p:nvPr/>
        </p:nvSpPr>
        <p:spPr>
          <a:xfrm>
            <a:off x="1110600" y="1781280"/>
            <a:ext cx="29631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= 7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=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 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347153"/>
          <p:cNvGrpSpPr/>
          <p:nvPr/>
        </p:nvGrpSpPr>
        <p:grpSpPr>
          <a:xfrm>
            <a:off x="4500720" y="1490400"/>
            <a:ext cx="2879640" cy="1476000"/>
            <a:chOff x="4500720" y="1490400"/>
            <a:chExt cx="2879640" cy="1476000"/>
          </a:xfrm>
        </p:grpSpPr>
        <p:sp>
          <p:nvSpPr>
            <p:cNvPr id="852" name="任意多边形 347150"/>
            <p:cNvSpPr/>
            <p:nvPr/>
          </p:nvSpPr>
          <p:spPr>
            <a:xfrm>
              <a:off x="5921280" y="2754000"/>
              <a:ext cx="142560" cy="142560"/>
            </a:xfrm>
            <a:custGeom>
              <a:avLst/>
              <a:gdLst/>
              <a:ahLst/>
              <a:rect l="l" t="t" r="r" b="b"/>
              <a:pathLst>
                <a:path fill="none" w="43200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43200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38365" y="0"/>
                    <a:pt x="43200" y="9671"/>
                    <a:pt x="43200" y="21600"/>
                  </a:cubicBezTo>
                  <a:cubicBezTo>
                    <a:pt x="43200" y="23991"/>
                    <a:pt x="43006" y="26290"/>
                    <a:pt x="4264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2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3" name=""/>
            <p:cNvGrpSpPr/>
            <p:nvPr/>
          </p:nvGrpSpPr>
          <p:grpSpPr>
            <a:xfrm>
              <a:off x="4500720" y="2908080"/>
              <a:ext cx="2879640" cy="360"/>
              <a:chOff x="4500720" y="2908080"/>
              <a:chExt cx="2879640" cy="360"/>
            </a:xfrm>
          </p:grpSpPr>
          <p:sp>
            <p:nvSpPr>
              <p:cNvPr id="854" name="直接连接符 347144"/>
              <p:cNvSpPr/>
              <p:nvPr/>
            </p:nvSpPr>
            <p:spPr>
              <a:xfrm>
                <a:off x="4500720" y="2908080"/>
                <a:ext cx="2879640" cy="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 txBox="1"/>
              <p:nvPr/>
            </p:nvSpPr>
            <p:spPr>
              <a:xfrm>
                <a:off x="4500720" y="2908080"/>
                <a:ext cx="2879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6" name=""/>
            <p:cNvGrpSpPr/>
            <p:nvPr/>
          </p:nvGrpSpPr>
          <p:grpSpPr>
            <a:xfrm>
              <a:off x="5857920" y="1490400"/>
              <a:ext cx="531360" cy="1417320"/>
              <a:chOff x="5857920" y="1490400"/>
              <a:chExt cx="531360" cy="1417320"/>
            </a:xfrm>
          </p:grpSpPr>
          <p:sp>
            <p:nvSpPr>
              <p:cNvPr id="857" name="直接连接符 347147"/>
              <p:cNvSpPr/>
              <p:nvPr/>
            </p:nvSpPr>
            <p:spPr>
              <a:xfrm flipV="1">
                <a:off x="5857920" y="1490400"/>
                <a:ext cx="531360" cy="1417320"/>
              </a:xfrm>
              <a:prstGeom prst="line">
                <a:avLst/>
              </a:prstGeom>
              <a:ln w="25560">
                <a:solidFill>
                  <a:srgbClr val="0066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 txBox="1"/>
              <p:nvPr/>
            </p:nvSpPr>
            <p:spPr>
              <a:xfrm rot="10800000">
                <a:off x="5857920" y="1490400"/>
                <a:ext cx="531360" cy="141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矩形 347148"/>
            <p:cNvSpPr/>
            <p:nvPr/>
          </p:nvSpPr>
          <p:spPr>
            <a:xfrm>
              <a:off x="6025680" y="247644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任意多边形 347151"/>
            <p:cNvSpPr/>
            <p:nvPr/>
          </p:nvSpPr>
          <p:spPr>
            <a:xfrm rot="21139800">
              <a:off x="5716440" y="2711160"/>
              <a:ext cx="213840" cy="168120"/>
            </a:xfrm>
            <a:custGeom>
              <a:avLst/>
              <a:gdLst/>
              <a:ahLst/>
              <a:rect l="l" t="t" r="r" b="b"/>
              <a:pathLst>
                <a:path fill="none" w="31034" h="24202">
                  <a:moveTo>
                    <a:pt x="157" y="24201"/>
                  </a:moveTo>
                  <a:cubicBezTo>
                    <a:pt x="53" y="23350"/>
                    <a:pt x="0" y="22481"/>
                    <a:pt x="0" y="21600"/>
                  </a:cubicBezTo>
                  <a:cubicBezTo>
                    <a:pt x="0" y="9671"/>
                    <a:pt x="9671" y="0"/>
                    <a:pt x="21600" y="0"/>
                  </a:cubicBezTo>
                  <a:cubicBezTo>
                    <a:pt x="24984" y="0"/>
                    <a:pt x="28187" y="778"/>
                    <a:pt x="31037" y="2165"/>
                  </a:cubicBezTo>
                </a:path>
                <a:path stroke="0" w="31034" h="24202">
                  <a:moveTo>
                    <a:pt x="31033" y="2168"/>
                  </a:moveTo>
                  <a:cubicBezTo>
                    <a:pt x="20462" y="1562"/>
                    <a:pt x="12306" y="-2424"/>
                    <a:pt x="12306" y="-7251"/>
                  </a:cubicBezTo>
                  <a:cubicBezTo>
                    <a:pt x="12306" y="-12497"/>
                    <a:pt x="21941" y="-16750"/>
                    <a:pt x="33827" y="-16750"/>
                  </a:cubicBezTo>
                  <a:cubicBezTo>
                    <a:pt x="45713" y="-16750"/>
                    <a:pt x="55348" y="-12497"/>
                    <a:pt x="55348" y="-7251"/>
                  </a:cubicBezTo>
                  <a:cubicBezTo>
                    <a:pt x="55348" y="-2905"/>
                    <a:pt x="48736" y="759"/>
                    <a:pt x="39715" y="1888"/>
                  </a:cubicBezTo>
                  <a:lnTo>
                    <a:pt x="157" y="24201"/>
                  </a:lnTo>
                  <a:close/>
                </a:path>
              </a:pathLst>
            </a:custGeom>
            <a:noFill/>
            <a:ln w="2232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矩形 347152"/>
            <p:cNvSpPr/>
            <p:nvPr/>
          </p:nvSpPr>
          <p:spPr>
            <a:xfrm>
              <a:off x="5449320" y="234756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矩形 347154"/>
          <p:cNvSpPr/>
          <p:nvPr/>
        </p:nvSpPr>
        <p:spPr>
          <a:xfrm>
            <a:off x="2517480" y="263700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1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组合 347175"/>
          <p:cNvGrpSpPr/>
          <p:nvPr/>
        </p:nvGrpSpPr>
        <p:grpSpPr>
          <a:xfrm>
            <a:off x="1110600" y="3508200"/>
            <a:ext cx="6774120" cy="2652840"/>
            <a:chOff x="1110600" y="3508200"/>
            <a:chExt cx="6774120" cy="2652840"/>
          </a:xfrm>
        </p:grpSpPr>
        <p:sp>
          <p:nvSpPr>
            <p:cNvPr id="864" name="矩形 347157"/>
            <p:cNvSpPr/>
            <p:nvPr/>
          </p:nvSpPr>
          <p:spPr>
            <a:xfrm>
              <a:off x="1110600" y="3508200"/>
              <a:ext cx="2963160" cy="265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已知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 = 4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 =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 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3 =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 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，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∠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4 =</a:t>
              </a:r>
              <a:r>
                <a:rPr b="1" lang="en-US" sz="28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 _____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组合 347173"/>
            <p:cNvGrpSpPr/>
            <p:nvPr/>
          </p:nvGrpSpPr>
          <p:grpSpPr>
            <a:xfrm>
              <a:off x="4644720" y="4308480"/>
              <a:ext cx="3240000" cy="1328400"/>
              <a:chOff x="4644720" y="4308480"/>
              <a:chExt cx="3240000" cy="1328400"/>
            </a:xfrm>
          </p:grpSpPr>
          <p:sp>
            <p:nvSpPr>
              <p:cNvPr id="866" name="任意多边形 347171"/>
              <p:cNvSpPr/>
              <p:nvPr/>
            </p:nvSpPr>
            <p:spPr>
              <a:xfrm flipV="1" rot="460200">
                <a:off x="6122160" y="4987080"/>
                <a:ext cx="360000" cy="196920"/>
              </a:xfrm>
              <a:custGeom>
                <a:avLst/>
                <a:gdLst/>
                <a:ahLst/>
                <a:rect l="l" t="t" r="r" b="b"/>
                <a:pathLst>
                  <a:path fill="none" w="39878" h="21600">
                    <a:moveTo>
                      <a:pt x="0" y="11209"/>
                    </a:moveTo>
                    <a:cubicBezTo>
                      <a:pt x="3671" y="4526"/>
                      <a:pt x="10775" y="0"/>
                      <a:pt x="18936" y="0"/>
                    </a:cubicBezTo>
                    <a:cubicBezTo>
                      <a:pt x="29038" y="0"/>
                      <a:pt x="37520" y="6935"/>
                      <a:pt x="39880" y="16297"/>
                    </a:cubicBezTo>
                  </a:path>
                  <a:path stroke="0" w="39878" h="21600">
                    <a:moveTo>
                      <a:pt x="39877" y="16308"/>
                    </a:moveTo>
                    <a:cubicBezTo>
                      <a:pt x="37548" y="13705"/>
                      <a:pt x="36181" y="10528"/>
                      <a:pt x="36181" y="7099"/>
                    </a:cubicBezTo>
                    <a:cubicBezTo>
                      <a:pt x="36181" y="-1735"/>
                      <a:pt x="45255" y="-8896"/>
                      <a:pt x="56449" y="-8896"/>
                    </a:cubicBezTo>
                    <a:cubicBezTo>
                      <a:pt x="67643" y="-8896"/>
                      <a:pt x="76717" y="-1735"/>
                      <a:pt x="76717" y="7099"/>
                    </a:cubicBezTo>
                    <a:cubicBezTo>
                      <a:pt x="76717" y="12656"/>
                      <a:pt x="73127" y="17551"/>
                      <a:pt x="67677" y="20417"/>
                    </a:cubicBezTo>
                    <a:lnTo>
                      <a:pt x="0" y="11209"/>
                    </a:lnTo>
                    <a:close/>
                  </a:path>
                </a:pathLst>
              </a:custGeom>
              <a:noFill/>
              <a:ln w="2232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任意多边形 347169"/>
              <p:cNvSpPr/>
              <p:nvPr/>
            </p:nvSpPr>
            <p:spPr>
              <a:xfrm flipH="1" rot="18738000">
                <a:off x="5876280" y="4921920"/>
                <a:ext cx="179640" cy="142560"/>
              </a:xfrm>
              <a:custGeom>
                <a:avLst/>
                <a:gdLst/>
                <a:ahLst/>
                <a:rect l="l" t="t" r="r" b="b"/>
                <a:pathLst>
                  <a:path fill="none" w="27066" h="21600">
                    <a:moveTo>
                      <a:pt x="0" y="703"/>
                    </a:moveTo>
                    <a:cubicBezTo>
                      <a:pt x="1742" y="243"/>
                      <a:pt x="3576" y="0"/>
                      <a:pt x="5466" y="0"/>
                    </a:cubicBezTo>
                    <a:cubicBezTo>
                      <a:pt x="17395" y="0"/>
                      <a:pt x="27066" y="9671"/>
                      <a:pt x="27066" y="21600"/>
                    </a:cubicBezTo>
                  </a:path>
                  <a:path stroke="0" w="27066" h="21600">
                    <a:moveTo>
                      <a:pt x="27066" y="21600"/>
                    </a:moveTo>
                    <a:cubicBezTo>
                      <a:pt x="27065" y="21483"/>
                      <a:pt x="27064" y="21366"/>
                      <a:pt x="27064" y="21249"/>
                    </a:cubicBezTo>
                    <a:cubicBezTo>
                      <a:pt x="27064" y="9514"/>
                      <a:pt x="33123" y="1"/>
                      <a:pt x="40597" y="1"/>
                    </a:cubicBezTo>
                    <a:cubicBezTo>
                      <a:pt x="48071" y="1"/>
                      <a:pt x="54130" y="9514"/>
                      <a:pt x="54130" y="21249"/>
                    </a:cubicBezTo>
                    <a:cubicBezTo>
                      <a:pt x="54130" y="24491"/>
                      <a:pt x="53668" y="27564"/>
                      <a:pt x="52841" y="30311"/>
                    </a:cubicBezTo>
                    <a:lnTo>
                      <a:pt x="0" y="703"/>
                    </a:lnTo>
                    <a:close/>
                  </a:path>
                </a:pathLst>
              </a:custGeom>
              <a:noFill/>
              <a:ln w="2232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 347163"/>
              <p:cNvSpPr/>
              <p:nvPr/>
            </p:nvSpPr>
            <p:spPr>
              <a:xfrm rot="2862000">
                <a:off x="6527880" y="4899960"/>
                <a:ext cx="179280" cy="142560"/>
              </a:xfrm>
              <a:custGeom>
                <a:avLst/>
                <a:gdLst/>
                <a:ahLst/>
                <a:rect l="l" t="t" r="r" b="b"/>
                <a:pathLst>
                  <a:path fill="none" w="27066" h="21600">
                    <a:moveTo>
                      <a:pt x="0" y="703"/>
                    </a:moveTo>
                    <a:cubicBezTo>
                      <a:pt x="1742" y="243"/>
                      <a:pt x="3576" y="0"/>
                      <a:pt x="5466" y="0"/>
                    </a:cubicBezTo>
                    <a:cubicBezTo>
                      <a:pt x="17395" y="0"/>
                      <a:pt x="27066" y="9671"/>
                      <a:pt x="27066" y="21600"/>
                    </a:cubicBezTo>
                  </a:path>
                  <a:path stroke="0" w="27066" h="21600">
                    <a:moveTo>
                      <a:pt x="27066" y="21600"/>
                    </a:moveTo>
                    <a:cubicBezTo>
                      <a:pt x="27065" y="21483"/>
                      <a:pt x="27064" y="21366"/>
                      <a:pt x="27064" y="21249"/>
                    </a:cubicBezTo>
                    <a:cubicBezTo>
                      <a:pt x="27064" y="9514"/>
                      <a:pt x="33123" y="1"/>
                      <a:pt x="40597" y="1"/>
                    </a:cubicBezTo>
                    <a:cubicBezTo>
                      <a:pt x="48071" y="1"/>
                      <a:pt x="54130" y="9514"/>
                      <a:pt x="54130" y="21249"/>
                    </a:cubicBezTo>
                    <a:cubicBezTo>
                      <a:pt x="54130" y="24491"/>
                      <a:pt x="53668" y="27564"/>
                      <a:pt x="52841" y="30311"/>
                    </a:cubicBezTo>
                    <a:lnTo>
                      <a:pt x="0" y="703"/>
                    </a:lnTo>
                    <a:close/>
                  </a:path>
                </a:pathLst>
              </a:custGeom>
              <a:noFill/>
              <a:ln w="2232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9" name="组合 347161"/>
              <p:cNvGrpSpPr/>
              <p:nvPr/>
            </p:nvGrpSpPr>
            <p:grpSpPr>
              <a:xfrm>
                <a:off x="4644720" y="4351320"/>
                <a:ext cx="3240000" cy="1279440"/>
                <a:chOff x="4644720" y="4351320"/>
                <a:chExt cx="3240000" cy="1279440"/>
              </a:xfrm>
            </p:grpSpPr>
            <p:grpSp>
              <p:nvGrpSpPr>
                <p:cNvPr id="870" name=""/>
                <p:cNvGrpSpPr/>
                <p:nvPr/>
              </p:nvGrpSpPr>
              <p:grpSpPr>
                <a:xfrm>
                  <a:off x="4644720" y="4408200"/>
                  <a:ext cx="3240000" cy="1125720"/>
                  <a:chOff x="4644720" y="4408200"/>
                  <a:chExt cx="3240000" cy="1125720"/>
                </a:xfrm>
              </p:grpSpPr>
              <p:sp>
                <p:nvSpPr>
                  <p:cNvPr id="871" name="直接连接符 347158"/>
                  <p:cNvSpPr/>
                  <p:nvPr/>
                </p:nvSpPr>
                <p:spPr>
                  <a:xfrm>
                    <a:off x="4644720" y="4408200"/>
                    <a:ext cx="3240000" cy="1125720"/>
                  </a:xfrm>
                  <a:prstGeom prst="line">
                    <a:avLst/>
                  </a:prstGeom>
                  <a:ln w="25560">
                    <a:solidFill>
                      <a:srgbClr val="0066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 txBox="1"/>
                  <p:nvPr/>
                </p:nvSpPr>
                <p:spPr>
                  <a:xfrm>
                    <a:off x="4644720" y="4408200"/>
                    <a:ext cx="3240000" cy="1125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3" name=""/>
                <p:cNvGrpSpPr/>
                <p:nvPr/>
              </p:nvGrpSpPr>
              <p:grpSpPr>
                <a:xfrm>
                  <a:off x="4710960" y="4351320"/>
                  <a:ext cx="3173760" cy="1279440"/>
                  <a:chOff x="4710960" y="4351320"/>
                  <a:chExt cx="3173760" cy="1279440"/>
                </a:xfrm>
              </p:grpSpPr>
              <p:sp>
                <p:nvSpPr>
                  <p:cNvPr id="874" name="直接连接符 347160"/>
                  <p:cNvSpPr/>
                  <p:nvPr/>
                </p:nvSpPr>
                <p:spPr>
                  <a:xfrm flipV="1">
                    <a:off x="4711320" y="4351320"/>
                    <a:ext cx="3173400" cy="1279440"/>
                  </a:xfrm>
                  <a:prstGeom prst="line">
                    <a:avLst/>
                  </a:prstGeom>
                  <a:ln w="25560">
                    <a:solidFill>
                      <a:srgbClr val="0066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 txBox="1"/>
                  <p:nvPr/>
                </p:nvSpPr>
                <p:spPr>
                  <a:xfrm rot="10800000">
                    <a:off x="4710960" y="4351320"/>
                    <a:ext cx="3173400" cy="1279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76" name="矩形 347166"/>
              <p:cNvSpPr/>
              <p:nvPr/>
            </p:nvSpPr>
            <p:spPr>
              <a:xfrm>
                <a:off x="6676200" y="46972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任意多边形 347167"/>
              <p:cNvSpPr/>
              <p:nvPr/>
            </p:nvSpPr>
            <p:spPr>
              <a:xfrm rot="21139800">
                <a:off x="6112800" y="4782600"/>
                <a:ext cx="360000" cy="196920"/>
              </a:xfrm>
              <a:custGeom>
                <a:avLst/>
                <a:gdLst/>
                <a:ahLst/>
                <a:rect l="l" t="t" r="r" b="b"/>
                <a:pathLst>
                  <a:path fill="none" w="39878" h="21600">
                    <a:moveTo>
                      <a:pt x="0" y="11209"/>
                    </a:moveTo>
                    <a:cubicBezTo>
                      <a:pt x="3671" y="4526"/>
                      <a:pt x="10775" y="0"/>
                      <a:pt x="18936" y="0"/>
                    </a:cubicBezTo>
                    <a:cubicBezTo>
                      <a:pt x="29038" y="0"/>
                      <a:pt x="37520" y="6935"/>
                      <a:pt x="39880" y="16297"/>
                    </a:cubicBezTo>
                  </a:path>
                  <a:path stroke="0" w="39878" h="21600">
                    <a:moveTo>
                      <a:pt x="39877" y="16308"/>
                    </a:moveTo>
                    <a:cubicBezTo>
                      <a:pt x="37548" y="13705"/>
                      <a:pt x="36181" y="10528"/>
                      <a:pt x="36181" y="7099"/>
                    </a:cubicBezTo>
                    <a:cubicBezTo>
                      <a:pt x="36181" y="-1735"/>
                      <a:pt x="45255" y="-8896"/>
                      <a:pt x="56449" y="-8896"/>
                    </a:cubicBezTo>
                    <a:cubicBezTo>
                      <a:pt x="67643" y="-8896"/>
                      <a:pt x="76717" y="-1735"/>
                      <a:pt x="76717" y="7099"/>
                    </a:cubicBezTo>
                    <a:cubicBezTo>
                      <a:pt x="76717" y="12656"/>
                      <a:pt x="73127" y="17551"/>
                      <a:pt x="67677" y="20417"/>
                    </a:cubicBezTo>
                    <a:lnTo>
                      <a:pt x="0" y="11209"/>
                    </a:lnTo>
                    <a:close/>
                  </a:path>
                </a:pathLst>
              </a:custGeom>
              <a:noFill/>
              <a:ln w="2232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矩形 347168"/>
              <p:cNvSpPr/>
              <p:nvPr/>
            </p:nvSpPr>
            <p:spPr>
              <a:xfrm>
                <a:off x="6149160" y="43084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矩形 347170"/>
              <p:cNvSpPr/>
              <p:nvPr/>
            </p:nvSpPr>
            <p:spPr>
              <a:xfrm>
                <a:off x="5579280" y="472284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矩形 347172"/>
              <p:cNvSpPr/>
              <p:nvPr/>
            </p:nvSpPr>
            <p:spPr>
              <a:xfrm>
                <a:off x="6155640" y="51163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4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1" name="矩形 347176"/>
          <p:cNvSpPr/>
          <p:nvPr/>
        </p:nvSpPr>
        <p:spPr>
          <a:xfrm>
            <a:off x="2517480" y="436716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4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347177"/>
          <p:cNvSpPr/>
          <p:nvPr/>
        </p:nvSpPr>
        <p:spPr>
          <a:xfrm>
            <a:off x="2606760" y="5014800"/>
            <a:ext cx="6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4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矩形 347178"/>
          <p:cNvSpPr/>
          <p:nvPr/>
        </p:nvSpPr>
        <p:spPr>
          <a:xfrm>
            <a:off x="2519280" y="56624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140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矩形 348161"/>
          <p:cNvSpPr/>
          <p:nvPr/>
        </p:nvSpPr>
        <p:spPr>
          <a:xfrm>
            <a:off x="539640" y="1222200"/>
            <a:ext cx="7920000" cy="37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折一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用一张长方形纸折出下面度数的角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3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一张圆形纸对折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次后展开，可以得到哪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些度数的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组合 349188"/>
          <p:cNvGrpSpPr/>
          <p:nvPr/>
        </p:nvGrpSpPr>
        <p:grpSpPr>
          <a:xfrm>
            <a:off x="642960" y="1341360"/>
            <a:ext cx="7889760" cy="1373400"/>
            <a:chOff x="642960" y="1341360"/>
            <a:chExt cx="7889760" cy="1373400"/>
          </a:xfrm>
        </p:grpSpPr>
        <p:sp>
          <p:nvSpPr>
            <p:cNvPr id="886" name="矩形 349185"/>
            <p:cNvSpPr/>
            <p:nvPr/>
          </p:nvSpPr>
          <p:spPr>
            <a:xfrm>
              <a:off x="642960" y="1341360"/>
              <a:ext cx="7889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6.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用一副三角尺，分别画出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7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50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65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°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华文行楷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角。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矩形 349187"/>
            <p:cNvSpPr/>
            <p:nvPr/>
          </p:nvSpPr>
          <p:spPr>
            <a:xfrm>
              <a:off x="5169240" y="1471680"/>
              <a:ext cx="280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、    、      、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矩形 350209"/>
          <p:cNvSpPr/>
          <p:nvPr/>
        </p:nvSpPr>
        <p:spPr>
          <a:xfrm>
            <a:off x="539640" y="1393920"/>
            <a:ext cx="842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7.*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两个图中的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不是相等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说明理由。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9" name="组合 350218"/>
          <p:cNvGrpSpPr/>
          <p:nvPr/>
        </p:nvGrpSpPr>
        <p:grpSpPr>
          <a:xfrm>
            <a:off x="1258920" y="2165400"/>
            <a:ext cx="6912000" cy="3063960"/>
            <a:chOff x="1258920" y="2165400"/>
            <a:chExt cx="6912000" cy="3063960"/>
          </a:xfrm>
        </p:grpSpPr>
        <p:pic>
          <p:nvPicPr>
            <p:cNvPr id="890" name="图片 350213" descr="P-44"/>
            <p:cNvPicPr/>
            <p:nvPr/>
          </p:nvPicPr>
          <p:blipFill>
            <a:blip r:embed="rId1"/>
            <a:stretch/>
          </p:blipFill>
          <p:spPr>
            <a:xfrm>
              <a:off x="1258920" y="2165400"/>
              <a:ext cx="6912000" cy="30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矩形 350214"/>
            <p:cNvSpPr/>
            <p:nvPr/>
          </p:nvSpPr>
          <p:spPr>
            <a:xfrm>
              <a:off x="1311480" y="3011400"/>
              <a:ext cx="59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矩形 350215"/>
            <p:cNvSpPr/>
            <p:nvPr/>
          </p:nvSpPr>
          <p:spPr>
            <a:xfrm>
              <a:off x="1474920" y="3716280"/>
              <a:ext cx="595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矩形 350216"/>
            <p:cNvSpPr/>
            <p:nvPr/>
          </p:nvSpPr>
          <p:spPr>
            <a:xfrm>
              <a:off x="6351840" y="4164120"/>
              <a:ext cx="59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矩形 350217"/>
            <p:cNvSpPr/>
            <p:nvPr/>
          </p:nvSpPr>
          <p:spPr>
            <a:xfrm>
              <a:off x="6062760" y="3156120"/>
              <a:ext cx="595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矩形 351233"/>
          <p:cNvSpPr/>
          <p:nvPr/>
        </p:nvSpPr>
        <p:spPr>
          <a:xfrm>
            <a:off x="611280" y="1346040"/>
            <a:ext cx="7848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了表达方便，直线、射线和线段都可以用字母表示。如线段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射线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直线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971640" y="4005360"/>
            <a:ext cx="1657440" cy="360"/>
            <a:chOff x="971640" y="4005360"/>
            <a:chExt cx="1657440" cy="360"/>
          </a:xfrm>
        </p:grpSpPr>
        <p:sp>
          <p:nvSpPr>
            <p:cNvPr id="897" name="直接连接符 351234"/>
            <p:cNvSpPr/>
            <p:nvPr/>
          </p:nvSpPr>
          <p:spPr>
            <a:xfrm>
              <a:off x="971640" y="4005360"/>
              <a:ext cx="1657440" cy="0"/>
            </a:xfrm>
            <a:prstGeom prst="line">
              <a:avLst/>
            </a:prstGeom>
            <a:ln w="25560">
              <a:solidFill>
                <a:srgbClr val="ff0066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 txBox="1"/>
            <p:nvPr/>
          </p:nvSpPr>
          <p:spPr>
            <a:xfrm>
              <a:off x="971640" y="4005360"/>
              <a:ext cx="165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组合 351238"/>
          <p:cNvGrpSpPr/>
          <p:nvPr/>
        </p:nvGrpSpPr>
        <p:grpSpPr>
          <a:xfrm>
            <a:off x="3567240" y="4005360"/>
            <a:ext cx="2446200" cy="360"/>
            <a:chOff x="3567240" y="4005360"/>
            <a:chExt cx="2446200" cy="360"/>
          </a:xfrm>
        </p:grpSpPr>
        <p:grpSp>
          <p:nvGrpSpPr>
            <p:cNvPr id="900" name=""/>
            <p:cNvGrpSpPr/>
            <p:nvPr/>
          </p:nvGrpSpPr>
          <p:grpSpPr>
            <a:xfrm>
              <a:off x="3567240" y="4005360"/>
              <a:ext cx="1657440" cy="360"/>
              <a:chOff x="3567240" y="4005360"/>
              <a:chExt cx="1657440" cy="360"/>
            </a:xfrm>
          </p:grpSpPr>
          <p:sp>
            <p:nvSpPr>
              <p:cNvPr id="901" name="直接连接符 351235"/>
              <p:cNvSpPr/>
              <p:nvPr/>
            </p:nvSpPr>
            <p:spPr>
              <a:xfrm>
                <a:off x="3567240" y="4005360"/>
                <a:ext cx="165744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 txBox="1"/>
              <p:nvPr/>
            </p:nvSpPr>
            <p:spPr>
              <a:xfrm>
                <a:off x="3567240" y="4005360"/>
                <a:ext cx="1657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4356360" y="4005360"/>
              <a:ext cx="1657080" cy="360"/>
              <a:chOff x="4356360" y="4005360"/>
              <a:chExt cx="1657080" cy="360"/>
            </a:xfrm>
          </p:grpSpPr>
          <p:sp>
            <p:nvSpPr>
              <p:cNvPr id="904" name="直接连接符 351236"/>
              <p:cNvSpPr/>
              <p:nvPr/>
            </p:nvSpPr>
            <p:spPr>
              <a:xfrm>
                <a:off x="4356360" y="4005360"/>
                <a:ext cx="1657080" cy="0"/>
              </a:xfrm>
              <a:prstGeom prst="line">
                <a:avLst/>
              </a:prstGeom>
              <a:ln w="25560">
                <a:solidFill>
                  <a:srgbClr val="ff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 txBox="1"/>
              <p:nvPr/>
            </p:nvSpPr>
            <p:spPr>
              <a:xfrm>
                <a:off x="4356360" y="4005360"/>
                <a:ext cx="1657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6" name=""/>
          <p:cNvGrpSpPr/>
          <p:nvPr/>
        </p:nvGrpSpPr>
        <p:grpSpPr>
          <a:xfrm>
            <a:off x="6642000" y="4005360"/>
            <a:ext cx="1657440" cy="360"/>
            <a:chOff x="6642000" y="4005360"/>
            <a:chExt cx="1657440" cy="360"/>
          </a:xfrm>
        </p:grpSpPr>
        <p:sp>
          <p:nvSpPr>
            <p:cNvPr id="907" name="直接连接符 351237"/>
            <p:cNvSpPr/>
            <p:nvPr/>
          </p:nvSpPr>
          <p:spPr>
            <a:xfrm>
              <a:off x="6642000" y="4005360"/>
              <a:ext cx="1657440" cy="0"/>
            </a:xfrm>
            <a:prstGeom prst="line">
              <a:avLst/>
            </a:prstGeom>
            <a:ln w="255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 txBox="1"/>
            <p:nvPr/>
          </p:nvSpPr>
          <p:spPr>
            <a:xfrm>
              <a:off x="6642000" y="4005360"/>
              <a:ext cx="165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矩形 351239"/>
          <p:cNvSpPr/>
          <p:nvPr/>
        </p:nvSpPr>
        <p:spPr>
          <a:xfrm>
            <a:off x="7396200" y="346068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矩形 351240"/>
          <p:cNvSpPr/>
          <p:nvPr/>
        </p:nvSpPr>
        <p:spPr>
          <a:xfrm>
            <a:off x="831240" y="3460680"/>
            <a:ext cx="197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              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矩形 351241"/>
          <p:cNvSpPr/>
          <p:nvPr/>
        </p:nvSpPr>
        <p:spPr>
          <a:xfrm>
            <a:off x="3414600" y="3460680"/>
            <a:ext cx="19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               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12340" descr="p-36"/>
          <p:cNvPicPr/>
          <p:nvPr/>
        </p:nvPicPr>
        <p:blipFill>
          <a:blip r:embed="rId1"/>
          <a:srcRect l="0" t="2500" r="1088" b="2011"/>
          <a:stretch/>
        </p:blipFill>
        <p:spPr>
          <a:xfrm>
            <a:off x="755640" y="1413000"/>
            <a:ext cx="3743280" cy="2770200"/>
          </a:xfrm>
          <a:prstGeom prst="rect">
            <a:avLst/>
          </a:prstGeom>
          <a:ln w="15120">
            <a:solidFill>
              <a:srgbClr val="000000"/>
            </a:solidFill>
            <a:miter/>
          </a:ln>
        </p:spPr>
      </p:pic>
      <p:sp>
        <p:nvSpPr>
          <p:cNvPr id="79" name="矩形 312321"/>
          <p:cNvSpPr/>
          <p:nvPr/>
        </p:nvSpPr>
        <p:spPr>
          <a:xfrm>
            <a:off x="539640" y="4300560"/>
            <a:ext cx="388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一点引出两条射线所组成的图形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312327"/>
          <p:cNvSpPr/>
          <p:nvPr/>
        </p:nvSpPr>
        <p:spPr>
          <a:xfrm rot="19687800">
            <a:off x="6663600" y="269676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(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12328"/>
          <p:cNvSpPr/>
          <p:nvPr/>
        </p:nvSpPr>
        <p:spPr>
          <a:xfrm>
            <a:off x="5113440" y="35830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(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312329"/>
          <p:cNvSpPr/>
          <p:nvPr/>
        </p:nvSpPr>
        <p:spPr>
          <a:xfrm rot="17910600">
            <a:off x="5418360" y="2081520"/>
            <a:ext cx="7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宋体"/>
              </a:rPr>
              <a:t>(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312331"/>
          <p:cNvSpPr/>
          <p:nvPr/>
        </p:nvSpPr>
        <p:spPr>
          <a:xfrm>
            <a:off x="4572000" y="4300560"/>
            <a:ext cx="417672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一点是角的什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这两条射线是角的什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12333"/>
          <p:cNvSpPr/>
          <p:nvPr/>
        </p:nvSpPr>
        <p:spPr>
          <a:xfrm>
            <a:off x="5243040" y="359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顶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312334"/>
          <p:cNvSpPr/>
          <p:nvPr/>
        </p:nvSpPr>
        <p:spPr>
          <a:xfrm rot="19188600">
            <a:off x="6851520" y="2682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12335"/>
          <p:cNvSpPr/>
          <p:nvPr/>
        </p:nvSpPr>
        <p:spPr>
          <a:xfrm rot="18013800">
            <a:off x="5576400" y="20811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312338"/>
          <p:cNvSpPr/>
          <p:nvPr/>
        </p:nvSpPr>
        <p:spPr>
          <a:xfrm>
            <a:off x="1411200" y="3490920"/>
            <a:ext cx="73080" cy="7308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312342"/>
          <p:cNvGrpSpPr/>
          <p:nvPr/>
        </p:nvGrpSpPr>
        <p:grpSpPr>
          <a:xfrm>
            <a:off x="5565600" y="1471320"/>
            <a:ext cx="3038760" cy="2168640"/>
            <a:chOff x="5565600" y="1471320"/>
            <a:chExt cx="3038760" cy="2168640"/>
          </a:xfrm>
        </p:grpSpPr>
        <p:grpSp>
          <p:nvGrpSpPr>
            <p:cNvPr id="89" name=""/>
            <p:cNvGrpSpPr/>
            <p:nvPr/>
          </p:nvGrpSpPr>
          <p:grpSpPr>
            <a:xfrm>
              <a:off x="5599080" y="1471320"/>
              <a:ext cx="3005280" cy="2135160"/>
              <a:chOff x="5599080" y="1471320"/>
              <a:chExt cx="3005280" cy="2135160"/>
            </a:xfrm>
          </p:grpSpPr>
          <p:sp>
            <p:nvSpPr>
              <p:cNvPr id="90" name="直接连接符 312324"/>
              <p:cNvSpPr/>
              <p:nvPr/>
            </p:nvSpPr>
            <p:spPr>
              <a:xfrm flipV="1">
                <a:off x="5599080" y="1471320"/>
                <a:ext cx="3005280" cy="213516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 txBox="1"/>
              <p:nvPr/>
            </p:nvSpPr>
            <p:spPr>
              <a:xfrm rot="10800000">
                <a:off x="5599080" y="1470960"/>
                <a:ext cx="3005280" cy="213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5611680" y="1482840"/>
              <a:ext cx="903600" cy="2116080"/>
              <a:chOff x="5611680" y="1482840"/>
              <a:chExt cx="903600" cy="2116080"/>
            </a:xfrm>
          </p:grpSpPr>
          <p:sp>
            <p:nvSpPr>
              <p:cNvPr id="93" name="直接连接符 312325"/>
              <p:cNvSpPr/>
              <p:nvPr/>
            </p:nvSpPr>
            <p:spPr>
              <a:xfrm flipV="1">
                <a:off x="5611680" y="1482840"/>
                <a:ext cx="903600" cy="211608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 txBox="1"/>
              <p:nvPr/>
            </p:nvSpPr>
            <p:spPr>
              <a:xfrm rot="10800000">
                <a:off x="5611680" y="1482840"/>
                <a:ext cx="903600" cy="2116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椭圆 312341"/>
            <p:cNvSpPr/>
            <p:nvPr/>
          </p:nvSpPr>
          <p:spPr>
            <a:xfrm>
              <a:off x="5565600" y="3568680"/>
              <a:ext cx="71640" cy="712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313345"/>
          <p:cNvSpPr/>
          <p:nvPr/>
        </p:nvSpPr>
        <p:spPr>
          <a:xfrm>
            <a:off x="539640" y="1400040"/>
            <a:ext cx="532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通常用符号 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表示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313367"/>
          <p:cNvGrpSpPr/>
          <p:nvPr/>
        </p:nvGrpSpPr>
        <p:grpSpPr>
          <a:xfrm>
            <a:off x="959040" y="2557440"/>
            <a:ext cx="2604600" cy="1756080"/>
            <a:chOff x="959040" y="2557440"/>
            <a:chExt cx="2604600" cy="1756080"/>
          </a:xfrm>
        </p:grpSpPr>
        <p:grpSp>
          <p:nvGrpSpPr>
            <p:cNvPr id="98" name=""/>
            <p:cNvGrpSpPr/>
            <p:nvPr/>
          </p:nvGrpSpPr>
          <p:grpSpPr>
            <a:xfrm>
              <a:off x="1158840" y="2557440"/>
              <a:ext cx="2376000" cy="1371600"/>
              <a:chOff x="1158840" y="2557440"/>
              <a:chExt cx="2376000" cy="1371600"/>
            </a:xfrm>
          </p:grpSpPr>
          <p:sp>
            <p:nvSpPr>
              <p:cNvPr id="99" name="直接连接符 313354"/>
              <p:cNvSpPr/>
              <p:nvPr/>
            </p:nvSpPr>
            <p:spPr>
              <a:xfrm flipV="1">
                <a:off x="1158840" y="2557440"/>
                <a:ext cx="2376000" cy="13716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 txBox="1"/>
              <p:nvPr/>
            </p:nvSpPr>
            <p:spPr>
              <a:xfrm rot="10800000">
                <a:off x="1158840" y="2557440"/>
                <a:ext cx="2376000" cy="1371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1120680" y="3963960"/>
              <a:ext cx="2442960" cy="360"/>
              <a:chOff x="1120680" y="3963960"/>
              <a:chExt cx="2442960" cy="360"/>
            </a:xfrm>
          </p:grpSpPr>
          <p:sp>
            <p:nvSpPr>
              <p:cNvPr id="102" name="直接连接符 313353"/>
              <p:cNvSpPr/>
              <p:nvPr/>
            </p:nvSpPr>
            <p:spPr>
              <a:xfrm>
                <a:off x="1120680" y="3963960"/>
                <a:ext cx="244296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 txBox="1"/>
              <p:nvPr/>
            </p:nvSpPr>
            <p:spPr>
              <a:xfrm>
                <a:off x="1120680" y="3963960"/>
                <a:ext cx="2442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矩形 313349"/>
            <p:cNvSpPr/>
            <p:nvPr/>
          </p:nvSpPr>
          <p:spPr>
            <a:xfrm>
              <a:off x="959040" y="3533760"/>
              <a:ext cx="3711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·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313368"/>
          <p:cNvGrpSpPr/>
          <p:nvPr/>
        </p:nvGrpSpPr>
        <p:grpSpPr>
          <a:xfrm>
            <a:off x="4716360" y="2987640"/>
            <a:ext cx="3713400" cy="1325880"/>
            <a:chOff x="4716360" y="2987640"/>
            <a:chExt cx="3713400" cy="1325880"/>
          </a:xfrm>
        </p:grpSpPr>
        <p:grpSp>
          <p:nvGrpSpPr>
            <p:cNvPr id="106" name=""/>
            <p:cNvGrpSpPr/>
            <p:nvPr/>
          </p:nvGrpSpPr>
          <p:grpSpPr>
            <a:xfrm>
              <a:off x="6776640" y="2987640"/>
              <a:ext cx="1653120" cy="954000"/>
              <a:chOff x="6776640" y="2987640"/>
              <a:chExt cx="1653120" cy="954000"/>
            </a:xfrm>
          </p:grpSpPr>
          <p:sp>
            <p:nvSpPr>
              <p:cNvPr id="107" name="直接连接符 313357"/>
              <p:cNvSpPr/>
              <p:nvPr/>
            </p:nvSpPr>
            <p:spPr>
              <a:xfrm flipV="1">
                <a:off x="6777000" y="2987640"/>
                <a:ext cx="1652760" cy="95400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 rot="10800000">
                <a:off x="6776640" y="2987640"/>
                <a:ext cx="1652760" cy="95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4716360" y="3963960"/>
              <a:ext cx="2013120" cy="360"/>
              <a:chOff x="4716360" y="3963960"/>
              <a:chExt cx="2013120" cy="360"/>
            </a:xfrm>
          </p:grpSpPr>
          <p:sp>
            <p:nvSpPr>
              <p:cNvPr id="110" name="直接连接符 313358"/>
              <p:cNvSpPr/>
              <p:nvPr/>
            </p:nvSpPr>
            <p:spPr>
              <a:xfrm>
                <a:off x="4716360" y="3963960"/>
                <a:ext cx="201312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4716360" y="3963960"/>
                <a:ext cx="2013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矩形 313359"/>
            <p:cNvSpPr/>
            <p:nvPr/>
          </p:nvSpPr>
          <p:spPr>
            <a:xfrm>
              <a:off x="6577200" y="3533760"/>
              <a:ext cx="37116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500" spc="-1" strike="noStrike">
                  <a:solidFill>
                    <a:srgbClr val="ff0066"/>
                  </a:solidFill>
                  <a:latin typeface="Times New Roman"/>
                  <a:ea typeface="楷体_GB2312"/>
                </a:rPr>
                <a:t>·</a:t>
              </a:r>
              <a:endParaRPr b="1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313366"/>
          <p:cNvGrpSpPr/>
          <p:nvPr/>
        </p:nvGrpSpPr>
        <p:grpSpPr>
          <a:xfrm>
            <a:off x="1349640" y="3484440"/>
            <a:ext cx="725400" cy="586080"/>
            <a:chOff x="1349640" y="3484440"/>
            <a:chExt cx="725400" cy="586080"/>
          </a:xfrm>
        </p:grpSpPr>
        <p:sp>
          <p:nvSpPr>
            <p:cNvPr id="114" name="矩形 313361"/>
            <p:cNvSpPr/>
            <p:nvPr/>
          </p:nvSpPr>
          <p:spPr>
            <a:xfrm rot="20704200">
              <a:off x="1402560" y="3571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宋体"/>
                </a:rPr>
                <a:t> </a:t>
              </a:r>
              <a:r>
                <a:rPr b="1" lang="en-US" sz="2400" spc="-1" strike="noStrike">
                  <a:solidFill>
                    <a:srgbClr val="ff0066"/>
                  </a:solidFill>
                  <a:latin typeface="宋体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313363"/>
            <p:cNvSpPr/>
            <p:nvPr/>
          </p:nvSpPr>
          <p:spPr>
            <a:xfrm>
              <a:off x="1716120" y="348444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组合 313369"/>
          <p:cNvGrpSpPr/>
          <p:nvPr/>
        </p:nvGrpSpPr>
        <p:grpSpPr>
          <a:xfrm>
            <a:off x="6484320" y="3259080"/>
            <a:ext cx="465480" cy="780840"/>
            <a:chOff x="6484320" y="3259080"/>
            <a:chExt cx="465480" cy="780840"/>
          </a:xfrm>
        </p:grpSpPr>
        <p:sp>
          <p:nvSpPr>
            <p:cNvPr id="117" name="任意多边形 313362"/>
            <p:cNvSpPr/>
            <p:nvPr/>
          </p:nvSpPr>
          <p:spPr>
            <a:xfrm flipH="1" flipV="1" rot="19880400">
              <a:off x="6512400" y="3731400"/>
              <a:ext cx="407880" cy="223920"/>
            </a:xfrm>
            <a:custGeom>
              <a:avLst/>
              <a:gdLst/>
              <a:ahLst/>
              <a:rect l="l" t="t" r="r" b="b"/>
              <a:pathLst>
                <a:path fill="none" w="42306" h="23159">
                  <a:moveTo>
                    <a:pt x="42305" y="7710"/>
                  </a:moveTo>
                  <a:cubicBezTo>
                    <a:pt x="39655" y="16648"/>
                    <a:pt x="31388" y="23159"/>
                    <a:pt x="21599" y="23159"/>
                  </a:cubicBezTo>
                  <a:cubicBezTo>
                    <a:pt x="9670" y="23159"/>
                    <a:pt x="-1" y="13488"/>
                    <a:pt x="-1" y="1559"/>
                  </a:cubicBezTo>
                  <a:cubicBezTo>
                    <a:pt x="-1" y="1033"/>
                    <a:pt x="18" y="510"/>
                    <a:pt x="54" y="-1"/>
                  </a:cubicBezTo>
                </a:path>
                <a:path stroke="0" w="42306" h="23159">
                  <a:moveTo>
                    <a:pt x="56" y="0"/>
                  </a:moveTo>
                  <a:cubicBezTo>
                    <a:pt x="56" y="71"/>
                    <a:pt x="56" y="140"/>
                    <a:pt x="55" y="209"/>
                  </a:cubicBezTo>
                  <a:lnTo>
                    <a:pt x="42305" y="7710"/>
                  </a:lnTo>
                  <a:close/>
                </a:path>
              </a:pathLst>
            </a:custGeom>
            <a:noFill/>
            <a:ln w="1908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313364"/>
            <p:cNvSpPr/>
            <p:nvPr/>
          </p:nvSpPr>
          <p:spPr>
            <a:xfrm>
              <a:off x="6531120" y="3259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矩形 313365"/>
          <p:cNvSpPr/>
          <p:nvPr/>
        </p:nvSpPr>
        <p:spPr>
          <a:xfrm>
            <a:off x="1332000" y="4226040"/>
            <a:ext cx="2077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313370"/>
          <p:cNvSpPr/>
          <p:nvPr/>
        </p:nvSpPr>
        <p:spPr>
          <a:xfrm>
            <a:off x="5940360" y="4226040"/>
            <a:ext cx="20782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记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读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067280" y="3284640"/>
            <a:ext cx="1008000" cy="141120"/>
            <a:chOff x="4067280" y="3284640"/>
            <a:chExt cx="1008000" cy="141120"/>
          </a:xfrm>
        </p:grpSpPr>
        <p:sp>
          <p:nvSpPr>
            <p:cNvPr id="122" name="直接连接符 361513"/>
            <p:cNvSpPr/>
            <p:nvPr/>
          </p:nvSpPr>
          <p:spPr>
            <a:xfrm>
              <a:off x="4067280" y="3284640"/>
              <a:ext cx="1008000" cy="14112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4067280" y="3284640"/>
              <a:ext cx="1008000" cy="14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067280" y="3284640"/>
            <a:ext cx="288720" cy="1008000"/>
            <a:chOff x="4067280" y="3284640"/>
            <a:chExt cx="288720" cy="1008000"/>
          </a:xfrm>
        </p:grpSpPr>
        <p:sp>
          <p:nvSpPr>
            <p:cNvPr id="125" name="直接连接符 361504"/>
            <p:cNvSpPr/>
            <p:nvPr/>
          </p:nvSpPr>
          <p:spPr>
            <a:xfrm flipH="1" flipV="1">
              <a:off x="4067280" y="3284640"/>
              <a:ext cx="288720" cy="100800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 rot="10800000">
              <a:off x="4067280" y="3284640"/>
              <a:ext cx="28872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矩形 361473"/>
          <p:cNvSpPr/>
          <p:nvPr/>
        </p:nvSpPr>
        <p:spPr>
          <a:xfrm>
            <a:off x="539640" y="1341360"/>
            <a:ext cx="79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一画，从一点出发可以画多少条射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4067280" y="3284640"/>
            <a:ext cx="1081080" cy="865080"/>
            <a:chOff x="4067280" y="3284640"/>
            <a:chExt cx="1081080" cy="865080"/>
          </a:xfrm>
        </p:grpSpPr>
        <p:sp>
          <p:nvSpPr>
            <p:cNvPr id="129" name="直接连接符 361505"/>
            <p:cNvSpPr/>
            <p:nvPr/>
          </p:nvSpPr>
          <p:spPr>
            <a:xfrm>
              <a:off x="4067280" y="3284640"/>
              <a:ext cx="1081080" cy="86508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4067280" y="3284640"/>
              <a:ext cx="1081080" cy="86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067280" y="2205000"/>
            <a:ext cx="71280" cy="1081080"/>
            <a:chOff x="4067280" y="2205000"/>
            <a:chExt cx="71280" cy="1081080"/>
          </a:xfrm>
        </p:grpSpPr>
        <p:sp>
          <p:nvSpPr>
            <p:cNvPr id="132" name="直接连接符 361507"/>
            <p:cNvSpPr/>
            <p:nvPr/>
          </p:nvSpPr>
          <p:spPr>
            <a:xfrm flipH="1">
              <a:off x="4067280" y="2205000"/>
              <a:ext cx="71280" cy="108108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4067280" y="2205000"/>
              <a:ext cx="71280" cy="1081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203280" y="3284640"/>
            <a:ext cx="794160" cy="649080"/>
            <a:chOff x="3203280" y="3284640"/>
            <a:chExt cx="794160" cy="649080"/>
          </a:xfrm>
        </p:grpSpPr>
        <p:sp>
          <p:nvSpPr>
            <p:cNvPr id="135" name="直接连接符 361508"/>
            <p:cNvSpPr/>
            <p:nvPr/>
          </p:nvSpPr>
          <p:spPr>
            <a:xfrm flipH="1">
              <a:off x="3203280" y="3284640"/>
              <a:ext cx="793800" cy="64908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3203640" y="3284640"/>
              <a:ext cx="793800" cy="64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067280" y="3284640"/>
            <a:ext cx="1225440" cy="360"/>
            <a:chOff x="4067280" y="3284640"/>
            <a:chExt cx="1225440" cy="360"/>
          </a:xfrm>
        </p:grpSpPr>
        <p:sp>
          <p:nvSpPr>
            <p:cNvPr id="138" name="直接连接符 361509"/>
            <p:cNvSpPr/>
            <p:nvPr/>
          </p:nvSpPr>
          <p:spPr>
            <a:xfrm>
              <a:off x="4067280" y="3284640"/>
              <a:ext cx="1225440" cy="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4067280" y="3284640"/>
              <a:ext cx="122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3851280" y="3213000"/>
            <a:ext cx="217440" cy="1005120"/>
            <a:chOff x="3851280" y="3213000"/>
            <a:chExt cx="217440" cy="1005120"/>
          </a:xfrm>
        </p:grpSpPr>
        <p:sp>
          <p:nvSpPr>
            <p:cNvPr id="141" name="直接连接符 361510"/>
            <p:cNvSpPr/>
            <p:nvPr/>
          </p:nvSpPr>
          <p:spPr>
            <a:xfrm flipH="1">
              <a:off x="3851280" y="3213000"/>
              <a:ext cx="217440" cy="100512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3851280" y="3213000"/>
              <a:ext cx="217440" cy="10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椭圆 361503"/>
          <p:cNvSpPr/>
          <p:nvPr/>
        </p:nvSpPr>
        <p:spPr>
          <a:xfrm>
            <a:off x="3995640" y="3213000"/>
            <a:ext cx="104760" cy="104760"/>
          </a:xfrm>
          <a:prstGeom prst="ellipse">
            <a:avLst/>
          </a:prstGeom>
          <a:solidFill>
            <a:srgbClr val="ff0066"/>
          </a:solidFill>
          <a:ln w="255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361511"/>
          <p:cNvSpPr/>
          <p:nvPr/>
        </p:nvSpPr>
        <p:spPr>
          <a:xfrm>
            <a:off x="900000" y="485460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一点出发可以画无数条射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3772080" y="2273400"/>
            <a:ext cx="1930320" cy="1466640"/>
            <a:chOff x="3772080" y="2273400"/>
            <a:chExt cx="1930320" cy="1466640"/>
          </a:xfrm>
        </p:grpSpPr>
        <p:sp>
          <p:nvSpPr>
            <p:cNvPr id="146" name="直接连接符 362511"/>
            <p:cNvSpPr/>
            <p:nvPr/>
          </p:nvSpPr>
          <p:spPr>
            <a:xfrm flipV="1">
              <a:off x="3772080" y="2273400"/>
              <a:ext cx="1930320" cy="146664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 rot="10800000">
              <a:off x="3772080" y="2273400"/>
              <a:ext cx="1930320" cy="146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19680" y="2465280"/>
            <a:ext cx="2489040" cy="290520"/>
            <a:chOff x="4819680" y="2465280"/>
            <a:chExt cx="2489040" cy="290520"/>
          </a:xfrm>
        </p:grpSpPr>
        <p:sp>
          <p:nvSpPr>
            <p:cNvPr id="149" name="直接连接符 362504"/>
            <p:cNvSpPr/>
            <p:nvPr/>
          </p:nvSpPr>
          <p:spPr>
            <a:xfrm>
              <a:off x="4819680" y="2465280"/>
              <a:ext cx="2489040" cy="29052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4819680" y="2465280"/>
              <a:ext cx="2489040" cy="2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819520" y="2289240"/>
            <a:ext cx="3301920" cy="1093680"/>
            <a:chOff x="2819520" y="2289240"/>
            <a:chExt cx="3301920" cy="1093680"/>
          </a:xfrm>
        </p:grpSpPr>
        <p:sp>
          <p:nvSpPr>
            <p:cNvPr id="152" name="直接连接符 362503"/>
            <p:cNvSpPr/>
            <p:nvPr/>
          </p:nvSpPr>
          <p:spPr>
            <a:xfrm flipV="1">
              <a:off x="2819520" y="2289240"/>
              <a:ext cx="3301920" cy="109368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 rot="10800000">
              <a:off x="2819520" y="2289240"/>
              <a:ext cx="3301920" cy="109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矩形 362497"/>
          <p:cNvSpPr/>
          <p:nvPr/>
        </p:nvSpPr>
        <p:spPr>
          <a:xfrm>
            <a:off x="539640" y="981000"/>
            <a:ext cx="7915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按要求画一画。你发现了什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请在小组里说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说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62502"/>
          <p:cNvSpPr/>
          <p:nvPr/>
        </p:nvSpPr>
        <p:spPr>
          <a:xfrm>
            <a:off x="826920" y="3720960"/>
            <a:ext cx="6266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上面的任意一点画直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经过任意一点可以画无数条直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上面的任意两点画直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经过任意两点只能画一条直线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286320" y="1844640"/>
            <a:ext cx="641520" cy="1614600"/>
            <a:chOff x="6286320" y="1844640"/>
            <a:chExt cx="641520" cy="1614600"/>
          </a:xfrm>
        </p:grpSpPr>
        <p:sp>
          <p:nvSpPr>
            <p:cNvPr id="157" name="直接连接符 362505"/>
            <p:cNvSpPr/>
            <p:nvPr/>
          </p:nvSpPr>
          <p:spPr>
            <a:xfrm flipH="1">
              <a:off x="6286320" y="1844640"/>
              <a:ext cx="641160" cy="161460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6286680" y="1844640"/>
              <a:ext cx="641160" cy="16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102360" y="1920960"/>
            <a:ext cx="984240" cy="1503360"/>
            <a:chOff x="6102360" y="1920960"/>
            <a:chExt cx="984240" cy="1503360"/>
          </a:xfrm>
        </p:grpSpPr>
        <p:sp>
          <p:nvSpPr>
            <p:cNvPr id="160" name="直接连接符 362507"/>
            <p:cNvSpPr/>
            <p:nvPr/>
          </p:nvSpPr>
          <p:spPr>
            <a:xfrm>
              <a:off x="6102360" y="1920960"/>
              <a:ext cx="984240" cy="150336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 txBox="1"/>
            <p:nvPr/>
          </p:nvSpPr>
          <p:spPr>
            <a:xfrm>
              <a:off x="6102360" y="1920960"/>
              <a:ext cx="984240" cy="150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6486480" y="1849320"/>
            <a:ext cx="231840" cy="1706760"/>
            <a:chOff x="6486480" y="1849320"/>
            <a:chExt cx="231840" cy="1706760"/>
          </a:xfrm>
        </p:grpSpPr>
        <p:sp>
          <p:nvSpPr>
            <p:cNvPr id="163" name="直接连接符 362508"/>
            <p:cNvSpPr/>
            <p:nvPr/>
          </p:nvSpPr>
          <p:spPr>
            <a:xfrm>
              <a:off x="6486480" y="1849320"/>
              <a:ext cx="231840" cy="170676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 txBox="1"/>
            <p:nvPr/>
          </p:nvSpPr>
          <p:spPr>
            <a:xfrm>
              <a:off x="6486480" y="1849320"/>
              <a:ext cx="231840" cy="1706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421080" y="2589120"/>
            <a:ext cx="1179360" cy="1154160"/>
            <a:chOff x="3421080" y="2589120"/>
            <a:chExt cx="1179360" cy="1154160"/>
          </a:xfrm>
        </p:grpSpPr>
        <p:sp>
          <p:nvSpPr>
            <p:cNvPr id="166" name="直接连接符 362509"/>
            <p:cNvSpPr/>
            <p:nvPr/>
          </p:nvSpPr>
          <p:spPr>
            <a:xfrm>
              <a:off x="3421080" y="2589120"/>
              <a:ext cx="1179360" cy="115416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3421080" y="2589120"/>
              <a:ext cx="1179360" cy="11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92000" y="2455560"/>
            <a:ext cx="3816720" cy="1165320"/>
            <a:chOff x="3492000" y="2455560"/>
            <a:chExt cx="3816720" cy="1165320"/>
          </a:xfrm>
        </p:grpSpPr>
        <p:sp>
          <p:nvSpPr>
            <p:cNvPr id="169" name="直接连接符 362510"/>
            <p:cNvSpPr/>
            <p:nvPr/>
          </p:nvSpPr>
          <p:spPr>
            <a:xfrm flipV="1">
              <a:off x="3492360" y="2455560"/>
              <a:ext cx="3816360" cy="1165320"/>
            </a:xfrm>
            <a:prstGeom prst="line">
              <a:avLst/>
            </a:prstGeom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 txBox="1"/>
            <p:nvPr/>
          </p:nvSpPr>
          <p:spPr>
            <a:xfrm rot="10800000">
              <a:off x="3492000" y="2455560"/>
              <a:ext cx="3816360" cy="1165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组合 362506"/>
          <p:cNvGrpSpPr/>
          <p:nvPr/>
        </p:nvGrpSpPr>
        <p:grpSpPr>
          <a:xfrm>
            <a:off x="3821040" y="2495520"/>
            <a:ext cx="2809800" cy="936720"/>
            <a:chOff x="3821040" y="2495520"/>
            <a:chExt cx="2809800" cy="936720"/>
          </a:xfrm>
        </p:grpSpPr>
        <p:sp>
          <p:nvSpPr>
            <p:cNvPr id="172" name="椭圆 362498"/>
            <p:cNvSpPr/>
            <p:nvPr/>
          </p:nvSpPr>
          <p:spPr>
            <a:xfrm>
              <a:off x="3821040" y="2998800"/>
              <a:ext cx="72720" cy="73080"/>
            </a:xfrm>
            <a:prstGeom prst="ellipse">
              <a:avLst/>
            </a:prstGeom>
            <a:solidFill>
              <a:srgbClr val="ff0066"/>
            </a:solidFill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362499"/>
            <p:cNvSpPr/>
            <p:nvPr/>
          </p:nvSpPr>
          <p:spPr>
            <a:xfrm>
              <a:off x="4181400" y="3359160"/>
              <a:ext cx="72720" cy="73080"/>
            </a:xfrm>
            <a:prstGeom prst="ellipse">
              <a:avLst/>
            </a:prstGeom>
            <a:solidFill>
              <a:srgbClr val="ff0066"/>
            </a:solidFill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362500"/>
            <p:cNvSpPr/>
            <p:nvPr/>
          </p:nvSpPr>
          <p:spPr>
            <a:xfrm>
              <a:off x="5333760" y="2495520"/>
              <a:ext cx="73080" cy="73080"/>
            </a:xfrm>
            <a:prstGeom prst="ellipse">
              <a:avLst/>
            </a:prstGeom>
            <a:solidFill>
              <a:srgbClr val="ff0066"/>
            </a:solidFill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椭圆 362501"/>
            <p:cNvSpPr/>
            <p:nvPr/>
          </p:nvSpPr>
          <p:spPr>
            <a:xfrm>
              <a:off x="6557760" y="2637000"/>
              <a:ext cx="73080" cy="73080"/>
            </a:xfrm>
            <a:prstGeom prst="ellipse">
              <a:avLst/>
            </a:prstGeom>
            <a:solidFill>
              <a:srgbClr val="ff0066"/>
            </a:solidFill>
            <a:ln w="38160">
              <a:solidFill>
                <a:srgbClr val="ff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图片 315407" descr="p-37"/>
          <p:cNvPicPr/>
          <p:nvPr/>
        </p:nvPicPr>
        <p:blipFill>
          <a:blip r:embed="rId1"/>
          <a:stretch/>
        </p:blipFill>
        <p:spPr>
          <a:xfrm>
            <a:off x="2271600" y="2959200"/>
            <a:ext cx="4821480" cy="2612880"/>
          </a:xfrm>
          <a:prstGeom prst="rect">
            <a:avLst/>
          </a:prstGeom>
          <a:ln w="0">
            <a:noFill/>
          </a:ln>
        </p:spPr>
      </p:pic>
      <p:sp>
        <p:nvSpPr>
          <p:cNvPr id="177" name="矩形 315395"/>
          <p:cNvSpPr/>
          <p:nvPr/>
        </p:nvSpPr>
        <p:spPr>
          <a:xfrm>
            <a:off x="2060640" y="5629320"/>
            <a:ext cx="524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量角的大小，要用量角器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组合 315403"/>
          <p:cNvGrpSpPr/>
          <p:nvPr/>
        </p:nvGrpSpPr>
        <p:grpSpPr>
          <a:xfrm>
            <a:off x="5867280" y="1957320"/>
            <a:ext cx="2160720" cy="1008000"/>
            <a:chOff x="5867280" y="1957320"/>
            <a:chExt cx="2160720" cy="1008000"/>
          </a:xfrm>
        </p:grpSpPr>
        <p:pic>
          <p:nvPicPr>
            <p:cNvPr id="179" name="图片 315398" descr="777"/>
            <p:cNvPicPr/>
            <p:nvPr/>
          </p:nvPicPr>
          <p:blipFill>
            <a:blip r:embed="rId2"/>
            <a:stretch/>
          </p:blipFill>
          <p:spPr>
            <a:xfrm flipH="1">
              <a:off x="5867280" y="1957320"/>
              <a:ext cx="194472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矩形 315399"/>
            <p:cNvSpPr/>
            <p:nvPr/>
          </p:nvSpPr>
          <p:spPr>
            <a:xfrm>
              <a:off x="5938560" y="2160360"/>
              <a:ext cx="20894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小多少呢</a:t>
              </a:r>
              <a:r>
                <a:rPr b="1" lang="en-US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?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315404"/>
          <p:cNvGrpSpPr/>
          <p:nvPr/>
        </p:nvGrpSpPr>
        <p:grpSpPr>
          <a:xfrm>
            <a:off x="1692360" y="1963800"/>
            <a:ext cx="2087640" cy="1288800"/>
            <a:chOff x="1692360" y="1963800"/>
            <a:chExt cx="2087640" cy="1288800"/>
          </a:xfrm>
        </p:grpSpPr>
        <p:pic>
          <p:nvPicPr>
            <p:cNvPr id="182" name="图片 315401" descr="ppp"/>
            <p:cNvPicPr/>
            <p:nvPr/>
          </p:nvPicPr>
          <p:blipFill>
            <a:blip r:embed="rId3"/>
            <a:srcRect l="0" t="0" r="13490" b="0"/>
            <a:stretch/>
          </p:blipFill>
          <p:spPr>
            <a:xfrm>
              <a:off x="1692360" y="1963800"/>
              <a:ext cx="2087640" cy="12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315393"/>
            <p:cNvSpPr/>
            <p:nvPr/>
          </p:nvSpPr>
          <p:spPr>
            <a:xfrm>
              <a:off x="1801800" y="2039760"/>
              <a:ext cx="1871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我画的角比你的小。</a:t>
              </a:r>
              <a:endParaRPr b="1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315411"/>
          <p:cNvGrpSpPr/>
          <p:nvPr/>
        </p:nvGrpSpPr>
        <p:grpSpPr>
          <a:xfrm>
            <a:off x="684360" y="1052640"/>
            <a:ext cx="2844720" cy="847440"/>
            <a:chOff x="684360" y="1052640"/>
            <a:chExt cx="2844720" cy="847440"/>
          </a:xfrm>
        </p:grpSpPr>
        <p:pic>
          <p:nvPicPr>
            <p:cNvPr id="185" name="图片 315408" descr="虫子-01"/>
            <p:cNvPicPr/>
            <p:nvPr/>
          </p:nvPicPr>
          <p:blipFill>
            <a:blip r:embed="rId4"/>
            <a:stretch/>
          </p:blipFill>
          <p:spPr>
            <a:xfrm>
              <a:off x="684360" y="1052640"/>
              <a:ext cx="2844720" cy="84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矩形 315410"/>
            <p:cNvSpPr/>
            <p:nvPr/>
          </p:nvSpPr>
          <p:spPr>
            <a:xfrm>
              <a:off x="874800" y="1179360"/>
              <a:ext cx="201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角 的 度 量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2:22:58Z</dcterms:created>
  <dc:creator/>
  <dc:description/>
  <dc:language>en-US</dc:language>
  <cp:lastModifiedBy>Administrator</cp:lastModifiedBy>
  <dcterms:modified xsi:type="dcterms:W3CDTF">2016-03-17T02:22:58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