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13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529-9A5A-49B9-8054-9CCEE6183E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740-62F2-4A1E-87B3-BDB8D471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B084-26E5-4B04-8E4A-81F5E35A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7C8-0C01-496E-B4D1-583A3865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EE2-A445-49CA-B451-0063AED0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2B1-D961-489F-9AF0-4017A650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D40-572A-4ED5-8CF8-AE4A8DA5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9072-FC79-443E-BD41-40C20060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7362-9B63-475E-9425-F2819573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A162-B326-4FC5-899E-1CA8C960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AD8-A51D-4CD9-9010-DD401EB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4EC-B6EF-4FF6-AEE0-E25BD72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46F-66F4-4B41-8A06-FC3CD633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899D-2200-4789-80E2-DC8EA773D1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835280" y="2349360"/>
            <a:ext cx="6502320" cy="258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认识毫升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765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苏教版四年级上册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209520" y="620640"/>
            <a:ext cx="89344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995640" y="1988640"/>
            <a:ext cx="2808000" cy="1800360"/>
            <a:chOff x="3995640" y="1988640"/>
            <a:chExt cx="2808000" cy="1800360"/>
          </a:xfrm>
        </p:grpSpPr>
        <p:sp>
          <p:nvSpPr>
            <p:cNvPr id="266" name=""/>
            <p:cNvSpPr/>
            <p:nvPr/>
          </p:nvSpPr>
          <p:spPr>
            <a:xfrm flipH="1" rot="5400000">
              <a:off x="4458240" y="1525680"/>
              <a:ext cx="180036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5532480" y="2517120"/>
              <a:ext cx="179928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995640" y="1988640"/>
            <a:ext cx="2016000" cy="1800360"/>
            <a:chOff x="3995640" y="1988640"/>
            <a:chExt cx="2016000" cy="1800360"/>
          </a:xfrm>
        </p:grpSpPr>
        <p:sp>
          <p:nvSpPr>
            <p:cNvPr id="269" name=""/>
            <p:cNvSpPr/>
            <p:nvPr/>
          </p:nvSpPr>
          <p:spPr>
            <a:xfrm flipH="1" rot="5400000">
              <a:off x="4073760" y="1910160"/>
              <a:ext cx="1800360" cy="195732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4845240" y="2621880"/>
              <a:ext cx="1799280" cy="5335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587640" y="3645000"/>
            <a:ext cx="1513080" cy="1872720"/>
            <a:chOff x="6587640" y="3645000"/>
            <a:chExt cx="1513080" cy="1872720"/>
          </a:xfrm>
        </p:grpSpPr>
        <p:sp>
          <p:nvSpPr>
            <p:cNvPr id="272" name=""/>
            <p:cNvSpPr/>
            <p:nvPr/>
          </p:nvSpPr>
          <p:spPr>
            <a:xfrm flipH="1">
              <a:off x="6587280" y="3699720"/>
              <a:ext cx="1513080" cy="181800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88000" y="3645000"/>
              <a:ext cx="151200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03640" y="1988640"/>
            <a:ext cx="1511280" cy="1800360"/>
            <a:chOff x="5003640" y="1988640"/>
            <a:chExt cx="1511280" cy="1800360"/>
          </a:xfrm>
        </p:grpSpPr>
        <p:sp>
          <p:nvSpPr>
            <p:cNvPr id="275" name=""/>
            <p:cNvSpPr/>
            <p:nvPr/>
          </p:nvSpPr>
          <p:spPr>
            <a:xfrm flipH="1" rot="5400000">
              <a:off x="4836960" y="2154960"/>
              <a:ext cx="1800360" cy="14673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5415120" y="2688480"/>
              <a:ext cx="179928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619280" y="3716280"/>
            <a:ext cx="1512720" cy="1873080"/>
            <a:chOff x="1619280" y="3716280"/>
            <a:chExt cx="1512720" cy="1873080"/>
          </a:xfrm>
        </p:grpSpPr>
        <p:sp>
          <p:nvSpPr>
            <p:cNvPr id="278" name=""/>
            <p:cNvSpPr/>
            <p:nvPr/>
          </p:nvSpPr>
          <p:spPr>
            <a:xfrm flipH="1">
              <a:off x="161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1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58920" y="620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4686840" y="1297440"/>
            <a:ext cx="1785960" cy="31687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4621320" y="1794960"/>
            <a:ext cx="1123920" cy="2232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5731560" y="27734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08328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50872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003280" y="234936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50072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145840" y="2725560"/>
            <a:ext cx="764280" cy="957240"/>
            <a:chOff x="5145840" y="2725560"/>
            <a:chExt cx="764280" cy="957240"/>
          </a:xfrm>
        </p:grpSpPr>
        <p:sp>
          <p:nvSpPr>
            <p:cNvPr id="289" name=""/>
            <p:cNvSpPr/>
            <p:nvPr/>
          </p:nvSpPr>
          <p:spPr>
            <a:xfrm>
              <a:off x="554436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520056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550512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519048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18080" y="2725560"/>
            <a:ext cx="744120" cy="957240"/>
            <a:chOff x="4618080" y="2725560"/>
            <a:chExt cx="744120" cy="957240"/>
          </a:xfrm>
        </p:grpSpPr>
        <p:sp>
          <p:nvSpPr>
            <p:cNvPr id="294" name=""/>
            <p:cNvSpPr/>
            <p:nvPr/>
          </p:nvSpPr>
          <p:spPr>
            <a:xfrm>
              <a:off x="502200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6728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400000">
              <a:off x="49572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465372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065120" y="2725560"/>
            <a:ext cx="782640" cy="957240"/>
            <a:chOff x="4065120" y="2725560"/>
            <a:chExt cx="782640" cy="957240"/>
          </a:xfrm>
        </p:grpSpPr>
        <p:sp>
          <p:nvSpPr>
            <p:cNvPr id="299" name=""/>
            <p:cNvSpPr/>
            <p:nvPr/>
          </p:nvSpPr>
          <p:spPr>
            <a:xfrm>
              <a:off x="445824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5400000">
              <a:off x="411984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444276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411768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619280" y="3645000"/>
            <a:ext cx="1872720" cy="1978560"/>
            <a:chOff x="1619280" y="3645000"/>
            <a:chExt cx="1872720" cy="1978560"/>
          </a:xfrm>
        </p:grpSpPr>
        <p:sp>
          <p:nvSpPr>
            <p:cNvPr id="304" name=""/>
            <p:cNvSpPr/>
            <p:nvPr/>
          </p:nvSpPr>
          <p:spPr>
            <a:xfrm>
              <a:off x="1619280" y="364500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2582640" y="428760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5488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54880" y="42051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54880" y="5327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54880" y="45075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54880" y="4808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54880" y="506772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4880" y="545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54880" y="51969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4880" y="4938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4880" y="463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4880" y="4334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2660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5540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5540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5540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5504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323" name=""/>
            <p:cNvSpPr/>
            <p:nvPr/>
          </p:nvSpPr>
          <p:spPr>
            <a:xfrm>
              <a:off x="6588000" y="3573360"/>
              <a:ext cx="148068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7551360" y="4215600"/>
              <a:ext cx="1034640" cy="78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2360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2360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2360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2360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2360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2360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23600" y="5385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023600" y="512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23600" y="4866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23600" y="4565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23600" y="4262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9532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2412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2412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2412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2376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324960" y="5445000"/>
            <a:ext cx="33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1L=1000m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0" y="184464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rcRect l="0" t="0" r="8873" b="0"/>
          <a:stretch/>
        </p:blipFill>
        <p:spPr>
          <a:xfrm>
            <a:off x="250920" y="2349360"/>
            <a:ext cx="8281800" cy="2508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95280" y="83664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容器里各有多少毫升药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63640" y="3860640"/>
            <a:ext cx="1081080" cy="648000"/>
          </a:xfrm>
          <a:prstGeom prst="wedgeRectCallout">
            <a:avLst>
              <a:gd name="adj1" fmla="val -87884"/>
              <a:gd name="adj2" fmla="val 1397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64000" y="2133720"/>
            <a:ext cx="1368360" cy="647640"/>
          </a:xfrm>
          <a:prstGeom prst="wedgeRectCallout">
            <a:avLst>
              <a:gd name="adj1" fmla="val -56611"/>
              <a:gd name="adj2" fmla="val 6568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0360" y="2781360"/>
            <a:ext cx="1081080" cy="647640"/>
          </a:xfrm>
          <a:prstGeom prst="wedgeRectCallout">
            <a:avLst>
              <a:gd name="adj1" fmla="val -63800"/>
              <a:gd name="adj2" fmla="val 8578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67640" y="4797360"/>
            <a:ext cx="1081080" cy="647640"/>
          </a:xfrm>
          <a:prstGeom prst="wedgeRectCallout">
            <a:avLst>
              <a:gd name="adj1" fmla="val -30175"/>
              <a:gd name="adj2" fmla="val -14755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1547280" y="2492280"/>
            <a:ext cx="2303640" cy="3241440"/>
            <a:chOff x="1547280" y="2492280"/>
            <a:chExt cx="2303640" cy="3241440"/>
          </a:xfrm>
        </p:grpSpPr>
        <p:sp>
          <p:nvSpPr>
            <p:cNvPr id="352" name=""/>
            <p:cNvSpPr/>
            <p:nvPr/>
          </p:nvSpPr>
          <p:spPr>
            <a:xfrm flipH="1">
              <a:off x="1546920" y="2586960"/>
              <a:ext cx="2303640" cy="31467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7640" y="2492280"/>
              <a:ext cx="2301840" cy="85788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916360" y="3357720"/>
            <a:ext cx="244764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63080" y="2997360"/>
            <a:ext cx="16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19280" y="1268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547640" y="2349360"/>
            <a:ext cx="2952360" cy="3384360"/>
            <a:chOff x="1547640" y="2349360"/>
            <a:chExt cx="2952360" cy="3384360"/>
          </a:xfrm>
        </p:grpSpPr>
        <p:sp>
          <p:nvSpPr>
            <p:cNvPr id="358" name=""/>
            <p:cNvSpPr/>
            <p:nvPr/>
          </p:nvSpPr>
          <p:spPr>
            <a:xfrm>
              <a:off x="1547640" y="2349360"/>
              <a:ext cx="2333880" cy="338436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2979720" y="3535200"/>
              <a:ext cx="1803960" cy="1236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34520" y="3325680"/>
              <a:ext cx="0" cy="233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34520" y="332568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34520" y="52826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4520" y="385308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34520" y="43790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34520" y="48301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34520" y="550836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34520" y="505548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34520" y="4604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4520" y="40788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34520" y="3551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05960" y="5106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49160" y="4604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49160" y="41551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9520" y="370224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9520" y="3175200"/>
              <a:ext cx="87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9280" y="692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611280" y="2492280"/>
            <a:ext cx="1800000" cy="2737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042920" y="2924280"/>
            <a:ext cx="1081080" cy="22334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80600" y="2960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42920" y="314172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42920" y="3716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42920" y="422100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42920" y="4724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419120" y="3314880"/>
            <a:ext cx="920520" cy="764280"/>
            <a:chOff x="1419120" y="3314880"/>
            <a:chExt cx="920520" cy="764280"/>
          </a:xfrm>
        </p:grpSpPr>
        <p:sp>
          <p:nvSpPr>
            <p:cNvPr id="387" name=""/>
            <p:cNvSpPr/>
            <p:nvPr/>
          </p:nvSpPr>
          <p:spPr>
            <a:xfrm>
              <a:off x="1419120" y="368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60520" y="36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60520" y="331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6400" y="34754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419120" y="3860640"/>
            <a:ext cx="920520" cy="744120"/>
            <a:chOff x="1419120" y="3860640"/>
            <a:chExt cx="920520" cy="744120"/>
          </a:xfrm>
        </p:grpSpPr>
        <p:sp>
          <p:nvSpPr>
            <p:cNvPr id="392" name=""/>
            <p:cNvSpPr/>
            <p:nvPr/>
          </p:nvSpPr>
          <p:spPr>
            <a:xfrm>
              <a:off x="1419120" y="42008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60520" y="414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6052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06400" y="40100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419120" y="4376880"/>
            <a:ext cx="920520" cy="784080"/>
            <a:chOff x="1419120" y="4376880"/>
            <a:chExt cx="920520" cy="784080"/>
          </a:xfrm>
        </p:grpSpPr>
        <p:sp>
          <p:nvSpPr>
            <p:cNvPr id="397" name=""/>
            <p:cNvSpPr/>
            <p:nvPr/>
          </p:nvSpPr>
          <p:spPr>
            <a:xfrm>
              <a:off x="1419120" y="47664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60520" y="470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60520" y="43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6400" y="45478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4211640" y="3141720"/>
            <a:ext cx="1872720" cy="1978560"/>
            <a:chOff x="4211640" y="3141720"/>
            <a:chExt cx="1872720" cy="1978560"/>
          </a:xfrm>
        </p:grpSpPr>
        <p:sp>
          <p:nvSpPr>
            <p:cNvPr id="402" name=""/>
            <p:cNvSpPr/>
            <p:nvPr/>
          </p:nvSpPr>
          <p:spPr>
            <a:xfrm>
              <a:off x="4211640" y="314172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5400000">
              <a:off x="5175000" y="378432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724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47240" y="3701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7240" y="4824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47240" y="4004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47240" y="43056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47240" y="456444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7240" y="4953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7240" y="4693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7240" y="4435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7240" y="413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47240" y="3831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1896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776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4776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4776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4740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659640" y="3141720"/>
            <a:ext cx="1872720" cy="1978560"/>
            <a:chOff x="6659640" y="3141720"/>
            <a:chExt cx="1872720" cy="1978560"/>
          </a:xfrm>
        </p:grpSpPr>
        <p:sp>
          <p:nvSpPr>
            <p:cNvPr id="421" name=""/>
            <p:cNvSpPr/>
            <p:nvPr/>
          </p:nvSpPr>
          <p:spPr>
            <a:xfrm>
              <a:off x="6659640" y="314172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5400000">
              <a:off x="7623000" y="378432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9524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95240" y="3701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95240" y="4824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95240" y="4004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095240" y="43056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95240" y="456444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95240" y="4953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95240" y="4693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95240" y="4435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95240" y="413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5240" y="3831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6696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9576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9576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9576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29540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4498200" y="1120320"/>
            <a:ext cx="3266640" cy="2685960"/>
            <a:chOff x="4498200" y="1120320"/>
            <a:chExt cx="3266640" cy="2685960"/>
          </a:xfrm>
        </p:grpSpPr>
        <p:sp>
          <p:nvSpPr>
            <p:cNvPr id="440" name=""/>
            <p:cNvSpPr/>
            <p:nvPr/>
          </p:nvSpPr>
          <p:spPr>
            <a:xfrm flipH="1" rot="6660000">
              <a:off x="5192640" y="1086120"/>
              <a:ext cx="180000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6660000">
              <a:off x="6195960" y="2461680"/>
              <a:ext cx="179892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512240" y="1126080"/>
            <a:ext cx="2062080" cy="2225160"/>
            <a:chOff x="4512240" y="1126080"/>
            <a:chExt cx="2062080" cy="2225160"/>
          </a:xfrm>
        </p:grpSpPr>
        <p:sp>
          <p:nvSpPr>
            <p:cNvPr id="443" name=""/>
            <p:cNvSpPr/>
            <p:nvPr/>
          </p:nvSpPr>
          <p:spPr>
            <a:xfrm flipH="1" rot="6689400">
              <a:off x="4623120" y="1499040"/>
              <a:ext cx="1798560" cy="14637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6689400">
              <a:off x="5160600" y="2242080"/>
              <a:ext cx="1797480" cy="39888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446" name=""/>
          <p:cNvGrpSpPr/>
          <p:nvPr/>
        </p:nvGrpSpPr>
        <p:grpSpPr>
          <a:xfrm>
            <a:off x="395280" y="2060640"/>
            <a:ext cx="2808000" cy="1800000"/>
            <a:chOff x="395280" y="2060640"/>
            <a:chExt cx="2808000" cy="1800000"/>
          </a:xfrm>
        </p:grpSpPr>
        <p:sp>
          <p:nvSpPr>
            <p:cNvPr id="447" name=""/>
            <p:cNvSpPr/>
            <p:nvPr/>
          </p:nvSpPr>
          <p:spPr>
            <a:xfrm flipH="1" rot="5400000">
              <a:off x="857880" y="1597320"/>
              <a:ext cx="180000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5400000">
              <a:off x="1932120" y="2588400"/>
              <a:ext cx="179892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403640" y="2060640"/>
            <a:ext cx="1510920" cy="1800000"/>
            <a:chOff x="1403640" y="2060640"/>
            <a:chExt cx="1510920" cy="1800000"/>
          </a:xfrm>
        </p:grpSpPr>
        <p:sp>
          <p:nvSpPr>
            <p:cNvPr id="450" name=""/>
            <p:cNvSpPr/>
            <p:nvPr/>
          </p:nvSpPr>
          <p:spPr>
            <a:xfrm flipH="1" rot="5400000">
              <a:off x="1236600" y="2226960"/>
              <a:ext cx="1800000" cy="14670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5400000">
              <a:off x="1815120" y="2760120"/>
              <a:ext cx="179892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059280" y="3716280"/>
            <a:ext cx="1512720" cy="1873080"/>
            <a:chOff x="3059280" y="3716280"/>
            <a:chExt cx="1512720" cy="1873080"/>
          </a:xfrm>
        </p:grpSpPr>
        <p:sp>
          <p:nvSpPr>
            <p:cNvPr id="453" name=""/>
            <p:cNvSpPr/>
            <p:nvPr/>
          </p:nvSpPr>
          <p:spPr>
            <a:xfrm flipH="1">
              <a:off x="305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5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0" y="476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5400000">
            <a:off x="1092600" y="1375200"/>
            <a:ext cx="1785960" cy="31561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5400000">
            <a:off x="1020240" y="1866600"/>
            <a:ext cx="1123920" cy="223236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2131200" y="2845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482920" y="242100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90764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140292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89964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545120" y="2797200"/>
            <a:ext cx="764280" cy="956880"/>
            <a:chOff x="1545120" y="2797200"/>
            <a:chExt cx="764280" cy="956880"/>
          </a:xfrm>
        </p:grpSpPr>
        <p:sp>
          <p:nvSpPr>
            <p:cNvPr id="464" name=""/>
            <p:cNvSpPr/>
            <p:nvPr/>
          </p:nvSpPr>
          <p:spPr>
            <a:xfrm>
              <a:off x="194364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5400000">
              <a:off x="159984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5400000">
              <a:off x="19044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158976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018080" y="2797200"/>
            <a:ext cx="744120" cy="956880"/>
            <a:chOff x="1018080" y="2797200"/>
            <a:chExt cx="744120" cy="956880"/>
          </a:xfrm>
        </p:grpSpPr>
        <p:sp>
          <p:nvSpPr>
            <p:cNvPr id="469" name=""/>
            <p:cNvSpPr/>
            <p:nvPr/>
          </p:nvSpPr>
          <p:spPr>
            <a:xfrm>
              <a:off x="142200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10728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13572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5400000">
              <a:off x="105372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64760" y="2797200"/>
            <a:ext cx="783000" cy="956880"/>
            <a:chOff x="464760" y="2797200"/>
            <a:chExt cx="783000" cy="956880"/>
          </a:xfrm>
        </p:grpSpPr>
        <p:sp>
          <p:nvSpPr>
            <p:cNvPr id="474" name=""/>
            <p:cNvSpPr/>
            <p:nvPr/>
          </p:nvSpPr>
          <p:spPr>
            <a:xfrm>
              <a:off x="85824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5400000">
              <a:off x="51948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5400000">
              <a:off x="84276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5400000">
              <a:off x="51732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3059280" y="3645000"/>
            <a:ext cx="1872720" cy="1978560"/>
            <a:chOff x="3059280" y="3645000"/>
            <a:chExt cx="1872720" cy="1978560"/>
          </a:xfrm>
        </p:grpSpPr>
        <p:sp>
          <p:nvSpPr>
            <p:cNvPr id="479" name=""/>
            <p:cNvSpPr/>
            <p:nvPr/>
          </p:nvSpPr>
          <p:spPr>
            <a:xfrm>
              <a:off x="3059280" y="364500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5400000">
              <a:off x="4022640" y="428760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9488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94880" y="42051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94880" y="5327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94880" y="45075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94880" y="4808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94880" y="506772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94880" y="545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94880" y="51969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94880" y="4938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94880" y="463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4880" y="4334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6660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9540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40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9540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9504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498" name=""/>
            <p:cNvSpPr/>
            <p:nvPr/>
          </p:nvSpPr>
          <p:spPr>
            <a:xfrm>
              <a:off x="6588000" y="3573360"/>
              <a:ext cx="148068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5400000">
              <a:off x="7551360" y="4215600"/>
              <a:ext cx="1034640" cy="78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2360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2360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2360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2360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2360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2360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23600" y="5385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23600" y="512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23600" y="4866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23600" y="4565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23600" y="4262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9532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2412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22412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2412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22376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3995640" y="1988640"/>
            <a:ext cx="2808000" cy="1800360"/>
            <a:chOff x="3995640" y="1988640"/>
            <a:chExt cx="2808000" cy="1800360"/>
          </a:xfrm>
        </p:grpSpPr>
        <p:sp>
          <p:nvSpPr>
            <p:cNvPr id="518" name=""/>
            <p:cNvSpPr/>
            <p:nvPr/>
          </p:nvSpPr>
          <p:spPr>
            <a:xfrm flipH="1" rot="5400000">
              <a:off x="4458240" y="1525680"/>
              <a:ext cx="180036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5532480" y="2517120"/>
              <a:ext cx="179928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995640" y="1988640"/>
            <a:ext cx="2016000" cy="1800360"/>
            <a:chOff x="3995640" y="1988640"/>
            <a:chExt cx="2016000" cy="1800360"/>
          </a:xfrm>
        </p:grpSpPr>
        <p:sp>
          <p:nvSpPr>
            <p:cNvPr id="521" name=""/>
            <p:cNvSpPr/>
            <p:nvPr/>
          </p:nvSpPr>
          <p:spPr>
            <a:xfrm flipH="1" rot="5400000">
              <a:off x="4073760" y="1910160"/>
              <a:ext cx="1800360" cy="195732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5400000">
              <a:off x="4845240" y="2621880"/>
              <a:ext cx="1799280" cy="5335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587640" y="3645000"/>
            <a:ext cx="1513080" cy="1872720"/>
            <a:chOff x="6587640" y="3645000"/>
            <a:chExt cx="1513080" cy="1872720"/>
          </a:xfrm>
        </p:grpSpPr>
        <p:sp>
          <p:nvSpPr>
            <p:cNvPr id="524" name=""/>
            <p:cNvSpPr/>
            <p:nvPr/>
          </p:nvSpPr>
          <p:spPr>
            <a:xfrm flipH="1">
              <a:off x="6587280" y="3699720"/>
              <a:ext cx="1513080" cy="181800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88000" y="3645000"/>
              <a:ext cx="151200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03640" y="1988640"/>
            <a:ext cx="1511280" cy="1800360"/>
            <a:chOff x="5003640" y="1988640"/>
            <a:chExt cx="1511280" cy="1800360"/>
          </a:xfrm>
        </p:grpSpPr>
        <p:sp>
          <p:nvSpPr>
            <p:cNvPr id="527" name=""/>
            <p:cNvSpPr/>
            <p:nvPr/>
          </p:nvSpPr>
          <p:spPr>
            <a:xfrm flipH="1" rot="5400000">
              <a:off x="4836960" y="2154960"/>
              <a:ext cx="1800360" cy="14673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5400000">
              <a:off x="5415120" y="2688480"/>
              <a:ext cx="179928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619280" y="3716280"/>
            <a:ext cx="1512720" cy="1873080"/>
            <a:chOff x="1619280" y="3716280"/>
            <a:chExt cx="1512720" cy="1873080"/>
          </a:xfrm>
        </p:grpSpPr>
        <p:sp>
          <p:nvSpPr>
            <p:cNvPr id="530" name=""/>
            <p:cNvSpPr/>
            <p:nvPr/>
          </p:nvSpPr>
          <p:spPr>
            <a:xfrm flipH="1">
              <a:off x="161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1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58920" y="620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4686840" y="1297440"/>
            <a:ext cx="1785960" cy="31687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5400000">
            <a:off x="4621320" y="1794960"/>
            <a:ext cx="1123920" cy="2232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5400000">
            <a:off x="5731560" y="27734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08328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50872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5003280" y="234936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500720" y="234936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5145840" y="2725560"/>
            <a:ext cx="764280" cy="957240"/>
            <a:chOff x="5145840" y="2725560"/>
            <a:chExt cx="764280" cy="957240"/>
          </a:xfrm>
        </p:grpSpPr>
        <p:sp>
          <p:nvSpPr>
            <p:cNvPr id="541" name=""/>
            <p:cNvSpPr/>
            <p:nvPr/>
          </p:nvSpPr>
          <p:spPr>
            <a:xfrm>
              <a:off x="554436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520056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5400000">
              <a:off x="550512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5400000">
              <a:off x="519048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618080" y="2725560"/>
            <a:ext cx="744120" cy="957240"/>
            <a:chOff x="4618080" y="2725560"/>
            <a:chExt cx="744120" cy="957240"/>
          </a:xfrm>
        </p:grpSpPr>
        <p:sp>
          <p:nvSpPr>
            <p:cNvPr id="546" name=""/>
            <p:cNvSpPr/>
            <p:nvPr/>
          </p:nvSpPr>
          <p:spPr>
            <a:xfrm>
              <a:off x="502200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46728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5400000">
              <a:off x="495720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5400000">
              <a:off x="465372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4065120" y="2725560"/>
            <a:ext cx="782640" cy="957240"/>
            <a:chOff x="4065120" y="2725560"/>
            <a:chExt cx="782640" cy="957240"/>
          </a:xfrm>
        </p:grpSpPr>
        <p:sp>
          <p:nvSpPr>
            <p:cNvPr id="551" name=""/>
            <p:cNvSpPr/>
            <p:nvPr/>
          </p:nvSpPr>
          <p:spPr>
            <a:xfrm>
              <a:off x="4458240" y="2725560"/>
              <a:ext cx="0" cy="44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5400000">
              <a:off x="411984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4442760" y="2719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5400000">
              <a:off x="4117680" y="312372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619280" y="3645000"/>
            <a:ext cx="1872720" cy="1978560"/>
            <a:chOff x="1619280" y="3645000"/>
            <a:chExt cx="1872720" cy="1978560"/>
          </a:xfrm>
        </p:grpSpPr>
        <p:sp>
          <p:nvSpPr>
            <p:cNvPr id="556" name=""/>
            <p:cNvSpPr/>
            <p:nvPr/>
          </p:nvSpPr>
          <p:spPr>
            <a:xfrm>
              <a:off x="1619280" y="364500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2582640" y="428760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488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54880" y="42051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54880" y="5327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54880" y="45075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54880" y="4808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54880" y="506772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54880" y="545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54880" y="51969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54880" y="4938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54880" y="463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4880" y="4334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2660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5540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5540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5540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5504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575" name=""/>
            <p:cNvSpPr/>
            <p:nvPr/>
          </p:nvSpPr>
          <p:spPr>
            <a:xfrm>
              <a:off x="6588000" y="3573360"/>
              <a:ext cx="148068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5400000">
              <a:off x="7551360" y="4215600"/>
              <a:ext cx="1034640" cy="78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2360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2360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02360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02360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2360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2360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23600" y="5385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023600" y="512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023600" y="4866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023600" y="4565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023600" y="4262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9532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22412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2412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2412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2376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990520" y="544500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升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=1000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毫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9342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0" y="1844640"/>
            <a:ext cx="9144000" cy="410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3"/>
          <a:srcRect l="0" t="0" r="8873" b="0"/>
          <a:stretch/>
        </p:blipFill>
        <p:spPr>
          <a:xfrm>
            <a:off x="250920" y="2349360"/>
            <a:ext cx="8281800" cy="25084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395280" y="836640"/>
            <a:ext cx="74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容器里各有多少毫升药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63640" y="3860640"/>
            <a:ext cx="1081080" cy="648000"/>
          </a:xfrm>
          <a:prstGeom prst="wedgeRectCallout">
            <a:avLst>
              <a:gd name="adj1" fmla="val -87884"/>
              <a:gd name="adj2" fmla="val 1397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564000" y="2133720"/>
            <a:ext cx="1368360" cy="647640"/>
          </a:xfrm>
          <a:prstGeom prst="wedgeRectCallout">
            <a:avLst>
              <a:gd name="adj1" fmla="val -56611"/>
              <a:gd name="adj2" fmla="val 6568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940360" y="2781360"/>
            <a:ext cx="1081080" cy="647640"/>
          </a:xfrm>
          <a:prstGeom prst="wedgeRectCallout">
            <a:avLst>
              <a:gd name="adj1" fmla="val -63800"/>
              <a:gd name="adj2" fmla="val 8578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667640" y="4797360"/>
            <a:ext cx="1081080" cy="647640"/>
          </a:xfrm>
          <a:prstGeom prst="wedgeRectCallout">
            <a:avLst>
              <a:gd name="adj1" fmla="val -30175"/>
              <a:gd name="adj2" fmla="val -14755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2"/>
          <a:srcRect l="22944" t="0" r="348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33320" y="1484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 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33320" y="227664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 )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82920" y="2924280"/>
            <a:ext cx="39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)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82920" y="3645000"/>
            <a:ext cx="39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毫升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(        )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84360" y="692280"/>
            <a:ext cx="2877840" cy="576000"/>
            <a:chOff x="684360" y="692280"/>
            <a:chExt cx="2877840" cy="576000"/>
          </a:xfrm>
        </p:grpSpPr>
        <p:sp>
          <p:nvSpPr>
            <p:cNvPr id="612" name=""/>
            <p:cNvSpPr/>
            <p:nvPr/>
          </p:nvSpPr>
          <p:spPr>
            <a:xfrm>
              <a:off x="684360" y="692280"/>
              <a:ext cx="718920" cy="5760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03280" y="692280"/>
              <a:ext cx="719280" cy="5760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24000" y="692280"/>
              <a:ext cx="719280" cy="5760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43280" y="692280"/>
              <a:ext cx="718920" cy="576000"/>
            </a:xfrm>
            <a:prstGeom prst="ellipse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663300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779560" y="14842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4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60480" y="22827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23800" y="2924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007880" y="3645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413000"/>
            <a:ext cx="1800000" cy="720720"/>
          </a:xfrm>
          <a:prstGeom prst="wedgeRectCallout">
            <a:avLst>
              <a:gd name="adj1" fmla="val -62523"/>
              <a:gd name="adj2" fmla="val 9449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3789360"/>
            <a:ext cx="1800360" cy="792000"/>
          </a:xfrm>
          <a:prstGeom prst="wedgeRectCallout">
            <a:avLst>
              <a:gd name="adj1" fmla="val -83685"/>
              <a:gd name="adj2" fmla="val 31162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3573360"/>
            <a:ext cx="1800360" cy="865440"/>
          </a:xfrm>
          <a:prstGeom prst="wedgeRectCallout">
            <a:avLst>
              <a:gd name="adj1" fmla="val -81393"/>
              <a:gd name="adj2" fmla="val 3862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0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1019160" cy="26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3382" b="0"/>
          <a:stretch/>
        </p:blipFill>
        <p:spPr>
          <a:xfrm>
            <a:off x="4716360" y="293760"/>
            <a:ext cx="1224000" cy="2847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rcRect l="0" t="0" r="-1744" b="0"/>
          <a:stretch/>
        </p:blipFill>
        <p:spPr>
          <a:xfrm>
            <a:off x="900000" y="3213000"/>
            <a:ext cx="1008000" cy="1743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43640" y="1341360"/>
            <a:ext cx="1584360" cy="1008000"/>
          </a:xfrm>
          <a:prstGeom prst="wedgeRectCallout">
            <a:avLst>
              <a:gd name="adj1" fmla="val -98597"/>
              <a:gd name="adj2" fmla="val 30787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750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941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计量比较少的液体，常用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毫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单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rcRect l="0" t="0" r="2357" b="0"/>
          <a:stretch/>
        </p:blipFill>
        <p:spPr>
          <a:xfrm>
            <a:off x="5148360" y="3213000"/>
            <a:ext cx="790560" cy="16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589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毫升可以用符号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mL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ml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219680" y="4941720"/>
            <a:ext cx="10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49080" y="494028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9800" y="4970520"/>
            <a:ext cx="8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713800" cy="59752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722240" y="4653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811320" y="5300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981400" y="45878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140320" y="5300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7760" y="0"/>
            <a:ext cx="2873520" cy="67518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1042920" y="0"/>
            <a:ext cx="2926080" cy="6753240"/>
            <a:chOff x="1042920" y="0"/>
            <a:chExt cx="2926080" cy="6753240"/>
          </a:xfrm>
        </p:grpSpPr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1042920" y="0"/>
              <a:ext cx="2743200" cy="67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2346120" y="990000"/>
              <a:ext cx="1622880" cy="1586520"/>
              <a:chOff x="2346120" y="990000"/>
              <a:chExt cx="1622880" cy="1586520"/>
            </a:xfrm>
          </p:grpSpPr>
          <p:sp>
            <p:nvSpPr>
              <p:cNvPr id="66" name=""/>
              <p:cNvSpPr/>
              <p:nvPr/>
            </p:nvSpPr>
            <p:spPr>
              <a:xfrm rot="1384200">
                <a:off x="2528640" y="1188720"/>
                <a:ext cx="1257480" cy="1188720"/>
              </a:xfrm>
              <a:prstGeom prst="wedgeEllipseCallout">
                <a:avLst>
                  <a:gd name="adj1" fmla="val -44574"/>
                  <a:gd name="adj2" fmla="val 80226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42760" y="1287720"/>
                <a:ext cx="1143000" cy="9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2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042920" y="3867120"/>
            <a:ext cx="2737080" cy="2847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471640" y="2133720"/>
            <a:ext cx="15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这是一个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2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毫升的量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80680" y="4653000"/>
            <a:ext cx="25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里面盛的水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毫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25840" y="2421000"/>
            <a:ext cx="58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多少滴的水大约是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1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毫升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58572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3564000" y="2997360"/>
            <a:ext cx="2376360" cy="71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88800" y="263700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0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8000" y="981000"/>
            <a:ext cx="22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08000" y="2133720"/>
            <a:ext cx="2950920" cy="3166920"/>
            <a:chOff x="1908000" y="2133720"/>
            <a:chExt cx="2950920" cy="3166920"/>
          </a:xfrm>
        </p:grpSpPr>
        <p:sp>
          <p:nvSpPr>
            <p:cNvPr id="80" name=""/>
            <p:cNvSpPr/>
            <p:nvPr/>
          </p:nvSpPr>
          <p:spPr>
            <a:xfrm>
              <a:off x="1908000" y="2133720"/>
              <a:ext cx="2332440" cy="31669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3396960" y="3203280"/>
              <a:ext cx="1687680" cy="12358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4520" y="3047400"/>
              <a:ext cx="0" cy="21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4520" y="304740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4520" y="487836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4520" y="354060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4520" y="403272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94520" y="4455000"/>
              <a:ext cx="34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94520" y="508932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4520" y="466560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94520" y="424368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94520" y="375192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4520" y="3258360"/>
              <a:ext cx="20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65240" y="4712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0600" y="4243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0600" y="38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10600" y="33994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0240" y="29062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547280" y="2492280"/>
            <a:ext cx="2303640" cy="3241440"/>
            <a:chOff x="1547280" y="2492280"/>
            <a:chExt cx="2303640" cy="3241440"/>
          </a:xfrm>
        </p:grpSpPr>
        <p:sp>
          <p:nvSpPr>
            <p:cNvPr id="100" name=""/>
            <p:cNvSpPr/>
            <p:nvPr/>
          </p:nvSpPr>
          <p:spPr>
            <a:xfrm flipH="1">
              <a:off x="1546920" y="2586960"/>
              <a:ext cx="2303640" cy="31467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7640" y="2492280"/>
              <a:ext cx="2301840" cy="85788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916360" y="3357720"/>
            <a:ext cx="244764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3080" y="2997360"/>
            <a:ext cx="160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1268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量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47640" y="2349360"/>
            <a:ext cx="2952360" cy="3384360"/>
            <a:chOff x="1547640" y="2349360"/>
            <a:chExt cx="2952360" cy="3384360"/>
          </a:xfrm>
        </p:grpSpPr>
        <p:sp>
          <p:nvSpPr>
            <p:cNvPr id="106" name=""/>
            <p:cNvSpPr/>
            <p:nvPr/>
          </p:nvSpPr>
          <p:spPr>
            <a:xfrm>
              <a:off x="1547640" y="2349360"/>
              <a:ext cx="2333880" cy="338436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2979720" y="3535200"/>
              <a:ext cx="1803960" cy="12366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4520" y="3325680"/>
              <a:ext cx="0" cy="233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34520" y="332568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34520" y="52826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34520" y="385308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4520" y="437904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34520" y="4830120"/>
              <a:ext cx="34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34520" y="550836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4520" y="505548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34520" y="4604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34520" y="40788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4520" y="3551400"/>
              <a:ext cx="2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5960" y="5106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9160" y="4604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49160" y="41551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9520" y="3702240"/>
              <a:ext cx="68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9520" y="3175200"/>
              <a:ext cx="87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9280" y="692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11280" y="2492280"/>
            <a:ext cx="1800000" cy="2737080"/>
          </a:xfrm>
          <a:prstGeom prst="can">
            <a:avLst>
              <a:gd name="adj" fmla="val 25000"/>
            </a:avLst>
          </a:prstGeom>
          <a:solidFill>
            <a:srgbClr val="3399f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060640"/>
            <a:ext cx="1785960" cy="315576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924280"/>
            <a:ext cx="1081080" cy="223344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80600" y="2960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14172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716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422100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4724280"/>
            <a:ext cx="287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19120" y="3314880"/>
            <a:ext cx="920520" cy="764280"/>
            <a:chOff x="1419120" y="3314880"/>
            <a:chExt cx="920520" cy="764280"/>
          </a:xfrm>
        </p:grpSpPr>
        <p:sp>
          <p:nvSpPr>
            <p:cNvPr id="135" name=""/>
            <p:cNvSpPr/>
            <p:nvPr/>
          </p:nvSpPr>
          <p:spPr>
            <a:xfrm>
              <a:off x="1419120" y="36806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60520" y="361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60520" y="3314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06400" y="34754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419120" y="3860640"/>
            <a:ext cx="920520" cy="744120"/>
            <a:chOff x="1419120" y="3860640"/>
            <a:chExt cx="920520" cy="744120"/>
          </a:xfrm>
        </p:grpSpPr>
        <p:sp>
          <p:nvSpPr>
            <p:cNvPr id="140" name=""/>
            <p:cNvSpPr/>
            <p:nvPr/>
          </p:nvSpPr>
          <p:spPr>
            <a:xfrm>
              <a:off x="1419120" y="420084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0520" y="414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0520" y="3860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6400" y="401004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419120" y="4376880"/>
            <a:ext cx="920520" cy="784080"/>
            <a:chOff x="1419120" y="4376880"/>
            <a:chExt cx="920520" cy="784080"/>
          </a:xfrm>
        </p:grpSpPr>
        <p:sp>
          <p:nvSpPr>
            <p:cNvPr id="145" name=""/>
            <p:cNvSpPr/>
            <p:nvPr/>
          </p:nvSpPr>
          <p:spPr>
            <a:xfrm>
              <a:off x="1419120" y="476640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60520" y="4701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60520" y="437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6400" y="4547880"/>
              <a:ext cx="63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11640" y="3141720"/>
            <a:ext cx="1872720" cy="1978560"/>
            <a:chOff x="4211640" y="3141720"/>
            <a:chExt cx="1872720" cy="1978560"/>
          </a:xfrm>
        </p:grpSpPr>
        <p:sp>
          <p:nvSpPr>
            <p:cNvPr id="150" name=""/>
            <p:cNvSpPr/>
            <p:nvPr/>
          </p:nvSpPr>
          <p:spPr>
            <a:xfrm>
              <a:off x="4211640" y="314172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175000" y="378432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724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7240" y="3701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7240" y="4824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240" y="4004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7240" y="43056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7240" y="456444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7240" y="4953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7240" y="4693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7240" y="4435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47240" y="413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647240" y="3831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1896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4776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4776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4776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4740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659640" y="3141720"/>
            <a:ext cx="1872720" cy="1978560"/>
            <a:chOff x="6659640" y="3141720"/>
            <a:chExt cx="1872720" cy="1978560"/>
          </a:xfrm>
        </p:grpSpPr>
        <p:sp>
          <p:nvSpPr>
            <p:cNvPr id="169" name=""/>
            <p:cNvSpPr/>
            <p:nvPr/>
          </p:nvSpPr>
          <p:spPr>
            <a:xfrm>
              <a:off x="6659640" y="314172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623000" y="378432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95240" y="370188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95240" y="3701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95240" y="48240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95240" y="4004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95240" y="430560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95240" y="456444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95240" y="49536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5240" y="46936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95240" y="44352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5240" y="41335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95240" y="38311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6960" y="47214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95760" y="44370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95760" y="4175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95760" y="39175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95400" y="361404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498200" y="1120320"/>
            <a:ext cx="3266640" cy="2685960"/>
            <a:chOff x="4498200" y="1120320"/>
            <a:chExt cx="3266640" cy="2685960"/>
          </a:xfrm>
        </p:grpSpPr>
        <p:sp>
          <p:nvSpPr>
            <p:cNvPr id="188" name=""/>
            <p:cNvSpPr/>
            <p:nvPr/>
          </p:nvSpPr>
          <p:spPr>
            <a:xfrm flipH="1" rot="6660000">
              <a:off x="5192640" y="1086120"/>
              <a:ext cx="180000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6660000">
              <a:off x="6195960" y="2461680"/>
              <a:ext cx="179892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512240" y="1126080"/>
            <a:ext cx="2062080" cy="2225160"/>
            <a:chOff x="4512240" y="1126080"/>
            <a:chExt cx="2062080" cy="2225160"/>
          </a:xfrm>
        </p:grpSpPr>
        <p:sp>
          <p:nvSpPr>
            <p:cNvPr id="191" name=""/>
            <p:cNvSpPr/>
            <p:nvPr/>
          </p:nvSpPr>
          <p:spPr>
            <a:xfrm flipH="1" rot="6689400">
              <a:off x="4623120" y="1499040"/>
              <a:ext cx="1798560" cy="146376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6689400">
              <a:off x="5160600" y="2242080"/>
              <a:ext cx="1797480" cy="39888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01520" y="620640"/>
            <a:ext cx="8934480" cy="587700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395280" y="2060640"/>
            <a:ext cx="2808000" cy="1800000"/>
            <a:chOff x="395280" y="2060640"/>
            <a:chExt cx="2808000" cy="1800000"/>
          </a:xfrm>
        </p:grpSpPr>
        <p:sp>
          <p:nvSpPr>
            <p:cNvPr id="195" name=""/>
            <p:cNvSpPr/>
            <p:nvPr/>
          </p:nvSpPr>
          <p:spPr>
            <a:xfrm flipH="1" rot="5400000">
              <a:off x="857880" y="1597320"/>
              <a:ext cx="1800000" cy="272592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1932120" y="2588400"/>
              <a:ext cx="1798920" cy="74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03640" y="2060640"/>
            <a:ext cx="1510920" cy="1800000"/>
            <a:chOff x="1403640" y="2060640"/>
            <a:chExt cx="1510920" cy="1800000"/>
          </a:xfrm>
        </p:grpSpPr>
        <p:sp>
          <p:nvSpPr>
            <p:cNvPr id="198" name=""/>
            <p:cNvSpPr/>
            <p:nvPr/>
          </p:nvSpPr>
          <p:spPr>
            <a:xfrm flipH="1" rot="5400000">
              <a:off x="1236600" y="2226960"/>
              <a:ext cx="1800000" cy="14670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9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1815120" y="2760120"/>
              <a:ext cx="1798920" cy="39996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059280" y="3716280"/>
            <a:ext cx="1512720" cy="1873080"/>
            <a:chOff x="3059280" y="3716280"/>
            <a:chExt cx="1512720" cy="1873080"/>
          </a:xfrm>
        </p:grpSpPr>
        <p:sp>
          <p:nvSpPr>
            <p:cNvPr id="201" name=""/>
            <p:cNvSpPr/>
            <p:nvPr/>
          </p:nvSpPr>
          <p:spPr>
            <a:xfrm flipH="1">
              <a:off x="3059280" y="3771000"/>
              <a:ext cx="1512720" cy="1818360"/>
            </a:xfrm>
            <a:prstGeom prst="can">
              <a:avLst>
                <a:gd name="adj" fmla="val 25000"/>
              </a:avLst>
            </a:prstGeom>
            <a:solidFill>
              <a:srgbClr val="3399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3716280"/>
              <a:ext cx="1511640" cy="495720"/>
            </a:xfrm>
            <a:prstGeom prst="ellipse">
              <a:avLst/>
            </a:prstGeom>
            <a:solidFill>
              <a:srgbClr val="ffffff">
                <a:alpha val="9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0" y="47628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水倒入量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每杯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以倒几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升等于多少毫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092600" y="1375200"/>
            <a:ext cx="1785960" cy="3156120"/>
          </a:xfrm>
          <a:prstGeom prst="can">
            <a:avLst>
              <a:gd name="adj" fmla="val 25000"/>
            </a:avLst>
          </a:prstGeom>
          <a:noFill/>
          <a:ln w="316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1020240" y="1866600"/>
            <a:ext cx="1123920" cy="223236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131200" y="2845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2920" y="2421000"/>
            <a:ext cx="144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90764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40292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99640" y="2421000"/>
            <a:ext cx="1800" cy="298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45120" y="2797200"/>
            <a:ext cx="764280" cy="956880"/>
            <a:chOff x="1545120" y="2797200"/>
            <a:chExt cx="764280" cy="956880"/>
          </a:xfrm>
        </p:grpSpPr>
        <p:sp>
          <p:nvSpPr>
            <p:cNvPr id="212" name=""/>
            <p:cNvSpPr/>
            <p:nvPr/>
          </p:nvSpPr>
          <p:spPr>
            <a:xfrm>
              <a:off x="194364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159984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19044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158976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018080" y="2797200"/>
            <a:ext cx="744120" cy="956880"/>
            <a:chOff x="1018080" y="2797200"/>
            <a:chExt cx="744120" cy="956880"/>
          </a:xfrm>
        </p:grpSpPr>
        <p:sp>
          <p:nvSpPr>
            <p:cNvPr id="217" name=""/>
            <p:cNvSpPr/>
            <p:nvPr/>
          </p:nvSpPr>
          <p:spPr>
            <a:xfrm>
              <a:off x="142200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10728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5400000">
              <a:off x="135720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105372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760" y="2797200"/>
            <a:ext cx="783000" cy="956880"/>
            <a:chOff x="464760" y="2797200"/>
            <a:chExt cx="783000" cy="956880"/>
          </a:xfrm>
        </p:grpSpPr>
        <p:sp>
          <p:nvSpPr>
            <p:cNvPr id="222" name=""/>
            <p:cNvSpPr/>
            <p:nvPr/>
          </p:nvSpPr>
          <p:spPr>
            <a:xfrm>
              <a:off x="858240" y="2797200"/>
              <a:ext cx="0" cy="44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51948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842760" y="2791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5400000">
              <a:off x="517320" y="3195000"/>
              <a:ext cx="6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59280" y="3645000"/>
            <a:ext cx="1872720" cy="1978560"/>
            <a:chOff x="3059280" y="3645000"/>
            <a:chExt cx="1872720" cy="1978560"/>
          </a:xfrm>
        </p:grpSpPr>
        <p:sp>
          <p:nvSpPr>
            <p:cNvPr id="227" name=""/>
            <p:cNvSpPr/>
            <p:nvPr/>
          </p:nvSpPr>
          <p:spPr>
            <a:xfrm>
              <a:off x="3059280" y="3645000"/>
              <a:ext cx="148032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5400000">
              <a:off x="4022640" y="4287600"/>
              <a:ext cx="1034640" cy="784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4880" y="420516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4880" y="42051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94880" y="53272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4880" y="450756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4880" y="480888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94880" y="5067720"/>
              <a:ext cx="2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94880" y="54568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94880" y="51969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94880" y="493848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94880" y="46368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4880" y="433440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66600" y="52246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95400" y="494028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95400" y="46785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95400" y="442080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95040" y="41173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588000" y="3573360"/>
            <a:ext cx="1873080" cy="1978560"/>
            <a:chOff x="6588000" y="3573360"/>
            <a:chExt cx="1873080" cy="1978560"/>
          </a:xfrm>
        </p:grpSpPr>
        <p:sp>
          <p:nvSpPr>
            <p:cNvPr id="246" name=""/>
            <p:cNvSpPr/>
            <p:nvPr/>
          </p:nvSpPr>
          <p:spPr>
            <a:xfrm>
              <a:off x="6588000" y="3573360"/>
              <a:ext cx="1480680" cy="1941120"/>
            </a:xfrm>
            <a:prstGeom prst="can">
              <a:avLst>
                <a:gd name="adj" fmla="val 25000"/>
              </a:avLst>
            </a:prstGeom>
            <a:noFill/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7551360" y="4215600"/>
              <a:ext cx="1034640" cy="78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23600" y="4133520"/>
              <a:ext cx="0" cy="13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23600" y="41335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23600" y="52556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23600" y="44359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23600" y="47372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23600" y="49960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3600" y="53852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3600" y="512532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23600" y="486684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3600" y="45651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23600" y="4262760"/>
              <a:ext cx="1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5320" y="51530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24120" y="486864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24120" y="460692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24120" y="43491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223760" y="404568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00m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37:02Z</dcterms:created>
  <dc:creator>3xy</dc:creator>
  <dc:description/>
  <dc:language>en-US</dc:language>
  <cp:lastModifiedBy>Administrator</cp:lastModifiedBy>
  <dcterms:modified xsi:type="dcterms:W3CDTF">2014-08-31T14:13:47Z</dcterms:modified>
  <cp:revision>90</cp:revision>
  <dc:subject/>
  <dc:title>幻灯片 1</dc:title>
</cp:coreProperties>
</file>