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F3C-BC9E-496F-A0CE-E65B9977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140-4C9F-4802-A1E8-93CFB571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32B-2683-4972-8AB5-69AB9B03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B3B-7F1F-4692-83D2-9A4ABBB3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E8BA-6461-454D-9EF4-9D01398A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E5A8-FFED-48F4-9BBC-418FE4FB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94C-3947-4050-A821-11036D0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2F9D-0411-470D-BA51-C9C0233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E7B4-2A0E-4F6B-829A-B3D4B93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82D1-9E07-4805-A4AC-233D197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2A8B-CD6A-443C-A04A-BAC4C33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3EF-099C-44B7-9662-9B4731D6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180-5C5C-44B2-B28C-5BB4DFA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2B0B-86D3-425C-8687-A6EC83B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E20-E330-4F0E-A1E2-78FF83CF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EEF3-2A2C-4E7D-A617-01738C03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4FEF-159A-4813-922C-048A5516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35E-8B14-40BC-A3ED-D863B828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840-1167-460B-8975-E5B6769E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84F-E3C7-4FD5-8878-F425A68A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467-5BF2-48C6-884B-E1C9FDF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971-6104-4B63-B41F-1069115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4F4-F188-409A-AC06-BC598D7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EEF-405B-41E6-BA3C-4753B8B6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A3B-9AD5-4FA2-ADA4-B3B270D0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134-1B29-4603-A8B5-3688972E8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6145200" cy="12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730520" y="623880"/>
            <a:ext cx="20289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÷9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265000" y="536400"/>
            <a:ext cx="22989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79+11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805760" y="1658880"/>
            <a:ext cx="20444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25×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634760" y="2693880"/>
            <a:ext cx="22834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560÷7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608840" y="3678120"/>
            <a:ext cx="22989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6+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213520" y="1549440"/>
            <a:ext cx="25383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÷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213880" y="2619360"/>
            <a:ext cx="22834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55÷11=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25200" y="3733920"/>
            <a:ext cx="14778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12×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221280" y="611280"/>
            <a:ext cx="10018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311640" y="1701720"/>
            <a:ext cx="15109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100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221640" y="2666880"/>
            <a:ext cx="125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80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214800" y="3657600"/>
            <a:ext cx="15109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100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2590920"/>
            <a:ext cx="4352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250760" y="1549440"/>
            <a:ext cx="4352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009920" y="533520"/>
            <a:ext cx="6897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860880" y="3710160"/>
            <a:ext cx="6897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0" y="228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"/>
          <p:cNvSpPr/>
          <p:nvPr/>
        </p:nvSpPr>
        <p:spPr>
          <a:xfrm>
            <a:off x="2437200" y="1371600"/>
            <a:ext cx="3228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÷6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"/>
          <p:cNvSpPr/>
          <p:nvPr/>
        </p:nvSpPr>
        <p:spPr>
          <a:xfrm>
            <a:off x="1940400" y="2208240"/>
            <a:ext cx="28515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"/>
          <p:cNvSpPr/>
          <p:nvPr/>
        </p:nvSpPr>
        <p:spPr>
          <a:xfrm>
            <a:off x="1845360" y="2830680"/>
            <a:ext cx="23302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"/>
          <p:cNvSpPr/>
          <p:nvPr/>
        </p:nvSpPr>
        <p:spPr>
          <a:xfrm>
            <a:off x="1864080" y="3597120"/>
            <a:ext cx="13280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733920" y="1981080"/>
            <a:ext cx="1066680" cy="180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705120" y="279396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1523880" y="533520"/>
            <a:ext cx="683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书体坊郭小语钢笔楷体"/>
                <a:ea typeface="书体坊郭小语钢笔楷体"/>
              </a:rPr>
              <a:t>▲</a:t>
            </a:r>
            <a:r>
              <a:rPr b="1" lang="zh-CN" sz="4000" spc="-1" strike="noStrike">
                <a:solidFill>
                  <a:srgbClr val="3333ff"/>
                </a:solidFill>
                <a:latin typeface="书体坊郭小语钢笔楷体"/>
                <a:ea typeface="书体坊郭小语钢笔楷体"/>
              </a:rPr>
              <a:t>先说说运算顺序，再计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"/>
          <p:cNvSpPr/>
          <p:nvPr/>
        </p:nvSpPr>
        <p:spPr>
          <a:xfrm>
            <a:off x="2295360" y="1424160"/>
            <a:ext cx="46339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2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5×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5562720" y="2133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"/>
          <p:cNvSpPr/>
          <p:nvPr/>
        </p:nvSpPr>
        <p:spPr>
          <a:xfrm>
            <a:off x="2295360" y="1424160"/>
            <a:ext cx="46339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－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2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5×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"/>
          <p:cNvSpPr/>
          <p:nvPr/>
        </p:nvSpPr>
        <p:spPr>
          <a:xfrm>
            <a:off x="3091680" y="762120"/>
            <a:ext cx="28368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庞中华简体 V2007"/>
                <a:ea typeface="庞中华简体 V2007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庞中华简体 V2007"/>
                <a:ea typeface="庞中华简体 V2007"/>
              </a:rPr>
              <a:t>你能全都做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348000" y="1220760"/>
            <a:ext cx="3138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7+29×3)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46800" y="2146320"/>
            <a:ext cx="30333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7+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869920" y="3075120"/>
            <a:ext cx="1936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905920" y="3982320"/>
            <a:ext cx="1113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419720" y="1981080"/>
            <a:ext cx="1066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3472560" y="1298520"/>
            <a:ext cx="28368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庞中华简体 V2007"/>
                <a:ea typeface="庞中华简体 V2007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庞中华简体 V2007"/>
                <a:ea typeface="庞中华简体 V2007"/>
              </a:rPr>
              <a:t>你能全都做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588840" y="2404080"/>
            <a:ext cx="39049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8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961240" y="309096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32080" y="3048120"/>
            <a:ext cx="3191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8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95800" y="3732120"/>
            <a:ext cx="1936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8×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194280" y="4417920"/>
            <a:ext cx="13874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838080" y="449568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838080" y="50292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838080" y="556416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838080" y="609768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IMG_2858"/>
          <p:cNvPicPr/>
          <p:nvPr/>
        </p:nvPicPr>
        <p:blipFill>
          <a:blip r:embed="rId1">
            <a:lum contrast="36000"/>
          </a:blip>
          <a:srcRect l="18306" t="43722" r="11877" b="35027"/>
          <a:stretch/>
        </p:blipFill>
        <p:spPr>
          <a:xfrm>
            <a:off x="228600" y="307800"/>
            <a:ext cx="863604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511160" y="3886200"/>
            <a:ext cx="912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005840" y="3886200"/>
            <a:ext cx="912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步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838080" y="660384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286000" y="457200"/>
            <a:ext cx="51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隶书"/>
              </a:rPr>
              <a:t>我的总结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04920" y="15397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11360" y="1676520"/>
            <a:ext cx="1400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数学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20240" y="2451240"/>
            <a:ext cx="52045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1.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数学书第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71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页和第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72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页的第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67840" y="3156120"/>
            <a:ext cx="6960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2.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练习册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:"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整数的四则混合运算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(2)"</a:t>
            </a:r>
            <a:r>
              <a:rPr b="1" lang="zh-CN" sz="3200" spc="-1" strike="noStrike">
                <a:solidFill>
                  <a:srgbClr val="6600cc"/>
                </a:solidFill>
                <a:latin typeface="书体坊赵九江钢笔楷书"/>
                <a:ea typeface="书体坊赵九江钢笔楷书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书体坊赵九江钢笔楷书"/>
                <a:ea typeface="书体坊赵九江钢笔楷书"/>
              </a:rPr>
              <a:t>（细心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11:12:33Z</dcterms:created>
  <dc:creator/>
  <dc:description/>
  <cp:keywords/>
  <dc:language>en-US</dc:language>
  <cp:lastModifiedBy>dreamsummit</cp:lastModifiedBy>
  <dcterms:modified xsi:type="dcterms:W3CDTF">2015-05-15T09:34:26Z</dcterms:modified>
  <cp:revision>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NXTAG2">
    <vt:lpwstr>000800a006000000000001024120</vt:lpwstr>
  </property>
  <property fmtid="{D5CDD505-2E9C-101B-9397-08002B2CF9AE}" pid="4" name="Version">
    <vt:r8>1</vt:r8>
  </property>
</Properties>
</file>