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C0C-0C12-4384-B89A-1C15481E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FB3-8163-4D16-A814-AAA6D7A1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49B-D467-46A5-B747-8CD931B6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116-1C56-4122-8181-8D1C3D89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F9DE-D915-41DE-AAA9-89629EF8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234-55D1-4DA7-BFA2-8236059C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1D76-03BF-4329-8857-498D8BD6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2ECD-9316-48BD-B710-3AE072A4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5DB0-3F7F-4B51-8295-893C4971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AE1B-AC16-468A-BA17-75F16AB6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CEF4-BDF5-447B-890E-F1C4C8A8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1544-A06C-4B6B-9FBE-6C646291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4A3B-A39F-4360-9B26-8C3296C8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C99D-C363-4171-9164-2218634E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B5FA-E1B3-42F5-A079-81B678BC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2BB2-7FD7-4A7C-9A0B-E899D4FB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E2D-1719-4F45-9BF0-D313BC02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06F6-BA72-4DE9-A38A-DAD9AB65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5449D-54B0-4F11-B6AA-CC40B4CB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176F-5325-462E-955F-3D2E5B60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7B60C-2270-4E99-99B7-5DADD643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60099-C67E-459F-85B8-D0773525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D2A7A-55CF-4F0C-B58B-9237FA40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A2B7-83EB-4068-A57D-6BDDF1C7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BE3CD-140F-488B-8FCF-53BB998A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A8C89-689D-4C63-94AC-AA7C3E13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BA386-6718-4898-8578-C929863D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2F1-F660-4FB6-B402-A45C99DA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3352-01C5-46B8-B035-9FAF3E27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37261-F967-4ADB-BCF8-ED0B0CCE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8568-8001-48F6-985D-19603D1E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4F7D6-62E5-441A-A151-9B04A90C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9D7B1-CA7F-4389-A227-9F8EB9A5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3A94B-EEF8-41A1-B15F-9B4F20DE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0227C-32CC-4CD3-897E-313C05A8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42E04-3D83-4A00-B5E3-A1907128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33A78-67D2-4128-949B-44500D4B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A450E-0D6B-42B2-BCA2-5CCA9CE7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E31-57D2-44CB-9469-77814243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5C592-2F21-4436-85BF-536712A7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CB850-E5DB-4E25-A72E-C15C9D56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FC1BC-35D4-4121-85EA-B43ECF74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8C86E-64BD-4B24-A3F3-10304F81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21476-99E6-4990-9F5D-AE7DE85D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104D4-1A6D-4F75-A4D2-0BE0B5AF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1390C-0CB7-46B3-BAA2-351648FA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E4A4C-472C-4D7A-B0A9-0ED78658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FAD4C-C9B2-4A5C-B94E-E45DF5F1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4F68C-CE2D-4EC2-A172-1138DCED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8EB-8F6B-46E0-B1F6-F67472D5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DBB8D-0873-4E91-8B26-1A852D59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D5293-D245-40B6-B57F-F5BDE188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BBADF-A29B-4123-8918-9895CC31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0189F-7B0E-4158-911D-E2AEF1EE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10733-2758-42A9-859C-D11EBB68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10D10-F748-4545-BAEA-C26DCDEE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F697C-D412-4AC4-A763-B1188300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35971-D1A4-4F94-A96C-646A0982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A33BD-0D86-424D-89CF-9A657C96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9910F-3BA7-4112-BE79-066B4B1F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EE51-C907-46DD-A3D1-655C6304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89BC4-81E4-4059-9638-89A9AA6F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68741-D11A-47DE-879F-562777F5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046FE-D91C-437B-831A-84183A91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568E4-29D7-4E8D-B48F-D2C9B80D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6C474-8F88-4FAE-A691-723EC0FC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0987E-9C51-4CE6-BAF5-90951E0C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EC7B8-563A-44B7-A1D5-9507915C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BC75B-1CC4-4A48-92FD-40F689F2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E4777-03E1-4C7B-B8F5-F9A732D8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8496D-7BE4-4C4F-84B3-3583EAD1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A78-8799-4D6C-BB58-8ECF14DD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31AC6-F90C-4CF6-A38C-5118C3B1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9208D-C142-44A7-83AB-EB3FED33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F1D3F-C2D5-4617-B1CD-199FD0FC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B123C-4384-4514-9884-C48ECE0D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B0DC4-18E5-45BE-80AD-11EB5CDB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86943-DC02-493C-9532-69599563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F9580-3634-4545-83C1-717F7B1E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76923-6442-480C-9ABD-950802C7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AA38F-4FE3-4642-A09D-445D621B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291C6-1DB6-4FFC-AFD5-82618DD3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E84-61A4-422A-A92C-5194B00F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D0B25-000F-48D6-A13C-8797B7A1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DA573-C022-4456-AC50-5FBF75CC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E49C7-019E-44A6-853B-38123465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1FF81-D30E-4DE6-B056-32BDB0D3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47798-6B49-4A8E-8BD9-4A277243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A2642-242F-492F-B4D7-F3782A04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C1EDB-EE73-483D-9878-1545BBF9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4D234-6FC8-48D5-974E-4F34D6F6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5C19B-631A-4470-B61F-6CB8867B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C7A5B-BFE0-426E-83E0-CF328C2E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D6B28-F5ED-4702-8283-BE4BB82B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6F032-D88B-4929-8A05-B5E438E6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35029-138F-435A-B8CD-8D88C436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0E403-91F2-40C5-936E-0EA72707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E4851-356A-4C1D-9435-91280AAD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580F8-7A02-4C38-8EA5-5D65D38A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5D946-9E21-46E8-B865-F6A272D0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B68CA-5E3E-4AE2-9BEF-A678BF4A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2B20A-3CBE-49D1-85A0-20518EED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90B74-5DF1-4551-A05C-7E07946B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1CAB4-E9A4-4CDF-9AFD-ADE7FDC9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E8A38-1EDD-49F2-9109-4C02B614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6D897-A109-43D3-85AD-8080EBDE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C8E2B-C6AF-4278-A178-EADB9418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B6030-F40D-4E74-8AC9-4CF1A09A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9E07D-B96B-48A5-B287-4594A7D5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EA9EE-B7B3-4BB0-B054-9A494841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49F2D-479A-4688-A5D3-2E48FDCB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DC315-C094-4C35-A715-D6146F21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97AEA-B322-453E-B199-FD667D21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C440A-A050-410D-9B51-6935ACB6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09F2D-5558-4B7B-B1E0-E31E3A30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9DA5B-2682-4760-A2B1-E131BC01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C6CE9-FC24-450E-B591-D45C3385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EBA70-C46C-4737-BB11-6ED47EFF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D1AD1-A141-4321-85D9-F22B0353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58C0B-B960-4DD5-91D1-C9B8A84E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AB311-A817-4C6A-986C-7DE76FE2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AF8E6-1FA0-40E6-A560-188F70F5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4883C-F988-4858-B41E-6A5051E1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1219A-C572-42F5-B5C6-D4698895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72E8B-7DFA-4D1A-A364-84BCB146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95F81-00EB-4BA0-9CDF-0F8CF69A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BD7BB-E23B-4C48-BF1A-788F0116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11575-147C-4FF3-8F7A-7A7F1C70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20B0D-1F6C-4A7D-957E-9B24F660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DEB4B-1FFD-4971-9353-5010B415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C93D8-9AE1-43E4-A7C1-2CCBE559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94A41-6581-4BE8-B3AB-CDF5F664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E0BAF-BC21-4EF5-8A05-0490BF10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0A46A-1DB8-439B-8A25-78D88CEE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E0E7B-A292-4616-9B31-144CB884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87BFF-04BA-4581-80D8-279D93B2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A4D8C-B286-49E1-9884-1C5F1B5E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4EC21-AA56-4352-B915-2EB57ED8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8A679-C0A5-4722-BF2B-B8D13D48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EFEE2-797B-4C1A-A3BE-71C93DDE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C9065-96CC-4233-AB85-845850B5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DD02C-A68C-41A8-A1FF-4439E81B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EC6B4-CC6C-4146-8F92-07DABD90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39515-C4BC-4A9C-9126-B3EEDDD9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651D-982D-4432-8AC4-11B0D60D62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DCD8-6132-4D51-AF15-5D3B4041CD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F619-B60F-4BD5-A1CC-59F7D17C91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6F23-6E78-43BC-A54F-D90D545880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ED8A-0CDF-4EBF-BA44-495F07B910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28A1-D59D-4CA8-8501-866ADF876D7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A36F-B364-44C0-A862-80B8554CD6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3" descr="人教logo"/>
          <p:cNvPicPr/>
          <p:nvPr/>
        </p:nvPicPr>
        <p:blipFill>
          <a:blip r:embed="rId3"/>
          <a:stretch/>
        </p:blipFill>
        <p:spPr>
          <a:xfrm>
            <a:off x="39528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00B9-D831-4B46-A943-03E96B58C5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5702-87B5-4C7A-BA1D-394949B8D7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FA7B-E3A0-4767-BE5A-CD1D120ACD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4B4F-06A1-4D6E-AC43-C9D61F6E79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BBA2-D10B-43D4-8246-5CCD0FBB64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Box 3"/>
          <p:cNvSpPr/>
          <p:nvPr/>
        </p:nvSpPr>
        <p:spPr>
          <a:xfrm>
            <a:off x="1357200" y="2714760"/>
            <a:ext cx="62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线和角</a:t>
            </a:r>
            <a:endParaRPr b="1" lang="en-US" sz="9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2"/>
          <p:cNvSpPr/>
          <p:nvPr/>
        </p:nvSpPr>
        <p:spPr>
          <a:xfrm>
            <a:off x="395280" y="1592280"/>
            <a:ext cx="83250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围绕两点画线，感悟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两个点可以确定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   一条直线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5" name="Rectangle 2"/>
          <p:cNvSpPr/>
          <p:nvPr/>
        </p:nvSpPr>
        <p:spPr>
          <a:xfrm>
            <a:off x="611280" y="5564160"/>
            <a:ext cx="828180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通过画图你有什么发现？（学生汇报并板演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预设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过两个点只能画一条直线、两个点可以确定一条直线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6" name="Rectangle 2"/>
          <p:cNvSpPr/>
          <p:nvPr/>
        </p:nvSpPr>
        <p:spPr>
          <a:xfrm>
            <a:off x="611280" y="3543480"/>
            <a:ext cx="799308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请你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本上任意画两个点。经过两个点可以画多少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直线呢？（教师在黑板上任意画两个点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无数、一条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7" name="Rectangle 2"/>
          <p:cNvSpPr/>
          <p:nvPr/>
        </p:nvSpPr>
        <p:spPr>
          <a:xfrm>
            <a:off x="611280" y="4754520"/>
            <a:ext cx="82454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究竟是无数条还是一条呢？我们怎么才能证明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预设：画一画来验证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8" name="Rectangle 2"/>
          <p:cNvSpPr/>
          <p:nvPr/>
        </p:nvSpPr>
        <p:spPr>
          <a:xfrm>
            <a:off x="457200" y="417600"/>
            <a:ext cx="8578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画射线、直线，感悟极限思想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99" name="Group 11"/>
          <p:cNvGrpSpPr/>
          <p:nvPr/>
        </p:nvGrpSpPr>
        <p:grpSpPr>
          <a:xfrm>
            <a:off x="4817880" y="2228760"/>
            <a:ext cx="1802520" cy="1190880"/>
            <a:chOff x="4817880" y="2228760"/>
            <a:chExt cx="1802520" cy="1190880"/>
          </a:xfrm>
        </p:grpSpPr>
        <p:sp>
          <p:nvSpPr>
            <p:cNvPr id="1200" name="Line 12"/>
            <p:cNvSpPr/>
            <p:nvPr/>
          </p:nvSpPr>
          <p:spPr>
            <a:xfrm>
              <a:off x="4817880" y="2228760"/>
              <a:ext cx="1802520" cy="119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01" name="Oval 13"/>
            <p:cNvSpPr/>
            <p:nvPr/>
          </p:nvSpPr>
          <p:spPr>
            <a:xfrm rot="2007000">
              <a:off x="5897880" y="2920320"/>
              <a:ext cx="71640" cy="73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02" name="Oval 14"/>
            <p:cNvSpPr/>
            <p:nvPr/>
          </p:nvSpPr>
          <p:spPr>
            <a:xfrm rot="2007000">
              <a:off x="5176080" y="2443320"/>
              <a:ext cx="71640" cy="73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TextBox 1"/>
          <p:cNvSpPr/>
          <p:nvPr/>
        </p:nvSpPr>
        <p:spPr>
          <a:xfrm>
            <a:off x="1139760" y="24638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            B                  C             D              E            F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4" name="Rectangle 2"/>
          <p:cNvSpPr/>
          <p:nvPr/>
        </p:nvSpPr>
        <p:spPr>
          <a:xfrm>
            <a:off x="395280" y="15541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学习线段、直线、射线的表示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5" name="Rectangle 2"/>
          <p:cNvSpPr/>
          <p:nvPr/>
        </p:nvSpPr>
        <p:spPr>
          <a:xfrm>
            <a:off x="755640" y="3645000"/>
            <a:ext cx="81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讲解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了表达方便，线段、直线、射线都可以用字母表示。  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教师在黑板上图中的端点下分别标注字母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6" name="Rectangle 2"/>
          <p:cNvSpPr/>
          <p:nvPr/>
        </p:nvSpPr>
        <p:spPr>
          <a:xfrm>
            <a:off x="755640" y="4221000"/>
            <a:ext cx="716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讲解：这条线段就可以表示为线段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7" name="Rectangle 2"/>
          <p:cNvSpPr/>
          <p:nvPr/>
        </p:nvSpPr>
        <p:spPr>
          <a:xfrm>
            <a:off x="755640" y="4653000"/>
            <a:ext cx="6878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这条直线可以怎么表示？这条射线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预设：直线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、射线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8" name="Rectangle 2"/>
          <p:cNvSpPr/>
          <p:nvPr/>
        </p:nvSpPr>
        <p:spPr>
          <a:xfrm>
            <a:off x="1160640" y="270828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线段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3492360" y="2708280"/>
            <a:ext cx="11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直线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0" name="Rectangle 2"/>
          <p:cNvSpPr/>
          <p:nvPr/>
        </p:nvSpPr>
        <p:spPr>
          <a:xfrm>
            <a:off x="3637080" y="306864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直线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1" name="Rectangle 2"/>
          <p:cNvSpPr/>
          <p:nvPr/>
        </p:nvSpPr>
        <p:spPr>
          <a:xfrm>
            <a:off x="5543640" y="270828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射线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F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2" name="Rectangle 2"/>
          <p:cNvSpPr/>
          <p:nvPr/>
        </p:nvSpPr>
        <p:spPr>
          <a:xfrm>
            <a:off x="755640" y="5516640"/>
            <a:ext cx="81374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讲解：直线除了可以表示为“直线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还可以用小写字母表示，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如直线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射线的表示方法和你们说的一样，就是用端点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射线上的另一个点来表示，如射线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3" name="Rectangle 2"/>
          <p:cNvSpPr/>
          <p:nvPr/>
        </p:nvSpPr>
        <p:spPr>
          <a:xfrm>
            <a:off x="457200" y="417600"/>
            <a:ext cx="850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画射线、直线，感悟极限思想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4" name="TextBox 19"/>
          <p:cNvSpPr/>
          <p:nvPr/>
        </p:nvSpPr>
        <p:spPr>
          <a:xfrm>
            <a:off x="3951000" y="213372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15" name="Group 28"/>
          <p:cNvGrpSpPr/>
          <p:nvPr/>
        </p:nvGrpSpPr>
        <p:grpSpPr>
          <a:xfrm>
            <a:off x="1332000" y="2492280"/>
            <a:ext cx="6480000" cy="76320"/>
            <a:chOff x="1332000" y="2492280"/>
            <a:chExt cx="6480000" cy="76320"/>
          </a:xfrm>
        </p:grpSpPr>
        <p:sp>
          <p:nvSpPr>
            <p:cNvPr id="1216" name="Line 17"/>
            <p:cNvSpPr/>
            <p:nvPr/>
          </p:nvSpPr>
          <p:spPr>
            <a:xfrm>
              <a:off x="5651640" y="2536920"/>
              <a:ext cx="216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17" name="Oval 18"/>
            <p:cNvSpPr/>
            <p:nvPr/>
          </p:nvSpPr>
          <p:spPr>
            <a:xfrm>
              <a:off x="6589800" y="2492280"/>
              <a:ext cx="71280" cy="73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18" name="Oval 19"/>
            <p:cNvSpPr/>
            <p:nvPr/>
          </p:nvSpPr>
          <p:spPr>
            <a:xfrm>
              <a:off x="5651640" y="2492280"/>
              <a:ext cx="71280" cy="73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219" name="Group 23"/>
            <p:cNvGrpSpPr/>
            <p:nvPr/>
          </p:nvGrpSpPr>
          <p:grpSpPr>
            <a:xfrm>
              <a:off x="1332000" y="2495520"/>
              <a:ext cx="1009440" cy="73080"/>
              <a:chOff x="1332000" y="2495520"/>
              <a:chExt cx="1009440" cy="73080"/>
            </a:xfrm>
          </p:grpSpPr>
          <p:sp>
            <p:nvSpPr>
              <p:cNvPr id="1220" name="Line 20"/>
              <p:cNvSpPr/>
              <p:nvPr/>
            </p:nvSpPr>
            <p:spPr>
              <a:xfrm>
                <a:off x="1332000" y="2540160"/>
                <a:ext cx="1008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21" name="Oval 21"/>
              <p:cNvSpPr/>
              <p:nvPr/>
            </p:nvSpPr>
            <p:spPr>
              <a:xfrm>
                <a:off x="2270160" y="2495520"/>
                <a:ext cx="71280" cy="73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22" name="Oval 22"/>
              <p:cNvSpPr/>
              <p:nvPr/>
            </p:nvSpPr>
            <p:spPr>
              <a:xfrm>
                <a:off x="1332000" y="2495520"/>
                <a:ext cx="71280" cy="73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223" name="Group 27"/>
            <p:cNvGrpSpPr/>
            <p:nvPr/>
          </p:nvGrpSpPr>
          <p:grpSpPr>
            <a:xfrm>
              <a:off x="3132000" y="2492280"/>
              <a:ext cx="2160720" cy="73080"/>
              <a:chOff x="3132000" y="2492280"/>
              <a:chExt cx="2160720" cy="73080"/>
            </a:xfrm>
          </p:grpSpPr>
          <p:sp>
            <p:nvSpPr>
              <p:cNvPr id="1224" name="Line 24"/>
              <p:cNvSpPr/>
              <p:nvPr/>
            </p:nvSpPr>
            <p:spPr>
              <a:xfrm>
                <a:off x="3132000" y="2536920"/>
                <a:ext cx="2160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25" name="Oval 25"/>
              <p:cNvSpPr/>
              <p:nvPr/>
            </p:nvSpPr>
            <p:spPr>
              <a:xfrm>
                <a:off x="4564080" y="2492280"/>
                <a:ext cx="71280" cy="73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26" name="Oval 26"/>
              <p:cNvSpPr/>
              <p:nvPr/>
            </p:nvSpPr>
            <p:spPr>
              <a:xfrm>
                <a:off x="3625920" y="2492280"/>
                <a:ext cx="71280" cy="73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学习角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8" name="Rectangle 2"/>
          <p:cNvSpPr/>
          <p:nvPr/>
        </p:nvSpPr>
        <p:spPr>
          <a:xfrm>
            <a:off x="395280" y="1557360"/>
            <a:ext cx="75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借助画角，复习角的相关知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9" name="Rectangle 2"/>
          <p:cNvSpPr/>
          <p:nvPr/>
        </p:nvSpPr>
        <p:spPr>
          <a:xfrm>
            <a:off x="684360" y="4268880"/>
            <a:ext cx="82454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你认识它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这是一个角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685800" y="3832200"/>
            <a:ext cx="824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创设问题情境：请你在练习本上从一个点出发画出两条射线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1" name="Rectangle 2"/>
          <p:cNvSpPr/>
          <p:nvPr/>
        </p:nvSpPr>
        <p:spPr>
          <a:xfrm>
            <a:off x="685800" y="5060880"/>
            <a:ext cx="74152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追问：有关角，你都知道什么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顶点、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32" name="Group 16"/>
          <p:cNvGrpSpPr/>
          <p:nvPr/>
        </p:nvGrpSpPr>
        <p:grpSpPr>
          <a:xfrm>
            <a:off x="1835280" y="2421000"/>
            <a:ext cx="1584360" cy="1368360"/>
            <a:chOff x="1835280" y="2421000"/>
            <a:chExt cx="1584360" cy="1368360"/>
          </a:xfrm>
        </p:grpSpPr>
        <p:sp>
          <p:nvSpPr>
            <p:cNvPr id="1233" name="Rectangle 2"/>
            <p:cNvSpPr/>
            <p:nvPr/>
          </p:nvSpPr>
          <p:spPr>
            <a:xfrm>
              <a:off x="1835280" y="3068640"/>
              <a:ext cx="1114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顶点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34" name="Rectangle 2"/>
            <p:cNvSpPr/>
            <p:nvPr/>
          </p:nvSpPr>
          <p:spPr>
            <a:xfrm>
              <a:off x="2626200" y="2421000"/>
              <a:ext cx="43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边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35" name="Rectangle 2"/>
            <p:cNvSpPr/>
            <p:nvPr/>
          </p:nvSpPr>
          <p:spPr>
            <a:xfrm>
              <a:off x="2986560" y="3213000"/>
              <a:ext cx="43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边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36" name="Rectangle 2"/>
          <p:cNvSpPr/>
          <p:nvPr/>
        </p:nvSpPr>
        <p:spPr>
          <a:xfrm>
            <a:off x="684360" y="5877000"/>
            <a:ext cx="770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你能将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顶点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边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标在你画的角上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7" name="Line 14"/>
          <p:cNvSpPr/>
          <p:nvPr/>
        </p:nvSpPr>
        <p:spPr>
          <a:xfrm flipV="1">
            <a:off x="2484360" y="2276280"/>
            <a:ext cx="1079640" cy="10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8" name="Line 16"/>
          <p:cNvSpPr/>
          <p:nvPr/>
        </p:nvSpPr>
        <p:spPr>
          <a:xfrm>
            <a:off x="2484360" y="3357720"/>
            <a:ext cx="158436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学习角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0" name="Rectangle 2"/>
          <p:cNvSpPr/>
          <p:nvPr/>
        </p:nvSpPr>
        <p:spPr>
          <a:xfrm>
            <a:off x="395280" y="1554120"/>
            <a:ext cx="69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理解角的概念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1" name="Rectangle 2"/>
          <p:cNvSpPr/>
          <p:nvPr/>
        </p:nvSpPr>
        <p:spPr>
          <a:xfrm>
            <a:off x="684360" y="3571920"/>
            <a:ext cx="824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请你想一想什么是角，想好了和同桌同学说一说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2" name="Rectangle 2"/>
          <p:cNvSpPr/>
          <p:nvPr/>
        </p:nvSpPr>
        <p:spPr>
          <a:xfrm>
            <a:off x="685800" y="2708280"/>
            <a:ext cx="824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角的两边是什么样的线？顶点在哪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角的两边是射线，顶点就是射线的端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3" name="Rectangle 2"/>
          <p:cNvSpPr/>
          <p:nvPr/>
        </p:nvSpPr>
        <p:spPr>
          <a:xfrm>
            <a:off x="684360" y="4354560"/>
            <a:ext cx="82454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谁来说一说什么是角？（学生汇报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从一点引出两条射线所组成的图形叫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角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684360" y="5300640"/>
            <a:ext cx="82454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你同意他的表述吗？你能再说说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学习角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395280" y="1554120"/>
            <a:ext cx="87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借助指角，巩固意义，明确角的表示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7" name="Rectangle 2"/>
          <p:cNvSpPr/>
          <p:nvPr/>
        </p:nvSpPr>
        <p:spPr>
          <a:xfrm>
            <a:off x="685800" y="2637000"/>
            <a:ext cx="824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出示情境：红领巾图片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684360" y="4005360"/>
            <a:ext cx="7920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刚才大家都从红领巾中找到了角。怎样指就能清楚地让大家  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看到角是从一点引出两条射线所组成的图形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大拇指按住顶点，食指从一边转向另一边指角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9" name="Rectangle 2"/>
          <p:cNvSpPr/>
          <p:nvPr/>
        </p:nvSpPr>
        <p:spPr>
          <a:xfrm>
            <a:off x="6318360" y="2714760"/>
            <a:ext cx="971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红领巾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684360" y="3284640"/>
            <a:ext cx="824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红领巾中有角吗？你能上来指指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①指顶点；②在角的部位画圈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1" name="Rectangle 2"/>
          <p:cNvSpPr/>
          <p:nvPr/>
        </p:nvSpPr>
        <p:spPr>
          <a:xfrm>
            <a:off x="719280" y="5084640"/>
            <a:ext cx="824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你们知道数学中是怎样表示角的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719280" y="5589720"/>
            <a:ext cx="824544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讲解：就像指角一样，从角的一条边向另一条边画一条弧线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并标上数字。角通常用符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表示，这个角可以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记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作：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3" name="Rectangle 2"/>
          <p:cNvSpPr/>
          <p:nvPr/>
        </p:nvSpPr>
        <p:spPr>
          <a:xfrm>
            <a:off x="7510320" y="331776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54" name="Group 26"/>
          <p:cNvGrpSpPr/>
          <p:nvPr/>
        </p:nvGrpSpPr>
        <p:grpSpPr>
          <a:xfrm>
            <a:off x="7236000" y="2707920"/>
            <a:ext cx="1584000" cy="1081440"/>
            <a:chOff x="7236000" y="2707920"/>
            <a:chExt cx="1584000" cy="1081440"/>
          </a:xfrm>
        </p:grpSpPr>
        <p:grpSp>
          <p:nvGrpSpPr>
            <p:cNvPr id="1255" name="Group 18"/>
            <p:cNvGrpSpPr/>
            <p:nvPr/>
          </p:nvGrpSpPr>
          <p:grpSpPr>
            <a:xfrm>
              <a:off x="7236000" y="2707920"/>
              <a:ext cx="1584000" cy="1081440"/>
              <a:chOff x="7236000" y="2707920"/>
              <a:chExt cx="1584000" cy="1081440"/>
            </a:xfrm>
          </p:grpSpPr>
          <p:sp>
            <p:nvSpPr>
              <p:cNvPr id="1256" name="Line 19"/>
              <p:cNvSpPr/>
              <p:nvPr/>
            </p:nvSpPr>
            <p:spPr>
              <a:xfrm flipV="1">
                <a:off x="7236000" y="2707920"/>
                <a:ext cx="1079280" cy="1081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57" name="Line 20"/>
              <p:cNvSpPr/>
              <p:nvPr/>
            </p:nvSpPr>
            <p:spPr>
              <a:xfrm>
                <a:off x="7236000" y="3789360"/>
                <a:ext cx="1584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258" name="Arc 25"/>
            <p:cNvSpPr/>
            <p:nvPr/>
          </p:nvSpPr>
          <p:spPr>
            <a:xfrm>
              <a:off x="7451640" y="3573360"/>
              <a:ext cx="73080" cy="216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259" name="Picture 27" descr="u3jx01_15"/>
          <p:cNvPicPr/>
          <p:nvPr/>
        </p:nvPicPr>
        <p:blipFill>
          <a:blip r:embed="rId1"/>
          <a:stretch/>
        </p:blipFill>
        <p:spPr>
          <a:xfrm>
            <a:off x="5435640" y="1557360"/>
            <a:ext cx="257976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学习角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1" name="Rectangle 2"/>
          <p:cNvSpPr/>
          <p:nvPr/>
        </p:nvSpPr>
        <p:spPr>
          <a:xfrm>
            <a:off x="395280" y="1554120"/>
            <a:ext cx="87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借助指角，巩固意义，明确角的表示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826920" y="4292640"/>
            <a:ext cx="7705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巩固拓展：出示一组角。（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3" name="Rectangle 2"/>
          <p:cNvSpPr/>
          <p:nvPr/>
        </p:nvSpPr>
        <p:spPr>
          <a:xfrm>
            <a:off x="826920" y="5033880"/>
            <a:ext cx="7705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你能试着读出这些角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角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角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826920" y="5745240"/>
            <a:ext cx="7705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你能再读一读这四个角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65" name="Group 51"/>
          <p:cNvGrpSpPr/>
          <p:nvPr/>
        </p:nvGrpSpPr>
        <p:grpSpPr>
          <a:xfrm>
            <a:off x="6451560" y="2241720"/>
            <a:ext cx="1861200" cy="1837440"/>
            <a:chOff x="6451560" y="2241720"/>
            <a:chExt cx="1861200" cy="1837440"/>
          </a:xfrm>
        </p:grpSpPr>
        <p:sp>
          <p:nvSpPr>
            <p:cNvPr id="1266" name="Line 35"/>
            <p:cNvSpPr/>
            <p:nvPr/>
          </p:nvSpPr>
          <p:spPr>
            <a:xfrm>
              <a:off x="6810120" y="3690720"/>
              <a:ext cx="1366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67" name="Line 36"/>
            <p:cNvSpPr/>
            <p:nvPr/>
          </p:nvSpPr>
          <p:spPr>
            <a:xfrm flipV="1">
              <a:off x="6810120" y="2466360"/>
              <a:ext cx="358560" cy="1223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68" name="Arc 38"/>
            <p:cNvSpPr/>
            <p:nvPr/>
          </p:nvSpPr>
          <p:spPr>
            <a:xfrm>
              <a:off x="6881760" y="3474720"/>
              <a:ext cx="144000" cy="215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69" name="Rectangle 39"/>
            <p:cNvSpPr/>
            <p:nvPr/>
          </p:nvSpPr>
          <p:spPr>
            <a:xfrm>
              <a:off x="6451560" y="34574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70" name="Rectangle 40"/>
            <p:cNvSpPr/>
            <p:nvPr/>
          </p:nvSpPr>
          <p:spPr>
            <a:xfrm>
              <a:off x="6864480" y="2241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71" name="Rectangle 41"/>
            <p:cNvSpPr/>
            <p:nvPr/>
          </p:nvSpPr>
          <p:spPr>
            <a:xfrm>
              <a:off x="7962840" y="3619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72" name="Group 52"/>
          <p:cNvGrpSpPr/>
          <p:nvPr/>
        </p:nvGrpSpPr>
        <p:grpSpPr>
          <a:xfrm>
            <a:off x="4716360" y="2682720"/>
            <a:ext cx="1355760" cy="1368360"/>
            <a:chOff x="4716360" y="2682720"/>
            <a:chExt cx="1355760" cy="1368360"/>
          </a:xfrm>
        </p:grpSpPr>
        <p:sp>
          <p:nvSpPr>
            <p:cNvPr id="1273" name="Rectangle 33"/>
            <p:cNvSpPr/>
            <p:nvPr/>
          </p:nvSpPr>
          <p:spPr>
            <a:xfrm>
              <a:off x="4716360" y="3228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274" name="Group 46"/>
            <p:cNvGrpSpPr/>
            <p:nvPr/>
          </p:nvGrpSpPr>
          <p:grpSpPr>
            <a:xfrm>
              <a:off x="5064120" y="2682720"/>
              <a:ext cx="1008000" cy="1368360"/>
              <a:chOff x="5064120" y="2682720"/>
              <a:chExt cx="1008000" cy="1368360"/>
            </a:xfrm>
          </p:grpSpPr>
          <p:sp>
            <p:nvSpPr>
              <p:cNvPr id="1275" name="Line 29"/>
              <p:cNvSpPr/>
              <p:nvPr/>
            </p:nvSpPr>
            <p:spPr>
              <a:xfrm flipV="1">
                <a:off x="5064120" y="2682720"/>
                <a:ext cx="792000" cy="792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76" name="Line 30"/>
              <p:cNvSpPr/>
              <p:nvPr/>
            </p:nvSpPr>
            <p:spPr>
              <a:xfrm>
                <a:off x="5064120" y="3474720"/>
                <a:ext cx="1008000" cy="5763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77" name="Arc 45"/>
              <p:cNvSpPr/>
              <p:nvPr/>
            </p:nvSpPr>
            <p:spPr>
              <a:xfrm rot="2700000">
                <a:off x="5141520" y="3346200"/>
                <a:ext cx="195480" cy="195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278" name="Group 53"/>
          <p:cNvGrpSpPr/>
          <p:nvPr/>
        </p:nvGrpSpPr>
        <p:grpSpPr>
          <a:xfrm>
            <a:off x="3130560" y="2755800"/>
            <a:ext cx="1224000" cy="1026360"/>
            <a:chOff x="3130560" y="2755800"/>
            <a:chExt cx="1224000" cy="1026360"/>
          </a:xfrm>
        </p:grpSpPr>
        <p:sp>
          <p:nvSpPr>
            <p:cNvPr id="1279" name="Rectangle 27"/>
            <p:cNvSpPr/>
            <p:nvPr/>
          </p:nvSpPr>
          <p:spPr>
            <a:xfrm>
              <a:off x="3822480" y="3322440"/>
              <a:ext cx="32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280" name="Group 49"/>
            <p:cNvGrpSpPr/>
            <p:nvPr/>
          </p:nvGrpSpPr>
          <p:grpSpPr>
            <a:xfrm>
              <a:off x="3130560" y="2755800"/>
              <a:ext cx="1224000" cy="1008000"/>
              <a:chOff x="3130560" y="2755800"/>
              <a:chExt cx="1224000" cy="1008000"/>
            </a:xfrm>
          </p:grpSpPr>
          <p:sp>
            <p:nvSpPr>
              <p:cNvPr id="1281" name="Line 23"/>
              <p:cNvSpPr/>
              <p:nvPr/>
            </p:nvSpPr>
            <p:spPr>
              <a:xfrm>
                <a:off x="3130560" y="3763800"/>
                <a:ext cx="1224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82" name="Line 24"/>
              <p:cNvSpPr/>
              <p:nvPr/>
            </p:nvSpPr>
            <p:spPr>
              <a:xfrm flipH="1" flipV="1">
                <a:off x="3773520" y="2755800"/>
                <a:ext cx="581040" cy="1008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83" name="Arc 47"/>
              <p:cNvSpPr/>
              <p:nvPr/>
            </p:nvSpPr>
            <p:spPr>
              <a:xfrm flipH="1" rot="20700000">
                <a:off x="4103640" y="3585960"/>
                <a:ext cx="152280" cy="152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284" name="Group 54"/>
          <p:cNvGrpSpPr/>
          <p:nvPr/>
        </p:nvGrpSpPr>
        <p:grpSpPr>
          <a:xfrm>
            <a:off x="1258920" y="2682360"/>
            <a:ext cx="1584360" cy="1095120"/>
            <a:chOff x="1258920" y="2682360"/>
            <a:chExt cx="1584360" cy="1095120"/>
          </a:xfrm>
        </p:grpSpPr>
        <p:sp>
          <p:nvSpPr>
            <p:cNvPr id="1285" name="Text Box 21"/>
            <p:cNvSpPr/>
            <p:nvPr/>
          </p:nvSpPr>
          <p:spPr>
            <a:xfrm>
              <a:off x="1547640" y="33177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286" name="Group 50"/>
            <p:cNvGrpSpPr/>
            <p:nvPr/>
          </p:nvGrpSpPr>
          <p:grpSpPr>
            <a:xfrm>
              <a:off x="1258920" y="2682360"/>
              <a:ext cx="1584360" cy="1081440"/>
              <a:chOff x="1258920" y="2682360"/>
              <a:chExt cx="1584360" cy="1081440"/>
            </a:xfrm>
          </p:grpSpPr>
          <p:grpSp>
            <p:nvGrpSpPr>
              <p:cNvPr id="1287" name="Group 17"/>
              <p:cNvGrpSpPr/>
              <p:nvPr/>
            </p:nvGrpSpPr>
            <p:grpSpPr>
              <a:xfrm>
                <a:off x="1258920" y="2682360"/>
                <a:ext cx="1584360" cy="1081440"/>
                <a:chOff x="1258920" y="2682360"/>
                <a:chExt cx="1584360" cy="1081440"/>
              </a:xfrm>
            </p:grpSpPr>
            <p:sp>
              <p:nvSpPr>
                <p:cNvPr id="1288" name="Line 18"/>
                <p:cNvSpPr/>
                <p:nvPr/>
              </p:nvSpPr>
              <p:spPr>
                <a:xfrm flipV="1">
                  <a:off x="1258920" y="2682360"/>
                  <a:ext cx="1079640" cy="10810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289" name="Line 19"/>
                <p:cNvSpPr/>
                <p:nvPr/>
              </p:nvSpPr>
              <p:spPr>
                <a:xfrm>
                  <a:off x="1258920" y="3763800"/>
                  <a:ext cx="15843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290" name="Arc 48"/>
              <p:cNvSpPr/>
              <p:nvPr/>
            </p:nvSpPr>
            <p:spPr>
              <a:xfrm flipH="1" rot="7200000">
                <a:off x="1407960" y="3582720"/>
                <a:ext cx="152640" cy="1522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2"/>
          <p:cNvSpPr/>
          <p:nvPr/>
        </p:nvSpPr>
        <p:spPr>
          <a:xfrm>
            <a:off x="395280" y="1582560"/>
            <a:ext cx="86407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四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借助对比，初步明确角的大小与边的长短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无关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2" name="Rectangle 2"/>
          <p:cNvSpPr/>
          <p:nvPr/>
        </p:nvSpPr>
        <p:spPr>
          <a:xfrm>
            <a:off x="1258920" y="336240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出示情境：屏幕中出现两个边不同长但角的度数相等的角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3" name="Rectangle 2"/>
          <p:cNvSpPr/>
          <p:nvPr/>
        </p:nvSpPr>
        <p:spPr>
          <a:xfrm>
            <a:off x="1258920" y="3786120"/>
            <a:ext cx="77058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问题：这两个角哪个大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预设：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，因为它的边长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4" name="Rectangle 2"/>
          <p:cNvSpPr/>
          <p:nvPr/>
        </p:nvSpPr>
        <p:spPr>
          <a:xfrm>
            <a:off x="1258920" y="4481640"/>
            <a:ext cx="7705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追问：这是他的想法，对于他的这个想法，你有什么要说的吗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预设：两个角一样大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5" name="Rectangle 2"/>
          <p:cNvSpPr/>
          <p:nvPr/>
        </p:nvSpPr>
        <p:spPr>
          <a:xfrm>
            <a:off x="1258920" y="5302080"/>
            <a:ext cx="646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追问：你是怎么想的？你怎么证明它们一样大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预设：重叠、量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6" name="Rectangle 2"/>
          <p:cNvSpPr/>
          <p:nvPr/>
        </p:nvSpPr>
        <p:spPr>
          <a:xfrm>
            <a:off x="1258920" y="602136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问题：通过刚才的研究，你有什么发现吗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预设：角的大小与边的长短无关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学习角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98" name="Group 31"/>
          <p:cNvGrpSpPr/>
          <p:nvPr/>
        </p:nvGrpSpPr>
        <p:grpSpPr>
          <a:xfrm>
            <a:off x="2698920" y="2281320"/>
            <a:ext cx="2952720" cy="1131120"/>
            <a:chOff x="2698920" y="2281320"/>
            <a:chExt cx="2952720" cy="1131120"/>
          </a:xfrm>
        </p:grpSpPr>
        <p:grpSp>
          <p:nvGrpSpPr>
            <p:cNvPr id="1299" name="Group 28"/>
            <p:cNvGrpSpPr/>
            <p:nvPr/>
          </p:nvGrpSpPr>
          <p:grpSpPr>
            <a:xfrm>
              <a:off x="2698920" y="2281320"/>
              <a:ext cx="1584000" cy="1107360"/>
              <a:chOff x="2698920" y="2281320"/>
              <a:chExt cx="1584000" cy="1107360"/>
            </a:xfrm>
          </p:grpSpPr>
          <p:grpSp>
            <p:nvGrpSpPr>
              <p:cNvPr id="1300" name="Group 16"/>
              <p:cNvGrpSpPr/>
              <p:nvPr/>
            </p:nvGrpSpPr>
            <p:grpSpPr>
              <a:xfrm>
                <a:off x="2698920" y="2281320"/>
                <a:ext cx="1584000" cy="1080720"/>
                <a:chOff x="2698920" y="2281320"/>
                <a:chExt cx="1584000" cy="1080720"/>
              </a:xfrm>
            </p:grpSpPr>
            <p:grpSp>
              <p:nvGrpSpPr>
                <p:cNvPr id="1301" name="Group 17"/>
                <p:cNvGrpSpPr/>
                <p:nvPr/>
              </p:nvGrpSpPr>
              <p:grpSpPr>
                <a:xfrm>
                  <a:off x="2698920" y="2281320"/>
                  <a:ext cx="1584000" cy="1080720"/>
                  <a:chOff x="2698920" y="2281320"/>
                  <a:chExt cx="1584000" cy="1080720"/>
                </a:xfrm>
              </p:grpSpPr>
              <p:sp>
                <p:nvSpPr>
                  <p:cNvPr id="1302" name="Line 18"/>
                  <p:cNvSpPr/>
                  <p:nvPr/>
                </p:nvSpPr>
                <p:spPr>
                  <a:xfrm flipV="1">
                    <a:off x="2698920" y="2281320"/>
                    <a:ext cx="1079280" cy="1080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03" name="Line 19"/>
                  <p:cNvSpPr/>
                  <p:nvPr/>
                </p:nvSpPr>
                <p:spPr>
                  <a:xfrm>
                    <a:off x="2698920" y="3362040"/>
                    <a:ext cx="158400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1304" name="Arc 20"/>
                <p:cNvSpPr/>
                <p:nvPr/>
              </p:nvSpPr>
              <p:spPr>
                <a:xfrm>
                  <a:off x="2914560" y="3146040"/>
                  <a:ext cx="73080" cy="215640"/>
                </a:xfrm>
                <a:prstGeom prst="pie">
                  <a:avLst/>
                </a:pr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305" name="Rectangle 21"/>
              <p:cNvSpPr/>
              <p:nvPr/>
            </p:nvSpPr>
            <p:spPr>
              <a:xfrm>
                <a:off x="2970360" y="2928960"/>
                <a:ext cx="322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306" name="Group 30"/>
            <p:cNvGrpSpPr/>
            <p:nvPr/>
          </p:nvGrpSpPr>
          <p:grpSpPr>
            <a:xfrm>
              <a:off x="4930920" y="2736720"/>
              <a:ext cx="720720" cy="675720"/>
              <a:chOff x="4930920" y="2736720"/>
              <a:chExt cx="720720" cy="675720"/>
            </a:xfrm>
          </p:grpSpPr>
          <p:sp>
            <p:nvSpPr>
              <p:cNvPr id="1307" name="Arc 26"/>
              <p:cNvSpPr/>
              <p:nvPr/>
            </p:nvSpPr>
            <p:spPr>
              <a:xfrm>
                <a:off x="5146920" y="3122640"/>
                <a:ext cx="73080" cy="216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308" name="Group 29"/>
              <p:cNvGrpSpPr/>
              <p:nvPr/>
            </p:nvGrpSpPr>
            <p:grpSpPr>
              <a:xfrm>
                <a:off x="4930920" y="2736720"/>
                <a:ext cx="720720" cy="675720"/>
                <a:chOff x="4930920" y="2736720"/>
                <a:chExt cx="720720" cy="675720"/>
              </a:xfrm>
            </p:grpSpPr>
            <p:sp>
              <p:nvSpPr>
                <p:cNvPr id="1309" name="Line 24"/>
                <p:cNvSpPr/>
                <p:nvPr/>
              </p:nvSpPr>
              <p:spPr>
                <a:xfrm flipV="1">
                  <a:off x="4930920" y="2736720"/>
                  <a:ext cx="600120" cy="601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10" name="Line 25"/>
                <p:cNvSpPr/>
                <p:nvPr/>
              </p:nvSpPr>
              <p:spPr>
                <a:xfrm>
                  <a:off x="4930920" y="3338640"/>
                  <a:ext cx="7207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11" name="Rectangle 27"/>
                <p:cNvSpPr/>
                <p:nvPr/>
              </p:nvSpPr>
              <p:spPr>
                <a:xfrm>
                  <a:off x="5221440" y="2952720"/>
                  <a:ext cx="322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2"/>
          <p:cNvSpPr/>
          <p:nvPr/>
        </p:nvSpPr>
        <p:spPr>
          <a:xfrm>
            <a:off x="395280" y="4510080"/>
            <a:ext cx="824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小雯家和小伟家相距多少米？请你想一想、画一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3" name="Rectangle 2"/>
          <p:cNvSpPr/>
          <p:nvPr/>
        </p:nvSpPr>
        <p:spPr>
          <a:xfrm>
            <a:off x="457200" y="209520"/>
            <a:ext cx="86868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四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围绕直线距离拓展学生解决问题的策略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4" name="Rectangle 2"/>
          <p:cNvSpPr/>
          <p:nvPr/>
        </p:nvSpPr>
        <p:spPr>
          <a:xfrm>
            <a:off x="395280" y="4078440"/>
            <a:ext cx="824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出示情境：小雯家距离书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，小伟家距离书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5" name="Rectangle 2"/>
          <p:cNvSpPr/>
          <p:nvPr/>
        </p:nvSpPr>
        <p:spPr>
          <a:xfrm>
            <a:off x="395280" y="5122800"/>
            <a:ext cx="856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汇报：请你带着你的示意图给大家讲一讲你的想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≤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距离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6" name="Rectangle 2"/>
          <p:cNvSpPr/>
          <p:nvPr/>
        </p:nvSpPr>
        <p:spPr>
          <a:xfrm>
            <a:off x="395280" y="5734080"/>
            <a:ext cx="824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追问：你听懂他的想法了吗？你能再说说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7" name="Rectangle 2"/>
          <p:cNvSpPr/>
          <p:nvPr/>
        </p:nvSpPr>
        <p:spPr>
          <a:xfrm>
            <a:off x="395280" y="6165720"/>
            <a:ext cx="824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结：看来画示意图是一种很好的分析问题的方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8" name="Rectangle 2"/>
          <p:cNvSpPr/>
          <p:nvPr/>
        </p:nvSpPr>
        <p:spPr>
          <a:xfrm>
            <a:off x="687240" y="3429000"/>
            <a:ext cx="3672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雯家和小伟家相距多少米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19" name="Group 81"/>
          <p:cNvGrpSpPr/>
          <p:nvPr/>
        </p:nvGrpSpPr>
        <p:grpSpPr>
          <a:xfrm>
            <a:off x="295200" y="1360440"/>
            <a:ext cx="2477880" cy="1590840"/>
            <a:chOff x="295200" y="1360440"/>
            <a:chExt cx="2477880" cy="1590840"/>
          </a:xfrm>
        </p:grpSpPr>
        <p:sp>
          <p:nvSpPr>
            <p:cNvPr id="1320" name="AutoShape 27"/>
            <p:cNvSpPr/>
            <p:nvPr/>
          </p:nvSpPr>
          <p:spPr>
            <a:xfrm>
              <a:off x="1322280" y="1525320"/>
              <a:ext cx="1450800" cy="731880"/>
            </a:xfrm>
            <a:prstGeom prst="wedgeRoundRectCallout">
              <a:avLst>
                <a:gd name="adj1" fmla="val -60268"/>
                <a:gd name="adj2" fmla="val 478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我家距离书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店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米。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21" name="Picture 8" descr="p-05-2"/>
            <p:cNvPicPr/>
            <p:nvPr/>
          </p:nvPicPr>
          <p:blipFill>
            <a:blip r:embed="rId1"/>
            <a:stretch/>
          </p:blipFill>
          <p:spPr>
            <a:xfrm>
              <a:off x="295200" y="1360440"/>
              <a:ext cx="8906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Text Box 17"/>
            <p:cNvSpPr/>
            <p:nvPr/>
          </p:nvSpPr>
          <p:spPr>
            <a:xfrm>
              <a:off x="353880" y="2565360"/>
              <a:ext cx="1008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小雯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23" name="Group 82"/>
          <p:cNvGrpSpPr/>
          <p:nvPr/>
        </p:nvGrpSpPr>
        <p:grpSpPr>
          <a:xfrm>
            <a:off x="1438200" y="2340000"/>
            <a:ext cx="2687760" cy="1440000"/>
            <a:chOff x="1438200" y="2340000"/>
            <a:chExt cx="2687760" cy="1440000"/>
          </a:xfrm>
        </p:grpSpPr>
        <p:pic>
          <p:nvPicPr>
            <p:cNvPr id="1324" name="Picture 94" descr="p-12-2"/>
            <p:cNvPicPr/>
            <p:nvPr/>
          </p:nvPicPr>
          <p:blipFill>
            <a:blip r:embed="rId2"/>
            <a:stretch/>
          </p:blipFill>
          <p:spPr>
            <a:xfrm flipH="1">
              <a:off x="1438200" y="2340000"/>
              <a:ext cx="8841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5" name="AutoShape 27"/>
            <p:cNvSpPr/>
            <p:nvPr/>
          </p:nvSpPr>
          <p:spPr>
            <a:xfrm>
              <a:off x="2624040" y="2340000"/>
              <a:ext cx="1501920" cy="720720"/>
            </a:xfrm>
            <a:prstGeom prst="wedgeRoundRectCallout">
              <a:avLst>
                <a:gd name="adj1" fmla="val -69342"/>
                <a:gd name="adj2" fmla="val 4118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我家距离书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店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米。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26" name="Text Box 22"/>
            <p:cNvSpPr/>
            <p:nvPr/>
          </p:nvSpPr>
          <p:spPr>
            <a:xfrm>
              <a:off x="1457280" y="3394080"/>
              <a:ext cx="1008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小伟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27" name="Group 83"/>
          <p:cNvGrpSpPr/>
          <p:nvPr/>
        </p:nvGrpSpPr>
        <p:grpSpPr>
          <a:xfrm>
            <a:off x="4266360" y="1557360"/>
            <a:ext cx="4137120" cy="573120"/>
            <a:chOff x="4266360" y="1557360"/>
            <a:chExt cx="4137120" cy="573120"/>
          </a:xfrm>
        </p:grpSpPr>
        <p:grpSp>
          <p:nvGrpSpPr>
            <p:cNvPr id="1328" name="Group 24"/>
            <p:cNvGrpSpPr/>
            <p:nvPr/>
          </p:nvGrpSpPr>
          <p:grpSpPr>
            <a:xfrm>
              <a:off x="4849920" y="1751040"/>
              <a:ext cx="2933640" cy="83880"/>
              <a:chOff x="4849920" y="1751040"/>
              <a:chExt cx="2933640" cy="83880"/>
            </a:xfrm>
          </p:grpSpPr>
          <p:sp>
            <p:nvSpPr>
              <p:cNvPr id="1329" name="Line 25"/>
              <p:cNvSpPr/>
              <p:nvPr/>
            </p:nvSpPr>
            <p:spPr>
              <a:xfrm>
                <a:off x="4849920" y="1817640"/>
                <a:ext cx="2879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30" name="AutoShape 26"/>
              <p:cNvSpPr/>
              <p:nvPr/>
            </p:nvSpPr>
            <p:spPr>
              <a:xfrm>
                <a:off x="7712280" y="1763640"/>
                <a:ext cx="7128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31" name="AutoShape 27"/>
              <p:cNvSpPr/>
              <p:nvPr/>
            </p:nvSpPr>
            <p:spPr>
              <a:xfrm>
                <a:off x="4849920" y="1758960"/>
                <a:ext cx="71640" cy="712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32" name="AutoShape 28"/>
              <p:cNvSpPr/>
              <p:nvPr/>
            </p:nvSpPr>
            <p:spPr>
              <a:xfrm>
                <a:off x="6002640" y="1751040"/>
                <a:ext cx="71280" cy="7128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333" name="Rectangle 29"/>
            <p:cNvSpPr/>
            <p:nvPr/>
          </p:nvSpPr>
          <p:spPr>
            <a:xfrm>
              <a:off x="4266360" y="1577880"/>
              <a:ext cx="546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小雯家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34" name="Rectangle 30"/>
            <p:cNvSpPr/>
            <p:nvPr/>
          </p:nvSpPr>
          <p:spPr>
            <a:xfrm>
              <a:off x="7857000" y="1557360"/>
              <a:ext cx="546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小伟家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35" name="Rectangle 31"/>
            <p:cNvSpPr/>
            <p:nvPr/>
          </p:nvSpPr>
          <p:spPr>
            <a:xfrm>
              <a:off x="5715000" y="1744560"/>
              <a:ext cx="6890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书店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36" name="Group 87"/>
          <p:cNvGrpSpPr/>
          <p:nvPr/>
        </p:nvGrpSpPr>
        <p:grpSpPr>
          <a:xfrm>
            <a:off x="6093000" y="3290760"/>
            <a:ext cx="2670840" cy="727200"/>
            <a:chOff x="6093000" y="3290760"/>
            <a:chExt cx="2670840" cy="727200"/>
          </a:xfrm>
        </p:grpSpPr>
        <p:sp>
          <p:nvSpPr>
            <p:cNvPr id="1337" name="Line 35"/>
            <p:cNvSpPr/>
            <p:nvPr/>
          </p:nvSpPr>
          <p:spPr>
            <a:xfrm>
              <a:off x="6392880" y="3705120"/>
              <a:ext cx="172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38" name="Rectangle 36"/>
            <p:cNvSpPr/>
            <p:nvPr/>
          </p:nvSpPr>
          <p:spPr>
            <a:xfrm>
              <a:off x="7266600" y="3290760"/>
              <a:ext cx="546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小雯家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39" name="Rectangle 37"/>
            <p:cNvSpPr/>
            <p:nvPr/>
          </p:nvSpPr>
          <p:spPr>
            <a:xfrm>
              <a:off x="8217360" y="3444480"/>
              <a:ext cx="546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小伟家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40" name="Rectangle 38"/>
            <p:cNvSpPr/>
            <p:nvPr/>
          </p:nvSpPr>
          <p:spPr>
            <a:xfrm>
              <a:off x="6093000" y="3632040"/>
              <a:ext cx="6537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书店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41" name="AutoShape 39"/>
            <p:cNvSpPr/>
            <p:nvPr/>
          </p:nvSpPr>
          <p:spPr>
            <a:xfrm>
              <a:off x="8072280" y="3651120"/>
              <a:ext cx="71640" cy="71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42" name="AutoShape 40"/>
            <p:cNvSpPr/>
            <p:nvPr/>
          </p:nvSpPr>
          <p:spPr>
            <a:xfrm>
              <a:off x="7486560" y="3660480"/>
              <a:ext cx="71640" cy="71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43" name="AutoShape 41"/>
            <p:cNvSpPr/>
            <p:nvPr/>
          </p:nvSpPr>
          <p:spPr>
            <a:xfrm>
              <a:off x="6381720" y="3646080"/>
              <a:ext cx="71640" cy="716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44" name="Group 84"/>
          <p:cNvGrpSpPr/>
          <p:nvPr/>
        </p:nvGrpSpPr>
        <p:grpSpPr>
          <a:xfrm>
            <a:off x="6084720" y="2190600"/>
            <a:ext cx="2707920" cy="1206720"/>
            <a:chOff x="6084720" y="2190600"/>
            <a:chExt cx="2707920" cy="1206720"/>
          </a:xfrm>
        </p:grpSpPr>
        <p:sp>
          <p:nvSpPr>
            <p:cNvPr id="1345" name="Line 46"/>
            <p:cNvSpPr/>
            <p:nvPr/>
          </p:nvSpPr>
          <p:spPr>
            <a:xfrm>
              <a:off x="6421320" y="3084120"/>
              <a:ext cx="172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46" name="Rectangle 47"/>
            <p:cNvSpPr/>
            <p:nvPr/>
          </p:nvSpPr>
          <p:spPr>
            <a:xfrm>
              <a:off x="7301520" y="2190600"/>
              <a:ext cx="546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小雯家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47" name="Rectangle 48"/>
            <p:cNvSpPr/>
            <p:nvPr/>
          </p:nvSpPr>
          <p:spPr>
            <a:xfrm>
              <a:off x="8246160" y="2823840"/>
              <a:ext cx="546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小伟家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48" name="Line 49"/>
            <p:cNvSpPr/>
            <p:nvPr/>
          </p:nvSpPr>
          <p:spPr>
            <a:xfrm flipV="1">
              <a:off x="6434280" y="2582640"/>
              <a:ext cx="115236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49" name="Rectangle 50"/>
            <p:cNvSpPr/>
            <p:nvPr/>
          </p:nvSpPr>
          <p:spPr>
            <a:xfrm>
              <a:off x="6084720" y="3011400"/>
              <a:ext cx="6908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书店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50" name="AutoShape 51"/>
            <p:cNvSpPr/>
            <p:nvPr/>
          </p:nvSpPr>
          <p:spPr>
            <a:xfrm>
              <a:off x="8101080" y="3030480"/>
              <a:ext cx="71280" cy="71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51" name="AutoShape 52"/>
            <p:cNvSpPr/>
            <p:nvPr/>
          </p:nvSpPr>
          <p:spPr>
            <a:xfrm>
              <a:off x="7539120" y="2511360"/>
              <a:ext cx="71280" cy="71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52" name="AutoShape 53"/>
            <p:cNvSpPr/>
            <p:nvPr/>
          </p:nvSpPr>
          <p:spPr>
            <a:xfrm>
              <a:off x="6410160" y="3025440"/>
              <a:ext cx="71640" cy="716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53" name="Line 54"/>
            <p:cNvSpPr/>
            <p:nvPr/>
          </p:nvSpPr>
          <p:spPr>
            <a:xfrm>
              <a:off x="7586640" y="2584080"/>
              <a:ext cx="50472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54" name="Line 55"/>
            <p:cNvSpPr/>
            <p:nvPr/>
          </p:nvSpPr>
          <p:spPr>
            <a:xfrm>
              <a:off x="7577280" y="2598480"/>
              <a:ext cx="0" cy="504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55" name="Group 86"/>
          <p:cNvGrpSpPr/>
          <p:nvPr/>
        </p:nvGrpSpPr>
        <p:grpSpPr>
          <a:xfrm>
            <a:off x="4266360" y="1989000"/>
            <a:ext cx="2708640" cy="1999080"/>
            <a:chOff x="4266360" y="1989000"/>
            <a:chExt cx="2708640" cy="1999080"/>
          </a:xfrm>
        </p:grpSpPr>
        <p:sp>
          <p:nvSpPr>
            <p:cNvPr id="1356" name="Rectangle 65"/>
            <p:cNvSpPr/>
            <p:nvPr/>
          </p:nvSpPr>
          <p:spPr>
            <a:xfrm>
              <a:off x="6428520" y="1989000"/>
              <a:ext cx="546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小伟家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57" name="Rectangle 67"/>
            <p:cNvSpPr/>
            <p:nvPr/>
          </p:nvSpPr>
          <p:spPr>
            <a:xfrm>
              <a:off x="4266360" y="2370240"/>
              <a:ext cx="546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小雯家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58" name="Rectangle 70"/>
            <p:cNvSpPr/>
            <p:nvPr/>
          </p:nvSpPr>
          <p:spPr>
            <a:xfrm>
              <a:off x="5110200" y="3602160"/>
              <a:ext cx="6411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书店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59" name="Arc 76"/>
            <p:cNvSpPr/>
            <p:nvPr/>
          </p:nvSpPr>
          <p:spPr>
            <a:xfrm>
              <a:off x="5354640" y="3457440"/>
              <a:ext cx="216000" cy="71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60" name="Line 73"/>
            <p:cNvSpPr/>
            <p:nvPr/>
          </p:nvSpPr>
          <p:spPr>
            <a:xfrm flipH="1" flipV="1">
              <a:off x="4942080" y="2615760"/>
              <a:ext cx="499680" cy="103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61" name="Line 69"/>
            <p:cNvSpPr/>
            <p:nvPr/>
          </p:nvSpPr>
          <p:spPr>
            <a:xfrm flipH="1">
              <a:off x="5446080" y="2378520"/>
              <a:ext cx="1168200" cy="12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62" name="AutoShape 71"/>
            <p:cNvSpPr/>
            <p:nvPr/>
          </p:nvSpPr>
          <p:spPr>
            <a:xfrm>
              <a:off x="6607080" y="2305080"/>
              <a:ext cx="71640" cy="71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63" name="AutoShape 72"/>
            <p:cNvSpPr/>
            <p:nvPr/>
          </p:nvSpPr>
          <p:spPr>
            <a:xfrm>
              <a:off x="5416560" y="3630600"/>
              <a:ext cx="71280" cy="71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64" name="Line 74"/>
            <p:cNvSpPr/>
            <p:nvPr/>
          </p:nvSpPr>
          <p:spPr>
            <a:xfrm flipV="1">
              <a:off x="4951440" y="2377800"/>
              <a:ext cx="1655640" cy="215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65" name="Line 75"/>
            <p:cNvSpPr/>
            <p:nvPr/>
          </p:nvSpPr>
          <p:spPr>
            <a:xfrm>
              <a:off x="4942080" y="2609280"/>
              <a:ext cx="1263240" cy="189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66" name="AutoShape 77"/>
            <p:cNvSpPr/>
            <p:nvPr/>
          </p:nvSpPr>
          <p:spPr>
            <a:xfrm>
              <a:off x="4889520" y="2554200"/>
              <a:ext cx="71280" cy="716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71640"/>
                <a:gd name="textAreaBottom" fmla="*/ 68400 h 71640"/>
              </a:gdLst>
              <a:ahLst/>
              <a:rect l="textAreaLeft" t="textAreaTop" r="textAreaRight" b="textAreaBottom"/>
              <a:pathLst>
                <a:path w="21600" h="21709">
                  <a:moveTo>
                    <a:pt x="3600" y="0"/>
                  </a:moveTo>
                  <a:arcTo wR="3600" hR="3600" stAng="16200000" swAng="-5400000"/>
                  <a:lnTo>
                    <a:pt x="0" y="18109"/>
                  </a:lnTo>
                  <a:arcTo wR="3600" hR="3600" stAng="10800000" swAng="-5400000"/>
                  <a:lnTo>
                    <a:pt x="18000" y="217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8" name="Rectangle 2"/>
          <p:cNvSpPr/>
          <p:nvPr/>
        </p:nvSpPr>
        <p:spPr>
          <a:xfrm>
            <a:off x="900000" y="1841400"/>
            <a:ext cx="705672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“做一做”（角）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练习七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2"/>
          <p:cNvSpPr/>
          <p:nvPr/>
        </p:nvSpPr>
        <p:spPr>
          <a:xfrm>
            <a:off x="395280" y="15541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创设情境，回忆线段相关知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9" name="Rectangle 2"/>
          <p:cNvSpPr/>
          <p:nvPr/>
        </p:nvSpPr>
        <p:spPr>
          <a:xfrm>
            <a:off x="757080" y="3408480"/>
            <a:ext cx="752508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创设情境：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① 教师左右手各捏住一条线的两端，将其拉直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② 出示：弓的图片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0" name="Rectangle 2"/>
          <p:cNvSpPr/>
          <p:nvPr/>
        </p:nvSpPr>
        <p:spPr>
          <a:xfrm>
            <a:off x="757080" y="4724280"/>
            <a:ext cx="806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我手中拉紧的线和弓上绷紧的弦都可以看做什么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线段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1" name="Rectangle 2"/>
          <p:cNvSpPr/>
          <p:nvPr/>
        </p:nvSpPr>
        <p:spPr>
          <a:xfrm>
            <a:off x="757080" y="5810400"/>
            <a:ext cx="78472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追问：对于线段你都有哪些认识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线段是直的，有两个端点，有长度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2" name="Rectangle 2"/>
          <p:cNvSpPr/>
          <p:nvPr/>
        </p:nvSpPr>
        <p:spPr>
          <a:xfrm>
            <a:off x="757080" y="5372280"/>
            <a:ext cx="705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谁愿意到前面来，在黑板上画一条线段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93" name="Picture 13" descr="48"/>
          <p:cNvPicPr/>
          <p:nvPr/>
        </p:nvPicPr>
        <p:blipFill>
          <a:blip r:embed="rId1"/>
          <a:stretch/>
        </p:blipFill>
        <p:spPr>
          <a:xfrm>
            <a:off x="1573200" y="2433600"/>
            <a:ext cx="2549520" cy="83808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4" descr="49"/>
          <p:cNvPicPr/>
          <p:nvPr/>
        </p:nvPicPr>
        <p:blipFill>
          <a:blip r:embed="rId2"/>
          <a:stretch/>
        </p:blipFill>
        <p:spPr>
          <a:xfrm>
            <a:off x="4687920" y="2190600"/>
            <a:ext cx="1444680" cy="1289160"/>
          </a:xfrm>
          <a:prstGeom prst="rect">
            <a:avLst/>
          </a:prstGeom>
          <a:ln w="0">
            <a:noFill/>
          </a:ln>
        </p:spPr>
      </p:pic>
      <p:sp>
        <p:nvSpPr>
          <p:cNvPr id="995" name="Line 18"/>
          <p:cNvSpPr/>
          <p:nvPr/>
        </p:nvSpPr>
        <p:spPr>
          <a:xfrm>
            <a:off x="6635880" y="2714760"/>
            <a:ext cx="108108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6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创设情境，学习直线和射线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2"/>
          <p:cNvSpPr/>
          <p:nvPr/>
        </p:nvSpPr>
        <p:spPr>
          <a:xfrm>
            <a:off x="395280" y="15541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引出直线和射线，探究其特征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8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创设情境，学习直线和射线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9" name="Rectangle 2"/>
          <p:cNvSpPr/>
          <p:nvPr/>
        </p:nvSpPr>
        <p:spPr>
          <a:xfrm>
            <a:off x="612720" y="3630600"/>
            <a:ext cx="75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创设情境：教师在黑板上再画一条直线和一条射线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0" name="Rectangle 2"/>
          <p:cNvSpPr/>
          <p:nvPr/>
        </p:nvSpPr>
        <p:spPr>
          <a:xfrm>
            <a:off x="612720" y="4322880"/>
            <a:ext cx="78631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我画的这两条线还是线段吗？你知道他们的名字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直线、射线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1" name="Rectangle 2"/>
          <p:cNvSpPr/>
          <p:nvPr/>
        </p:nvSpPr>
        <p:spPr>
          <a:xfrm>
            <a:off x="611280" y="5208480"/>
            <a:ext cx="84247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追问：日常生活中你见过类似的直线和射线事物吗？你能举个例子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手电筒、汽车大灯、探照灯、太阳的光芒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监控：同学们所说的这些都是近似的射线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2" name="Line 16"/>
          <p:cNvSpPr/>
          <p:nvPr/>
        </p:nvSpPr>
        <p:spPr>
          <a:xfrm>
            <a:off x="539640" y="2852640"/>
            <a:ext cx="1081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3" name="Line 17"/>
          <p:cNvSpPr/>
          <p:nvPr/>
        </p:nvSpPr>
        <p:spPr>
          <a:xfrm>
            <a:off x="539640" y="3141720"/>
            <a:ext cx="108108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04" name="Group 28"/>
          <p:cNvGrpSpPr/>
          <p:nvPr/>
        </p:nvGrpSpPr>
        <p:grpSpPr>
          <a:xfrm>
            <a:off x="1692360" y="2063880"/>
            <a:ext cx="7061040" cy="1412280"/>
            <a:chOff x="1692360" y="2063880"/>
            <a:chExt cx="7061040" cy="1412280"/>
          </a:xfrm>
        </p:grpSpPr>
        <p:pic>
          <p:nvPicPr>
            <p:cNvPr id="1005" name="Picture 19" descr=""/>
            <p:cNvPicPr/>
            <p:nvPr/>
          </p:nvPicPr>
          <p:blipFill>
            <a:blip r:embed="rId1"/>
            <a:stretch/>
          </p:blipFill>
          <p:spPr>
            <a:xfrm>
              <a:off x="1692360" y="2396880"/>
              <a:ext cx="127152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Picture 20" descr=""/>
            <p:cNvPicPr/>
            <p:nvPr/>
          </p:nvPicPr>
          <p:blipFill>
            <a:blip r:embed="rId2"/>
            <a:stretch/>
          </p:blipFill>
          <p:spPr>
            <a:xfrm>
              <a:off x="3017880" y="2396880"/>
              <a:ext cx="18320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Picture 21" descr=""/>
            <p:cNvPicPr/>
            <p:nvPr/>
          </p:nvPicPr>
          <p:blipFill>
            <a:blip r:embed="rId3"/>
            <a:stretch/>
          </p:blipFill>
          <p:spPr>
            <a:xfrm>
              <a:off x="4900680" y="2396880"/>
              <a:ext cx="10792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Picture 23" descr="u3jx01_4b"/>
            <p:cNvPicPr/>
            <p:nvPr/>
          </p:nvPicPr>
          <p:blipFill>
            <a:blip r:embed="rId4"/>
            <a:srcRect l="0" t="0" r="10285" b="0"/>
            <a:stretch/>
          </p:blipFill>
          <p:spPr>
            <a:xfrm>
              <a:off x="6033960" y="2396880"/>
              <a:ext cx="155268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9" name="Picture 24" descr="u3jx01_4a"/>
            <p:cNvPicPr/>
            <p:nvPr/>
          </p:nvPicPr>
          <p:blipFill>
            <a:blip r:embed="rId5"/>
            <a:srcRect l="0" t="0" r="0" b="14956"/>
            <a:stretch/>
          </p:blipFill>
          <p:spPr>
            <a:xfrm>
              <a:off x="7648560" y="2063880"/>
              <a:ext cx="1104840" cy="1409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2"/>
          <p:cNvSpPr/>
          <p:nvPr/>
        </p:nvSpPr>
        <p:spPr>
          <a:xfrm>
            <a:off x="395280" y="15541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引出直线和射线，探究其特征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1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创设情境，学习直线和射线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2" name="Rectangle 2"/>
          <p:cNvSpPr/>
          <p:nvPr/>
        </p:nvSpPr>
        <p:spPr>
          <a:xfrm>
            <a:off x="539640" y="2558880"/>
            <a:ext cx="8604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问：你能用自己的话说一说直线、射线是什么样子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直线和射线都是直的，直线没有端点，射线只有一个端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3" name="Rectangle 2"/>
          <p:cNvSpPr/>
          <p:nvPr/>
        </p:nvSpPr>
        <p:spPr>
          <a:xfrm>
            <a:off x="539640" y="4654440"/>
            <a:ext cx="8425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追问：联系刚才的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变化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大家举的例子，想一想直线和射线有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什么特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射线可以向一端无限延伸，直线可以向两端无限延伸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539640" y="3560760"/>
            <a:ext cx="7417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问：你能将线段变化成射线和直线吗？（学生画图）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：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15" name="Group 23"/>
          <p:cNvGrpSpPr/>
          <p:nvPr/>
        </p:nvGrpSpPr>
        <p:grpSpPr>
          <a:xfrm>
            <a:off x="1727280" y="4130640"/>
            <a:ext cx="3873240" cy="73080"/>
            <a:chOff x="1727280" y="4130640"/>
            <a:chExt cx="3873240" cy="73080"/>
          </a:xfrm>
        </p:grpSpPr>
        <p:grpSp>
          <p:nvGrpSpPr>
            <p:cNvPr id="1016" name="Group 18"/>
            <p:cNvGrpSpPr/>
            <p:nvPr/>
          </p:nvGrpSpPr>
          <p:grpSpPr>
            <a:xfrm>
              <a:off x="3440160" y="4130640"/>
              <a:ext cx="2160360" cy="73080"/>
              <a:chOff x="3440160" y="4130640"/>
              <a:chExt cx="2160360" cy="73080"/>
            </a:xfrm>
          </p:grpSpPr>
          <p:sp>
            <p:nvSpPr>
              <p:cNvPr id="1017" name="Line 11"/>
              <p:cNvSpPr/>
              <p:nvPr/>
            </p:nvSpPr>
            <p:spPr>
              <a:xfrm>
                <a:off x="3440160" y="4174920"/>
                <a:ext cx="2160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18" name="Oval 16"/>
              <p:cNvSpPr/>
              <p:nvPr/>
            </p:nvSpPr>
            <p:spPr>
              <a:xfrm>
                <a:off x="4736880" y="4130640"/>
                <a:ext cx="71640" cy="73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19" name="Oval 17"/>
              <p:cNvSpPr/>
              <p:nvPr/>
            </p:nvSpPr>
            <p:spPr>
              <a:xfrm>
                <a:off x="3871800" y="4130640"/>
                <a:ext cx="71640" cy="73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020" name="Group 15"/>
            <p:cNvGrpSpPr/>
            <p:nvPr/>
          </p:nvGrpSpPr>
          <p:grpSpPr>
            <a:xfrm>
              <a:off x="1727280" y="4130640"/>
              <a:ext cx="1296720" cy="72720"/>
              <a:chOff x="1727280" y="4130640"/>
              <a:chExt cx="1296720" cy="72720"/>
            </a:xfrm>
          </p:grpSpPr>
          <p:sp>
            <p:nvSpPr>
              <p:cNvPr id="1021" name="Line 12"/>
              <p:cNvSpPr/>
              <p:nvPr/>
            </p:nvSpPr>
            <p:spPr>
              <a:xfrm>
                <a:off x="1727280" y="4168440"/>
                <a:ext cx="1296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22" name="Oval 14"/>
              <p:cNvSpPr/>
              <p:nvPr/>
            </p:nvSpPr>
            <p:spPr>
              <a:xfrm>
                <a:off x="2448000" y="4130640"/>
                <a:ext cx="71280" cy="727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2"/>
          <p:cNvSpPr/>
          <p:nvPr/>
        </p:nvSpPr>
        <p:spPr>
          <a:xfrm>
            <a:off x="395280" y="1554120"/>
            <a:ext cx="813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探究线段、直线和射线的联系与区别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4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创设情境，学习直线和射线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5" name="Rectangle 2"/>
          <p:cNvSpPr/>
          <p:nvPr/>
        </p:nvSpPr>
        <p:spPr>
          <a:xfrm>
            <a:off x="611280" y="2371680"/>
            <a:ext cx="83167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语：二年级时我们学习了线段，这节课我们认识了直线和射线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线段、直线和射线三者之间有什么联系与区别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6" name="Rectangle 2"/>
          <p:cNvSpPr/>
          <p:nvPr/>
        </p:nvSpPr>
        <p:spPr>
          <a:xfrm>
            <a:off x="611280" y="4724280"/>
            <a:ext cx="831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组汇报探究成果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7" name="Rectangle 2"/>
          <p:cNvSpPr/>
          <p:nvPr/>
        </p:nvSpPr>
        <p:spPr>
          <a:xfrm>
            <a:off x="611280" y="3429000"/>
            <a:ext cx="8532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组合作探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要求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请小组内合作研究线段、直线和射线三者的联系与区别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用自己喜欢的方式表示出这三者之间的联系与区别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8" name="Rectangle 2"/>
          <p:cNvSpPr/>
          <p:nvPr/>
        </p:nvSpPr>
        <p:spPr>
          <a:xfrm>
            <a:off x="611280" y="5121360"/>
            <a:ext cx="853272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① ：文字叙述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它们都是直的；线段可以测量长度；直线和射线可以无限延伸，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不能测量长度；线段有两个端点，射线有一个端点，直线没有端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创设情境，学习直线和射线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0" name="Rectangle 2"/>
          <p:cNvSpPr/>
          <p:nvPr/>
        </p:nvSpPr>
        <p:spPr>
          <a:xfrm>
            <a:off x="1187280" y="2492280"/>
            <a:ext cx="36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② ：表格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1" name="Rectangle 2"/>
          <p:cNvSpPr/>
          <p:nvPr/>
        </p:nvSpPr>
        <p:spPr>
          <a:xfrm>
            <a:off x="395280" y="1554120"/>
            <a:ext cx="813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探究线段、直线和射线的联系与区别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2" name="Rectangle 2"/>
          <p:cNvSpPr/>
          <p:nvPr/>
        </p:nvSpPr>
        <p:spPr>
          <a:xfrm>
            <a:off x="1187280" y="4724280"/>
            <a:ext cx="252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线段图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3137040" y="2536920"/>
          <a:ext cx="3975120" cy="1822320"/>
        </p:xfrm>
        <a:graphic>
          <a:graphicData uri="http://schemas.openxmlformats.org/drawingml/2006/table">
            <a:tbl>
              <a:tblPr/>
              <a:tblGrid>
                <a:gridCol w="993600"/>
                <a:gridCol w="993960"/>
                <a:gridCol w="993600"/>
                <a:gridCol w="99396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端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延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线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的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射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的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的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两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34" name="Group 436"/>
          <p:cNvGrpSpPr/>
          <p:nvPr/>
        </p:nvGrpSpPr>
        <p:grpSpPr>
          <a:xfrm>
            <a:off x="2279520" y="4970520"/>
            <a:ext cx="2882520" cy="1268280"/>
            <a:chOff x="2279520" y="4970520"/>
            <a:chExt cx="2882520" cy="1268280"/>
          </a:xfrm>
        </p:grpSpPr>
        <p:sp>
          <p:nvSpPr>
            <p:cNvPr id="1035" name="Rectangle 2"/>
            <p:cNvSpPr/>
            <p:nvPr/>
          </p:nvSpPr>
          <p:spPr>
            <a:xfrm>
              <a:off x="4375080" y="4970520"/>
              <a:ext cx="7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射线</a:t>
              </a:r>
              <a:r>
                <a:rPr b="0" lang="zh-CN" sz="36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36" name="AutoShape 39"/>
            <p:cNvSpPr/>
            <p:nvPr/>
          </p:nvSpPr>
          <p:spPr>
            <a:xfrm rot="16200000">
              <a:off x="3800880" y="5409360"/>
              <a:ext cx="216000" cy="8650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37" name="Rectangle 2"/>
            <p:cNvSpPr/>
            <p:nvPr/>
          </p:nvSpPr>
          <p:spPr>
            <a:xfrm>
              <a:off x="3568320" y="5877000"/>
              <a:ext cx="7192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线段</a:t>
              </a:r>
              <a:r>
                <a:rPr b="0" lang="zh-CN" sz="36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38" name="Rectangle 2"/>
            <p:cNvSpPr/>
            <p:nvPr/>
          </p:nvSpPr>
          <p:spPr>
            <a:xfrm>
              <a:off x="2279520" y="5464080"/>
              <a:ext cx="7189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直线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039" name="Group 45"/>
            <p:cNvGrpSpPr/>
            <p:nvPr/>
          </p:nvGrpSpPr>
          <p:grpSpPr>
            <a:xfrm>
              <a:off x="3001680" y="5632560"/>
              <a:ext cx="2160360" cy="73080"/>
              <a:chOff x="3001680" y="5632560"/>
              <a:chExt cx="2160360" cy="73080"/>
            </a:xfrm>
          </p:grpSpPr>
          <p:sp>
            <p:nvSpPr>
              <p:cNvPr id="1040" name="Line 46"/>
              <p:cNvSpPr/>
              <p:nvPr/>
            </p:nvSpPr>
            <p:spPr>
              <a:xfrm>
                <a:off x="3001680" y="5676840"/>
                <a:ext cx="2160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41" name="Oval 47"/>
              <p:cNvSpPr/>
              <p:nvPr/>
            </p:nvSpPr>
            <p:spPr>
              <a:xfrm>
                <a:off x="4298400" y="5632560"/>
                <a:ext cx="71640" cy="73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42" name="Oval 48"/>
              <p:cNvSpPr/>
              <p:nvPr/>
            </p:nvSpPr>
            <p:spPr>
              <a:xfrm>
                <a:off x="3433320" y="5632560"/>
                <a:ext cx="71640" cy="73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043" name="AutoShape 39"/>
            <p:cNvSpPr/>
            <p:nvPr/>
          </p:nvSpPr>
          <p:spPr>
            <a:xfrm flipV="1" rot="5400000">
              <a:off x="4638240" y="5133960"/>
              <a:ext cx="217440" cy="8110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0880 h 811080"/>
                <a:gd name="textAreaBottom" fmla="*/ 790200 h 81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2"/>
          <p:cNvSpPr/>
          <p:nvPr/>
        </p:nvSpPr>
        <p:spPr>
          <a:xfrm>
            <a:off x="754200" y="4649760"/>
            <a:ext cx="79992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谁来说一说自己是怎么分类的？是依据什么来分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学生汇报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5" name="Rectangle 2"/>
          <p:cNvSpPr/>
          <p:nvPr/>
        </p:nvSpPr>
        <p:spPr>
          <a:xfrm>
            <a:off x="754200" y="5632560"/>
            <a:ext cx="705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的想法和他的一样吗？能再说说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6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创设情境，学习直线和射线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7" name="Rectangle 2"/>
          <p:cNvSpPr/>
          <p:nvPr/>
        </p:nvSpPr>
        <p:spPr>
          <a:xfrm>
            <a:off x="395280" y="1554120"/>
            <a:ext cx="813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探究线段、直线和射线的联系与区别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8" name="Rectangle 2"/>
          <p:cNvSpPr/>
          <p:nvPr/>
        </p:nvSpPr>
        <p:spPr>
          <a:xfrm>
            <a:off x="731880" y="2287440"/>
            <a:ext cx="770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下面的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图形，哪些是直线？哪些是射线？哪些是线段？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49" name="Picture 10" descr="50"/>
          <p:cNvPicPr/>
          <p:nvPr/>
        </p:nvPicPr>
        <p:blipFill>
          <a:blip r:embed="rId1"/>
          <a:stretch/>
        </p:blipFill>
        <p:spPr>
          <a:xfrm>
            <a:off x="880920" y="2941560"/>
            <a:ext cx="74930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2"/>
          <p:cNvSpPr/>
          <p:nvPr/>
        </p:nvSpPr>
        <p:spPr>
          <a:xfrm>
            <a:off x="457200" y="417600"/>
            <a:ext cx="8686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画射线、直线，感悟极限思想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1" name="Rectangle 2"/>
          <p:cNvSpPr/>
          <p:nvPr/>
        </p:nvSpPr>
        <p:spPr>
          <a:xfrm>
            <a:off x="395280" y="1565280"/>
            <a:ext cx="84247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围绕一点画线，感悟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从一点出发可以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   画无数条射线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2" name="Rectangle 2"/>
          <p:cNvSpPr/>
          <p:nvPr/>
        </p:nvSpPr>
        <p:spPr>
          <a:xfrm>
            <a:off x="684360" y="3274920"/>
            <a:ext cx="53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创设情境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黑板上点一个点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3" name="Rectangle 2"/>
          <p:cNvSpPr/>
          <p:nvPr/>
        </p:nvSpPr>
        <p:spPr>
          <a:xfrm>
            <a:off x="684360" y="4475160"/>
            <a:ext cx="777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监控问题：你怎么不画了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预设：太多了，画不完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4" name="Rectangle 2"/>
          <p:cNvSpPr/>
          <p:nvPr/>
        </p:nvSpPr>
        <p:spPr>
          <a:xfrm>
            <a:off x="684360" y="5127480"/>
            <a:ext cx="755964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追问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由此你得到了什么结论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预设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经过一点可以画无数条射线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5" name="Text Box 20"/>
          <p:cNvSpPr/>
          <p:nvPr/>
        </p:nvSpPr>
        <p:spPr>
          <a:xfrm>
            <a:off x="5796000" y="2421000"/>
            <a:ext cx="24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6" name="Rectangle 2"/>
          <p:cNvSpPr/>
          <p:nvPr/>
        </p:nvSpPr>
        <p:spPr>
          <a:xfrm>
            <a:off x="684360" y="3803760"/>
            <a:ext cx="777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同学们在练习本上点一个点，并从这一点出发画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射线，看谁能最先把所有的射线都画完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57" name="Group 268"/>
          <p:cNvGrpSpPr/>
          <p:nvPr/>
        </p:nvGrpSpPr>
        <p:grpSpPr>
          <a:xfrm>
            <a:off x="5411880" y="2143080"/>
            <a:ext cx="1562040" cy="1561320"/>
            <a:chOff x="5411880" y="2143080"/>
            <a:chExt cx="1562040" cy="1561320"/>
          </a:xfrm>
        </p:grpSpPr>
        <p:grpSp>
          <p:nvGrpSpPr>
            <p:cNvPr id="1058" name="Group 137"/>
            <p:cNvGrpSpPr/>
            <p:nvPr/>
          </p:nvGrpSpPr>
          <p:grpSpPr>
            <a:xfrm>
              <a:off x="5411880" y="2171160"/>
              <a:ext cx="784800" cy="1533240"/>
              <a:chOff x="5411880" y="2171160"/>
              <a:chExt cx="784800" cy="1533240"/>
            </a:xfrm>
          </p:grpSpPr>
          <p:grpSp>
            <p:nvGrpSpPr>
              <p:cNvPr id="1059" name="Group 138"/>
              <p:cNvGrpSpPr/>
              <p:nvPr/>
            </p:nvGrpSpPr>
            <p:grpSpPr>
              <a:xfrm>
                <a:off x="5479920" y="2923200"/>
                <a:ext cx="716760" cy="781200"/>
                <a:chOff x="5479920" y="2923200"/>
                <a:chExt cx="716760" cy="781200"/>
              </a:xfrm>
            </p:grpSpPr>
            <p:sp>
              <p:nvSpPr>
                <p:cNvPr id="1060" name="Line 139"/>
                <p:cNvSpPr/>
                <p:nvPr/>
              </p:nvSpPr>
              <p:spPr>
                <a:xfrm flipH="1">
                  <a:off x="5479920" y="2923200"/>
                  <a:ext cx="716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61" name="Line 140"/>
                <p:cNvSpPr/>
                <p:nvPr/>
              </p:nvSpPr>
              <p:spPr>
                <a:xfrm flipH="1">
                  <a:off x="5479920" y="2923560"/>
                  <a:ext cx="716760" cy="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62" name="Line 141"/>
                <p:cNvSpPr/>
                <p:nvPr/>
              </p:nvSpPr>
              <p:spPr>
                <a:xfrm flipH="1">
                  <a:off x="5479920" y="2923560"/>
                  <a:ext cx="716760" cy="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63" name="Line 142"/>
                <p:cNvSpPr/>
                <p:nvPr/>
              </p:nvSpPr>
              <p:spPr>
                <a:xfrm flipH="1">
                  <a:off x="5479920" y="2923560"/>
                  <a:ext cx="71676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64" name="Line 143"/>
                <p:cNvSpPr/>
                <p:nvPr/>
              </p:nvSpPr>
              <p:spPr>
                <a:xfrm>
                  <a:off x="6196680" y="2923200"/>
                  <a:ext cx="0" cy="78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65" name="Line 144"/>
                <p:cNvSpPr/>
                <p:nvPr/>
              </p:nvSpPr>
              <p:spPr>
                <a:xfrm flipH="1">
                  <a:off x="6162480" y="2923200"/>
                  <a:ext cx="34200" cy="78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66" name="Line 145"/>
                <p:cNvSpPr/>
                <p:nvPr/>
              </p:nvSpPr>
              <p:spPr>
                <a:xfrm flipH="1">
                  <a:off x="6128640" y="2923920"/>
                  <a:ext cx="68040" cy="75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67" name="Line 146"/>
                <p:cNvSpPr/>
                <p:nvPr/>
              </p:nvSpPr>
              <p:spPr>
                <a:xfrm flipH="1">
                  <a:off x="6060240" y="2923920"/>
                  <a:ext cx="136440" cy="75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68" name="Line 147"/>
                <p:cNvSpPr/>
                <p:nvPr/>
              </p:nvSpPr>
              <p:spPr>
                <a:xfrm flipH="1">
                  <a:off x="6094440" y="2923920"/>
                  <a:ext cx="102240" cy="72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69" name="Line 148"/>
                <p:cNvSpPr/>
                <p:nvPr/>
              </p:nvSpPr>
              <p:spPr>
                <a:xfrm flipH="1">
                  <a:off x="6026040" y="2923560"/>
                  <a:ext cx="170640" cy="69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70" name="Line 149"/>
                <p:cNvSpPr/>
                <p:nvPr/>
              </p:nvSpPr>
              <p:spPr>
                <a:xfrm flipH="1">
                  <a:off x="5991840" y="2923560"/>
                  <a:ext cx="204840" cy="6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71" name="Line 150"/>
                <p:cNvSpPr/>
                <p:nvPr/>
              </p:nvSpPr>
              <p:spPr>
                <a:xfrm flipH="1">
                  <a:off x="5923800" y="2923560"/>
                  <a:ext cx="272880" cy="69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72" name="Line 151"/>
                <p:cNvSpPr/>
                <p:nvPr/>
              </p:nvSpPr>
              <p:spPr>
                <a:xfrm flipH="1">
                  <a:off x="5889600" y="2923560"/>
                  <a:ext cx="307080" cy="6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73" name="Line 152"/>
                <p:cNvSpPr/>
                <p:nvPr/>
              </p:nvSpPr>
              <p:spPr>
                <a:xfrm flipH="1">
                  <a:off x="5855760" y="2923560"/>
                  <a:ext cx="340920" cy="63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74" name="Line 153"/>
                <p:cNvSpPr/>
                <p:nvPr/>
              </p:nvSpPr>
              <p:spPr>
                <a:xfrm flipH="1">
                  <a:off x="5821200" y="2923560"/>
                  <a:ext cx="375480" cy="63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75" name="Line 154"/>
                <p:cNvSpPr/>
                <p:nvPr/>
              </p:nvSpPr>
              <p:spPr>
                <a:xfrm flipH="1">
                  <a:off x="5787360" y="2923200"/>
                  <a:ext cx="409320" cy="607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76" name="Line 155"/>
                <p:cNvSpPr/>
                <p:nvPr/>
              </p:nvSpPr>
              <p:spPr>
                <a:xfrm flipH="1">
                  <a:off x="5753160" y="2923920"/>
                  <a:ext cx="443520" cy="57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77" name="Line 156"/>
                <p:cNvSpPr/>
                <p:nvPr/>
              </p:nvSpPr>
              <p:spPr>
                <a:xfrm flipH="1">
                  <a:off x="5753160" y="2923560"/>
                  <a:ext cx="443520" cy="52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78" name="Line 157"/>
                <p:cNvSpPr/>
                <p:nvPr/>
              </p:nvSpPr>
              <p:spPr>
                <a:xfrm flipH="1">
                  <a:off x="5685120" y="2923560"/>
                  <a:ext cx="511560" cy="52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79" name="Line 158"/>
                <p:cNvSpPr/>
                <p:nvPr/>
              </p:nvSpPr>
              <p:spPr>
                <a:xfrm flipH="1">
                  <a:off x="5650560" y="2923560"/>
                  <a:ext cx="546120" cy="49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80" name="Line 159"/>
                <p:cNvSpPr/>
                <p:nvPr/>
              </p:nvSpPr>
              <p:spPr>
                <a:xfrm flipH="1">
                  <a:off x="5616720" y="2923200"/>
                  <a:ext cx="579960" cy="46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81" name="Line 160"/>
                <p:cNvSpPr/>
                <p:nvPr/>
              </p:nvSpPr>
              <p:spPr>
                <a:xfrm flipH="1">
                  <a:off x="5616720" y="2923560"/>
                  <a:ext cx="5799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82" name="Line 161"/>
                <p:cNvSpPr/>
                <p:nvPr/>
              </p:nvSpPr>
              <p:spPr>
                <a:xfrm flipH="1">
                  <a:off x="5616720" y="2923560"/>
                  <a:ext cx="579960" cy="34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83" name="Line 162"/>
                <p:cNvSpPr/>
                <p:nvPr/>
              </p:nvSpPr>
              <p:spPr>
                <a:xfrm flipH="1">
                  <a:off x="5582520" y="2923200"/>
                  <a:ext cx="614160" cy="31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84" name="Line 163"/>
                <p:cNvSpPr/>
                <p:nvPr/>
              </p:nvSpPr>
              <p:spPr>
                <a:xfrm flipH="1">
                  <a:off x="5548320" y="2923920"/>
                  <a:ext cx="648360" cy="28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85" name="Line 164"/>
                <p:cNvSpPr/>
                <p:nvPr/>
              </p:nvSpPr>
              <p:spPr>
                <a:xfrm flipH="1">
                  <a:off x="5548320" y="2923560"/>
                  <a:ext cx="648360" cy="26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86" name="Line 165"/>
                <p:cNvSpPr/>
                <p:nvPr/>
              </p:nvSpPr>
              <p:spPr>
                <a:xfrm flipH="1">
                  <a:off x="5548320" y="2923560"/>
                  <a:ext cx="648360" cy="23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87" name="Line 166"/>
                <p:cNvSpPr/>
                <p:nvPr/>
              </p:nvSpPr>
              <p:spPr>
                <a:xfrm flipH="1">
                  <a:off x="5514480" y="2923560"/>
                  <a:ext cx="682200" cy="20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88" name="Line 167"/>
                <p:cNvSpPr/>
                <p:nvPr/>
              </p:nvSpPr>
              <p:spPr>
                <a:xfrm flipH="1">
                  <a:off x="5514480" y="2923200"/>
                  <a:ext cx="68220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89" name="Line 168"/>
                <p:cNvSpPr/>
                <p:nvPr/>
              </p:nvSpPr>
              <p:spPr>
                <a:xfrm flipH="1">
                  <a:off x="5514480" y="2923200"/>
                  <a:ext cx="68220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90" name="Line 169"/>
                <p:cNvSpPr/>
                <p:nvPr/>
              </p:nvSpPr>
              <p:spPr>
                <a:xfrm flipH="1">
                  <a:off x="5479920" y="2923560"/>
                  <a:ext cx="716760" cy="11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091" name="Group 170"/>
              <p:cNvGrpSpPr/>
              <p:nvPr/>
            </p:nvGrpSpPr>
            <p:grpSpPr>
              <a:xfrm>
                <a:off x="5411880" y="2171160"/>
                <a:ext cx="784800" cy="752040"/>
                <a:chOff x="5411880" y="2171160"/>
                <a:chExt cx="784800" cy="752040"/>
              </a:xfrm>
            </p:grpSpPr>
            <p:sp>
              <p:nvSpPr>
                <p:cNvPr id="1092" name="Line 171"/>
                <p:cNvSpPr/>
                <p:nvPr/>
              </p:nvSpPr>
              <p:spPr>
                <a:xfrm flipV="1">
                  <a:off x="6196680" y="2171160"/>
                  <a:ext cx="0" cy="75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93" name="Line 172"/>
                <p:cNvSpPr/>
                <p:nvPr/>
              </p:nvSpPr>
              <p:spPr>
                <a:xfrm flipH="1" flipV="1">
                  <a:off x="6167160" y="2171160"/>
                  <a:ext cx="29160" cy="75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94" name="Line 173"/>
                <p:cNvSpPr/>
                <p:nvPr/>
              </p:nvSpPr>
              <p:spPr>
                <a:xfrm flipH="1" flipV="1">
                  <a:off x="6138360" y="2171160"/>
                  <a:ext cx="57960" cy="75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95" name="Line 174"/>
                <p:cNvSpPr/>
                <p:nvPr/>
              </p:nvSpPr>
              <p:spPr>
                <a:xfrm flipH="1" flipV="1">
                  <a:off x="6109560" y="2171160"/>
                  <a:ext cx="87120" cy="75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96" name="Line 175"/>
                <p:cNvSpPr/>
                <p:nvPr/>
              </p:nvSpPr>
              <p:spPr>
                <a:xfrm flipH="1">
                  <a:off x="5411880" y="2923200"/>
                  <a:ext cx="784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97" name="Line 176"/>
                <p:cNvSpPr/>
                <p:nvPr/>
              </p:nvSpPr>
              <p:spPr>
                <a:xfrm flipH="1" flipV="1">
                  <a:off x="5411880" y="2887200"/>
                  <a:ext cx="784800" cy="3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98" name="Line 177"/>
                <p:cNvSpPr/>
                <p:nvPr/>
              </p:nvSpPr>
              <p:spPr>
                <a:xfrm flipH="1" flipV="1">
                  <a:off x="5440680" y="2851560"/>
                  <a:ext cx="75564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99" name="Line 178"/>
                <p:cNvSpPr/>
                <p:nvPr/>
              </p:nvSpPr>
              <p:spPr>
                <a:xfrm flipH="1" flipV="1">
                  <a:off x="5440680" y="2779920"/>
                  <a:ext cx="75564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00" name="Line 179"/>
                <p:cNvSpPr/>
                <p:nvPr/>
              </p:nvSpPr>
              <p:spPr>
                <a:xfrm flipH="1" flipV="1">
                  <a:off x="5469480" y="2815920"/>
                  <a:ext cx="726840" cy="10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01" name="Line 180"/>
                <p:cNvSpPr/>
                <p:nvPr/>
              </p:nvSpPr>
              <p:spPr>
                <a:xfrm flipH="1" flipV="1">
                  <a:off x="5498640" y="2744280"/>
                  <a:ext cx="697320" cy="17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02" name="Line 181"/>
                <p:cNvSpPr/>
                <p:nvPr/>
              </p:nvSpPr>
              <p:spPr>
                <a:xfrm flipH="1" flipV="1">
                  <a:off x="5527800" y="2708280"/>
                  <a:ext cx="668520" cy="21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03" name="Line 182"/>
                <p:cNvSpPr/>
                <p:nvPr/>
              </p:nvSpPr>
              <p:spPr>
                <a:xfrm flipH="1" flipV="1">
                  <a:off x="5498640" y="2637000"/>
                  <a:ext cx="697320" cy="28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04" name="Line 183"/>
                <p:cNvSpPr/>
                <p:nvPr/>
              </p:nvSpPr>
              <p:spPr>
                <a:xfrm flipH="1" flipV="1">
                  <a:off x="5527800" y="2601000"/>
                  <a:ext cx="668520" cy="32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05" name="Line 184"/>
                <p:cNvSpPr/>
                <p:nvPr/>
              </p:nvSpPr>
              <p:spPr>
                <a:xfrm flipH="1" flipV="1">
                  <a:off x="5556600" y="2565360"/>
                  <a:ext cx="639720" cy="35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06" name="Line 185"/>
                <p:cNvSpPr/>
                <p:nvPr/>
              </p:nvSpPr>
              <p:spPr>
                <a:xfrm flipH="1" flipV="1">
                  <a:off x="5556600" y="2529360"/>
                  <a:ext cx="639720" cy="39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07" name="Line 186"/>
                <p:cNvSpPr/>
                <p:nvPr/>
              </p:nvSpPr>
              <p:spPr>
                <a:xfrm flipH="1" flipV="1">
                  <a:off x="5586120" y="2493720"/>
                  <a:ext cx="610200" cy="42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08" name="Line 187"/>
                <p:cNvSpPr/>
                <p:nvPr/>
              </p:nvSpPr>
              <p:spPr>
                <a:xfrm flipH="1" flipV="1">
                  <a:off x="5614920" y="2458080"/>
                  <a:ext cx="581400" cy="46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09" name="Line 188"/>
                <p:cNvSpPr/>
                <p:nvPr/>
              </p:nvSpPr>
              <p:spPr>
                <a:xfrm flipH="1" flipV="1">
                  <a:off x="5673240" y="2458080"/>
                  <a:ext cx="523080" cy="46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10" name="Line 189"/>
                <p:cNvSpPr/>
                <p:nvPr/>
              </p:nvSpPr>
              <p:spPr>
                <a:xfrm flipH="1" flipV="1">
                  <a:off x="5673240" y="2386440"/>
                  <a:ext cx="523080" cy="53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11" name="Line 190"/>
                <p:cNvSpPr/>
                <p:nvPr/>
              </p:nvSpPr>
              <p:spPr>
                <a:xfrm flipH="1" flipV="1">
                  <a:off x="5702040" y="2350440"/>
                  <a:ext cx="494280" cy="572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12" name="Line 191"/>
                <p:cNvSpPr/>
                <p:nvPr/>
              </p:nvSpPr>
              <p:spPr>
                <a:xfrm flipH="1" flipV="1">
                  <a:off x="5731560" y="2314800"/>
                  <a:ext cx="465120" cy="60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13" name="Line 192"/>
                <p:cNvSpPr/>
                <p:nvPr/>
              </p:nvSpPr>
              <p:spPr>
                <a:xfrm flipH="1" flipV="1">
                  <a:off x="5789880" y="2314800"/>
                  <a:ext cx="406800" cy="60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14" name="Line 193"/>
                <p:cNvSpPr/>
                <p:nvPr/>
              </p:nvSpPr>
              <p:spPr>
                <a:xfrm flipH="1" flipV="1">
                  <a:off x="5847480" y="2314800"/>
                  <a:ext cx="348840" cy="60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15" name="Line 194"/>
                <p:cNvSpPr/>
                <p:nvPr/>
              </p:nvSpPr>
              <p:spPr>
                <a:xfrm flipH="1" flipV="1">
                  <a:off x="5877000" y="2278800"/>
                  <a:ext cx="319680" cy="64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16" name="Line 195"/>
                <p:cNvSpPr/>
                <p:nvPr/>
              </p:nvSpPr>
              <p:spPr>
                <a:xfrm flipH="1" flipV="1">
                  <a:off x="5905800" y="2243160"/>
                  <a:ext cx="290520" cy="68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17" name="Line 196"/>
                <p:cNvSpPr/>
                <p:nvPr/>
              </p:nvSpPr>
              <p:spPr>
                <a:xfrm flipH="1" flipV="1">
                  <a:off x="5935320" y="2243160"/>
                  <a:ext cx="261360" cy="68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18" name="Line 197"/>
                <p:cNvSpPr/>
                <p:nvPr/>
              </p:nvSpPr>
              <p:spPr>
                <a:xfrm flipH="1" flipV="1">
                  <a:off x="5964120" y="2243160"/>
                  <a:ext cx="232560" cy="68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19" name="Line 198"/>
                <p:cNvSpPr/>
                <p:nvPr/>
              </p:nvSpPr>
              <p:spPr>
                <a:xfrm flipH="1" flipV="1">
                  <a:off x="5992920" y="2207520"/>
                  <a:ext cx="203400" cy="71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20" name="Line 199"/>
                <p:cNvSpPr/>
                <p:nvPr/>
              </p:nvSpPr>
              <p:spPr>
                <a:xfrm flipH="1" flipV="1">
                  <a:off x="6022440" y="2207520"/>
                  <a:ext cx="174240" cy="71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21" name="Line 200"/>
                <p:cNvSpPr/>
                <p:nvPr/>
              </p:nvSpPr>
              <p:spPr>
                <a:xfrm flipH="1" flipV="1">
                  <a:off x="6050880" y="2207520"/>
                  <a:ext cx="145080" cy="71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22" name="Line 201"/>
                <p:cNvSpPr/>
                <p:nvPr/>
              </p:nvSpPr>
              <p:spPr>
                <a:xfrm flipH="1" flipV="1">
                  <a:off x="6080760" y="2171160"/>
                  <a:ext cx="115920" cy="75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1123" name="Group 202"/>
            <p:cNvGrpSpPr/>
            <p:nvPr/>
          </p:nvGrpSpPr>
          <p:grpSpPr>
            <a:xfrm>
              <a:off x="6189120" y="2143080"/>
              <a:ext cx="784800" cy="1533240"/>
              <a:chOff x="6189120" y="2143080"/>
              <a:chExt cx="784800" cy="1533240"/>
            </a:xfrm>
          </p:grpSpPr>
          <p:grpSp>
            <p:nvGrpSpPr>
              <p:cNvPr id="1124" name="Group 203"/>
              <p:cNvGrpSpPr/>
              <p:nvPr/>
            </p:nvGrpSpPr>
            <p:grpSpPr>
              <a:xfrm>
                <a:off x="6189120" y="2143080"/>
                <a:ext cx="716760" cy="781200"/>
                <a:chOff x="6189120" y="2143080"/>
                <a:chExt cx="716760" cy="781200"/>
              </a:xfrm>
            </p:grpSpPr>
            <p:sp>
              <p:nvSpPr>
                <p:cNvPr id="1125" name="Line 204"/>
                <p:cNvSpPr/>
                <p:nvPr/>
              </p:nvSpPr>
              <p:spPr>
                <a:xfrm>
                  <a:off x="6189120" y="2924280"/>
                  <a:ext cx="716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26" name="Line 205"/>
                <p:cNvSpPr/>
                <p:nvPr/>
              </p:nvSpPr>
              <p:spPr>
                <a:xfrm flipV="1">
                  <a:off x="6189120" y="2895120"/>
                  <a:ext cx="716760" cy="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27" name="Line 206"/>
                <p:cNvSpPr/>
                <p:nvPr/>
              </p:nvSpPr>
              <p:spPr>
                <a:xfrm flipV="1">
                  <a:off x="6189120" y="2866320"/>
                  <a:ext cx="716760" cy="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28" name="Line 207"/>
                <p:cNvSpPr/>
                <p:nvPr/>
              </p:nvSpPr>
              <p:spPr>
                <a:xfrm flipV="1">
                  <a:off x="6189120" y="2837160"/>
                  <a:ext cx="71676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29" name="Line 208"/>
                <p:cNvSpPr/>
                <p:nvPr/>
              </p:nvSpPr>
              <p:spPr>
                <a:xfrm flipV="1">
                  <a:off x="6189120" y="2143080"/>
                  <a:ext cx="0" cy="78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30" name="Line 209"/>
                <p:cNvSpPr/>
                <p:nvPr/>
              </p:nvSpPr>
              <p:spPr>
                <a:xfrm flipV="1">
                  <a:off x="6189120" y="2143080"/>
                  <a:ext cx="34200" cy="78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31" name="Line 210"/>
                <p:cNvSpPr/>
                <p:nvPr/>
              </p:nvSpPr>
              <p:spPr>
                <a:xfrm flipV="1">
                  <a:off x="6189120" y="2171520"/>
                  <a:ext cx="68040" cy="75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32" name="Line 211"/>
                <p:cNvSpPr/>
                <p:nvPr/>
              </p:nvSpPr>
              <p:spPr>
                <a:xfrm flipV="1">
                  <a:off x="6189120" y="2171520"/>
                  <a:ext cx="136440" cy="75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33" name="Line 212"/>
                <p:cNvSpPr/>
                <p:nvPr/>
              </p:nvSpPr>
              <p:spPr>
                <a:xfrm flipV="1">
                  <a:off x="6189120" y="2200320"/>
                  <a:ext cx="102240" cy="72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34" name="Line 213"/>
                <p:cNvSpPr/>
                <p:nvPr/>
              </p:nvSpPr>
              <p:spPr>
                <a:xfrm flipV="1">
                  <a:off x="6189120" y="2229480"/>
                  <a:ext cx="170640" cy="69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35" name="Line 214"/>
                <p:cNvSpPr/>
                <p:nvPr/>
              </p:nvSpPr>
              <p:spPr>
                <a:xfrm flipV="1">
                  <a:off x="6189120" y="2258640"/>
                  <a:ext cx="204840" cy="6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36" name="Line 215"/>
                <p:cNvSpPr/>
                <p:nvPr/>
              </p:nvSpPr>
              <p:spPr>
                <a:xfrm flipV="1">
                  <a:off x="6189120" y="2229480"/>
                  <a:ext cx="272880" cy="69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37" name="Line 216"/>
                <p:cNvSpPr/>
                <p:nvPr/>
              </p:nvSpPr>
              <p:spPr>
                <a:xfrm flipV="1">
                  <a:off x="6189120" y="2258640"/>
                  <a:ext cx="307080" cy="6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38" name="Line 217"/>
                <p:cNvSpPr/>
                <p:nvPr/>
              </p:nvSpPr>
              <p:spPr>
                <a:xfrm flipV="1">
                  <a:off x="6189120" y="2287440"/>
                  <a:ext cx="340920" cy="63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39" name="Line 218"/>
                <p:cNvSpPr/>
                <p:nvPr/>
              </p:nvSpPr>
              <p:spPr>
                <a:xfrm flipV="1">
                  <a:off x="6189120" y="2287440"/>
                  <a:ext cx="375480" cy="63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40" name="Line 219"/>
                <p:cNvSpPr/>
                <p:nvPr/>
              </p:nvSpPr>
              <p:spPr>
                <a:xfrm flipV="1">
                  <a:off x="6189120" y="2316600"/>
                  <a:ext cx="409320" cy="607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41" name="Line 220"/>
                <p:cNvSpPr/>
                <p:nvPr/>
              </p:nvSpPr>
              <p:spPr>
                <a:xfrm flipV="1">
                  <a:off x="6189120" y="2345040"/>
                  <a:ext cx="443520" cy="57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42" name="Line 221"/>
                <p:cNvSpPr/>
                <p:nvPr/>
              </p:nvSpPr>
              <p:spPr>
                <a:xfrm flipV="1">
                  <a:off x="6189120" y="2403000"/>
                  <a:ext cx="443520" cy="52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43" name="Line 222"/>
                <p:cNvSpPr/>
                <p:nvPr/>
              </p:nvSpPr>
              <p:spPr>
                <a:xfrm flipV="1">
                  <a:off x="6189120" y="2403000"/>
                  <a:ext cx="511560" cy="52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44" name="Line 223"/>
                <p:cNvSpPr/>
                <p:nvPr/>
              </p:nvSpPr>
              <p:spPr>
                <a:xfrm flipV="1">
                  <a:off x="6189120" y="2432160"/>
                  <a:ext cx="546120" cy="49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45" name="Line 224"/>
                <p:cNvSpPr/>
                <p:nvPr/>
              </p:nvSpPr>
              <p:spPr>
                <a:xfrm flipV="1">
                  <a:off x="6189120" y="2461320"/>
                  <a:ext cx="579960" cy="46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46" name="Line 225"/>
                <p:cNvSpPr/>
                <p:nvPr/>
              </p:nvSpPr>
              <p:spPr>
                <a:xfrm flipV="1">
                  <a:off x="6189120" y="2518920"/>
                  <a:ext cx="5799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47" name="Line 226"/>
                <p:cNvSpPr/>
                <p:nvPr/>
              </p:nvSpPr>
              <p:spPr>
                <a:xfrm flipV="1">
                  <a:off x="6189120" y="2576880"/>
                  <a:ext cx="579960" cy="34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48" name="Line 227"/>
                <p:cNvSpPr/>
                <p:nvPr/>
              </p:nvSpPr>
              <p:spPr>
                <a:xfrm flipV="1">
                  <a:off x="6189120" y="2606040"/>
                  <a:ext cx="614160" cy="31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49" name="Line 228"/>
                <p:cNvSpPr/>
                <p:nvPr/>
              </p:nvSpPr>
              <p:spPr>
                <a:xfrm flipV="1">
                  <a:off x="6189120" y="2634480"/>
                  <a:ext cx="648360" cy="28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50" name="Line 229"/>
                <p:cNvSpPr/>
                <p:nvPr/>
              </p:nvSpPr>
              <p:spPr>
                <a:xfrm flipV="1">
                  <a:off x="6189120" y="2663640"/>
                  <a:ext cx="648360" cy="26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51" name="Line 230"/>
                <p:cNvSpPr/>
                <p:nvPr/>
              </p:nvSpPr>
              <p:spPr>
                <a:xfrm flipV="1">
                  <a:off x="6189120" y="2692440"/>
                  <a:ext cx="648360" cy="23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52" name="Line 231"/>
                <p:cNvSpPr/>
                <p:nvPr/>
              </p:nvSpPr>
              <p:spPr>
                <a:xfrm flipV="1">
                  <a:off x="6189120" y="2721240"/>
                  <a:ext cx="682200" cy="20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53" name="Line 232"/>
                <p:cNvSpPr/>
                <p:nvPr/>
              </p:nvSpPr>
              <p:spPr>
                <a:xfrm flipV="1">
                  <a:off x="6189120" y="2750760"/>
                  <a:ext cx="682200" cy="17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54" name="Line 233"/>
                <p:cNvSpPr/>
                <p:nvPr/>
              </p:nvSpPr>
              <p:spPr>
                <a:xfrm flipV="1">
                  <a:off x="6189120" y="2779560"/>
                  <a:ext cx="68220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55" name="Line 234"/>
                <p:cNvSpPr/>
                <p:nvPr/>
              </p:nvSpPr>
              <p:spPr>
                <a:xfrm flipV="1">
                  <a:off x="6189120" y="2808360"/>
                  <a:ext cx="716760" cy="11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156" name="Group 235"/>
              <p:cNvGrpSpPr/>
              <p:nvPr/>
            </p:nvGrpSpPr>
            <p:grpSpPr>
              <a:xfrm>
                <a:off x="6189120" y="2924280"/>
                <a:ext cx="784800" cy="752040"/>
                <a:chOff x="6189120" y="2924280"/>
                <a:chExt cx="784800" cy="752040"/>
              </a:xfrm>
            </p:grpSpPr>
            <p:sp>
              <p:nvSpPr>
                <p:cNvPr id="1157" name="Line 236"/>
                <p:cNvSpPr/>
                <p:nvPr/>
              </p:nvSpPr>
              <p:spPr>
                <a:xfrm>
                  <a:off x="6189120" y="2924280"/>
                  <a:ext cx="0" cy="75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58" name="Line 237"/>
                <p:cNvSpPr/>
                <p:nvPr/>
              </p:nvSpPr>
              <p:spPr>
                <a:xfrm>
                  <a:off x="6189480" y="2924280"/>
                  <a:ext cx="29160" cy="75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59" name="Line 238"/>
                <p:cNvSpPr/>
                <p:nvPr/>
              </p:nvSpPr>
              <p:spPr>
                <a:xfrm>
                  <a:off x="6189480" y="2924280"/>
                  <a:ext cx="57960" cy="75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60" name="Line 239"/>
                <p:cNvSpPr/>
                <p:nvPr/>
              </p:nvSpPr>
              <p:spPr>
                <a:xfrm>
                  <a:off x="6189120" y="2924280"/>
                  <a:ext cx="87120" cy="75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61" name="Line 240"/>
                <p:cNvSpPr/>
                <p:nvPr/>
              </p:nvSpPr>
              <p:spPr>
                <a:xfrm>
                  <a:off x="6189120" y="2924280"/>
                  <a:ext cx="784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62" name="Line 241"/>
                <p:cNvSpPr/>
                <p:nvPr/>
              </p:nvSpPr>
              <p:spPr>
                <a:xfrm>
                  <a:off x="6189120" y="2924280"/>
                  <a:ext cx="784800" cy="3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63" name="Line 242"/>
                <p:cNvSpPr/>
                <p:nvPr/>
              </p:nvSpPr>
              <p:spPr>
                <a:xfrm>
                  <a:off x="6189480" y="2924280"/>
                  <a:ext cx="75564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64" name="Line 243"/>
                <p:cNvSpPr/>
                <p:nvPr/>
              </p:nvSpPr>
              <p:spPr>
                <a:xfrm>
                  <a:off x="6189480" y="2924280"/>
                  <a:ext cx="75564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65" name="Line 244"/>
                <p:cNvSpPr/>
                <p:nvPr/>
              </p:nvSpPr>
              <p:spPr>
                <a:xfrm>
                  <a:off x="6189480" y="2924280"/>
                  <a:ext cx="726840" cy="10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66" name="Line 245"/>
                <p:cNvSpPr/>
                <p:nvPr/>
              </p:nvSpPr>
              <p:spPr>
                <a:xfrm>
                  <a:off x="6189840" y="2924280"/>
                  <a:ext cx="697320" cy="17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67" name="Line 246"/>
                <p:cNvSpPr/>
                <p:nvPr/>
              </p:nvSpPr>
              <p:spPr>
                <a:xfrm>
                  <a:off x="6189480" y="2924280"/>
                  <a:ext cx="668520" cy="21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68" name="Line 247"/>
                <p:cNvSpPr/>
                <p:nvPr/>
              </p:nvSpPr>
              <p:spPr>
                <a:xfrm>
                  <a:off x="6189840" y="2924280"/>
                  <a:ext cx="697320" cy="28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69" name="Line 248"/>
                <p:cNvSpPr/>
                <p:nvPr/>
              </p:nvSpPr>
              <p:spPr>
                <a:xfrm>
                  <a:off x="6189480" y="2924280"/>
                  <a:ext cx="668520" cy="32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70" name="Line 249"/>
                <p:cNvSpPr/>
                <p:nvPr/>
              </p:nvSpPr>
              <p:spPr>
                <a:xfrm>
                  <a:off x="6189480" y="2924280"/>
                  <a:ext cx="639720" cy="35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71" name="Line 250"/>
                <p:cNvSpPr/>
                <p:nvPr/>
              </p:nvSpPr>
              <p:spPr>
                <a:xfrm>
                  <a:off x="6189480" y="2924280"/>
                  <a:ext cx="639720" cy="39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72" name="Line 251"/>
                <p:cNvSpPr/>
                <p:nvPr/>
              </p:nvSpPr>
              <p:spPr>
                <a:xfrm>
                  <a:off x="6189480" y="2924280"/>
                  <a:ext cx="610200" cy="42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73" name="Line 252"/>
                <p:cNvSpPr/>
                <p:nvPr/>
              </p:nvSpPr>
              <p:spPr>
                <a:xfrm>
                  <a:off x="6189480" y="2924280"/>
                  <a:ext cx="581400" cy="46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74" name="Line 253"/>
                <p:cNvSpPr/>
                <p:nvPr/>
              </p:nvSpPr>
              <p:spPr>
                <a:xfrm>
                  <a:off x="6189480" y="2924280"/>
                  <a:ext cx="523080" cy="46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75" name="Line 254"/>
                <p:cNvSpPr/>
                <p:nvPr/>
              </p:nvSpPr>
              <p:spPr>
                <a:xfrm>
                  <a:off x="6189480" y="2924280"/>
                  <a:ext cx="523080" cy="53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76" name="Line 255"/>
                <p:cNvSpPr/>
                <p:nvPr/>
              </p:nvSpPr>
              <p:spPr>
                <a:xfrm>
                  <a:off x="6189480" y="2924280"/>
                  <a:ext cx="494280" cy="572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77" name="Line 256"/>
                <p:cNvSpPr/>
                <p:nvPr/>
              </p:nvSpPr>
              <p:spPr>
                <a:xfrm>
                  <a:off x="6189120" y="2924280"/>
                  <a:ext cx="465120" cy="60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78" name="Line 257"/>
                <p:cNvSpPr/>
                <p:nvPr/>
              </p:nvSpPr>
              <p:spPr>
                <a:xfrm>
                  <a:off x="6189120" y="2924280"/>
                  <a:ext cx="406800" cy="60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79" name="Line 258"/>
                <p:cNvSpPr/>
                <p:nvPr/>
              </p:nvSpPr>
              <p:spPr>
                <a:xfrm>
                  <a:off x="6189480" y="2924280"/>
                  <a:ext cx="348840" cy="60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80" name="Line 259"/>
                <p:cNvSpPr/>
                <p:nvPr/>
              </p:nvSpPr>
              <p:spPr>
                <a:xfrm>
                  <a:off x="6189120" y="2924280"/>
                  <a:ext cx="319680" cy="64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81" name="Line 260"/>
                <p:cNvSpPr/>
                <p:nvPr/>
              </p:nvSpPr>
              <p:spPr>
                <a:xfrm>
                  <a:off x="6189480" y="2924280"/>
                  <a:ext cx="290520" cy="68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82" name="Line 261"/>
                <p:cNvSpPr/>
                <p:nvPr/>
              </p:nvSpPr>
              <p:spPr>
                <a:xfrm>
                  <a:off x="6189120" y="2924280"/>
                  <a:ext cx="261360" cy="68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83" name="Line 262"/>
                <p:cNvSpPr/>
                <p:nvPr/>
              </p:nvSpPr>
              <p:spPr>
                <a:xfrm>
                  <a:off x="6189120" y="2924280"/>
                  <a:ext cx="232560" cy="68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84" name="Line 263"/>
                <p:cNvSpPr/>
                <p:nvPr/>
              </p:nvSpPr>
              <p:spPr>
                <a:xfrm>
                  <a:off x="6189480" y="2924280"/>
                  <a:ext cx="203400" cy="71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85" name="Line 264"/>
                <p:cNvSpPr/>
                <p:nvPr/>
              </p:nvSpPr>
              <p:spPr>
                <a:xfrm>
                  <a:off x="6189120" y="2924280"/>
                  <a:ext cx="174240" cy="71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86" name="Line 265"/>
                <p:cNvSpPr/>
                <p:nvPr/>
              </p:nvSpPr>
              <p:spPr>
                <a:xfrm>
                  <a:off x="6189840" y="2924280"/>
                  <a:ext cx="145080" cy="71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87" name="Line 266"/>
                <p:cNvSpPr/>
                <p:nvPr/>
              </p:nvSpPr>
              <p:spPr>
                <a:xfrm>
                  <a:off x="6189120" y="2924280"/>
                  <a:ext cx="115920" cy="75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1188" name="椭圆 5"/>
            <p:cNvSpPr/>
            <p:nvPr/>
          </p:nvSpPr>
          <p:spPr>
            <a:xfrm>
              <a:off x="6179400" y="2909880"/>
              <a:ext cx="21600" cy="284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89" name="Rectangle 2"/>
          <p:cNvSpPr/>
          <p:nvPr/>
        </p:nvSpPr>
        <p:spPr>
          <a:xfrm>
            <a:off x="684360" y="586260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还是这一个点，你认为经过这一点可以画多少条直线呢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预设：经过一点也可以画无数条直线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90" name="Picture 271" descr=""/>
          <p:cNvPicPr/>
          <p:nvPr/>
        </p:nvPicPr>
        <p:blipFill>
          <a:blip r:embed="rId1"/>
          <a:stretch/>
        </p:blipFill>
        <p:spPr>
          <a:xfrm>
            <a:off x="3708360" y="2851200"/>
            <a:ext cx="14436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Picture 3" descr=""/>
          <p:cNvPicPr/>
          <p:nvPr/>
        </p:nvPicPr>
        <p:blipFill>
          <a:blip r:embed="rId1"/>
          <a:stretch/>
        </p:blipFill>
        <p:spPr>
          <a:xfrm>
            <a:off x="324000" y="298440"/>
            <a:ext cx="8448480" cy="627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2" name="ShockwaveFlash1"/>
          <p:cNvGraphicFramePr/>
          <p:nvPr/>
        </p:nvGraphicFramePr>
        <p:xfrm>
          <a:off x="357120" y="284040"/>
          <a:ext cx="8371080" cy="628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284040"/>
                    <a:ext cx="8371080" cy="6280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cp:keywords/>
  <dc:language>en-US</dc:language>
  <cp:lastModifiedBy>Administrator</cp:lastModifiedBy>
  <dcterms:modified xsi:type="dcterms:W3CDTF">2015-02-16T13:24:54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