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49D6-5D02-4142-8ABF-CBFD44763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F6A0-D408-4C20-A1FE-B1ADEC85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49B2-D1C1-4901-B69D-0F093E021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D768-BAAB-4D37-8B4E-9C14D9561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2CAC-2D9C-4A2F-BD97-988A0723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8BE3-930C-4293-9C2C-28842D0F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23B6-44DB-4C72-98BD-3D6B368E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6F57-5089-4488-8D4A-7AF8D9E3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FB46-9067-4B66-85B7-0924328D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CEB9-9ECA-4D3C-B52C-003A1963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98E3-F56E-4918-8EA8-3979857D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5A9A-77E9-43D2-918E-F346EC6D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A634-6EB0-4FB2-93A1-447E81F2E02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solidFill>
            <a:srgbClr val="ff0000"/>
          </a:solidFill>
          <a:ln w="9360">
            <a:solidFill>
              <a:srgbClr val="102c34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三位数除以两位数的复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解决问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两台织布机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时能织布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46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米，那么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台织布机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时可以织布多少米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一辆长途客车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时行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308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千米，照这样的速度，它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13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时可以行多少千米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解决问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果园工人给苹果树剪枝，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个工人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天共剪果树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630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棵，平均每人每天剪多少棵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红星小学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240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名学生去表演，如果每组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6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名学生，每队有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组，这些学生可以分成多少队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解决问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四年级同学参加植树活动，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人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时可以植树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20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棵，照这样计算，全班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40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人要植树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600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棵，需要多少时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解决问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织布厂一车间用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台织布机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时织布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450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米，照这样计算，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台织布机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时可以织布多少米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14200" y="285840"/>
          <a:ext cx="8715600" cy="2862000"/>
        </p:xfrm>
        <a:graphic>
          <a:graphicData uri="http://schemas.openxmlformats.org/drawingml/2006/table">
            <a:tbl>
              <a:tblPr/>
              <a:tblGrid>
                <a:gridCol w="1743120"/>
                <a:gridCol w="1743120"/>
                <a:gridCol w="1743120"/>
                <a:gridCol w="1743120"/>
                <a:gridCol w="1743120"/>
              </a:tblGrid>
              <a:tr h="167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起始站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北京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—</a:t>
                      </a: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沈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烟台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—</a:t>
                      </a: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上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银川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—</a:t>
                      </a: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西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济南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—</a:t>
                      </a: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石家庄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全长（千米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4" name="TextBox 4"/>
          <p:cNvSpPr/>
          <p:nvPr/>
        </p:nvSpPr>
        <p:spPr>
          <a:xfrm>
            <a:off x="1726560" y="3571920"/>
            <a:ext cx="56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一辆汽车从北京开往沈阳，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小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行驶了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64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千米，行完全程还要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小时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214200" y="285840"/>
          <a:ext cx="8715600" cy="2862000"/>
        </p:xfrm>
        <a:graphic>
          <a:graphicData uri="http://schemas.openxmlformats.org/drawingml/2006/table">
            <a:tbl>
              <a:tblPr/>
              <a:tblGrid>
                <a:gridCol w="1743120"/>
                <a:gridCol w="1743120"/>
                <a:gridCol w="1743120"/>
                <a:gridCol w="1743120"/>
                <a:gridCol w="1743120"/>
              </a:tblGrid>
              <a:tr h="167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起始站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北京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—</a:t>
                      </a: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沈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烟台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—</a:t>
                      </a: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上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银川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—</a:t>
                      </a: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西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济南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—</a:t>
                      </a: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石家庄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全长（千米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6" name="TextBox 4"/>
          <p:cNvSpPr/>
          <p:nvPr/>
        </p:nvSpPr>
        <p:spPr>
          <a:xfrm>
            <a:off x="1832400" y="3429000"/>
            <a:ext cx="4755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如果一辆汽车上午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0:00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从银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出发开往西安，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小时行驶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07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千米，照这样计算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什么时候到达西安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214200" y="285840"/>
          <a:ext cx="8715600" cy="2862000"/>
        </p:xfrm>
        <a:graphic>
          <a:graphicData uri="http://schemas.openxmlformats.org/drawingml/2006/table">
            <a:tbl>
              <a:tblPr/>
              <a:tblGrid>
                <a:gridCol w="1743120"/>
                <a:gridCol w="1743120"/>
                <a:gridCol w="1743120"/>
                <a:gridCol w="1743120"/>
                <a:gridCol w="1743120"/>
              </a:tblGrid>
              <a:tr h="167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起始站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北京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—</a:t>
                      </a: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沈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烟台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—</a:t>
                      </a: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上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银川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—</a:t>
                      </a: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西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济南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—</a:t>
                      </a: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石家庄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全长（千米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8" name="TextBox 4"/>
          <p:cNvSpPr/>
          <p:nvPr/>
        </p:nvSpPr>
        <p:spPr>
          <a:xfrm>
            <a:off x="1497600" y="3429000"/>
            <a:ext cx="5424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如果一辆汽车上午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1:00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从济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出发，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0:00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达到石家庄，平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每小时行驶多少千米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14200" y="285840"/>
          <a:ext cx="8715600" cy="2862000"/>
        </p:xfrm>
        <a:graphic>
          <a:graphicData uri="http://schemas.openxmlformats.org/drawingml/2006/table">
            <a:tbl>
              <a:tblPr/>
              <a:tblGrid>
                <a:gridCol w="1743120"/>
                <a:gridCol w="1743120"/>
                <a:gridCol w="1743120"/>
                <a:gridCol w="1743120"/>
                <a:gridCol w="1743120"/>
              </a:tblGrid>
              <a:tr h="167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起始站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北京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—</a:t>
                      </a: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沈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烟台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—</a:t>
                      </a: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上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银川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—</a:t>
                      </a: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西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济南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—</a:t>
                      </a: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石家庄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全长（千米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0" name="TextBox 4"/>
          <p:cNvSpPr/>
          <p:nvPr/>
        </p:nvSpPr>
        <p:spPr>
          <a:xfrm>
            <a:off x="1545840" y="3429000"/>
            <a:ext cx="5739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如果一辆汽车从烟台到上海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小时行了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75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千米，剩下的路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要在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小时行完，平均每小时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多少千米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0" y="21420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240÷20=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480÷20=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960÷20=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120÷20=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952640" y="3786120"/>
            <a:ext cx="505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除数不变，被除数扩大或缩小几倍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商（             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0" y="21420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640÷80=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640÷8=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640÷40=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640÷16=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1965240" y="3786120"/>
            <a:ext cx="505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被除数不变，除数扩大或缩小几倍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商（             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0" y="21420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56÷7=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560÷70=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5600÷700=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112÷14=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467280" y="3786120"/>
            <a:ext cx="511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被除数扩大或缩小几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除数（                    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商（               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70920"/>
            <a:ext cx="8972640" cy="56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在一个除法算式里，商是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如果被除数扩大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倍，除数不变，商（                     ）；如果被除数不变，除数扩大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倍，商是（                ）；如果被除数和除数同时缩小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倍，商（                  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在一个除法算式里，如果被除数缩小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100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倍，要使商不变，被除数应该（                    ）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142560"/>
            <a:ext cx="897264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62 ÷46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，要使商是两位数，方框里可以填（                      ），要使商是一位数，方框里可以填（                         ）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□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÷27=6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，有余数，要使被除数最大，余数是（                      ），这时被除数是（                   ）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在括号里填上合适的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27 ×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（           ）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=486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288 ÷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（            ）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=2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910 ÷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（            ）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=3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（           ）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×35=42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（           ）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÷21=2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一个数除以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，商是最小的两位数，余数是最大的一位数，这个数是（                   ）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判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在除法里，被除数和除数同时加上或减去一个相同的数，商不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两个数相除，商一定小于被除数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在除法算式里，每次除得的余数都应该比除数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442 ÷48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，商在十位上，商的第一位是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3:08:21Z</dcterms:created>
  <dc:creator/>
  <dc:description/>
  <cp:keywords/>
  <dc:language>en-US</dc:language>
  <cp:lastModifiedBy>Administrator</cp:lastModifiedBy>
  <dcterms:modified xsi:type="dcterms:W3CDTF">2015-02-16T13:13:01Z</dcterms:modified>
  <cp:revision>1</cp:revision>
  <dc:subject/>
  <dc:title>三位数除以两位数的复习</dc:title>
</cp:coreProperties>
</file>