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Group 5"/>
          <p:cNvGrpSpPr/>
          <p:nvPr/>
        </p:nvGrpSpPr>
        <p:grpSpPr>
          <a:xfrm>
            <a:off x="-20520" y="5229360"/>
            <a:ext cx="9272160" cy="1701720"/>
            <a:chOff x="-20520" y="5229360"/>
            <a:chExt cx="9272160" cy="1701720"/>
          </a:xfrm>
        </p:grpSpPr>
        <p:sp>
          <p:nvSpPr>
            <p:cNvPr id="39" name="Freeform 6"/>
            <p:cNvSpPr/>
            <p:nvPr/>
          </p:nvSpPr>
          <p:spPr>
            <a:xfrm>
              <a:off x="-20520" y="5229360"/>
              <a:ext cx="9238680" cy="1701720"/>
            </a:xfrm>
            <a:custGeom>
              <a:avLst/>
              <a:gdLst>
                <a:gd name="textAreaLeft" fmla="*/ 0 w 9238680"/>
                <a:gd name="textAreaRight" fmla="*/ 9239040 w 9238680"/>
                <a:gd name="textAreaTop" fmla="*/ 0 h 1701720"/>
                <a:gd name="textAreaBottom" fmla="*/ 1702080 h 1701720"/>
              </a:gdLst>
              <a:ahLst/>
              <a:rect l="textAreaLeft" t="textAreaTop" r="textAreaRight" b="textAreaBottom"/>
              <a:pathLst>
                <a:path w="5816" h="1999">
                  <a:moveTo>
                    <a:pt x="4348" y="591"/>
                  </a:moveTo>
                  <a:cubicBezTo>
                    <a:pt x="4422" y="604"/>
                    <a:pt x="4584" y="545"/>
                    <a:pt x="4827" y="645"/>
                  </a:cubicBezTo>
                  <a:cubicBezTo>
                    <a:pt x="4976" y="676"/>
                    <a:pt x="5077" y="685"/>
                    <a:pt x="5240" y="776"/>
                  </a:cubicBezTo>
                  <a:cubicBezTo>
                    <a:pt x="5403" y="867"/>
                    <a:pt x="5709" y="1058"/>
                    <a:pt x="5805" y="1189"/>
                  </a:cubicBezTo>
                  <a:lnTo>
                    <a:pt x="5816" y="1561"/>
                  </a:lnTo>
                  <a:lnTo>
                    <a:pt x="5806" y="1999"/>
                  </a:lnTo>
                  <a:lnTo>
                    <a:pt x="90" y="1954"/>
                  </a:lnTo>
                  <a:lnTo>
                    <a:pt x="0" y="1954"/>
                  </a:lnTo>
                  <a:lnTo>
                    <a:pt x="0" y="593"/>
                  </a:lnTo>
                  <a:lnTo>
                    <a:pt x="57" y="542"/>
                  </a:lnTo>
                  <a:cubicBezTo>
                    <a:pt x="152" y="490"/>
                    <a:pt x="465" y="335"/>
                    <a:pt x="568" y="281"/>
                  </a:cubicBezTo>
                  <a:cubicBezTo>
                    <a:pt x="671" y="227"/>
                    <a:pt x="507" y="247"/>
                    <a:pt x="677" y="216"/>
                  </a:cubicBezTo>
                  <a:cubicBezTo>
                    <a:pt x="847" y="185"/>
                    <a:pt x="1180" y="0"/>
                    <a:pt x="1587" y="94"/>
                  </a:cubicBezTo>
                  <a:cubicBezTo>
                    <a:pt x="1990" y="99"/>
                    <a:pt x="2805" y="600"/>
                    <a:pt x="3122" y="781"/>
                  </a:cubicBezTo>
                  <a:cubicBezTo>
                    <a:pt x="3435" y="929"/>
                    <a:pt x="3394" y="957"/>
                    <a:pt x="3468" y="985"/>
                  </a:cubicBezTo>
                  <a:lnTo>
                    <a:pt x="3566" y="952"/>
                  </a:lnTo>
                  <a:lnTo>
                    <a:pt x="3599" y="919"/>
                  </a:lnTo>
                  <a:cubicBezTo>
                    <a:pt x="3722" y="861"/>
                    <a:pt x="4153" y="655"/>
                    <a:pt x="4305" y="602"/>
                  </a:cubicBezTo>
                  <a:cubicBezTo>
                    <a:pt x="4675" y="591"/>
                    <a:pt x="4484" y="611"/>
                    <a:pt x="4511" y="602"/>
                  </a:cubicBezTo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7"/>
            <p:cNvSpPr/>
            <p:nvPr/>
          </p:nvSpPr>
          <p:spPr>
            <a:xfrm>
              <a:off x="-20520" y="5522040"/>
              <a:ext cx="9272160" cy="1375560"/>
            </a:xfrm>
            <a:custGeom>
              <a:avLst/>
              <a:gdLst>
                <a:gd name="textAreaLeft" fmla="*/ 0 w 9272160"/>
                <a:gd name="textAreaRight" fmla="*/ 9272160 w 9272160"/>
                <a:gd name="textAreaTop" fmla="*/ 0 h 1375560"/>
                <a:gd name="textAreaBottom" fmla="*/ 1375920 h 1375560"/>
              </a:gdLst>
              <a:ahLst/>
              <a:rect l="textAreaLeft" t="textAreaTop" r="textAreaRight" b="textAreaBottom"/>
              <a:pathLst>
                <a:path w="5837" h="1616">
                  <a:moveTo>
                    <a:pt x="0" y="1062"/>
                  </a:moveTo>
                  <a:cubicBezTo>
                    <a:pt x="484" y="799"/>
                    <a:pt x="1934" y="0"/>
                    <a:pt x="2903" y="29"/>
                  </a:cubicBezTo>
                  <a:cubicBezTo>
                    <a:pt x="3878" y="59"/>
                    <a:pt x="5327" y="972"/>
                    <a:pt x="5816" y="1236"/>
                  </a:cubicBezTo>
                  <a:lnTo>
                    <a:pt x="5837" y="1616"/>
                  </a:lnTo>
                  <a:lnTo>
                    <a:pt x="0" y="1606"/>
                  </a:lnTo>
                  <a:lnTo>
                    <a:pt x="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Group 76"/>
          <p:cNvGrpSpPr/>
          <p:nvPr/>
        </p:nvGrpSpPr>
        <p:grpSpPr>
          <a:xfrm>
            <a:off x="380880" y="1981080"/>
            <a:ext cx="8351640" cy="2016000"/>
            <a:chOff x="380880" y="1981080"/>
            <a:chExt cx="8351640" cy="2016000"/>
          </a:xfrm>
        </p:grpSpPr>
        <p:sp>
          <p:nvSpPr>
            <p:cNvPr id="42" name="AutoShape 77"/>
            <p:cNvSpPr/>
            <p:nvPr/>
          </p:nvSpPr>
          <p:spPr>
            <a:xfrm>
              <a:off x="380880" y="1981080"/>
              <a:ext cx="8351640" cy="2016000"/>
            </a:xfrm>
            <a:prstGeom prst="roundRect">
              <a:avLst>
                <a:gd name="adj" fmla="val 37991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78"/>
            <p:cNvSpPr/>
            <p:nvPr/>
          </p:nvSpPr>
          <p:spPr>
            <a:xfrm>
              <a:off x="537120" y="2205720"/>
              <a:ext cx="8037360" cy="1568880"/>
            </a:xfrm>
            <a:prstGeom prst="roundRect">
              <a:avLst>
                <a:gd name="adj" fmla="val 37167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28"/>
          <p:cNvGrpSpPr/>
          <p:nvPr/>
        </p:nvGrpSpPr>
        <p:grpSpPr>
          <a:xfrm>
            <a:off x="6095880" y="0"/>
            <a:ext cx="3168360" cy="1341000"/>
            <a:chOff x="6095880" y="0"/>
            <a:chExt cx="3168360" cy="1341000"/>
          </a:xfrm>
        </p:grpSpPr>
        <p:sp>
          <p:nvSpPr>
            <p:cNvPr id="45" name="AutoShape 29"/>
            <p:cNvSpPr/>
            <p:nvPr/>
          </p:nvSpPr>
          <p:spPr>
            <a:xfrm>
              <a:off x="6095880" y="37728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30"/>
            <p:cNvSpPr/>
            <p:nvPr/>
          </p:nvSpPr>
          <p:spPr>
            <a:xfrm>
              <a:off x="6929640" y="333000"/>
              <a:ext cx="16682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31"/>
            <p:cNvSpPr/>
            <p:nvPr/>
          </p:nvSpPr>
          <p:spPr>
            <a:xfrm>
              <a:off x="7597800" y="113760"/>
              <a:ext cx="16664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32"/>
            <p:cNvSpPr/>
            <p:nvPr/>
          </p:nvSpPr>
          <p:spPr>
            <a:xfrm>
              <a:off x="6636960" y="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48"/>
          <p:cNvGrpSpPr/>
          <p:nvPr/>
        </p:nvGrpSpPr>
        <p:grpSpPr>
          <a:xfrm>
            <a:off x="-885960" y="-228600"/>
            <a:ext cx="3584520" cy="2139480"/>
            <a:chOff x="-885960" y="-228600"/>
            <a:chExt cx="3584520" cy="2139480"/>
          </a:xfrm>
        </p:grpSpPr>
        <p:sp>
          <p:nvSpPr>
            <p:cNvPr id="50" name="AutoShape 49"/>
            <p:cNvSpPr/>
            <p:nvPr/>
          </p:nvSpPr>
          <p:spPr>
            <a:xfrm>
              <a:off x="-885960" y="373680"/>
              <a:ext cx="1885320" cy="15372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50"/>
            <p:cNvSpPr/>
            <p:nvPr/>
          </p:nvSpPr>
          <p:spPr>
            <a:xfrm>
              <a:off x="57240" y="304200"/>
              <a:ext cx="1887480" cy="15372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51"/>
            <p:cNvSpPr/>
            <p:nvPr/>
          </p:nvSpPr>
          <p:spPr>
            <a:xfrm>
              <a:off x="813240" y="-45000"/>
              <a:ext cx="1885320" cy="15357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52"/>
            <p:cNvSpPr/>
            <p:nvPr/>
          </p:nvSpPr>
          <p:spPr>
            <a:xfrm>
              <a:off x="-273240" y="-228600"/>
              <a:ext cx="1885320" cy="15372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53" descr="图片1_~1"/>
          <p:cNvPicPr/>
          <p:nvPr/>
        </p:nvPicPr>
        <p:blipFill>
          <a:blip r:embed="rId3"/>
          <a:stretch/>
        </p:blipFill>
        <p:spPr>
          <a:xfrm>
            <a:off x="1403280" y="5157720"/>
            <a:ext cx="93996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4" descr="图片2_~1"/>
          <p:cNvPicPr/>
          <p:nvPr/>
        </p:nvPicPr>
        <p:blipFill>
          <a:blip r:embed="rId4"/>
          <a:stretch/>
        </p:blipFill>
        <p:spPr>
          <a:xfrm>
            <a:off x="2413080" y="5157720"/>
            <a:ext cx="914400" cy="1206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0074ff"/>
                </a:gs>
                <a:gs pos="100000">
                  <a:srgbClr val="47c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47c8ff"/>
                </a:gs>
                <a:gs pos="100000">
                  <a:srgbClr val="f9f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0"/>
          <p:cNvGrpSpPr/>
          <p:nvPr/>
        </p:nvGrpSpPr>
        <p:grpSpPr>
          <a:xfrm>
            <a:off x="762120" y="1752480"/>
            <a:ext cx="7919640" cy="1726920"/>
            <a:chOff x="762120" y="1752480"/>
            <a:chExt cx="7919640" cy="1726920"/>
          </a:xfrm>
        </p:grpSpPr>
        <p:sp>
          <p:nvSpPr>
            <p:cNvPr id="98" name="AutoShape 61"/>
            <p:cNvSpPr/>
            <p:nvPr/>
          </p:nvSpPr>
          <p:spPr>
            <a:xfrm>
              <a:off x="762120" y="1752480"/>
              <a:ext cx="7919640" cy="1726920"/>
            </a:xfrm>
            <a:prstGeom prst="roundRect">
              <a:avLst>
                <a:gd name="adj" fmla="val 37991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2"/>
            <p:cNvSpPr/>
            <p:nvPr/>
          </p:nvSpPr>
          <p:spPr>
            <a:xfrm>
              <a:off x="910080" y="1944720"/>
              <a:ext cx="7621560" cy="1343880"/>
            </a:xfrm>
            <a:prstGeom prst="roundRect">
              <a:avLst>
                <a:gd name="adj" fmla="val 37167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48"/>
          <p:cNvGrpSpPr/>
          <p:nvPr/>
        </p:nvGrpSpPr>
        <p:grpSpPr>
          <a:xfrm>
            <a:off x="-665280" y="-439560"/>
            <a:ext cx="3149640" cy="2140920"/>
            <a:chOff x="-665280" y="-439560"/>
            <a:chExt cx="3149640" cy="2140920"/>
          </a:xfrm>
        </p:grpSpPr>
        <p:sp>
          <p:nvSpPr>
            <p:cNvPr id="101" name="AutoShape 49"/>
            <p:cNvSpPr/>
            <p:nvPr/>
          </p:nvSpPr>
          <p:spPr>
            <a:xfrm>
              <a:off x="-665280" y="163080"/>
              <a:ext cx="1656720" cy="153828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0"/>
            <p:cNvSpPr/>
            <p:nvPr/>
          </p:nvSpPr>
          <p:spPr>
            <a:xfrm>
              <a:off x="163440" y="93600"/>
              <a:ext cx="1658160" cy="153828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1"/>
            <p:cNvSpPr/>
            <p:nvPr/>
          </p:nvSpPr>
          <p:spPr>
            <a:xfrm>
              <a:off x="827640" y="-255960"/>
              <a:ext cx="1656720" cy="153648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2"/>
            <p:cNvSpPr/>
            <p:nvPr/>
          </p:nvSpPr>
          <p:spPr>
            <a:xfrm>
              <a:off x="-127080" y="-439560"/>
              <a:ext cx="1656720" cy="153828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8"/>
          <p:cNvGrpSpPr/>
          <p:nvPr/>
        </p:nvGrpSpPr>
        <p:grpSpPr>
          <a:xfrm>
            <a:off x="6443640" y="0"/>
            <a:ext cx="3168360" cy="1341000"/>
            <a:chOff x="6443640" y="0"/>
            <a:chExt cx="3168360" cy="1341000"/>
          </a:xfrm>
        </p:grpSpPr>
        <p:sp>
          <p:nvSpPr>
            <p:cNvPr id="106" name="AutoShape 29"/>
            <p:cNvSpPr/>
            <p:nvPr/>
          </p:nvSpPr>
          <p:spPr>
            <a:xfrm>
              <a:off x="6443640" y="37728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30"/>
            <p:cNvSpPr/>
            <p:nvPr/>
          </p:nvSpPr>
          <p:spPr>
            <a:xfrm>
              <a:off x="7277400" y="333000"/>
              <a:ext cx="16682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1"/>
            <p:cNvSpPr/>
            <p:nvPr/>
          </p:nvSpPr>
          <p:spPr>
            <a:xfrm>
              <a:off x="7945560" y="113760"/>
              <a:ext cx="16664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32"/>
            <p:cNvSpPr/>
            <p:nvPr/>
          </p:nvSpPr>
          <p:spPr>
            <a:xfrm>
              <a:off x="6984720" y="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5"/>
          <p:cNvGrpSpPr/>
          <p:nvPr/>
        </p:nvGrpSpPr>
        <p:grpSpPr>
          <a:xfrm>
            <a:off x="0" y="3784680"/>
            <a:ext cx="9324720" cy="3173400"/>
            <a:chOff x="0" y="3784680"/>
            <a:chExt cx="9324720" cy="3173400"/>
          </a:xfrm>
        </p:grpSpPr>
        <p:sp>
          <p:nvSpPr>
            <p:cNvPr id="111" name="Freeform 6"/>
            <p:cNvSpPr/>
            <p:nvPr/>
          </p:nvSpPr>
          <p:spPr>
            <a:xfrm>
              <a:off x="0" y="3784680"/>
              <a:ext cx="9291240" cy="3173400"/>
            </a:xfrm>
            <a:custGeom>
              <a:avLst/>
              <a:gdLst>
                <a:gd name="textAreaLeft" fmla="*/ 0 w 9291240"/>
                <a:gd name="textAreaRight" fmla="*/ 9291600 w 9291240"/>
                <a:gd name="textAreaTop" fmla="*/ 0 h 3173400"/>
                <a:gd name="textAreaBottom" fmla="*/ 3173760 h 3173400"/>
              </a:gdLst>
              <a:ahLst/>
              <a:rect l="textAreaLeft" t="textAreaTop" r="textAreaRight" b="textAreaBottom"/>
              <a:pathLst>
                <a:path w="5816" h="1999">
                  <a:moveTo>
                    <a:pt x="4348" y="591"/>
                  </a:moveTo>
                  <a:cubicBezTo>
                    <a:pt x="4422" y="604"/>
                    <a:pt x="4584" y="545"/>
                    <a:pt x="4827" y="645"/>
                  </a:cubicBezTo>
                  <a:cubicBezTo>
                    <a:pt x="4976" y="676"/>
                    <a:pt x="5077" y="685"/>
                    <a:pt x="5240" y="776"/>
                  </a:cubicBezTo>
                  <a:cubicBezTo>
                    <a:pt x="5403" y="867"/>
                    <a:pt x="5709" y="1058"/>
                    <a:pt x="5805" y="1189"/>
                  </a:cubicBezTo>
                  <a:lnTo>
                    <a:pt x="5816" y="1561"/>
                  </a:lnTo>
                  <a:lnTo>
                    <a:pt x="5806" y="1999"/>
                  </a:lnTo>
                  <a:lnTo>
                    <a:pt x="90" y="1954"/>
                  </a:lnTo>
                  <a:lnTo>
                    <a:pt x="0" y="1954"/>
                  </a:lnTo>
                  <a:lnTo>
                    <a:pt x="0" y="593"/>
                  </a:lnTo>
                  <a:lnTo>
                    <a:pt x="57" y="542"/>
                  </a:lnTo>
                  <a:cubicBezTo>
                    <a:pt x="152" y="490"/>
                    <a:pt x="465" y="335"/>
                    <a:pt x="568" y="281"/>
                  </a:cubicBezTo>
                  <a:cubicBezTo>
                    <a:pt x="671" y="227"/>
                    <a:pt x="507" y="247"/>
                    <a:pt x="677" y="216"/>
                  </a:cubicBezTo>
                  <a:cubicBezTo>
                    <a:pt x="847" y="185"/>
                    <a:pt x="1180" y="0"/>
                    <a:pt x="1587" y="94"/>
                  </a:cubicBezTo>
                  <a:cubicBezTo>
                    <a:pt x="1990" y="99"/>
                    <a:pt x="2805" y="600"/>
                    <a:pt x="3122" y="781"/>
                  </a:cubicBezTo>
                  <a:cubicBezTo>
                    <a:pt x="3435" y="929"/>
                    <a:pt x="3394" y="957"/>
                    <a:pt x="3468" y="985"/>
                  </a:cubicBezTo>
                  <a:lnTo>
                    <a:pt x="3566" y="952"/>
                  </a:lnTo>
                  <a:lnTo>
                    <a:pt x="3599" y="919"/>
                  </a:lnTo>
                  <a:cubicBezTo>
                    <a:pt x="3722" y="861"/>
                    <a:pt x="4153" y="655"/>
                    <a:pt x="4305" y="602"/>
                  </a:cubicBezTo>
                  <a:cubicBezTo>
                    <a:pt x="4675" y="591"/>
                    <a:pt x="4484" y="611"/>
                    <a:pt x="4511" y="602"/>
                  </a:cubicBezTo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0" y="4330800"/>
              <a:ext cx="9324720" cy="2565360"/>
            </a:xfrm>
            <a:custGeom>
              <a:avLst/>
              <a:gdLst>
                <a:gd name="textAreaLeft" fmla="*/ 0 w 9324720"/>
                <a:gd name="textAreaRight" fmla="*/ 9325080 w 9324720"/>
                <a:gd name="textAreaTop" fmla="*/ 0 h 2565360"/>
                <a:gd name="textAreaBottom" fmla="*/ 2565720 h 2565360"/>
              </a:gdLst>
              <a:ahLst/>
              <a:rect l="textAreaLeft" t="textAreaTop" r="textAreaRight" b="textAreaBottom"/>
              <a:pathLst>
                <a:path w="5837" h="1616">
                  <a:moveTo>
                    <a:pt x="0" y="1062"/>
                  </a:moveTo>
                  <a:cubicBezTo>
                    <a:pt x="484" y="799"/>
                    <a:pt x="1934" y="0"/>
                    <a:pt x="2903" y="29"/>
                  </a:cubicBezTo>
                  <a:cubicBezTo>
                    <a:pt x="3878" y="59"/>
                    <a:pt x="5327" y="972"/>
                    <a:pt x="5816" y="1236"/>
                  </a:cubicBezTo>
                  <a:lnTo>
                    <a:pt x="5837" y="1616"/>
                  </a:lnTo>
                  <a:lnTo>
                    <a:pt x="0" y="1606"/>
                  </a:lnTo>
                  <a:lnTo>
                    <a:pt x="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53" descr="图片1_~1"/>
          <p:cNvPicPr/>
          <p:nvPr/>
        </p:nvPicPr>
        <p:blipFill>
          <a:blip r:embed="rId2"/>
          <a:stretch/>
        </p:blipFill>
        <p:spPr>
          <a:xfrm>
            <a:off x="2981160" y="4119480"/>
            <a:ext cx="938520" cy="1193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4" descr="图片2_~1"/>
          <p:cNvPicPr/>
          <p:nvPr/>
        </p:nvPicPr>
        <p:blipFill>
          <a:blip r:embed="rId3"/>
          <a:stretch/>
        </p:blipFill>
        <p:spPr>
          <a:xfrm>
            <a:off x="4581360" y="4110120"/>
            <a:ext cx="914400" cy="120636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12"/>
          <p:cNvGrpSpPr/>
          <p:nvPr/>
        </p:nvGrpSpPr>
        <p:grpSpPr>
          <a:xfrm>
            <a:off x="608040" y="5838480"/>
            <a:ext cx="797400" cy="698040"/>
            <a:chOff x="608040" y="5838480"/>
            <a:chExt cx="797400" cy="698040"/>
          </a:xfrm>
        </p:grpSpPr>
        <p:sp>
          <p:nvSpPr>
            <p:cNvPr id="116" name="Oval 13"/>
            <p:cNvSpPr/>
            <p:nvPr/>
          </p:nvSpPr>
          <p:spPr>
            <a:xfrm rot="1780800">
              <a:off x="609120" y="5943600"/>
              <a:ext cx="459000" cy="127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 flipH="1" rot="19819200">
              <a:off x="983880" y="5954400"/>
              <a:ext cx="416880" cy="127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 flipH="1" rot="16153200">
              <a:off x="780840" y="6261120"/>
              <a:ext cx="423720" cy="124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t" anchorCtr="1" vert="eaVer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688040" y="5278680"/>
            <a:ext cx="731160" cy="687960"/>
            <a:chOff x="1688040" y="5278680"/>
            <a:chExt cx="731160" cy="687960"/>
          </a:xfrm>
        </p:grpSpPr>
        <p:sp>
          <p:nvSpPr>
            <p:cNvPr id="120" name="Oval 9"/>
            <p:cNvSpPr/>
            <p:nvPr/>
          </p:nvSpPr>
          <p:spPr>
            <a:xfrm rot="1780800">
              <a:off x="1692000" y="5373720"/>
              <a:ext cx="417600" cy="127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 flipH="1" rot="19819200">
              <a:off x="2033280" y="5384880"/>
              <a:ext cx="379080" cy="127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1"/>
            <p:cNvSpPr/>
            <p:nvPr/>
          </p:nvSpPr>
          <p:spPr>
            <a:xfrm flipH="1" rot="16153200">
              <a:off x="1829880" y="5697000"/>
              <a:ext cx="423720" cy="113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0"/>
          <p:cNvGrpSpPr/>
          <p:nvPr/>
        </p:nvGrpSpPr>
        <p:grpSpPr>
          <a:xfrm>
            <a:off x="4926600" y="5658840"/>
            <a:ext cx="587520" cy="592920"/>
            <a:chOff x="4926600" y="5658840"/>
            <a:chExt cx="587520" cy="592920"/>
          </a:xfrm>
        </p:grpSpPr>
        <p:sp>
          <p:nvSpPr>
            <p:cNvPr id="124" name="Oval 21"/>
            <p:cNvSpPr/>
            <p:nvPr/>
          </p:nvSpPr>
          <p:spPr>
            <a:xfrm rot="1780800">
              <a:off x="4932000" y="5733720"/>
              <a:ext cx="333000" cy="1112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2"/>
            <p:cNvSpPr/>
            <p:nvPr/>
          </p:nvSpPr>
          <p:spPr>
            <a:xfrm flipH="1" rot="19819200">
              <a:off x="5203440" y="5743440"/>
              <a:ext cx="302400" cy="1112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3"/>
            <p:cNvSpPr/>
            <p:nvPr/>
          </p:nvSpPr>
          <p:spPr>
            <a:xfrm flipH="1" rot="16153200">
              <a:off x="5025960" y="6020640"/>
              <a:ext cx="370080" cy="9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5940360" y="5133600"/>
            <a:ext cx="722160" cy="615600"/>
            <a:chOff x="5940360" y="5133600"/>
            <a:chExt cx="722160" cy="615600"/>
          </a:xfrm>
        </p:grpSpPr>
        <p:sp>
          <p:nvSpPr>
            <p:cNvPr id="128" name="Oval 17"/>
            <p:cNvSpPr/>
            <p:nvPr/>
          </p:nvSpPr>
          <p:spPr>
            <a:xfrm rot="1780800">
              <a:off x="5940360" y="5229360"/>
              <a:ext cx="416520" cy="11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 flipH="1" rot="19819200">
              <a:off x="6280920" y="5238720"/>
              <a:ext cx="378360" cy="11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 flipH="1" rot="16153200">
              <a:off x="6102360" y="5505840"/>
              <a:ext cx="371520" cy="113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6"/>
          <p:cNvGrpSpPr/>
          <p:nvPr/>
        </p:nvGrpSpPr>
        <p:grpSpPr>
          <a:xfrm>
            <a:off x="7809840" y="5748120"/>
            <a:ext cx="979200" cy="866520"/>
            <a:chOff x="7809840" y="5748120"/>
            <a:chExt cx="979200" cy="866520"/>
          </a:xfrm>
        </p:grpSpPr>
        <p:sp>
          <p:nvSpPr>
            <p:cNvPr id="132" name="Oval 57"/>
            <p:cNvSpPr/>
            <p:nvPr/>
          </p:nvSpPr>
          <p:spPr>
            <a:xfrm rot="1780800">
              <a:off x="7811640" y="5877000"/>
              <a:ext cx="562680" cy="158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8"/>
            <p:cNvSpPr/>
            <p:nvPr/>
          </p:nvSpPr>
          <p:spPr>
            <a:xfrm flipH="1" rot="19819200">
              <a:off x="8272080" y="5890320"/>
              <a:ext cx="511200" cy="158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9">
              <a:hlinkClick r:id="" action="ppaction://hlinkshowjump?jump=endshow"/>
            </p:cNvPr>
            <p:cNvSpPr/>
            <p:nvPr/>
          </p:nvSpPr>
          <p:spPr>
            <a:xfrm flipH="1" rot="16153200">
              <a:off x="8019720" y="6273360"/>
              <a:ext cx="527040" cy="15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249228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微软雅黑"/>
                <a:ea typeface="微软雅黑"/>
              </a:rPr>
              <a:t>2</a:t>
            </a:r>
            <a:r>
              <a:rPr b="1" lang="zh-CN" sz="6000" spc="-1" strike="noStrike">
                <a:solidFill>
                  <a:srgbClr val="ff3300"/>
                </a:solidFill>
                <a:latin typeface="微软雅黑"/>
                <a:ea typeface="微软雅黑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微软雅黑"/>
                <a:ea typeface="微软雅黑"/>
              </a:rPr>
              <a:t>5</a:t>
            </a:r>
            <a:r>
              <a:rPr b="1" lang="zh-CN" sz="6000" spc="-1" strike="noStrike">
                <a:solidFill>
                  <a:srgbClr val="ff3300"/>
                </a:solidFill>
                <a:latin typeface="微软雅黑"/>
                <a:ea typeface="微软雅黑"/>
              </a:rPr>
              <a:t>倍数的特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5086440"/>
            <a:ext cx="316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复兴路小学四年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讲人：郝佳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7474320" y="14889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58120" y="5565600"/>
            <a:ext cx="90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新魏"/>
              </a:rPr>
              <a:t>的倍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67280" y="5575320"/>
            <a:ext cx="90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新魏"/>
              </a:rPr>
              <a:t>的倍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72000" y="1496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19240" y="148896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73320" y="148896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46480" y="1488960"/>
            <a:ext cx="7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54480" y="148896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07200" y="1488960"/>
            <a:ext cx="7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3600" y="3486240"/>
            <a:ext cx="2611440" cy="2087640"/>
          </a:xfrm>
          <a:prstGeom prst="ellipse">
            <a:avLst/>
          </a:prstGeom>
          <a:noFill/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6400" y="425520"/>
            <a:ext cx="157968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微软雅黑"/>
              </a:rPr>
              <a:t>练一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386" name=""/>
          <p:cNvSpPr/>
          <p:nvPr/>
        </p:nvSpPr>
        <p:spPr>
          <a:xfrm>
            <a:off x="2503440" y="51768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把下面的数填在合适的圈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54440" y="22827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78480" y="22906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27160" y="228276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81240" y="228276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54400" y="2282760"/>
            <a:ext cx="7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162400" y="2282760"/>
            <a:ext cx="7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86680" y="2282760"/>
            <a:ext cx="7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63760" y="3486240"/>
            <a:ext cx="2613240" cy="2087640"/>
          </a:xfrm>
          <a:prstGeom prst="ellipse">
            <a:avLst/>
          </a:prstGeom>
          <a:noFill/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65720" y="3486240"/>
            <a:ext cx="2611440" cy="2087640"/>
          </a:xfrm>
          <a:prstGeom prst="ellipse">
            <a:avLst/>
          </a:prstGeom>
          <a:noFill/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65800" y="5581800"/>
            <a:ext cx="23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既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的倍数，又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的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30000" y="3844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60800" y="3844800"/>
            <a:ext cx="5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23160" y="4967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60720" y="446580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27480" y="44658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7000" y="4425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2360" y="3911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69920" y="391176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75080" y="385920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17840" y="391176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67320" y="384480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170080" y="391176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17840" y="49212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36800" y="4425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78240" y="44658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95520" y="442584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239920" y="442584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45000" y="4465800"/>
            <a:ext cx="6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44640" y="49212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76720" y="4545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21320" y="454500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099200" y="45450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33720" y="392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57920" y="3925800"/>
            <a:ext cx="5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324000" y="728640"/>
            <a:ext cx="8569080" cy="5532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990720" y="2884320"/>
            <a:ext cx="7270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本节课我们主要学习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倍数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132000" y="1628640"/>
            <a:ext cx="2519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d0d">
                      <a:alpha val="61000"/>
                    </a:srgbClr>
                  </a:outerShdw>
                </a:effectLst>
                <a:latin typeface="微软雅黑"/>
              </a:rPr>
              <a:t>本课小结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53753" dir="2700000" blurRad="0" rotWithShape="0">
                  <a:srgbClr val="875d0d">
                    <a:alpha val="61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2844720" y="2205000"/>
            <a:ext cx="374328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微软雅黑"/>
              </a:rPr>
              <a:t>谢谢大家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flipH="1">
            <a:off x="6505560" y="3114720"/>
            <a:ext cx="2146320" cy="3108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69960" y="774720"/>
            <a:ext cx="5302080" cy="2971800"/>
          </a:xfrm>
          <a:prstGeom prst="cloudCallout">
            <a:avLst>
              <a:gd name="adj1" fmla="val 66060"/>
              <a:gd name="adj2" fmla="val 38675"/>
            </a:avLst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学们，你们知道怎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快速判断一个数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还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倍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24000" y="728640"/>
            <a:ext cx="8569080" cy="5532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2754360" y="1558800"/>
            <a:ext cx="3297240" cy="781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微软雅黑"/>
              </a:rPr>
              <a:t>教学目标</a:t>
            </a:r>
            <a:endParaRPr b="0" lang="en-US" sz="7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微软雅黑"/>
              <a:ea typeface="微软雅黑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2997360"/>
            <a:ext cx="727236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本节课我们主要来学习</a:t>
            </a: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倍数的特征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同学们要掌握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、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5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的倍数各有什么特点，根据这些特点来判断哪些数能被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整除、哪些数能被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5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rcRect l="0" t="0" r="0" b="4791"/>
          <a:stretch/>
        </p:blipFill>
        <p:spPr>
          <a:xfrm>
            <a:off x="6127920" y="3429000"/>
            <a:ext cx="3016080" cy="328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717480" y="1054080"/>
          <a:ext cx="5610240" cy="5340240"/>
        </p:xfrm>
        <a:graphic>
          <a:graphicData uri="http://schemas.openxmlformats.org/drawingml/2006/table">
            <a:tbl>
              <a:tblPr/>
              <a:tblGrid>
                <a:gridCol w="560520"/>
                <a:gridCol w="560160"/>
                <a:gridCol w="561960"/>
                <a:gridCol w="560520"/>
                <a:gridCol w="560520"/>
                <a:gridCol w="560160"/>
                <a:gridCol w="560520"/>
                <a:gridCol w="561960"/>
                <a:gridCol w="560520"/>
                <a:gridCol w="563400"/>
              </a:tblGrid>
              <a:tr h="5335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79280" y="260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蓝笔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圈出所有 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倍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59280" y="5896080"/>
            <a:ext cx="57636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59280" y="5364000"/>
            <a:ext cx="57636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59280" y="4834080"/>
            <a:ext cx="576360" cy="468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59280" y="4302000"/>
            <a:ext cx="57636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59280" y="3762360"/>
            <a:ext cx="57636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59280" y="3228840"/>
            <a:ext cx="57636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59280" y="2698920"/>
            <a:ext cx="576360" cy="4698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59280" y="2158920"/>
            <a:ext cx="57636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59280" y="1630440"/>
            <a:ext cx="57636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59280" y="1098720"/>
            <a:ext cx="576360" cy="4665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3280" y="1630440"/>
            <a:ext cx="57636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1098720"/>
            <a:ext cx="576360" cy="4665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2698920"/>
            <a:ext cx="576360" cy="468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2158920"/>
            <a:ext cx="57636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3762360"/>
            <a:ext cx="57636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3280" y="3228840"/>
            <a:ext cx="57636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3280" y="4834080"/>
            <a:ext cx="576360" cy="468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3280" y="4302000"/>
            <a:ext cx="57636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3280" y="5896080"/>
            <a:ext cx="57636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5364000"/>
            <a:ext cx="57636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27280" y="1098720"/>
            <a:ext cx="576360" cy="4665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08400" y="1098720"/>
            <a:ext cx="576000" cy="4665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78000" y="1098720"/>
            <a:ext cx="574560" cy="4665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27280" y="1630440"/>
            <a:ext cx="57636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08400" y="1630440"/>
            <a:ext cx="57600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78000" y="1630440"/>
            <a:ext cx="57636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27280" y="2158920"/>
            <a:ext cx="57636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08400" y="2158920"/>
            <a:ext cx="57600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78000" y="2158920"/>
            <a:ext cx="57636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27280" y="2698920"/>
            <a:ext cx="576360" cy="4698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08400" y="2698920"/>
            <a:ext cx="576000" cy="4698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78000" y="2698920"/>
            <a:ext cx="576360" cy="4698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27280" y="3228840"/>
            <a:ext cx="57636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08400" y="3228840"/>
            <a:ext cx="57600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78000" y="3228840"/>
            <a:ext cx="57636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27280" y="3762360"/>
            <a:ext cx="57492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08400" y="3762360"/>
            <a:ext cx="57600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78000" y="3762360"/>
            <a:ext cx="57636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27280" y="4302000"/>
            <a:ext cx="57492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08400" y="4302000"/>
            <a:ext cx="57600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78000" y="4302000"/>
            <a:ext cx="57636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27280" y="4834080"/>
            <a:ext cx="574920" cy="468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08400" y="4834080"/>
            <a:ext cx="576000" cy="468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78000" y="4834080"/>
            <a:ext cx="576360" cy="4680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27280" y="5364000"/>
            <a:ext cx="576360" cy="4669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08400" y="5364000"/>
            <a:ext cx="57600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78000" y="5364000"/>
            <a:ext cx="57456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27280" y="5896080"/>
            <a:ext cx="576360" cy="468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08400" y="5896080"/>
            <a:ext cx="576000" cy="4698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78000" y="5896080"/>
            <a:ext cx="574560" cy="4698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62880" y="3860640"/>
            <a:ext cx="22669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特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位上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 flipH="1">
            <a:off x="7853040" y="260280"/>
            <a:ext cx="121932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661080" y="1557360"/>
            <a:ext cx="22320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议一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倍数有什么特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1330200"/>
            <a:ext cx="5835600" cy="55929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197080" y="40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摘下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倍数的苹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94040" y="2631960"/>
            <a:ext cx="850680" cy="939960"/>
            <a:chOff x="1994040" y="2631960"/>
            <a:chExt cx="850680" cy="939960"/>
          </a:xfrm>
        </p:grpSpPr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1994040" y="2631960"/>
              <a:ext cx="85068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136240" y="292140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496960" y="3568680"/>
            <a:ext cx="851040" cy="941400"/>
            <a:chOff x="2496960" y="3568680"/>
            <a:chExt cx="851040" cy="941400"/>
          </a:xfrm>
        </p:grpSpPr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2496960" y="3568680"/>
              <a:ext cx="85104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639160" y="3858480"/>
              <a:ext cx="6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441680" y="3855960"/>
            <a:ext cx="851040" cy="941400"/>
            <a:chOff x="4441680" y="3855960"/>
            <a:chExt cx="851040" cy="941400"/>
          </a:xfrm>
        </p:grpSpPr>
        <p:pic>
          <p:nvPicPr>
            <p:cNvPr id="245" name="" descr=""/>
            <p:cNvPicPr/>
            <p:nvPr/>
          </p:nvPicPr>
          <p:blipFill>
            <a:blip r:embed="rId5"/>
            <a:stretch/>
          </p:blipFill>
          <p:spPr>
            <a:xfrm>
              <a:off x="4441680" y="3855960"/>
              <a:ext cx="85104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583880" y="4145760"/>
              <a:ext cx="6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4360" y="2925720"/>
            <a:ext cx="695160" cy="784440"/>
            <a:chOff x="684360" y="2925720"/>
            <a:chExt cx="695160" cy="784440"/>
          </a:xfrm>
        </p:grpSpPr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684360" y="2925720"/>
              <a:ext cx="695160" cy="7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800640" y="31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24000" y="3718080"/>
            <a:ext cx="850680" cy="941400"/>
            <a:chOff x="324000" y="3718080"/>
            <a:chExt cx="850680" cy="941400"/>
          </a:xfrm>
        </p:grpSpPr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324000" y="3718080"/>
              <a:ext cx="85068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66200" y="400788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332000" y="4076640"/>
            <a:ext cx="850680" cy="941400"/>
            <a:chOff x="1332000" y="4076640"/>
            <a:chExt cx="850680" cy="941400"/>
          </a:xfrm>
        </p:grpSpPr>
        <p:pic>
          <p:nvPicPr>
            <p:cNvPr id="254" name="" descr=""/>
            <p:cNvPicPr/>
            <p:nvPr/>
          </p:nvPicPr>
          <p:blipFill>
            <a:blip r:embed="rId8"/>
            <a:stretch/>
          </p:blipFill>
          <p:spPr>
            <a:xfrm>
              <a:off x="1332000" y="4076640"/>
              <a:ext cx="85068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1474200" y="436644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7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578400" y="3927600"/>
            <a:ext cx="850680" cy="942840"/>
            <a:chOff x="3578400" y="3927600"/>
            <a:chExt cx="850680" cy="942840"/>
          </a:xfrm>
        </p:grpSpPr>
        <p:pic>
          <p:nvPicPr>
            <p:cNvPr id="257" name="" descr=""/>
            <p:cNvPicPr/>
            <p:nvPr/>
          </p:nvPicPr>
          <p:blipFill>
            <a:blip r:embed="rId9"/>
            <a:stretch/>
          </p:blipFill>
          <p:spPr>
            <a:xfrm>
              <a:off x="3578400" y="3927600"/>
              <a:ext cx="85068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720600" y="421776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794040" y="2200320"/>
            <a:ext cx="851040" cy="941400"/>
            <a:chOff x="3794040" y="2200320"/>
            <a:chExt cx="851040" cy="941400"/>
          </a:xfrm>
        </p:grpSpPr>
        <p:pic>
          <p:nvPicPr>
            <p:cNvPr id="260" name="" descr=""/>
            <p:cNvPicPr/>
            <p:nvPr/>
          </p:nvPicPr>
          <p:blipFill>
            <a:blip r:embed="rId10"/>
            <a:stretch/>
          </p:blipFill>
          <p:spPr>
            <a:xfrm>
              <a:off x="3794040" y="2200320"/>
              <a:ext cx="85104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936240" y="2490120"/>
              <a:ext cx="6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32000" y="3141720"/>
            <a:ext cx="850680" cy="941400"/>
            <a:chOff x="1332000" y="3141720"/>
            <a:chExt cx="850680" cy="941400"/>
          </a:xfrm>
        </p:grpSpPr>
        <p:pic>
          <p:nvPicPr>
            <p:cNvPr id="263" name="" descr=""/>
            <p:cNvPicPr/>
            <p:nvPr/>
          </p:nvPicPr>
          <p:blipFill>
            <a:blip r:embed="rId11"/>
            <a:stretch/>
          </p:blipFill>
          <p:spPr>
            <a:xfrm>
              <a:off x="1332000" y="3141720"/>
              <a:ext cx="85068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474200" y="343152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403280" y="2060640"/>
            <a:ext cx="793800" cy="863640"/>
            <a:chOff x="1403280" y="2060640"/>
            <a:chExt cx="793800" cy="863640"/>
          </a:xfrm>
        </p:grpSpPr>
        <p:pic>
          <p:nvPicPr>
            <p:cNvPr id="266" name="" descr=""/>
            <p:cNvPicPr/>
            <p:nvPr/>
          </p:nvPicPr>
          <p:blipFill>
            <a:blip r:embed="rId12"/>
            <a:stretch/>
          </p:blipFill>
          <p:spPr>
            <a:xfrm>
              <a:off x="1403280" y="2060640"/>
              <a:ext cx="7938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1536120" y="2326680"/>
              <a:ext cx="60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500720" y="2997360"/>
            <a:ext cx="792000" cy="863280"/>
            <a:chOff x="4500720" y="2997360"/>
            <a:chExt cx="792000" cy="863280"/>
          </a:xfrm>
        </p:grpSpPr>
        <p:pic>
          <p:nvPicPr>
            <p:cNvPr id="269" name="" descr=""/>
            <p:cNvPicPr/>
            <p:nvPr/>
          </p:nvPicPr>
          <p:blipFill>
            <a:blip r:embed="rId13"/>
            <a:stretch/>
          </p:blipFill>
          <p:spPr>
            <a:xfrm>
              <a:off x="4500720" y="2997360"/>
              <a:ext cx="792000" cy="8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4633200" y="3263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8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708360" y="1486080"/>
            <a:ext cx="792360" cy="863280"/>
            <a:chOff x="3708360" y="1486080"/>
            <a:chExt cx="792360" cy="863280"/>
          </a:xfrm>
        </p:grpSpPr>
        <p:pic>
          <p:nvPicPr>
            <p:cNvPr id="272" name="" descr=""/>
            <p:cNvPicPr/>
            <p:nvPr/>
          </p:nvPicPr>
          <p:blipFill>
            <a:blip r:embed="rId14"/>
            <a:stretch/>
          </p:blipFill>
          <p:spPr>
            <a:xfrm>
              <a:off x="3708360" y="1486080"/>
              <a:ext cx="792360" cy="8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840840" y="1751760"/>
              <a:ext cx="60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468360" y="404640"/>
            <a:ext cx="1512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微软雅黑"/>
              </a:rPr>
              <a:t>试一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057480" y="2835360"/>
            <a:ext cx="1081080" cy="1098360"/>
            <a:chOff x="3057480" y="2835360"/>
            <a:chExt cx="1081080" cy="1098360"/>
          </a:xfrm>
        </p:grpSpPr>
        <p:pic>
          <p:nvPicPr>
            <p:cNvPr id="276" name="" descr=""/>
            <p:cNvPicPr/>
            <p:nvPr/>
          </p:nvPicPr>
          <p:blipFill>
            <a:blip r:embed="rId15"/>
            <a:stretch/>
          </p:blipFill>
          <p:spPr>
            <a:xfrm>
              <a:off x="3057480" y="2835360"/>
              <a:ext cx="108108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238200" y="3173400"/>
              <a:ext cx="82908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164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641680" y="2055960"/>
            <a:ext cx="850680" cy="941400"/>
            <a:chOff x="2641680" y="2055960"/>
            <a:chExt cx="850680" cy="941400"/>
          </a:xfrm>
        </p:grpSpPr>
        <p:pic>
          <p:nvPicPr>
            <p:cNvPr id="279" name="" descr=""/>
            <p:cNvPicPr/>
            <p:nvPr/>
          </p:nvPicPr>
          <p:blipFill>
            <a:blip r:embed="rId16"/>
            <a:stretch/>
          </p:blipFill>
          <p:spPr>
            <a:xfrm>
              <a:off x="2641680" y="2055960"/>
              <a:ext cx="85068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83880" y="234576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268360" y="1486080"/>
            <a:ext cx="792360" cy="863280"/>
            <a:chOff x="2268360" y="1486080"/>
            <a:chExt cx="792360" cy="863280"/>
          </a:xfrm>
        </p:grpSpPr>
        <p:pic>
          <p:nvPicPr>
            <p:cNvPr id="282" name="" descr=""/>
            <p:cNvPicPr/>
            <p:nvPr/>
          </p:nvPicPr>
          <p:blipFill>
            <a:blip r:embed="rId17"/>
            <a:stretch/>
          </p:blipFill>
          <p:spPr>
            <a:xfrm>
              <a:off x="2268360" y="1486080"/>
              <a:ext cx="792360" cy="8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400840" y="1751760"/>
              <a:ext cx="60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514" dur="indefinite" restart="never" nodeType="tmRoot">
          <p:childTnLst>
            <p:seq>
              <p:cTn id="51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 L 0.416597 0.320648 E">
                                      <p:cBhvr>
                                        <p:cTn id="519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1528 0.278704 E">
                                      <p:cBhvr>
                                        <p:cTn id="52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5972 0.320648 E">
                                      <p:cBhvr>
                                        <p:cTn id="529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9375 0.215556 E">
                                      <p:cBhvr>
                                        <p:cTn id="534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2778 0.409537 E">
                                      <p:cBhvr>
                                        <p:cTn id="539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62222 0.267222 E">
                                      <p:cBhvr>
                                        <p:cTn id="54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92986 0.24713 E">
                                      <p:cBhvr>
                                        <p:cTn id="549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2361 0.241481 E">
                                      <p:cBhvr>
                                        <p:cTn id="55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1528 0.27963 E">
                                      <p:cBhvr>
                                        <p:cTn id="559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5278 0 0.026667 0 0.021944 0 C 0.017222 0 -0.019097 0 -0.023472 0 C -0.027847 0 -0.005625 0 0 0 Z">
                                      <p:cBhvr>
                                        <p:cTn id="564" dur="5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583 -0.000463 0.023125 -0.002315 0.019028 -0.001944 C 0.014931 -0.001574 -0.016736 0.001667 -0.020556 0.002037 C -0.024375 0.002407 -0.004931 0.000463 0 0 Z">
                                      <p:cBhvr>
                                        <p:cTn id="569" dur="5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653 0.000463 0.023403 0.001944 0.019028 0.001944 C 0.014653 0.001944 -0.018125 0.00037 -0.021944 0 C -0.025764 -0.00037 -0.005208 0 0 0 Z">
                                      <p:cBhvr>
                                        <p:cTn id="574" dur="5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514 0 0.022222 0 0.019028 0 C 0.015833 0 -0.012292 0 -0.016111 0 C -0.019931 0 -0.003958 0 0 0 Z">
                                      <p:cBhvr>
                                        <p:cTn id="579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5278 -0.000833 0.026319 -0.003519 0.021944 -0.003889 C 0.017569 -0.004259 -0.017569 -0.002685 -0.021944 -0.001944 C -0.026319 -0.001204 -0.005278 -0.00037 0 0 Z">
                                      <p:cBhvr>
                                        <p:cTn id="584" dur="5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444 0 0.021944 -0.00037 0.019028 0 C 0.016111 0.00037 -0.010833 0.001944 -0.014653 0.001944 C -0.018472 0.001944 -0.003611 0.000463 0 0 Z">
                                      <p:cBhvr>
                                        <p:cTn id="589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rcRect l="0" t="0" r="0" b="4791"/>
          <a:stretch/>
        </p:blipFill>
        <p:spPr>
          <a:xfrm>
            <a:off x="6127920" y="3429000"/>
            <a:ext cx="3016080" cy="328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717480" y="1054080"/>
          <a:ext cx="5610240" cy="5340240"/>
        </p:xfrm>
        <a:graphic>
          <a:graphicData uri="http://schemas.openxmlformats.org/drawingml/2006/table">
            <a:tbl>
              <a:tblPr/>
              <a:tblGrid>
                <a:gridCol w="560520"/>
                <a:gridCol w="560160"/>
                <a:gridCol w="561960"/>
                <a:gridCol w="560520"/>
                <a:gridCol w="560520"/>
                <a:gridCol w="560160"/>
                <a:gridCol w="560520"/>
                <a:gridCol w="561960"/>
                <a:gridCol w="560520"/>
                <a:gridCol w="563400"/>
              </a:tblGrid>
              <a:tr h="5335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179280" y="260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红笔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圈出所有 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倍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73680" y="5904000"/>
            <a:ext cx="576360" cy="468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73680" y="5364000"/>
            <a:ext cx="576360" cy="468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73680" y="4822920"/>
            <a:ext cx="576360" cy="468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73680" y="4294080"/>
            <a:ext cx="576360" cy="468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73680" y="3754440"/>
            <a:ext cx="576360" cy="468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73680" y="3222720"/>
            <a:ext cx="576360" cy="4665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73680" y="2698920"/>
            <a:ext cx="576360" cy="4680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73680" y="2158920"/>
            <a:ext cx="576360" cy="468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73680" y="1630440"/>
            <a:ext cx="576360" cy="468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73680" y="1098720"/>
            <a:ext cx="576360" cy="4665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62440" y="1098720"/>
            <a:ext cx="576000" cy="4665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62440" y="1630440"/>
            <a:ext cx="574560" cy="468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62440" y="2158920"/>
            <a:ext cx="574560" cy="468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62440" y="2698920"/>
            <a:ext cx="574560" cy="4680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62440" y="3222720"/>
            <a:ext cx="574560" cy="4665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62440" y="3754440"/>
            <a:ext cx="576000" cy="468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62440" y="4290840"/>
            <a:ext cx="576000" cy="468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62440" y="4830840"/>
            <a:ext cx="576000" cy="468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62440" y="5375160"/>
            <a:ext cx="574560" cy="466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962440" y="5904000"/>
            <a:ext cx="574560" cy="468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32720" y="3933720"/>
            <a:ext cx="23032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特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位上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62880" y="1557360"/>
            <a:ext cx="24811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倍数又有什么特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 flipH="1">
            <a:off x="7853040" y="260280"/>
            <a:ext cx="1219320" cy="1150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500"/>
                            </p:stCondLst>
                            <p:childTnLst>
                              <p:par>
                                <p:cTn id="7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500"/>
                            </p:stCondLst>
                            <p:childTnLst>
                              <p:par>
                                <p:cTn id="7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79280" y="1425600"/>
            <a:ext cx="8704440" cy="516888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5724360" y="5229360"/>
            <a:ext cx="1947960" cy="1006200"/>
            <a:chOff x="5724360" y="5229360"/>
            <a:chExt cx="1947960" cy="1006200"/>
          </a:xfrm>
        </p:grpSpPr>
        <p:pic>
          <p:nvPicPr>
            <p:cNvPr id="312" name="" descr=""/>
            <p:cNvPicPr/>
            <p:nvPr/>
          </p:nvPicPr>
          <p:blipFill>
            <a:blip r:embed="rId3"/>
            <a:stretch/>
          </p:blipFill>
          <p:spPr>
            <a:xfrm>
              <a:off x="5724360" y="5229360"/>
              <a:ext cx="19479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156000" y="5372640"/>
              <a:ext cx="108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Comic Sans MS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flipH="1" rot="10800000">
            <a:off x="2357280" y="5805000"/>
            <a:ext cx="4086360" cy="1079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203640" y="595008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Comic Sans MS"/>
              </a:rPr>
              <a:t>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012000" y="4221000"/>
            <a:ext cx="1947600" cy="1008360"/>
            <a:chOff x="6012000" y="4221000"/>
            <a:chExt cx="1947600" cy="1008360"/>
          </a:xfrm>
        </p:grpSpPr>
        <p:pic>
          <p:nvPicPr>
            <p:cNvPr id="317" name="" descr=""/>
            <p:cNvPicPr/>
            <p:nvPr/>
          </p:nvPicPr>
          <p:blipFill>
            <a:blip r:embed="rId5"/>
            <a:stretch/>
          </p:blipFill>
          <p:spPr>
            <a:xfrm>
              <a:off x="6012000" y="4221000"/>
              <a:ext cx="194760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6443640" y="4364640"/>
              <a:ext cx="10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851280" y="4653000"/>
            <a:ext cx="2092320" cy="1008000"/>
            <a:chOff x="3851280" y="4653000"/>
            <a:chExt cx="2092320" cy="1008000"/>
          </a:xfrm>
        </p:grpSpPr>
        <p:pic>
          <p:nvPicPr>
            <p:cNvPr id="320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851280" y="4653000"/>
              <a:ext cx="20923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298400" y="4797720"/>
              <a:ext cx="111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Comic Sans MS"/>
                </a:rPr>
                <a:t>5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572000" y="3502080"/>
            <a:ext cx="1947960" cy="1006560"/>
            <a:chOff x="4572000" y="3502080"/>
            <a:chExt cx="1947960" cy="1006560"/>
          </a:xfrm>
        </p:grpSpPr>
        <p:pic>
          <p:nvPicPr>
            <p:cNvPr id="323" name="" descr=""/>
            <p:cNvPicPr/>
            <p:nvPr/>
          </p:nvPicPr>
          <p:blipFill>
            <a:blip r:embed="rId7"/>
            <a:stretch/>
          </p:blipFill>
          <p:spPr>
            <a:xfrm>
              <a:off x="4572000" y="3502080"/>
              <a:ext cx="19479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003640" y="3645360"/>
              <a:ext cx="108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Comic Sans MS"/>
                </a:rPr>
                <a:t>7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84360" y="2492280"/>
            <a:ext cx="2376360" cy="1152720"/>
            <a:chOff x="684360" y="2492280"/>
            <a:chExt cx="2376360" cy="1152720"/>
          </a:xfrm>
        </p:grpSpPr>
        <p:pic>
          <p:nvPicPr>
            <p:cNvPr id="326" name="" descr=""/>
            <p:cNvPicPr/>
            <p:nvPr/>
          </p:nvPicPr>
          <p:blipFill>
            <a:blip r:embed="rId8"/>
            <a:stretch/>
          </p:blipFill>
          <p:spPr>
            <a:xfrm>
              <a:off x="684360" y="2492280"/>
              <a:ext cx="23763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211040" y="2656440"/>
              <a:ext cx="131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132000" y="2708280"/>
            <a:ext cx="2232000" cy="1008000"/>
            <a:chOff x="3132000" y="2708280"/>
            <a:chExt cx="2232000" cy="1008000"/>
          </a:xfrm>
        </p:grpSpPr>
        <p:pic>
          <p:nvPicPr>
            <p:cNvPr id="329" name="" descr=""/>
            <p:cNvPicPr/>
            <p:nvPr/>
          </p:nvPicPr>
          <p:blipFill>
            <a:blip r:embed="rId9"/>
            <a:stretch/>
          </p:blipFill>
          <p:spPr>
            <a:xfrm>
              <a:off x="3132000" y="2708280"/>
              <a:ext cx="2232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626640" y="2851560"/>
              <a:ext cx="1237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835280" y="3645000"/>
            <a:ext cx="2670120" cy="1150920"/>
            <a:chOff x="1835280" y="3645000"/>
            <a:chExt cx="2670120" cy="1150920"/>
          </a:xfrm>
        </p:grpSpPr>
        <p:pic>
          <p:nvPicPr>
            <p:cNvPr id="332" name="" descr=""/>
            <p:cNvPicPr/>
            <p:nvPr/>
          </p:nvPicPr>
          <p:blipFill>
            <a:blip r:embed="rId10"/>
            <a:stretch/>
          </p:blipFill>
          <p:spPr>
            <a:xfrm>
              <a:off x="1835280" y="3645000"/>
              <a:ext cx="26701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427120" y="3808800"/>
              <a:ext cx="1480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Comic Sans MS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140360" y="1773360"/>
            <a:ext cx="1947600" cy="1006200"/>
            <a:chOff x="4140360" y="1773360"/>
            <a:chExt cx="1947600" cy="1006200"/>
          </a:xfrm>
        </p:grpSpPr>
        <p:pic>
          <p:nvPicPr>
            <p:cNvPr id="335" name="" descr=""/>
            <p:cNvPicPr/>
            <p:nvPr/>
          </p:nvPicPr>
          <p:blipFill>
            <a:blip r:embed="rId11"/>
            <a:stretch/>
          </p:blipFill>
          <p:spPr>
            <a:xfrm>
              <a:off x="4140360" y="1773360"/>
              <a:ext cx="194760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4572000" y="1916640"/>
              <a:ext cx="10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Comic Sans MS"/>
                </a:rPr>
                <a:t>4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35640" y="2637000"/>
            <a:ext cx="2016000" cy="1008000"/>
            <a:chOff x="5435640" y="2637000"/>
            <a:chExt cx="2016000" cy="1008000"/>
          </a:xfrm>
        </p:grpSpPr>
        <p:pic>
          <p:nvPicPr>
            <p:cNvPr id="338" name="" descr=""/>
            <p:cNvPicPr/>
            <p:nvPr/>
          </p:nvPicPr>
          <p:blipFill>
            <a:blip r:embed="rId12"/>
            <a:stretch/>
          </p:blipFill>
          <p:spPr>
            <a:xfrm>
              <a:off x="5435640" y="2637000"/>
              <a:ext cx="2016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882400" y="2780280"/>
              <a:ext cx="111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Comic Sans MS"/>
                </a:rPr>
                <a:t>3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340000" y="1917720"/>
            <a:ext cx="1655640" cy="789120"/>
            <a:chOff x="2340000" y="1917720"/>
            <a:chExt cx="1655640" cy="789120"/>
          </a:xfrm>
        </p:grpSpPr>
        <p:pic>
          <p:nvPicPr>
            <p:cNvPr id="341" name="" descr=""/>
            <p:cNvPicPr/>
            <p:nvPr/>
          </p:nvPicPr>
          <p:blipFill>
            <a:blip r:embed="rId13"/>
            <a:stretch/>
          </p:blipFill>
          <p:spPr>
            <a:xfrm>
              <a:off x="2340000" y="1917720"/>
              <a:ext cx="165564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2628000" y="1989000"/>
              <a:ext cx="91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Comic Sans MS"/>
                </a:rPr>
                <a:t>8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476360" y="4869000"/>
            <a:ext cx="2232000" cy="1008000"/>
            <a:chOff x="1476360" y="4869000"/>
            <a:chExt cx="2232000" cy="1008000"/>
          </a:xfrm>
        </p:grpSpPr>
        <p:pic>
          <p:nvPicPr>
            <p:cNvPr id="344" name="" descr=""/>
            <p:cNvPicPr/>
            <p:nvPr/>
          </p:nvPicPr>
          <p:blipFill>
            <a:blip r:embed="rId14"/>
            <a:stretch/>
          </p:blipFill>
          <p:spPr>
            <a:xfrm>
              <a:off x="1476360" y="4869000"/>
              <a:ext cx="2232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971000" y="5012280"/>
              <a:ext cx="1237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Comic Sans MS"/>
                </a:rPr>
                <a:t>2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7524720" y="4870440"/>
            <a:ext cx="1515960" cy="815760"/>
            <a:chOff x="7524720" y="4870440"/>
            <a:chExt cx="1515960" cy="815760"/>
          </a:xfrm>
        </p:grpSpPr>
        <p:pic>
          <p:nvPicPr>
            <p:cNvPr id="347" name="" descr=""/>
            <p:cNvPicPr/>
            <p:nvPr/>
          </p:nvPicPr>
          <p:blipFill>
            <a:blip r:embed="rId15"/>
            <a:stretch/>
          </p:blipFill>
          <p:spPr>
            <a:xfrm>
              <a:off x="7524720" y="4870440"/>
              <a:ext cx="15159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7860600" y="4982760"/>
              <a:ext cx="84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Comic Sans MS"/>
                </a:rPr>
                <a:t>3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9" name="" descr=""/>
          <p:cNvPicPr/>
          <p:nvPr/>
        </p:nvPicPr>
        <p:blipFill>
          <a:blip r:embed="rId16"/>
          <a:stretch/>
        </p:blipFill>
        <p:spPr>
          <a:xfrm flipH="1">
            <a:off x="7571880" y="5511960"/>
            <a:ext cx="1032120" cy="1085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268360" y="40464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青蛙要过河，但只能踩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倍数的荷叶，请你来帮帮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8360" y="404640"/>
            <a:ext cx="1512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微软雅黑"/>
              </a:rPr>
              <a:t>小游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p:transition>
    <p:split dir="out" orient="vert"/>
  </p:transition>
  <p:timing>
    <p:tnLst>
      <p:par>
        <p:cTn id="813" dur="indefinite" restart="never" nodeType="tmRoot">
          <p:childTnLst>
            <p:seq>
              <p:cTn id="81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815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E-005 0 C -0.009821 -0.016667 -0.02866 -0.070278 -0.057952 -0.08 C -0.087243 -0.089722 -0.129875 -0.056667 -0.146376 -0.048796 E">
                                      <p:cBhvr>
                                        <p:cTn id="818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667 -0.047222 C -0.159028 -0.068148 -0.180903 -0.132685 -0.221319 -0.150648 C -0.261736 -0.168611 -0.324722 -0.141852 -0.348681 -0.137037 E">
                                      <p:cBhvr>
                                        <p:cTn id="822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8676 -0.137038 C -0.347714 -0.158997 -0.352447 -0.218092 -0.337803 -0.252192 C -0.323158 -0.286293 -0.288249 -0.296109 -0.275454 -0.307645 C -0.262659 -0.319181 -0.272939 -0.310478 -0.273827 -0.30977 E">
                                      <p:cBhvr>
                                        <p:cTn id="826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9653 -0.312685 C -0.275625 -0.336389 -0.280139 -0.409074 -0.310625 -0.429815 C -0.341111 -0.450556 -0.400486 -0.421296 -0.421944 -0.416204 E">
                                      <p:cBhvr>
                                        <p:cTn id="830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0486 -0.418148 C -0.443403 -0.438333 -0.496597 -0.50713 -0.547847 -0.511852 C -0.599097 -0.516574 -0.650347 -0.455648 -0.676667 -0.441574 C -0.702986 -0.4275 -0.681597 -0.440185 -0.679583 -0.441574 E">
                                      <p:cBhvr>
                                        <p:cTn id="834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687689 -0.43864 C -0.702532 -0.45892 -0.72778 -0.522371 -0.77806 -0.538032 C -0.828339 -0.553695 -0.906879 -0.521166 -0.939084 -0.51695 C -0.97129 -0.512733 -0.942316 -0.516548 -0.939084 -0.51695 E">
                                      <p:cBhvr>
                                        <p:cTn id="837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89080" y="849240"/>
            <a:ext cx="83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个数字组成一个三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8560" y="1828800"/>
            <a:ext cx="36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成的数是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倍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15480" y="3330720"/>
            <a:ext cx="36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成的数是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25840" y="4881600"/>
            <a:ext cx="4248000" cy="1488960"/>
          </a:xfrm>
          <a:prstGeom prst="wedgeEllipseCallout">
            <a:avLst>
              <a:gd name="adj1" fmla="val 61986"/>
              <a:gd name="adj2" fmla="val -3305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99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你分别组成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哪几个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 flipH="1">
            <a:off x="7482960" y="5014800"/>
            <a:ext cx="1473480" cy="1557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529000" y="2498760"/>
            <a:ext cx="31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250   520   5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21080" y="4019400"/>
            <a:ext cx="31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250   520   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131920" y="1962000"/>
            <a:ext cx="792360" cy="781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400040" y="2892600"/>
            <a:ext cx="2797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朵花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瓣花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5640480" y="1960560"/>
            <a:ext cx="790560" cy="7812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6575400" y="1960560"/>
            <a:ext cx="792360" cy="781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305320" y="2892600"/>
            <a:ext cx="2797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朵花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瓣花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349200" y="3827520"/>
          <a:ext cx="8407440" cy="1592280"/>
        </p:xfrm>
        <a:graphic>
          <a:graphicData uri="http://schemas.openxmlformats.org/drawingml/2006/table">
            <a:tbl>
              <a:tblPr/>
              <a:tblGrid>
                <a:gridCol w="1335240"/>
                <a:gridCol w="1466640"/>
                <a:gridCol w="700200"/>
                <a:gridCol w="701640"/>
                <a:gridCol w="700200"/>
                <a:gridCol w="699840"/>
                <a:gridCol w="701640"/>
                <a:gridCol w="700200"/>
                <a:gridCol w="700200"/>
                <a:gridCol w="701640"/>
              </a:tblGrid>
              <a:tr h="7970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花朵数（朵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花瓣数（瓣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5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468360" y="4062240"/>
            <a:ext cx="1092240" cy="1081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536400" y="425520"/>
            <a:ext cx="157968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微软雅黑"/>
              </a:rPr>
              <a:t>练一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367" name=""/>
          <p:cNvSpPr/>
          <p:nvPr/>
        </p:nvSpPr>
        <p:spPr>
          <a:xfrm>
            <a:off x="536400" y="1133640"/>
            <a:ext cx="66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说一说求出的花瓣数有什么特征，再填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08520" y="4764240"/>
            <a:ext cx="5904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11600" y="4764240"/>
            <a:ext cx="5889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21160" y="4764240"/>
            <a:ext cx="5889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8120" y="4764240"/>
            <a:ext cx="5889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26160" y="4764240"/>
            <a:ext cx="7430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331040" y="4764240"/>
            <a:ext cx="7556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53560" y="4764240"/>
            <a:ext cx="7286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1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8:23:33Z</dcterms:created>
  <dc:creator>3xy</dc:creator>
  <dc:description/>
  <dc:language>en-US</dc:language>
  <cp:lastModifiedBy>lenovo</cp:lastModifiedBy>
  <dcterms:modified xsi:type="dcterms:W3CDTF">2014-11-03T12:18:02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