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DAF-41DC-48A6-ADDF-F47AB664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24E-579E-4408-B3D0-3E093A67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902-0A2A-4626-8181-2697EB15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1B1-D680-491E-8E43-A97080C1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77A-548B-4A1A-A5B5-9C1C4A38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D8F-86C3-4C58-A741-0BFA0968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5349-F411-4677-89C6-3C47975D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8AE-EA1E-4DB1-892B-A0072DE7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181-1742-4FCE-8579-C86C9D4B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085-5DC6-43CE-B4FE-3374A98D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745A-86B1-4D13-A54D-894394C6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A3B-9F40-4D95-A73F-33AA4B29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C5BC-FC97-440E-96F2-654E8C2C5B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920240" y="4348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判断下列各组直线间的关系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856800" y="1856520"/>
            <a:ext cx="1143000" cy="714600"/>
            <a:chOff x="856800" y="1856520"/>
            <a:chExt cx="1143000" cy="714600"/>
          </a:xfrm>
        </p:grpSpPr>
        <p:sp>
          <p:nvSpPr>
            <p:cNvPr id="43" name="直接连接符 5"/>
            <p:cNvSpPr/>
            <p:nvPr/>
          </p:nvSpPr>
          <p:spPr>
            <a:xfrm>
              <a:off x="928440" y="1928520"/>
              <a:ext cx="1000080" cy="57168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直接连接符 7"/>
            <p:cNvSpPr/>
            <p:nvPr/>
          </p:nvSpPr>
          <p:spPr>
            <a:xfrm flipH="1">
              <a:off x="856800" y="1856520"/>
              <a:ext cx="1143000" cy="71460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643200" y="1857240"/>
            <a:ext cx="1428840" cy="571680"/>
            <a:chOff x="3643200" y="1857240"/>
            <a:chExt cx="1428840" cy="571680"/>
          </a:xfrm>
        </p:grpSpPr>
        <p:sp>
          <p:nvSpPr>
            <p:cNvPr id="46" name="直接连接符 10"/>
            <p:cNvSpPr/>
            <p:nvPr/>
          </p:nvSpPr>
          <p:spPr>
            <a:xfrm>
              <a:off x="3643200" y="1857240"/>
              <a:ext cx="1428840" cy="144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直接连接符 11"/>
            <p:cNvSpPr/>
            <p:nvPr/>
          </p:nvSpPr>
          <p:spPr>
            <a:xfrm>
              <a:off x="3643200" y="2427480"/>
              <a:ext cx="1428840" cy="144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000080" y="3587040"/>
            <a:ext cx="1412640" cy="1414440"/>
            <a:chOff x="1000080" y="3587040"/>
            <a:chExt cx="1412640" cy="1414440"/>
          </a:xfrm>
        </p:grpSpPr>
        <p:sp>
          <p:nvSpPr>
            <p:cNvPr id="49" name="直接连接符 17"/>
            <p:cNvSpPr/>
            <p:nvPr/>
          </p:nvSpPr>
          <p:spPr>
            <a:xfrm>
              <a:off x="1403280" y="3587040"/>
              <a:ext cx="1009440" cy="101160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直接连接符 18"/>
            <p:cNvSpPr/>
            <p:nvPr/>
          </p:nvSpPr>
          <p:spPr>
            <a:xfrm>
              <a:off x="1000080" y="3990240"/>
              <a:ext cx="1009440" cy="101124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571920" y="3868560"/>
            <a:ext cx="1428840" cy="847800"/>
            <a:chOff x="3571920" y="3868560"/>
            <a:chExt cx="1428840" cy="847800"/>
          </a:xfrm>
        </p:grpSpPr>
        <p:sp>
          <p:nvSpPr>
            <p:cNvPr id="52" name="直接连接符 20"/>
            <p:cNvSpPr/>
            <p:nvPr/>
          </p:nvSpPr>
          <p:spPr>
            <a:xfrm>
              <a:off x="3571920" y="4714920"/>
              <a:ext cx="1428840" cy="144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直接连接符 21"/>
            <p:cNvSpPr/>
            <p:nvPr/>
          </p:nvSpPr>
          <p:spPr>
            <a:xfrm flipH="1">
              <a:off x="3585960" y="3868560"/>
              <a:ext cx="1343160" cy="48744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429240" y="1571760"/>
            <a:ext cx="1428840" cy="1428480"/>
            <a:chOff x="6429240" y="1571760"/>
            <a:chExt cx="1428840" cy="1428480"/>
          </a:xfrm>
        </p:grpSpPr>
        <p:sp>
          <p:nvSpPr>
            <p:cNvPr id="55" name="直接连接符 12"/>
            <p:cNvSpPr/>
            <p:nvPr/>
          </p:nvSpPr>
          <p:spPr>
            <a:xfrm>
              <a:off x="6429240" y="2286000"/>
              <a:ext cx="1428840" cy="144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接连接符 13"/>
            <p:cNvSpPr/>
            <p:nvPr/>
          </p:nvSpPr>
          <p:spPr>
            <a:xfrm flipH="1">
              <a:off x="7143480" y="1571760"/>
              <a:ext cx="1440" cy="142848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7157880" y="2320200"/>
              <a:ext cx="181440" cy="180000"/>
              <a:chOff x="7157880" y="2320200"/>
              <a:chExt cx="181440" cy="180000"/>
            </a:xfrm>
          </p:grpSpPr>
          <p:sp>
            <p:nvSpPr>
              <p:cNvPr id="58" name="直接连接符 23"/>
              <p:cNvSpPr/>
              <p:nvPr/>
            </p:nvSpPr>
            <p:spPr>
              <a:xfrm>
                <a:off x="7157880" y="2470320"/>
                <a:ext cx="180000" cy="1440"/>
              </a:xfrm>
              <a:prstGeom prst="line">
                <a:avLst/>
              </a:prstGeom>
              <a:ln w="507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直接连接符 24"/>
              <p:cNvSpPr/>
              <p:nvPr/>
            </p:nvSpPr>
            <p:spPr>
              <a:xfrm flipH="1">
                <a:off x="7337880" y="2320200"/>
                <a:ext cx="1440" cy="180000"/>
              </a:xfrm>
              <a:prstGeom prst="line">
                <a:avLst/>
              </a:prstGeom>
              <a:ln w="507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6576120" y="3700080"/>
            <a:ext cx="1011600" cy="1011240"/>
            <a:chOff x="6576120" y="3700080"/>
            <a:chExt cx="1011600" cy="1011240"/>
          </a:xfrm>
        </p:grpSpPr>
        <p:sp>
          <p:nvSpPr>
            <p:cNvPr id="61" name="直接连接符 14"/>
            <p:cNvSpPr/>
            <p:nvPr/>
          </p:nvSpPr>
          <p:spPr>
            <a:xfrm>
              <a:off x="6576480" y="3700080"/>
              <a:ext cx="1009440" cy="101124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接连接符 15"/>
            <p:cNvSpPr/>
            <p:nvPr/>
          </p:nvSpPr>
          <p:spPr>
            <a:xfrm flipH="1">
              <a:off x="6576120" y="3701160"/>
              <a:ext cx="1011600" cy="100944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950160" y="4320360"/>
            <a:ext cx="235080" cy="149400"/>
            <a:chOff x="6950160" y="4320360"/>
            <a:chExt cx="235080" cy="149400"/>
          </a:xfrm>
        </p:grpSpPr>
        <p:sp>
          <p:nvSpPr>
            <p:cNvPr id="64" name="直接连接符 28"/>
            <p:cNvSpPr/>
            <p:nvPr/>
          </p:nvSpPr>
          <p:spPr>
            <a:xfrm>
              <a:off x="6950160" y="4320360"/>
              <a:ext cx="127080" cy="12924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接连接符 29"/>
            <p:cNvSpPr/>
            <p:nvPr/>
          </p:nvSpPr>
          <p:spPr>
            <a:xfrm flipH="1">
              <a:off x="7057080" y="4343760"/>
              <a:ext cx="128160" cy="126000"/>
            </a:xfrm>
            <a:prstGeom prst="line">
              <a:avLst/>
            </a:prstGeom>
            <a:ln w="507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35"/>
          <p:cNvSpPr/>
          <p:nvPr/>
        </p:nvSpPr>
        <p:spPr>
          <a:xfrm>
            <a:off x="857160" y="271476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3857760" y="2786040"/>
            <a:ext cx="10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平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7"/>
          <p:cNvSpPr/>
          <p:nvPr/>
        </p:nvSpPr>
        <p:spPr>
          <a:xfrm>
            <a:off x="6647040" y="3000240"/>
            <a:ext cx="10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垂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8"/>
          <p:cNvSpPr/>
          <p:nvPr/>
        </p:nvSpPr>
        <p:spPr>
          <a:xfrm>
            <a:off x="1074600" y="519120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平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9"/>
          <p:cNvSpPr/>
          <p:nvPr/>
        </p:nvSpPr>
        <p:spPr>
          <a:xfrm>
            <a:off x="3714840" y="5191200"/>
            <a:ext cx="106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40"/>
          <p:cNvSpPr/>
          <p:nvPr/>
        </p:nvSpPr>
        <p:spPr>
          <a:xfrm>
            <a:off x="6572160" y="511956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垂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000080" y="642960"/>
          <a:ext cx="7358040" cy="4857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  <a:gridCol w="614520"/>
                <a:gridCol w="612720"/>
                <a:gridCol w="639720"/>
                <a:gridCol w="585720"/>
                <a:gridCol w="614520"/>
                <a:gridCol w="612720"/>
                <a:gridCol w="612720"/>
                <a:gridCol w="614520"/>
                <a:gridCol w="612720"/>
                <a:gridCol w="612720"/>
              </a:tblGrid>
              <a:tr h="60660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直接连接符 4"/>
          <p:cNvSpPr/>
          <p:nvPr/>
        </p:nvSpPr>
        <p:spPr>
          <a:xfrm>
            <a:off x="1857240" y="1857240"/>
            <a:ext cx="5357880" cy="648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5"/>
          <p:cNvSpPr/>
          <p:nvPr/>
        </p:nvSpPr>
        <p:spPr>
          <a:xfrm>
            <a:off x="1857240" y="4305240"/>
            <a:ext cx="5357880" cy="648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2928960" y="1857240"/>
            <a:ext cx="1357200" cy="2428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10"/>
          <p:cNvSpPr/>
          <p:nvPr/>
        </p:nvSpPr>
        <p:spPr>
          <a:xfrm>
            <a:off x="3929040" y="1857240"/>
            <a:ext cx="2857680" cy="2428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1844640"/>
            <a:ext cx="1440" cy="244800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091280" y="1844640"/>
            <a:ext cx="1800" cy="244800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1844640"/>
            <a:ext cx="1440" cy="244800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4645080" y="1844640"/>
            <a:ext cx="0" cy="244800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1844640"/>
            <a:ext cx="0" cy="244800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5940360" y="1844640"/>
            <a:ext cx="0" cy="244800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6515280" y="1844640"/>
            <a:ext cx="0" cy="244800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1844640"/>
            <a:ext cx="1440" cy="244800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1844640"/>
            <a:ext cx="1440" cy="2448000"/>
          </a:xfrm>
          <a:prstGeom prst="line">
            <a:avLst/>
          </a:prstGeom>
          <a:ln w="63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91280" y="4149720"/>
            <a:ext cx="144360" cy="142920"/>
            <a:chOff x="5291280" y="4149720"/>
            <a:chExt cx="144360" cy="142920"/>
          </a:xfrm>
        </p:grpSpPr>
        <p:sp>
          <p:nvSpPr>
            <p:cNvPr id="87" name=""/>
            <p:cNvSpPr/>
            <p:nvPr/>
          </p:nvSpPr>
          <p:spPr>
            <a:xfrm>
              <a:off x="5291280" y="4149720"/>
              <a:ext cx="144000" cy="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35280" y="4149720"/>
              <a:ext cx="360" cy="142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645080" y="4149720"/>
            <a:ext cx="142920" cy="142920"/>
            <a:chOff x="4645080" y="4149720"/>
            <a:chExt cx="142920" cy="142920"/>
          </a:xfrm>
        </p:grpSpPr>
        <p:sp>
          <p:nvSpPr>
            <p:cNvPr id="90" name=""/>
            <p:cNvSpPr/>
            <p:nvPr/>
          </p:nvSpPr>
          <p:spPr>
            <a:xfrm>
              <a:off x="4645080" y="4149720"/>
              <a:ext cx="142560" cy="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87640" y="4149720"/>
              <a:ext cx="360" cy="142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067280" y="4149720"/>
            <a:ext cx="144360" cy="142920"/>
            <a:chOff x="4067280" y="4149720"/>
            <a:chExt cx="144360" cy="142920"/>
          </a:xfrm>
        </p:grpSpPr>
        <p:sp>
          <p:nvSpPr>
            <p:cNvPr id="93" name=""/>
            <p:cNvSpPr/>
            <p:nvPr/>
          </p:nvSpPr>
          <p:spPr>
            <a:xfrm>
              <a:off x="4067280" y="4149720"/>
              <a:ext cx="144000" cy="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211280" y="4149720"/>
              <a:ext cx="360" cy="142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419640" y="4149720"/>
            <a:ext cx="144360" cy="142920"/>
            <a:chOff x="3419640" y="4149720"/>
            <a:chExt cx="144360" cy="142920"/>
          </a:xfrm>
        </p:grpSpPr>
        <p:sp>
          <p:nvSpPr>
            <p:cNvPr id="96" name=""/>
            <p:cNvSpPr/>
            <p:nvPr/>
          </p:nvSpPr>
          <p:spPr>
            <a:xfrm>
              <a:off x="3419640" y="4149720"/>
              <a:ext cx="144000" cy="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63640" y="4149720"/>
              <a:ext cx="360" cy="142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844720" y="4149720"/>
            <a:ext cx="144360" cy="142920"/>
            <a:chOff x="2844720" y="4149720"/>
            <a:chExt cx="144360" cy="142920"/>
          </a:xfrm>
        </p:grpSpPr>
        <p:sp>
          <p:nvSpPr>
            <p:cNvPr id="99" name=""/>
            <p:cNvSpPr/>
            <p:nvPr/>
          </p:nvSpPr>
          <p:spPr>
            <a:xfrm>
              <a:off x="2844720" y="4149720"/>
              <a:ext cx="144000" cy="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8720" y="4149720"/>
              <a:ext cx="360" cy="142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95640" y="4149720"/>
            <a:ext cx="144360" cy="142920"/>
            <a:chOff x="2195640" y="4149720"/>
            <a:chExt cx="144360" cy="142920"/>
          </a:xfrm>
        </p:grpSpPr>
        <p:sp>
          <p:nvSpPr>
            <p:cNvPr id="102" name=""/>
            <p:cNvSpPr/>
            <p:nvPr/>
          </p:nvSpPr>
          <p:spPr>
            <a:xfrm>
              <a:off x="2195640" y="4149720"/>
              <a:ext cx="144000" cy="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39640" y="4149720"/>
              <a:ext cx="360" cy="142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093080" y="4149720"/>
            <a:ext cx="144360" cy="142920"/>
            <a:chOff x="7093080" y="4149720"/>
            <a:chExt cx="144360" cy="142920"/>
          </a:xfrm>
        </p:grpSpPr>
        <p:sp>
          <p:nvSpPr>
            <p:cNvPr id="105" name=""/>
            <p:cNvSpPr/>
            <p:nvPr/>
          </p:nvSpPr>
          <p:spPr>
            <a:xfrm>
              <a:off x="7093080" y="4149720"/>
              <a:ext cx="144000" cy="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37080" y="4149720"/>
              <a:ext cx="360" cy="142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515280" y="4149720"/>
            <a:ext cx="145440" cy="142920"/>
            <a:chOff x="6515280" y="4149720"/>
            <a:chExt cx="145440" cy="142920"/>
          </a:xfrm>
        </p:grpSpPr>
        <p:sp>
          <p:nvSpPr>
            <p:cNvPr id="108" name=""/>
            <p:cNvSpPr/>
            <p:nvPr/>
          </p:nvSpPr>
          <p:spPr>
            <a:xfrm>
              <a:off x="6515280" y="4149720"/>
              <a:ext cx="145080" cy="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60360" y="4149720"/>
              <a:ext cx="360" cy="142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940360" y="4149720"/>
            <a:ext cx="144360" cy="142920"/>
            <a:chOff x="5940360" y="4149720"/>
            <a:chExt cx="144360" cy="142920"/>
          </a:xfrm>
        </p:grpSpPr>
        <p:sp>
          <p:nvSpPr>
            <p:cNvPr id="111" name=""/>
            <p:cNvSpPr/>
            <p:nvPr/>
          </p:nvSpPr>
          <p:spPr>
            <a:xfrm>
              <a:off x="5940360" y="4149720"/>
              <a:ext cx="144000" cy="36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84360" y="4149720"/>
              <a:ext cx="360" cy="14292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hockwaveFlash1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286000" y="365760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785960" y="785880"/>
            <a:ext cx="361800" cy="3999960"/>
            <a:chOff x="1785960" y="785880"/>
            <a:chExt cx="361800" cy="3999960"/>
          </a:xfrm>
        </p:grpSpPr>
        <p:sp>
          <p:nvSpPr>
            <p:cNvPr id="116" name="Line 4"/>
            <p:cNvSpPr/>
            <p:nvPr/>
          </p:nvSpPr>
          <p:spPr>
            <a:xfrm>
              <a:off x="1787400" y="785880"/>
              <a:ext cx="0" cy="399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>
              <a:off x="2147760" y="785880"/>
              <a:ext cx="0" cy="3999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1785960" y="4785840"/>
              <a:ext cx="361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1785960" y="785880"/>
              <a:ext cx="361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828520" y="4381560"/>
            <a:ext cx="2971800" cy="1905120"/>
            <a:chOff x="2828520" y="4381560"/>
            <a:chExt cx="2971800" cy="1905120"/>
          </a:xfrm>
        </p:grpSpPr>
        <p:sp>
          <p:nvSpPr>
            <p:cNvPr id="121" name="AutoShape 9"/>
            <p:cNvSpPr/>
            <p:nvPr/>
          </p:nvSpPr>
          <p:spPr>
            <a:xfrm rot="5400000">
              <a:off x="3361680" y="3848040"/>
              <a:ext cx="1905120" cy="2971800"/>
            </a:xfrm>
            <a:prstGeom prst="rtTriangle">
              <a:avLst/>
            </a:prstGeom>
            <a:noFill/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0"/>
            <p:cNvSpPr/>
            <p:nvPr/>
          </p:nvSpPr>
          <p:spPr>
            <a:xfrm rot="5400000">
              <a:off x="3209400" y="4667400"/>
              <a:ext cx="685800" cy="685800"/>
            </a:xfrm>
            <a:prstGeom prst="ellipse">
              <a:avLst/>
            </a:prstGeom>
            <a:noFill/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Line 2"/>
          <p:cNvSpPr/>
          <p:nvPr/>
        </p:nvSpPr>
        <p:spPr>
          <a:xfrm>
            <a:off x="2257560" y="267192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2"/>
          <p:cNvSpPr/>
          <p:nvPr/>
        </p:nvSpPr>
        <p:spPr>
          <a:xfrm>
            <a:off x="2357280" y="152892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1937160" y="4929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固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2310480" y="464328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琥珀"/>
                <a:ea typeface="华文琥珀"/>
              </a:rPr>
              <a:t>只要沿着直尺所规定的路线</a:t>
            </a:r>
            <a:r>
              <a:rPr b="0" lang="zh-CN" sz="3600" spc="-1" strike="noStrike">
                <a:solidFill>
                  <a:srgbClr val="ff0000"/>
                </a:solidFill>
                <a:latin typeface="华文琥珀"/>
                <a:ea typeface="华文琥珀"/>
              </a:rPr>
              <a:t>平移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琥珀"/>
                <a:ea typeface="华文琥珀"/>
              </a:rPr>
              <a:t>画出来的所有直线都互相平行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5185E-006 L 5E-006 -0.10416 E">
                                      <p:cBhvr>
                                        <p:cTn id="13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6 L 0.07223 0.00162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10139 L 5E-006 -0.24838 E">
                                      <p:cBhvr>
                                        <p:cTn id="15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0.24838 L 5E-006 -0.41435 E">
                                      <p:cBhvr>
                                        <p:cTn id="16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4"/>
          <p:cNvSpPr/>
          <p:nvPr/>
        </p:nvSpPr>
        <p:spPr>
          <a:xfrm>
            <a:off x="1500120" y="4286160"/>
            <a:ext cx="6072120" cy="180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接连接符 6"/>
          <p:cNvSpPr/>
          <p:nvPr/>
        </p:nvSpPr>
        <p:spPr>
          <a:xfrm flipV="1">
            <a:off x="2500200" y="2357280"/>
            <a:ext cx="1857600" cy="192888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接连接符 8"/>
          <p:cNvSpPr/>
          <p:nvPr/>
        </p:nvSpPr>
        <p:spPr>
          <a:xfrm flipH="1">
            <a:off x="3357720" y="2357280"/>
            <a:ext cx="1000080" cy="192888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10"/>
          <p:cNvSpPr/>
          <p:nvPr/>
        </p:nvSpPr>
        <p:spPr>
          <a:xfrm flipH="1">
            <a:off x="4355640" y="2357280"/>
            <a:ext cx="1800" cy="193068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接连接符 12"/>
          <p:cNvSpPr/>
          <p:nvPr/>
        </p:nvSpPr>
        <p:spPr>
          <a:xfrm>
            <a:off x="4357800" y="2357280"/>
            <a:ext cx="1071360" cy="192888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接连接符 14"/>
          <p:cNvSpPr/>
          <p:nvPr/>
        </p:nvSpPr>
        <p:spPr>
          <a:xfrm>
            <a:off x="4357080" y="2357280"/>
            <a:ext cx="1785960" cy="192888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4146120" y="1928880"/>
            <a:ext cx="4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8"/>
          <p:cNvSpPr/>
          <p:nvPr/>
        </p:nvSpPr>
        <p:spPr>
          <a:xfrm>
            <a:off x="2218320" y="42148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3171960" y="42148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20"/>
          <p:cNvSpPr/>
          <p:nvPr/>
        </p:nvSpPr>
        <p:spPr>
          <a:xfrm>
            <a:off x="4172760" y="421488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5218200" y="4214880"/>
            <a:ext cx="40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5931360" y="4214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7749000" y="4000680"/>
            <a:ext cx="8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直线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Group 8" descr=""/>
          <p:cNvPicPr/>
          <p:nvPr/>
        </p:nvPicPr>
        <p:blipFill>
          <a:blip r:embed="rId1"/>
          <a:stretch/>
        </p:blipFill>
        <p:spPr>
          <a:xfrm>
            <a:off x="9193320" y="2225520"/>
            <a:ext cx="1646280" cy="209736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357800" y="4114440"/>
            <a:ext cx="179280" cy="181080"/>
            <a:chOff x="4357800" y="4114440"/>
            <a:chExt cx="179280" cy="181080"/>
          </a:xfrm>
        </p:grpSpPr>
        <p:sp>
          <p:nvSpPr>
            <p:cNvPr id="142" name="直接连接符 28"/>
            <p:cNvSpPr/>
            <p:nvPr/>
          </p:nvSpPr>
          <p:spPr>
            <a:xfrm flipV="1">
              <a:off x="4507200" y="4115880"/>
              <a:ext cx="1440" cy="179640"/>
            </a:xfrm>
            <a:prstGeom prst="line">
              <a:avLst/>
            </a:prstGeom>
            <a:ln w="507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直接连接符 29"/>
            <p:cNvSpPr/>
            <p:nvPr/>
          </p:nvSpPr>
          <p:spPr>
            <a:xfrm>
              <a:off x="4357800" y="4114440"/>
              <a:ext cx="179280" cy="1440"/>
            </a:xfrm>
            <a:prstGeom prst="line">
              <a:avLst/>
            </a:prstGeom>
            <a:ln w="507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10320" y="909720"/>
            <a:ext cx="50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找出下图中直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垂线，并说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怎么找的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-0.53125 -1.11111E-006 E">
                                      <p:cBhvr>
                                        <p:cTn id="19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33480" y="-22320"/>
            <a:ext cx="921564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2891520" y="42876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综合运用：画一个长是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，宽是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厘米的长方形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51160" y="1428840"/>
            <a:ext cx="34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画一条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厘米长的线段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3686040" y="594360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933120" y="2143080"/>
            <a:ext cx="6812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从画出的线段两端，在同侧画两条与这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线段垂直的线段，使它们分别长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厘米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8"/>
          <p:cNvSpPr/>
          <p:nvPr/>
        </p:nvSpPr>
        <p:spPr>
          <a:xfrm flipV="1">
            <a:off x="3686040" y="4514760"/>
            <a:ext cx="0" cy="1440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5829480" y="4514760"/>
            <a:ext cx="0" cy="1440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730320" y="348156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）把这两条线段另外的端点连接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686040" y="451476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0:48Z</dcterms:created>
  <dc:creator>www.rrxk.net; xu</dc:creator>
  <dc:description/>
  <cp:keywords/>
  <dc:language>en-US</dc:language>
  <cp:lastModifiedBy>User</cp:lastModifiedBy>
  <cp:lastPrinted>1899-12-30T00:00:00Z</cp:lastPrinted>
  <dcterms:modified xsi:type="dcterms:W3CDTF">2014-03-30T03:00:2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855</vt:lpwstr>
  </property>
</Properties>
</file>