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64F-FAEE-4865-95DD-BF8FDBDA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D15-D031-4B4E-BBF9-40707C18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61E-A103-45E1-A8C4-FCBA206C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615-1B4D-4950-BC5A-10EC76AC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D9-A51E-4575-AEED-106B94A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EE8-0C40-4137-A919-F05F0A3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972-E135-4995-9204-2D8184CD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0E0-C6EF-4C43-ACE3-0162C6E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5EC-5E86-4EA7-B545-4C0B3CE6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250-E218-407F-915E-8047EE5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717-2444-47F6-8C69-11F4017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495-B239-41CD-9B46-5694F95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4F69-EF4F-4942-BCBC-F8CA9D6062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5280" y="566100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95280" y="566100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7048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冀教版四年级数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560" y="2924280"/>
            <a:ext cx="6040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条形统计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4414680"/>
            <a:ext cx="831708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280" y="461520"/>
            <a:ext cx="8425080" cy="10796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国运动员在奥运会上获得金牌数量统计图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第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4-28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届）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年     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6093000"/>
            <a:ext cx="80769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684360" y="1310760"/>
            <a:ext cx="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5280" y="5832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0880" y="5348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11600" y="134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位：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31400" y="611352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03080" y="608472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34440" y="6087960"/>
            <a:ext cx="6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7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届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41320" y="607392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818480" y="170028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04240" y="170028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88200" y="1700280"/>
            <a:ext cx="71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73600" y="1700280"/>
            <a:ext cx="7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959360" y="170028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243320" y="1700280"/>
            <a:ext cx="71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29080" y="170028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14480" y="1700280"/>
            <a:ext cx="7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098800" y="1700280"/>
            <a:ext cx="715680" cy="519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84200" y="1700280"/>
            <a:ext cx="7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960" y="170028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18480" y="561492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04240" y="561492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88200" y="561492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673600" y="561492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59360" y="561492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43320" y="561492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29080" y="561492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4480" y="561492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98800" y="5614920"/>
            <a:ext cx="715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84200" y="561492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9960" y="561492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18480" y="506268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104240" y="506268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88200" y="5062680"/>
            <a:ext cx="71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673600" y="506268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59360" y="506268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43320" y="5062680"/>
            <a:ext cx="71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29080" y="506268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4480" y="506268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98800" y="5062680"/>
            <a:ext cx="715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384200" y="506268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9960" y="506268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818480" y="4508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104240" y="4508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88200" y="450864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73600" y="450864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59360" y="4508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43320" y="450864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29080" y="4508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4480" y="450864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98800" y="4508640"/>
            <a:ext cx="715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84200" y="450864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9960" y="4508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18480" y="3879720"/>
            <a:ext cx="714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04240" y="3879720"/>
            <a:ext cx="714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88200" y="3879720"/>
            <a:ext cx="71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673600" y="3879720"/>
            <a:ext cx="714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959360" y="3879720"/>
            <a:ext cx="714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43320" y="3879720"/>
            <a:ext cx="71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29080" y="3879720"/>
            <a:ext cx="714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14480" y="3879720"/>
            <a:ext cx="714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8800" y="3879720"/>
            <a:ext cx="7156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84200" y="3879720"/>
            <a:ext cx="714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9960" y="3879720"/>
            <a:ext cx="714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818480" y="33256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104240" y="33256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88200" y="332568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73600" y="332568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959360" y="33256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43320" y="332568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29080" y="33256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14480" y="332568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98800" y="3325680"/>
            <a:ext cx="715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384200" y="332568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9960" y="33256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818480" y="2771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04240" y="2771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88200" y="277164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73600" y="277164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9360" y="2771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43320" y="277164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529080" y="2771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14480" y="277164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98800" y="2771640"/>
            <a:ext cx="715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77164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9960" y="277164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18480" y="221940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104240" y="2219400"/>
            <a:ext cx="714240" cy="552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88200" y="2219400"/>
            <a:ext cx="71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73600" y="221940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59360" y="221940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43320" y="2219400"/>
            <a:ext cx="71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529080" y="221940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4480" y="221940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098800" y="2219400"/>
            <a:ext cx="715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384200" y="221940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9960" y="221940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960" y="170028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9960" y="277164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69960" y="332568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9960" y="387972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9960" y="450864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9960" y="506268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69960" y="561492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69960" y="616896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8420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098800" y="16858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14480" y="16858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2908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4332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5936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67360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8820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0424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81848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532720" y="1700280"/>
            <a:ext cx="0" cy="43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9960" y="170028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84200" y="6168960"/>
            <a:ext cx="7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098800" y="6168960"/>
            <a:ext cx="715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4480" y="6168960"/>
            <a:ext cx="7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29080" y="616896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43320" y="6168960"/>
            <a:ext cx="716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59360" y="616896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73600" y="6168960"/>
            <a:ext cx="7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88200" y="6168960"/>
            <a:ext cx="716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04240" y="616896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18480" y="616896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9960" y="2771640"/>
            <a:ext cx="0" cy="55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9960" y="3325680"/>
            <a:ext cx="0" cy="55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69960" y="3879720"/>
            <a:ext cx="0" cy="62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69960" y="4508640"/>
            <a:ext cx="0" cy="55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9960" y="5062680"/>
            <a:ext cx="0" cy="55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9960" y="5614920"/>
            <a:ext cx="0" cy="55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69960" y="221940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9960" y="2219400"/>
            <a:ext cx="0" cy="55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1120" y="476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7080" y="421020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0840" y="3666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7320" y="307512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2920" y="2513160"/>
            <a:ext cx="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9280" y="1465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7320" y="1998720"/>
            <a:ext cx="5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24160" y="6027840"/>
            <a:ext cx="7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14480" y="4378320"/>
            <a:ext cx="712800" cy="1709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55920" y="4378320"/>
            <a:ext cx="698760" cy="1709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81520" y="3097080"/>
            <a:ext cx="701640" cy="298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107120" y="2563920"/>
            <a:ext cx="695520" cy="3514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89240" y="5616720"/>
            <a:ext cx="704520" cy="479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13160" y="3917880"/>
            <a:ext cx="5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164360" y="2131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71720" y="3913200"/>
            <a:ext cx="7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53160" y="2644920"/>
            <a:ext cx="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539720" y="5137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00680" y="1268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09040" y="1239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71520" y="809640"/>
            <a:ext cx="8572320" cy="5134320"/>
            <a:chOff x="371520" y="809640"/>
            <a:chExt cx="8572320" cy="5134320"/>
          </a:xfrm>
        </p:grpSpPr>
        <p:sp>
          <p:nvSpPr>
            <p:cNvPr id="647" name=""/>
            <p:cNvSpPr/>
            <p:nvPr/>
          </p:nvSpPr>
          <p:spPr>
            <a:xfrm>
              <a:off x="1749240" y="809640"/>
              <a:ext cx="5832720" cy="11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我国主要河流长度情况统计图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年       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27080" y="5607000"/>
              <a:ext cx="7916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5920" y="48308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淮河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9440" y="41655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珠江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9960" y="341640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黄河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1520" y="27115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长江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 rot="10797000">
              <a:off x="1314000" y="55915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055520" y="1674720"/>
              <a:ext cx="0" cy="395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1055520" y="2365200"/>
              <a:ext cx="7035840" cy="3241440"/>
              <a:chOff x="1055520" y="2365200"/>
              <a:chExt cx="7035840" cy="3241440"/>
            </a:xfrm>
          </p:grpSpPr>
          <p:grpSp>
            <p:nvGrpSpPr>
              <p:cNvPr id="656" name=""/>
              <p:cNvGrpSpPr/>
              <p:nvPr/>
            </p:nvGrpSpPr>
            <p:grpSpPr>
              <a:xfrm>
                <a:off x="1055520" y="2365200"/>
                <a:ext cx="7035840" cy="1081080"/>
                <a:chOff x="1055520" y="2365200"/>
                <a:chExt cx="7035840" cy="108108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1055520" y="2365200"/>
                  <a:ext cx="7035840" cy="360360"/>
                  <a:chOff x="1055520" y="2365200"/>
                  <a:chExt cx="7035840" cy="36036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1588680" y="23652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134800" y="23652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68272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23028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3777840" y="23652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32576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85748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39100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2272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45624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700380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7551360" y="23652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1055520" y="23652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1055520" y="2725560"/>
                  <a:ext cx="7035840" cy="360360"/>
                  <a:chOff x="1055520" y="2725560"/>
                  <a:chExt cx="7035840" cy="3603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1588680" y="27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134800" y="27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68272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23028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3777840" y="27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432576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85748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39100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92272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45624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700380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7551360" y="27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055520" y="27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1055520" y="3085920"/>
                  <a:ext cx="7035840" cy="360360"/>
                  <a:chOff x="1055520" y="3085920"/>
                  <a:chExt cx="7035840" cy="36036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1588680" y="30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134800" y="30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68272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323028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777840" y="30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32576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85748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39100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592272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45624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700380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551360" y="30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055520" y="30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9" name=""/>
              <p:cNvGrpSpPr/>
              <p:nvPr/>
            </p:nvGrpSpPr>
            <p:grpSpPr>
              <a:xfrm>
                <a:off x="1055520" y="3446280"/>
                <a:ext cx="7035840" cy="1081080"/>
                <a:chOff x="1055520" y="3446280"/>
                <a:chExt cx="7035840" cy="108108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1055520" y="3446280"/>
                  <a:ext cx="7035840" cy="360360"/>
                  <a:chOff x="1055520" y="3446280"/>
                  <a:chExt cx="7035840" cy="36036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1588680" y="34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134800" y="34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68272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323028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3777840" y="34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32576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85748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39100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592272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45624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00380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551360" y="34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1055520" y="34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1055520" y="3806640"/>
                  <a:ext cx="7035840" cy="360360"/>
                  <a:chOff x="1055520" y="3806640"/>
                  <a:chExt cx="7035840" cy="360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1588680" y="380664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2134800" y="380664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68272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23028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777840" y="380664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32576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85748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39100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592272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45624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700380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551360" y="380664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055520" y="380664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1055520" y="4167000"/>
                  <a:ext cx="7035840" cy="360360"/>
                  <a:chOff x="1055520" y="4167000"/>
                  <a:chExt cx="7035840" cy="36036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1588680" y="41670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2134800" y="41670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268272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323028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777840" y="41670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32576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85748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39100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592272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45624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700380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7551360" y="416700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055520" y="416700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2" name=""/>
              <p:cNvGrpSpPr/>
              <p:nvPr/>
            </p:nvGrpSpPr>
            <p:grpSpPr>
              <a:xfrm>
                <a:off x="1055520" y="4525560"/>
                <a:ext cx="7035840" cy="1081080"/>
                <a:chOff x="1055520" y="4525560"/>
                <a:chExt cx="7035840" cy="1081080"/>
              </a:xfrm>
            </p:grpSpPr>
            <p:grpSp>
              <p:nvGrpSpPr>
                <p:cNvPr id="743" name=""/>
                <p:cNvGrpSpPr/>
                <p:nvPr/>
              </p:nvGrpSpPr>
              <p:grpSpPr>
                <a:xfrm>
                  <a:off x="1055520" y="4525560"/>
                  <a:ext cx="7035840" cy="360360"/>
                  <a:chOff x="1055520" y="4525560"/>
                  <a:chExt cx="7035840" cy="360360"/>
                </a:xfrm>
              </p:grpSpPr>
              <p:sp>
                <p:nvSpPr>
                  <p:cNvPr id="744" name=""/>
                  <p:cNvSpPr/>
                  <p:nvPr/>
                </p:nvSpPr>
                <p:spPr>
                  <a:xfrm>
                    <a:off x="1588680" y="45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134800" y="45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68272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23028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777840" y="45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32576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85748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39100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2272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645624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700380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7551360" y="452556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55520" y="452556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055520" y="4885920"/>
                  <a:ext cx="7035840" cy="360360"/>
                  <a:chOff x="1055520" y="4885920"/>
                  <a:chExt cx="7035840" cy="36036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588680" y="48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2134800" y="48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268272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323028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3777840" y="48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32576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85748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39100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92272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45624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700380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7551360" y="488592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055520" y="488592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1055520" y="5246280"/>
                  <a:ext cx="7035840" cy="360360"/>
                  <a:chOff x="1055520" y="5246280"/>
                  <a:chExt cx="7035840" cy="36036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1588680" y="52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134800" y="52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68272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23028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3777840" y="52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32576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85748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539100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592272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645624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00380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551360" y="5246280"/>
                    <a:ext cx="54000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055520" y="5246280"/>
                    <a:ext cx="539640" cy="36036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5" name=""/>
            <p:cNvSpPr/>
            <p:nvPr/>
          </p:nvSpPr>
          <p:spPr>
            <a:xfrm flipV="1" rot="10797000">
              <a:off x="725040" y="56059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0797000">
              <a:off x="1793880" y="55897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10797000">
              <a:off x="2339640" y="55897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10797000">
              <a:off x="2901960" y="55771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10797000">
              <a:off x="3462120" y="55753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10797000">
              <a:off x="4020840" y="557532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 rot="10797000">
              <a:off x="4570200" y="55753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10797000">
              <a:off x="5089320" y="556200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10797000">
              <a:off x="5622840" y="55753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10797000">
              <a:off x="6140160" y="55771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10797000">
              <a:off x="6672240" y="55911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10797000">
              <a:off x="7248240" y="5577120"/>
              <a:ext cx="71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10797000">
              <a:off x="7796160" y="55771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8101080" y="4653000"/>
            <a:ext cx="104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单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24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274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06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13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2411280" y="549360"/>
            <a:ext cx="3794400" cy="1519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8" name=""/>
          <p:cNvSpPr/>
          <p:nvPr/>
        </p:nvSpPr>
        <p:spPr>
          <a:xfrm>
            <a:off x="2268360" y="33577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本节课我们主要学习了条形统计图，同学们要知道条形统计图的画法，能够读懂条形统计图中包含的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56000" y="765000"/>
            <a:ext cx="360036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306864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黑体"/>
                <a:ea typeface="黑体"/>
              </a:rPr>
              <a:t>本节课我们主要来学习条形统计图，同学们要掌握条形统计图的画法，知道条形统计图中包含的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51847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836640"/>
            <a:ext cx="4032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波兰弗罗茨瓦夫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俄罗斯莫斯科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韩国丽水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墨西哥克雷塔罗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中国上海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981000"/>
            <a:ext cx="136836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3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3760" y="488880"/>
            <a:ext cx="831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世界博览会申办城市第一轮得票情况统计图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2280" y="6043680"/>
            <a:ext cx="945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波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弗罗茨瓦夫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55000" y="161280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40760" y="161280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4720" y="1612800"/>
            <a:ext cx="71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61240" y="1612800"/>
            <a:ext cx="663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95880" y="1612800"/>
            <a:ext cx="765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79840" y="1612800"/>
            <a:ext cx="71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65600" y="1612800"/>
            <a:ext cx="71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1000" y="1612800"/>
            <a:ext cx="7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35320" y="1612800"/>
            <a:ext cx="71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5760" y="1612800"/>
            <a:ext cx="70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6480" y="1612800"/>
            <a:ext cx="71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55000" y="549576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40760" y="549576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4720" y="549576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61240" y="5495760"/>
            <a:ext cx="663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95880" y="5495760"/>
            <a:ext cx="765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79840" y="549576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65600" y="549576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1000" y="549576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35320" y="5495760"/>
            <a:ext cx="715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25760" y="5495760"/>
            <a:ext cx="7095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6480" y="5495760"/>
            <a:ext cx="719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55000" y="4902120"/>
            <a:ext cx="7142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0760" y="4902120"/>
            <a:ext cx="7142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24720" y="4902120"/>
            <a:ext cx="716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61240" y="4902120"/>
            <a:ext cx="663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95880" y="4902120"/>
            <a:ext cx="765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79840" y="4902120"/>
            <a:ext cx="716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5600" y="4902120"/>
            <a:ext cx="7142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1000" y="4902120"/>
            <a:ext cx="714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35320" y="4902120"/>
            <a:ext cx="715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5760" y="4902120"/>
            <a:ext cx="709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6480" y="4902120"/>
            <a:ext cx="719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55000" y="43480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40760" y="43480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24720" y="434808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61240" y="4348080"/>
            <a:ext cx="663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5880" y="4348080"/>
            <a:ext cx="765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9840" y="4348080"/>
            <a:ext cx="716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65600" y="4348080"/>
            <a:ext cx="714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1000" y="4348080"/>
            <a:ext cx="7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35320" y="4348080"/>
            <a:ext cx="7156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5760" y="4348080"/>
            <a:ext cx="7095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6480" y="4348080"/>
            <a:ext cx="719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55000" y="379584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40760" y="379584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4720" y="3795840"/>
            <a:ext cx="71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61240" y="3795840"/>
            <a:ext cx="6634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5880" y="3795840"/>
            <a:ext cx="765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79840" y="3795840"/>
            <a:ext cx="71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65600" y="3795840"/>
            <a:ext cx="714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1000" y="3795840"/>
            <a:ext cx="714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35320" y="3795840"/>
            <a:ext cx="715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5760" y="3795840"/>
            <a:ext cx="709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6480" y="3795840"/>
            <a:ext cx="7192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55000" y="3270240"/>
            <a:ext cx="714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40760" y="3270240"/>
            <a:ext cx="714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4720" y="3270240"/>
            <a:ext cx="716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1240" y="3270240"/>
            <a:ext cx="663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95880" y="3270240"/>
            <a:ext cx="765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79840" y="3270240"/>
            <a:ext cx="716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65600" y="3270240"/>
            <a:ext cx="714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1000" y="3270240"/>
            <a:ext cx="7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5320" y="3270240"/>
            <a:ext cx="715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25760" y="3270240"/>
            <a:ext cx="709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6480" y="3270240"/>
            <a:ext cx="719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55000" y="2693880"/>
            <a:ext cx="71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40760" y="2693880"/>
            <a:ext cx="71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24720" y="2693880"/>
            <a:ext cx="716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61240" y="2693880"/>
            <a:ext cx="66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95880" y="2693880"/>
            <a:ext cx="76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2693880"/>
            <a:ext cx="716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65600" y="2693880"/>
            <a:ext cx="71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1000" y="2693880"/>
            <a:ext cx="714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35320" y="2693880"/>
            <a:ext cx="71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25760" y="2693880"/>
            <a:ext cx="70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6480" y="269388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55000" y="2131920"/>
            <a:ext cx="714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40760" y="2131920"/>
            <a:ext cx="714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4720" y="2131920"/>
            <a:ext cx="7160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61240" y="2131920"/>
            <a:ext cx="663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95880" y="2131920"/>
            <a:ext cx="765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9840" y="2131920"/>
            <a:ext cx="882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65600" y="2131920"/>
            <a:ext cx="714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51000" y="2131920"/>
            <a:ext cx="71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35320" y="2131920"/>
            <a:ext cx="7156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5760" y="2131920"/>
            <a:ext cx="709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6480" y="2162160"/>
            <a:ext cx="719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20880" y="1612800"/>
            <a:ext cx="7862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20880" y="269388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327024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20880" y="379584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20880" y="434808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0880" y="490212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20880" y="549576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6480" y="6049800"/>
            <a:ext cx="71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576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3532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100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560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7984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9588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472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4076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55000" y="1612800"/>
            <a:ext cx="0" cy="443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769240" y="1612800"/>
            <a:ext cx="0" cy="44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6480" y="161280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6480" y="269388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6480" y="3270240"/>
            <a:ext cx="0" cy="525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6480" y="3795840"/>
            <a:ext cx="0" cy="55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6480" y="4348080"/>
            <a:ext cx="0" cy="55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6480" y="4902120"/>
            <a:ext cx="0" cy="59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6480" y="5495760"/>
            <a:ext cx="0" cy="55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20880" y="2131920"/>
            <a:ext cx="7862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6480" y="2162160"/>
            <a:ext cx="0" cy="56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5760" y="6049800"/>
            <a:ext cx="7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35320" y="6049800"/>
            <a:ext cx="715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1000" y="6049800"/>
            <a:ext cx="7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65600" y="604980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79840" y="6049800"/>
            <a:ext cx="716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95880" y="6049800"/>
            <a:ext cx="765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61240" y="6049800"/>
            <a:ext cx="663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4720" y="6049800"/>
            <a:ext cx="716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40760" y="604980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55000" y="6049800"/>
            <a:ext cx="71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23760" y="6048000"/>
            <a:ext cx="8091720" cy="3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22320" y="1266480"/>
            <a:ext cx="0" cy="4800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7040" y="57834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7040" y="52992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" y="47354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840" y="41799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200" y="363708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3720" y="304488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248292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0240" y="1363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9680" y="1968480"/>
            <a:ext cx="5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49560" y="10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单位：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8480" y="6040440"/>
            <a:ext cx="671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俄罗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莫斯科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35640" y="604044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韩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丽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82560" y="604368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墨西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克雷塔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73880" y="6029280"/>
            <a:ext cx="10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22874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1514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7480" y="4753080"/>
            <a:ext cx="701640" cy="1292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84520" y="2824200"/>
            <a:ext cx="709920" cy="321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10120" y="5359320"/>
            <a:ext cx="698760" cy="6796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50120" y="2017800"/>
            <a:ext cx="704880" cy="402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1880" y="5805360"/>
            <a:ext cx="6984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30560" y="423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3640" y="482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2200" y="5238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世界博览会申办城市第三轮得票情况如下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32640" y="3732120"/>
            <a:ext cx="2054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8480" y="3732120"/>
            <a:ext cx="2054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22520" y="3732120"/>
            <a:ext cx="20559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732120"/>
            <a:ext cx="205416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票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32640" y="2349360"/>
            <a:ext cx="205416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8480" y="2349360"/>
            <a:ext cx="205416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丽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22520" y="2349360"/>
            <a:ext cx="205596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莫斯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349360"/>
            <a:ext cx="205416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城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349360"/>
            <a:ext cx="821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732120"/>
            <a:ext cx="821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108400"/>
            <a:ext cx="821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49360"/>
            <a:ext cx="0" cy="138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22520" y="2349360"/>
            <a:ext cx="0" cy="275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8480" y="2349360"/>
            <a:ext cx="0" cy="275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32640" y="2349360"/>
            <a:ext cx="0" cy="275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686800" y="2349360"/>
            <a:ext cx="0" cy="138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732120"/>
            <a:ext cx="0" cy="13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686800" y="3732120"/>
            <a:ext cx="0" cy="13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840800" y="6305400"/>
            <a:ext cx="645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35040" y="6165720"/>
            <a:ext cx="6837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111640"/>
            <a:ext cx="761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54320" y="4594320"/>
            <a:ext cx="761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54320" y="614664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95160" y="6156360"/>
            <a:ext cx="6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俄罗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莫斯科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4720" y="61563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韩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丽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24520" y="615636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中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上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6559560"/>
            <a:ext cx="649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03600" y="1030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单位：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35040" y="5654520"/>
            <a:ext cx="7621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05520" y="5137200"/>
            <a:ext cx="663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05520" y="4619520"/>
            <a:ext cx="663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05520" y="4102200"/>
            <a:ext cx="663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73320" y="3067200"/>
            <a:ext cx="762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05520" y="2492280"/>
            <a:ext cx="6634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11560" y="2492280"/>
            <a:ext cx="7617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35040" y="2492280"/>
            <a:ext cx="762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35040" y="61722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35040" y="19749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35040" y="2492280"/>
            <a:ext cx="0" cy="57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35040" y="306720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358452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35040" y="410220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35040" y="461952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5040" y="513720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35040" y="565452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6162840"/>
            <a:ext cx="776160" cy="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97560" y="6172200"/>
            <a:ext cx="74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42040" y="6172200"/>
            <a:ext cx="663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05520" y="6172200"/>
            <a:ext cx="663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69000" y="6172200"/>
            <a:ext cx="71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80360" y="6165720"/>
            <a:ext cx="64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547640" y="1125360"/>
            <a:ext cx="0" cy="5042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39760" y="5948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68200" y="5464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440" y="4957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9040" y="4416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3440" y="3925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50480" y="340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4880" y="2873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79280" y="1820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4880" y="2368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4360" y="126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07160" y="5624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48200" y="5624640"/>
            <a:ext cx="858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87800" y="5624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27400" y="5624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67000" y="5624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400" y="5624640"/>
            <a:ext cx="85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5624640"/>
            <a:ext cx="86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07160" y="5106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48200" y="5106960"/>
            <a:ext cx="85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87800" y="5106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27400" y="5106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67000" y="5106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08400" y="5106960"/>
            <a:ext cx="858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47640" y="5106960"/>
            <a:ext cx="860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7160" y="4589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48200" y="4589640"/>
            <a:ext cx="858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87800" y="4589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27400" y="4589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67000" y="458964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08400" y="4589640"/>
            <a:ext cx="85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7640" y="4589640"/>
            <a:ext cx="86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7160" y="4071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48200" y="4071960"/>
            <a:ext cx="85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87800" y="4071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27400" y="4071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67000" y="407196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08400" y="4071960"/>
            <a:ext cx="858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4071960"/>
            <a:ext cx="860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7160" y="355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48200" y="3554280"/>
            <a:ext cx="85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87800" y="355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127400" y="355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67000" y="355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08400" y="3554280"/>
            <a:ext cx="858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47640" y="3554280"/>
            <a:ext cx="860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07160" y="3036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48200" y="3036960"/>
            <a:ext cx="858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87800" y="3036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27400" y="3036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67000" y="3036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08400" y="3036960"/>
            <a:ext cx="85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47640" y="3036960"/>
            <a:ext cx="86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7160" y="2519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48200" y="2519280"/>
            <a:ext cx="85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87800" y="2519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27400" y="2519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67000" y="2519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08400" y="2519280"/>
            <a:ext cx="858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2519280"/>
            <a:ext cx="860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7160" y="2001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48200" y="2001960"/>
            <a:ext cx="858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87800" y="2001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7400" y="2001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2001960"/>
            <a:ext cx="86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08400" y="2001960"/>
            <a:ext cx="85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47640" y="2001960"/>
            <a:ext cx="86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7160" y="148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48200" y="1484280"/>
            <a:ext cx="858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87800" y="148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27400" y="148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67000" y="1484280"/>
            <a:ext cx="86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08400" y="1484280"/>
            <a:ext cx="858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1484280"/>
            <a:ext cx="860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47640" y="1484280"/>
            <a:ext cx="6019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47640" y="200196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51928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03696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355428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407196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458964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47640" y="510696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7640" y="5624640"/>
            <a:ext cx="6019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47640" y="6141960"/>
            <a:ext cx="860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47640" y="148428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8400" y="1484280"/>
            <a:ext cx="0" cy="46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67000" y="1484280"/>
            <a:ext cx="0" cy="46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27400" y="1484280"/>
            <a:ext cx="0" cy="46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87800" y="1484280"/>
            <a:ext cx="0" cy="46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48200" y="1484280"/>
            <a:ext cx="0" cy="46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07160" y="1484280"/>
            <a:ext cx="0" cy="465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67560" y="1484280"/>
            <a:ext cx="0" cy="4657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20019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251928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30369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355428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407196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458964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510696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47640" y="562464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08400" y="6141960"/>
            <a:ext cx="85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67000" y="6141960"/>
            <a:ext cx="860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27400" y="6141960"/>
            <a:ext cx="860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87800" y="6141960"/>
            <a:ext cx="860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8200" y="6141960"/>
            <a:ext cx="85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07160" y="6141960"/>
            <a:ext cx="860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1672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世界博览会申办城市第三轮票情况统计图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00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25680" y="4911840"/>
            <a:ext cx="846000" cy="1241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40360" y="2809800"/>
            <a:ext cx="838080" cy="3346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40360" y="105264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53240" y="1571760"/>
            <a:ext cx="846000" cy="4584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11640" y="2347920"/>
            <a:ext cx="663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316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97240" y="4898880"/>
            <a:ext cx="865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7640" y="4913280"/>
            <a:ext cx="82728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547640" y="2838240"/>
            <a:ext cx="2570400" cy="140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533600" y="1571400"/>
            <a:ext cx="4317840" cy="4284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04800" y="4869000"/>
            <a:ext cx="71640" cy="7128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19200" y="1585800"/>
            <a:ext cx="71640" cy="7164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76360" y="2809800"/>
            <a:ext cx="71280" cy="7164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40360" y="2824200"/>
            <a:ext cx="865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38840" y="1557360"/>
            <a:ext cx="8650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657440" y="907920"/>
            <a:ext cx="5486400" cy="1073160"/>
            <a:chOff x="1657440" y="907920"/>
            <a:chExt cx="5486400" cy="1073160"/>
          </a:xfrm>
        </p:grpSpPr>
        <p:sp>
          <p:nvSpPr>
            <p:cNvPr id="380" name=""/>
            <p:cNvSpPr/>
            <p:nvPr/>
          </p:nvSpPr>
          <p:spPr>
            <a:xfrm>
              <a:off x="5772240" y="14479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00640" y="14479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29040" y="14479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7440" y="1447920"/>
              <a:ext cx="1371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票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72240" y="91440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上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00640" y="91440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丽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29040" y="91440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莫斯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92360" y="907920"/>
              <a:ext cx="1371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城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7440" y="914400"/>
              <a:ext cx="548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57440" y="1447920"/>
              <a:ext cx="548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7440" y="1981080"/>
              <a:ext cx="548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57440" y="91440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29040" y="91440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0640" y="91440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2240" y="91440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43840" y="91440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7440" y="144792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43840" y="144792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971640" y="147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世界博览会申办城市第三轮得票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3920" y="2289240"/>
            <a:ext cx="71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世界博览会申办城市第三轮得票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47640" y="6156360"/>
            <a:ext cx="6658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557360" y="280980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91600" y="593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01320" y="5635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2520" y="5318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1080" y="49975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96920" y="4656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26080" y="434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09520" y="4040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4560" y="36892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31120" y="3405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97200" y="2733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单位：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28600" y="30560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66720" y="62071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俄罗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莫斯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68880" y="621648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韩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丽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73640" y="6188040"/>
            <a:ext cx="9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上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19480" y="5405400"/>
            <a:ext cx="838080" cy="73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48280" y="4111560"/>
            <a:ext cx="838080" cy="2022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29360" y="3332160"/>
            <a:ext cx="838080" cy="2814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52320" y="49640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52320" y="3684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68680" y="2892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63280" y="2717640"/>
            <a:ext cx="14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04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49600" y="615636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49600" y="615636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547640" y="5837400"/>
            <a:ext cx="73080" cy="316800"/>
            <a:chOff x="1547640" y="5837400"/>
            <a:chExt cx="73080" cy="316800"/>
          </a:xfrm>
        </p:grpSpPr>
        <p:sp>
          <p:nvSpPr>
            <p:cNvPr id="426" name=""/>
            <p:cNvSpPr/>
            <p:nvPr/>
          </p:nvSpPr>
          <p:spPr>
            <a:xfrm>
              <a:off x="1547640" y="615420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47640" y="583740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47640" y="5837400"/>
              <a:ext cx="0" cy="31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549440" y="5522760"/>
            <a:ext cx="73080" cy="317160"/>
            <a:chOff x="1549440" y="5522760"/>
            <a:chExt cx="73080" cy="317160"/>
          </a:xfrm>
        </p:grpSpPr>
        <p:sp>
          <p:nvSpPr>
            <p:cNvPr id="430" name=""/>
            <p:cNvSpPr/>
            <p:nvPr/>
          </p:nvSpPr>
          <p:spPr>
            <a:xfrm>
              <a:off x="1549440" y="58399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49440" y="552276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49440" y="552276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549440" y="5207040"/>
            <a:ext cx="73080" cy="317160"/>
            <a:chOff x="1549440" y="5207040"/>
            <a:chExt cx="73080" cy="317160"/>
          </a:xfrm>
        </p:grpSpPr>
        <p:sp>
          <p:nvSpPr>
            <p:cNvPr id="434" name=""/>
            <p:cNvSpPr/>
            <p:nvPr/>
          </p:nvSpPr>
          <p:spPr>
            <a:xfrm>
              <a:off x="1549440" y="552420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49440" y="520704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49440" y="520704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549440" y="4884840"/>
            <a:ext cx="73080" cy="317160"/>
            <a:chOff x="1549440" y="4884840"/>
            <a:chExt cx="73080" cy="317160"/>
          </a:xfrm>
        </p:grpSpPr>
        <p:sp>
          <p:nvSpPr>
            <p:cNvPr id="438" name=""/>
            <p:cNvSpPr/>
            <p:nvPr/>
          </p:nvSpPr>
          <p:spPr>
            <a:xfrm>
              <a:off x="1549440" y="520200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49440" y="488484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49440" y="488484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549440" y="4567320"/>
            <a:ext cx="73080" cy="317160"/>
            <a:chOff x="1549440" y="4567320"/>
            <a:chExt cx="73080" cy="317160"/>
          </a:xfrm>
        </p:grpSpPr>
        <p:sp>
          <p:nvSpPr>
            <p:cNvPr id="442" name=""/>
            <p:cNvSpPr/>
            <p:nvPr/>
          </p:nvSpPr>
          <p:spPr>
            <a:xfrm>
              <a:off x="1549440" y="488448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49440" y="45673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49440" y="456732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549440" y="4248000"/>
            <a:ext cx="73080" cy="317160"/>
            <a:chOff x="1549440" y="4248000"/>
            <a:chExt cx="73080" cy="317160"/>
          </a:xfrm>
        </p:grpSpPr>
        <p:sp>
          <p:nvSpPr>
            <p:cNvPr id="446" name=""/>
            <p:cNvSpPr/>
            <p:nvPr/>
          </p:nvSpPr>
          <p:spPr>
            <a:xfrm>
              <a:off x="1549440" y="456516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49440" y="424800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49440" y="424800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549440" y="3930480"/>
            <a:ext cx="73080" cy="317160"/>
            <a:chOff x="1549440" y="3930480"/>
            <a:chExt cx="73080" cy="317160"/>
          </a:xfrm>
        </p:grpSpPr>
        <p:sp>
          <p:nvSpPr>
            <p:cNvPr id="450" name=""/>
            <p:cNvSpPr/>
            <p:nvPr/>
          </p:nvSpPr>
          <p:spPr>
            <a:xfrm>
              <a:off x="1549440" y="424764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49440" y="393048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49440" y="393048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549440" y="3613320"/>
            <a:ext cx="73080" cy="316800"/>
            <a:chOff x="1549440" y="3613320"/>
            <a:chExt cx="73080" cy="316800"/>
          </a:xfrm>
        </p:grpSpPr>
        <p:sp>
          <p:nvSpPr>
            <p:cNvPr id="454" name=""/>
            <p:cNvSpPr/>
            <p:nvPr/>
          </p:nvSpPr>
          <p:spPr>
            <a:xfrm>
              <a:off x="1549440" y="39301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440" y="36133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49440" y="3613320"/>
              <a:ext cx="0" cy="31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549440" y="3292560"/>
            <a:ext cx="73080" cy="317160"/>
            <a:chOff x="1549440" y="3292560"/>
            <a:chExt cx="73080" cy="317160"/>
          </a:xfrm>
        </p:grpSpPr>
        <p:sp>
          <p:nvSpPr>
            <p:cNvPr id="458" name=""/>
            <p:cNvSpPr/>
            <p:nvPr/>
          </p:nvSpPr>
          <p:spPr>
            <a:xfrm>
              <a:off x="1549440" y="3609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49440" y="329256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49440" y="3292560"/>
              <a:ext cx="0" cy="31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563840" y="54072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47640" y="4125960"/>
            <a:ext cx="2592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62040" y="3348000"/>
            <a:ext cx="457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68360" y="404640"/>
            <a:ext cx="8064360" cy="1987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我国运动员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4-28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奥运会上获得的金牌数如下表。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4041720"/>
            <a:ext cx="1371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43600" y="4041720"/>
            <a:ext cx="1371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4041720"/>
            <a:ext cx="1371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0400" y="4041720"/>
            <a:ext cx="1371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4041720"/>
            <a:ext cx="1371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4041720"/>
            <a:ext cx="13716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金牌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08720" y="2708280"/>
            <a:ext cx="1371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43600" y="2708280"/>
            <a:ext cx="1371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0" y="2708280"/>
            <a:ext cx="1371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0400" y="2708280"/>
            <a:ext cx="1371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828800" y="2708280"/>
            <a:ext cx="1371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" y="2708280"/>
            <a:ext cx="13716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届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270828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4041720"/>
            <a:ext cx="82296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537372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2708280"/>
            <a:ext cx="0" cy="133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28800" y="2708280"/>
            <a:ext cx="0" cy="2665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708280"/>
            <a:ext cx="0" cy="2665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2708280"/>
            <a:ext cx="0" cy="2665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43600" y="2708280"/>
            <a:ext cx="0" cy="2665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2708280"/>
            <a:ext cx="0" cy="2665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686800" y="2708280"/>
            <a:ext cx="0" cy="133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" y="4041720"/>
            <a:ext cx="0" cy="13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686800" y="4041720"/>
            <a:ext cx="0" cy="13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00:54:02Z</dcterms:created>
  <dc:creator>www.rrxk.net</dc:creator>
  <dc:description/>
  <dc:language>en-US</dc:language>
  <cp:lastModifiedBy>微软用户</cp:lastModifiedBy>
  <dcterms:modified xsi:type="dcterms:W3CDTF">2013-12-21T10:32:31Z</dcterms:modified>
  <cp:revision>101</cp:revision>
  <dc:subject/>
  <dc:title>统计</dc:title>
</cp:coreProperties>
</file>