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F1C3-6721-4B1B-8193-F1E35A3D04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108A-25A2-48B5-8FF0-34929CDCDD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1DB7-231E-423B-A91F-7AAA6760C4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2C8A-A5E4-43DE-9A3E-F2F45F96953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AEBC-158A-4312-AD5D-80E0F0EE15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2D72-E3B2-4B3F-9E97-48614ABE602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D8B1-46C6-40CF-B4FD-89E4256749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92D6-DA2A-42D9-BECA-0815538C47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45F0-29FA-4310-8B89-C5738880AE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52BE-2BDA-496B-97CF-B1D0DBA76B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34B2-FE28-425F-B960-D8331FC418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83A3-FCF2-4591-BF80-76C9F78D62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FEBB-36D9-47A4-8C6E-D716AE8442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5AA4-6924-483E-A96C-6C774BFD76C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96D9-4CD3-48BB-94A0-1EA77C0FA2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686-8050-4702-A800-A0FB8082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5DA-EEF6-421B-B391-761A1B1A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34F9-8569-46AF-9FA5-0AF80232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C634-7A80-4EE4-BF66-CC1F5A9B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5248-8641-4CA1-A840-85D7BF65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44D-AED6-4BE6-A277-5943E4A9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9F6-7B6E-44A7-83F0-CBF0F616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32F-9F25-469C-ACD4-81B729E3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6E1-88EB-4708-8AFF-DF321B72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C7F-A43E-40DF-A56D-A6E5C137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873C-75A4-432B-BE57-3A417AC0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BDE6-17E9-4227-8120-C52A8D0F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cai.7cxk.n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中小学课件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FF6F-CF7B-40C4-99A8-C50E6B6C1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1357200" y="1785960"/>
            <a:ext cx="66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几百几十数除以整十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62120" y="78588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冀教版数学四年级上册第二单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838080" y="9144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名同学分别看同样一本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页的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童话故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96080" cy="3075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2514600" y="45356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0÷2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天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2514600" y="52214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0÷4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天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2514600" y="59072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0÷3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天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838080" y="10922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李阿姨要把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瓶罐头装入箱子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838080" y="17524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如果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瓶装的，需要几个箱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838080" y="24638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如果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瓶装的，需要几个箱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3791160" cy="14382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676520" y="46879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0÷5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676520" y="5450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0÷4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838080" y="10922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李庄乡现有农用汽车的辆数是小汽车的多少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629400" cy="19144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3200400" y="4495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70÷3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990720" y="51246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现有农用汽车的辆数是小汽车的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838080" y="10922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某服装厂接到一份加工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0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出口服装的订单。如果每天加工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，能按客户的要求完成任务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781440" cy="15811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2971800" y="3657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00÷5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6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天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990720" y="474336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不能按客户的要求完成任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838080" y="1371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838080" y="1828800"/>
            <a:ext cx="426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×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）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0×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）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724280" y="182880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×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）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0×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）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590920" y="3886200"/>
            <a:ext cx="472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0×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）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×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）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228600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22860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617220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61722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4114800" y="40640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4114800" y="48261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380880" y="2702880"/>
            <a:ext cx="847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结合具体事例，经历学习几百几十除以整十数的口算方法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了解列表法，会口算简单的几百几十除以整十数的除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在自主计算、交流的过程中，获得成功的学习体验，体验算法多样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048120" y="85716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1371600" y="10666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要往灾区运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5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袋大米，需要几辆车才能一次运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2" descr="QQ截图20140831135903.png"/>
          <p:cNvPicPr/>
          <p:nvPr/>
        </p:nvPicPr>
        <p:blipFill>
          <a:blip r:embed="rId1"/>
          <a:stretch/>
        </p:blipFill>
        <p:spPr>
          <a:xfrm>
            <a:off x="762120" y="1143000"/>
            <a:ext cx="618840" cy="647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5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7724520" cy="2962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533520" y="48006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观察情境图，说一说你发现了哪些数学信息和要解决的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7"/>
          <p:cNvSpPr/>
          <p:nvPr/>
        </p:nvSpPr>
        <p:spPr>
          <a:xfrm>
            <a:off x="1371600" y="10666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要往灾区运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5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袋大米，需要几辆车才能一次运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2" descr="QQ截图20140831135903.png"/>
          <p:cNvPicPr/>
          <p:nvPr/>
        </p:nvPicPr>
        <p:blipFill>
          <a:blip r:embed="rId1"/>
          <a:stretch/>
        </p:blipFill>
        <p:spPr>
          <a:xfrm>
            <a:off x="762120" y="1143000"/>
            <a:ext cx="618840" cy="64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7724520" cy="296244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2286000" y="5105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50÷5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       （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5"/>
          <p:cNvSpPr/>
          <p:nvPr/>
        </p:nvSpPr>
        <p:spPr>
          <a:xfrm>
            <a:off x="4495680" y="5181480"/>
            <a:ext cx="91440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219320" y="5181480"/>
          <a:ext cx="6705360" cy="1036800"/>
        </p:xfrm>
        <a:graphic>
          <a:graphicData uri="http://schemas.openxmlformats.org/drawingml/2006/table">
            <a:tbl>
              <a:tblPr/>
              <a:tblGrid>
                <a:gridCol w="1341360"/>
                <a:gridCol w="1341360"/>
                <a:gridCol w="1339920"/>
                <a:gridCol w="1341360"/>
                <a:gridCol w="1341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50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100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150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200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250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7"/>
          <p:cNvSpPr/>
          <p:nvPr/>
        </p:nvSpPr>
        <p:spPr>
          <a:xfrm>
            <a:off x="1371600" y="10666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要往灾区运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5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袋大米，需要几辆车才能一次运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8" descr="QQ截图20140831135903.png"/>
          <p:cNvPicPr/>
          <p:nvPr/>
        </p:nvPicPr>
        <p:blipFill>
          <a:blip r:embed="rId1"/>
          <a:stretch/>
        </p:blipFill>
        <p:spPr>
          <a:xfrm>
            <a:off x="762120" y="1143000"/>
            <a:ext cx="61884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772452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2286000" y="16398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50÷5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       （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2"/>
          <p:cNvSpPr/>
          <p:nvPr/>
        </p:nvSpPr>
        <p:spPr>
          <a:xfrm>
            <a:off x="4495680" y="1716120"/>
            <a:ext cx="91440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2438280" y="27432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因为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0×5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2438280" y="36212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所以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50÷50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4724280" y="1639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371600" y="4611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需要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车才能一次运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2286000" y="16398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50÷5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       （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3"/>
          <p:cNvSpPr/>
          <p:nvPr/>
        </p:nvSpPr>
        <p:spPr>
          <a:xfrm>
            <a:off x="4495680" y="1716120"/>
            <a:ext cx="91440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762120" y="24782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表内除法计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1600200" y="33526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把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5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看作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5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个十，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看做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个十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用口诀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724280" y="1639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1371600" y="545004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需要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辆车才能一次运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抠图、试一试.png"/>
          <p:cNvPicPr/>
          <p:nvPr/>
        </p:nvPicPr>
        <p:blipFill>
          <a:blip r:embed="rId1"/>
          <a:stretch/>
        </p:blipFill>
        <p:spPr>
          <a:xfrm>
            <a:off x="457200" y="1147680"/>
            <a:ext cx="2286000" cy="13669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1143000" y="1797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57200" y="2971800"/>
            <a:ext cx="213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0÷4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÷3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3200400" y="2971800"/>
            <a:ext cx="213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00÷5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40÷6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6019920" y="2971800"/>
            <a:ext cx="213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20÷8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30÷9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133720" y="314964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133720" y="39117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5029200" y="3149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029200" y="39117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7848720" y="314964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7848720" y="39117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抠图、练一练.png"/>
          <p:cNvPicPr/>
          <p:nvPr/>
        </p:nvPicPr>
        <p:blipFill>
          <a:blip r:embed="rId1"/>
          <a:stretch/>
        </p:blipFill>
        <p:spPr>
          <a:xfrm>
            <a:off x="533520" y="990720"/>
            <a:ext cx="2307960" cy="144756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1219320" y="1752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609480" y="2514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名同学分别看同样一本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页的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童话故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769608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1T06:33:43Z</dcterms:created>
  <dc:creator/>
  <dc:description/>
  <cp:keywords/>
  <dc:language>en-US</dc:language>
  <cp:lastModifiedBy/>
  <dcterms:modified xsi:type="dcterms:W3CDTF">2016-12-02T15:53:34Z</dcterms:modified>
  <cp:revision>5</cp:revision>
  <dc:subject/>
  <dc:title/>
</cp:coreProperties>
</file>