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2D73-6876-460C-B089-172B62D357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9EE-E0BE-442A-83AD-C476849B57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2199-E85B-4D17-8AED-50FB17E025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CA18-2987-445F-86A1-1E24F32EDD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A06E-9A8A-4F55-ADBA-A30B7A547A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6586-0423-4326-A5C6-7158065E51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14CB-4181-4DFE-9361-58AB08D5D8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5140-A309-4F12-8E52-6DAD600535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34F3-B7A2-44E3-9C5C-0C4B2903F4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B459-48E7-4F30-9B2F-82CF791FE6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CCD4-6E42-4584-9330-1029F54833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631F-3DA8-4568-AFFB-8D9D0FC00D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1EEE-CA0A-44F2-94FB-B9C62DC1DD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4E47-5768-4A93-8C81-F487F9136F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DC32-D77B-4E78-9643-25C2906B74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6932520" y="6583320"/>
            <a:ext cx="20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小学课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ai.7cxk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1933560" y="2033640"/>
            <a:ext cx="51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连        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冀教版数学四年级上册第二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714240" y="1143000"/>
            <a:ext cx="78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   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汽车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次运水泥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6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袋。平均每辆汽车每次运水泥多少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5457960" cy="1542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805120" y="378000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60÷4÷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357280" y="449424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0÷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357280" y="520848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071720" y="5854680"/>
            <a:ext cx="76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平均每辆汽车每次运水泥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714240" y="1143000"/>
            <a:ext cx="78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年级同学分成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去浇树，共浇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6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。平均每个人浇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1285920" y="2143080"/>
            <a:ext cx="6572160" cy="32101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643120" y="535788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64÷3÷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143080" y="585468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平均每人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714240" y="1143000"/>
            <a:ext cx="785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   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杜鹃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能吃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6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松毛虫，平均每只杜鹃每天可以吃掉多少只松毛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3143160" y="2286000"/>
            <a:ext cx="2781360" cy="19717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3162240" y="4202280"/>
            <a:ext cx="27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60÷2÷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2714760" y="4773600"/>
            <a:ext cx="27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80÷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2714760" y="5345280"/>
            <a:ext cx="27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71680" y="585468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平均每只杜鹃每天可以吃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松毛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714240" y="114300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乒乓球，每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装一盒，每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盒装一箱。一共可以装多少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805120" y="278604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0÷6÷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357280" y="350028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÷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357280" y="421488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箱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1785960" y="486108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一共可以装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714240" y="114300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. *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盒山楂糕，一共重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。每盒装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，平均每块重多少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2805120" y="306540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0÷5÷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357280" y="378000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÷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357280" y="449424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1785960" y="514044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平均每块重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2714760" y="242568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千克＝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1000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80880" y="2701080"/>
            <a:ext cx="847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经历用自己的方法解决问题，将分步计算改写成连除算式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事例，理解连除的运算顺序，会正确进行连除运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在自主解决问题的活动中，获得成功的体验，感受算法多样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971800" y="7621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" descr="QQ截图20140831170328.png"/>
          <p:cNvPicPr/>
          <p:nvPr/>
        </p:nvPicPr>
        <p:blipFill>
          <a:blip r:embed="rId1"/>
          <a:stretch/>
        </p:blipFill>
        <p:spPr>
          <a:xfrm>
            <a:off x="714240" y="1143000"/>
            <a:ext cx="704880" cy="733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357200" y="1071720"/>
            <a:ext cx="69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爷爷家养的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奶牛每星期产奶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4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2000160" y="2143080"/>
            <a:ext cx="572472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33520" y="48006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观察情境图，说一说你发现了哪些数学信息和要解决的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85880" y="10717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爷爷家养的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奶牛每星期产奶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4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5724720" cy="2590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552680" y="42703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方法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2214720" y="5000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48÷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143240" y="50007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214720" y="5640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4÷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857760" y="56404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785880" y="10717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爷爷家养的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奶牛没星期产奶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4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572472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1552680" y="42703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方法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214720" y="5000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48÷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071960" y="50007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1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2214720" y="5640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2÷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000680" y="564048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2" descr="？.wmf"/>
          <p:cNvPicPr/>
          <p:nvPr/>
        </p:nvPicPr>
        <p:blipFill>
          <a:blip r:embed="rId1"/>
          <a:stretch/>
        </p:blipFill>
        <p:spPr>
          <a:xfrm>
            <a:off x="571680" y="1285920"/>
            <a:ext cx="1842840" cy="2000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857160" y="3143160"/>
            <a:ext cx="735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想一想我们可以把方法一和方法二的两个算式列成一个算式吗？该怎样列成一个算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000080" y="14288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方法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662120" y="235440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48÷7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1214280" y="306864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4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214280" y="378288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500720" y="14288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方法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5162400" y="235440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48÷4÷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714920" y="306864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2÷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714920" y="378288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071720" y="4786200"/>
            <a:ext cx="76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平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奶牛每天产奶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抠图、试一试.png"/>
          <p:cNvPicPr/>
          <p:nvPr/>
        </p:nvPicPr>
        <p:blipFill>
          <a:blip r:embed="rId1"/>
          <a:stretch/>
        </p:blipFill>
        <p:spPr>
          <a:xfrm>
            <a:off x="566640" y="928800"/>
            <a:ext cx="2286000" cy="1366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1252440" y="1577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28760" y="23004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爷爷家养的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奶牛每星期要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6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饲料。平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奶牛每天吃多少千克饲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805120" y="363996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60÷7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357280" y="435456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357280" y="506880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1071720" y="5715000"/>
            <a:ext cx="76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平均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奶牛每天吃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饲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抠图、练一练.png"/>
          <p:cNvPicPr/>
          <p:nvPr/>
        </p:nvPicPr>
        <p:blipFill>
          <a:blip r:embed="rId1"/>
          <a:stretch/>
        </p:blipFill>
        <p:spPr>
          <a:xfrm>
            <a:off x="533520" y="990720"/>
            <a:ext cx="2307960" cy="144756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19320" y="1752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71680" y="263052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先说一说运算顺序，再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00040" y="3500280"/>
            <a:ext cx="242892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40÷8÷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×3×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2857680" y="3500280"/>
            <a:ext cx="242856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8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78÷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2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2×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643720" y="3500280"/>
            <a:ext cx="32144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64÷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0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÷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09:35:07Z</dcterms:created>
  <dc:creator/>
  <dc:description/>
  <cp:keywords/>
  <dc:language>en-US</dc:language>
  <cp:lastModifiedBy/>
  <dcterms:modified xsi:type="dcterms:W3CDTF">2016-12-04T12:33:16Z</dcterms:modified>
  <cp:revision>6</cp:revision>
  <dc:subject/>
  <dc:title/>
</cp:coreProperties>
</file>