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EF03-A8A6-46B7-8922-9695A3EE4B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543A-6C97-472A-8D37-AFFBC4AAE4A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9F15-A168-43A8-A033-73B5C4954A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6B8E-8A70-4ED8-BA89-99BD521610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9407-73AC-4E41-AEA5-E7886703CB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517B-8D3F-48E2-ABC7-364A030577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BE80-4D7C-4A31-8ADA-AEAE2BAECBC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CC07-9FE5-4626-AB5B-7BE040FF77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942B-0A8F-45D4-BF8B-16C3581007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5767-B755-4C03-94D7-53FF6A894AF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22EA-938B-4377-B003-F300321839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B894-412E-4AB7-BB6A-B1866AE50E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0D2E-031D-4ECF-B54A-5AFF4056A7A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82F1-1871-4C37-A5AF-03AF6893B7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E7F2-DB3A-4E53-8270-248344057B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58DE-7F1A-44EB-9077-015466592F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2DB1-3826-4109-96B4-2D41D9D5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666-5845-4B69-8E27-7E3ED53F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CDC48-62FE-4D95-9C7E-813E2BF4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A2866-1BC6-4698-976E-41EEA8C0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5ECD3-65E4-4968-9F65-65226A82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37096F-9CF5-4A8C-A2B3-DEC890AC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41569-CDB7-4A46-B24F-9EBC9C76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8DB23-9FDA-45AE-BA97-5067C1AC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5F606-ADE0-4146-8625-034858C5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43F79-E16D-4061-BA85-80B116CD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CD14B-DDFC-494F-99B7-FE245D7DA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F1A63-413E-444D-A3AF-C039BFA2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AA4-C0DE-47E1-9053-7943941A9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4D82C-8440-46C3-9CD7-29328274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3A801B-095A-4950-910A-CC95EF8B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99A3D-D2E5-41E8-8E5A-915E72D8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F736C3-F797-4482-AB60-40E72925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6C0ED-B34D-41C3-A24E-157C5FD7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37631-CD2E-49EC-A4AC-7B199B59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68E2C-5454-466F-8101-459648AE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8C3A5-9555-4E11-A2C8-94A5A328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22016-4560-4DC1-92D4-D6050D57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0CF19-331D-42F6-BF7C-1DCE23BE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7915-FADF-4697-8DCA-1F4C22EEC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B0F30-C83C-4795-AEE2-A49557D0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5BE6E-6939-4E59-BA0C-7A9841E0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03853-D2C0-4B11-8E7E-2E49504F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B91B7E-CB97-4BBD-B070-909107DA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ACB9E-642D-4FCC-8D4D-7256E789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38426-843C-4BA9-8972-64902A7F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003C5-DFF5-462D-9ACD-0A6DA3ACC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74131-2D39-4BDA-BC45-26841FC0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3A2FD-7604-438C-B855-B83B7B68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596803-2CFB-45A7-98FD-75F07FBE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12BF-D90E-4580-9D8E-B8F0966D5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96D43-D5A1-494A-AE38-1B81973F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B6C9F1-01FB-4EFC-92A9-C0FE22DC3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A368B-3196-47DB-B760-48BABB97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C7EFDD-B5CB-4F73-B046-2511898E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F22D1-DF34-46F8-B6CF-1D174855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82594-E7D8-491E-ABD9-5E7E8E3B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3A17AA-79AD-4D9E-9104-3C460F0D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458E9B-8F7C-486D-8D4E-617E2CCE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F642D-B848-4EE0-BB50-23E67A0D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2681B-51D0-4A90-997D-C3B5B33D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AE38-21DF-4330-8ADC-3EF07CAA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2243E-10C8-4A37-9926-E74A6FCA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53ECC-6A88-44EA-BC4B-2D07070E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80E2B-9CAD-466A-AD28-2B6748CF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D9EA2-DB82-4B5A-8838-147778F3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AC76C0-F2D9-4656-86B7-6C1D1DA5C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1A15-97D8-4220-A44B-62D06478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C98F-153F-4172-98E7-EFB9B0BB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22E7-61F2-4046-8E3C-49E5F82A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E625-D70B-4F2E-AD4D-B43C23A7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BDFE-2D94-4A07-ADD9-FC97C89F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040-61A1-4F65-AEB0-94281A65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D98C-6EB1-4AFB-81E7-9A03AAC4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F5A8-BE09-4D37-95B3-5CF2AB3F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4162-AA6F-44D0-82D7-59699406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632F5-1FCC-4562-859A-4C2C8552F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E7CE-66FD-48D1-9E12-A3A66297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91BB8-CCAE-4050-958B-06D149E8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A0401-DAC8-4DEC-ACAE-8505FCF7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AB425-0316-4E06-B2A5-CBC95388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7F934-996B-4DC4-9158-2C55EFDF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B96C-BBCA-4478-8CC5-20A72D2D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92D-EC2A-40AF-B9DE-D35EBE02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72CC8-C977-421F-B8EB-09BD55ED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4EAC1-FFAA-41F0-9205-85B9F159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9611-881D-4A79-97B1-AE4ED4F5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5D2AC-AA08-4907-B8DE-E64EDC79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E351C-B61E-43D9-B784-6FE84CC0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02BA-D11E-4FF9-AC3E-C1C47A64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3F0FE-92CA-44A9-B97A-000434FD0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F7BE5-FEBD-4B67-B8E7-106BB3B2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AE8A7-068D-47F6-B3A0-4292D9A3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79920-818A-4A1B-B31E-E5855E89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03C-8C39-4238-895A-F6C6B2F0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66ED-2115-443A-90CD-C8EDEEF2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8E9B8-2AB6-4B96-8255-980A32BB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166C0-CD39-4C96-9567-17590AC0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7A2DA-C430-4EA1-826F-CBF41B69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B7351-DBB8-4AD8-A5DA-443C7677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AD241-F3A8-4A8D-9A51-6A6C2E73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27612-C73A-4E25-B534-0EA18533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58171-59E8-4F0C-B3FD-314F21C2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26D30-E7C7-4444-A958-4E8065EA6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D0D83-D61E-40F5-9515-659B31CF8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AE5-EA70-4F5E-8319-D37F22B4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449B3-1CC2-4169-AC99-FDF98A80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0D133-E283-489E-96A6-6D4993E8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B3171-AC18-4C09-BEC3-E5E981A8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82E98-9A52-405A-9A79-3C3A9DBC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11E33-D58E-43F8-9FDD-EEFD1099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A174F-0087-48F3-86D7-5FE11F07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469F0-DBF5-4188-99BE-35CC21B5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061FA-BDB0-4789-8B16-08959EDC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D0E79-2AE4-4AD3-8A76-0F0D365E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EAAEF-C635-4DF5-8ED1-6EAB222E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39C1-9EE0-4A82-8E65-532338D0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7C2E4-AA9E-4284-9B83-8D7F54AED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F334A-A854-44A1-B779-0744CBFF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AF08BB-B347-4928-92F5-5A5261D7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984BC-EF23-471C-A810-C3FC8CD0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5B173-EA18-469E-9DBA-E450657E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4EA67-3643-4625-9B54-EAF92D67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142B1-5F72-4072-BBB1-0F3D8F5C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4B12D-33FA-4C16-AF14-F03DFEE3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4D0AA-6FC3-45B0-92CC-43949E05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0E0C8-D83C-4A62-ABD9-E4226763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D773-B56C-4B27-ADE3-DE4B709D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A16AF-36E0-4604-8BFB-4034DD19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8E1B7-2638-41D8-BF1F-4FEAD71E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986E3-D29F-49C5-8660-D6A71F67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DB92D-BE62-4238-AC42-6BA6F162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613F5-8A8B-4D75-8013-330C63A9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58B1D-F92D-4A2D-8C9F-E2990986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70AC5-01BC-4049-BCEF-9D372FE9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8E11B-A1C4-4365-97B1-354558F7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B3B19-286D-4E14-B2B9-E20BEB77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83D55-7B35-48F3-8CB1-C6BBC890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F5B-D2AB-4FFF-BEA3-4CC0200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1F9A7-7C41-4216-A980-8AEC5C9D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4C249-803A-42E8-B235-0C2D1E56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F775C-5932-4E81-B238-1FAEF873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0C425-D8DE-4605-8E46-F76E05409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10889-A576-4E12-AC8E-D4EF15B4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4BA74-1C10-4675-A414-51E9376A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3FB4B-71F9-4653-AE16-CD54457A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F03BE-823D-4332-9C69-495F2D1B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BB4AC-1882-44CD-BFC2-57BC3E2B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D5C34-B34B-431B-BCD5-6627E1C7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E403-EAB9-45FE-833C-80F81CA9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09F1D-6006-40FD-99B1-3DC1B23A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8775C-CB11-478B-9F95-9042F3CC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FEEFF-0986-47FF-BB4E-91FA02C8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6ECA3-A8AC-4768-B615-F954F175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2A9F8-C5DD-4AE1-9570-2FF945E9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ACA5D-130E-4089-BFC5-4B6547E2E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69193-9C18-43BC-BDD7-094354F8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8471EB-4C7B-4DCA-9E0C-F1289436A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53FB5-9F0C-4A81-8C84-5246F386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328470-D2E7-40D7-BB60-861A6A47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37FD-AAE4-47E2-8BE9-F68890AC83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F7EA-DAEC-41B4-9CE6-EFE23BD8A8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1DEB-24E6-43DD-AE0C-F83B3799C3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25BE-1609-4A2E-90CC-C9E57363C6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9A86-83EF-48E6-9F4F-37382DE6D3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3C55-2317-44B0-B669-DC33FE39B5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2B09-812C-4984-BCC3-E22113F8E1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E155-1E6F-44B3-8BC0-1EDF5708CB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EF09E-8F3B-40DE-9665-9563AA493F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F481-2BA9-4CD1-8E5D-9B9FDC4B5F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8C4F-9BB1-4AB3-AB94-5BF851A9AE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7" descr="中绿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8" descr="中绿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http://cai.7cxk.net 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中小学课件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953C-CC5C-4547-BAB2-D9833B5F8F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4"/>
          <p:cNvSpPr/>
          <p:nvPr/>
        </p:nvSpPr>
        <p:spPr>
          <a:xfrm>
            <a:off x="1357200" y="1890720"/>
            <a:ext cx="66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整理与复习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4"/>
          <p:cNvSpPr/>
          <p:nvPr/>
        </p:nvSpPr>
        <p:spPr>
          <a:xfrm>
            <a:off x="762120" y="785880"/>
            <a:ext cx="757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a10"/>
                </a:solidFill>
                <a:latin typeface="华文楷体"/>
                <a:ea typeface="华文楷体"/>
              </a:rPr>
              <a:t>冀教版数学四年级上册第二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3"/>
          <p:cNvSpPr/>
          <p:nvPr/>
        </p:nvSpPr>
        <p:spPr>
          <a:xfrm>
            <a:off x="500040" y="1496880"/>
            <a:ext cx="58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填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3" descr=""/>
          <p:cNvPicPr/>
          <p:nvPr/>
        </p:nvPicPr>
        <p:blipFill>
          <a:blip r:embed="rId1"/>
          <a:stretch/>
        </p:blipFill>
        <p:spPr>
          <a:xfrm>
            <a:off x="390600" y="2320920"/>
            <a:ext cx="8396280" cy="1893960"/>
          </a:xfrm>
          <a:prstGeom prst="rect">
            <a:avLst/>
          </a:prstGeom>
          <a:ln w="0">
            <a:noFill/>
          </a:ln>
        </p:spPr>
      </p:pic>
      <p:sp>
        <p:nvSpPr>
          <p:cNvPr id="563" name="TextBox 6"/>
          <p:cNvSpPr/>
          <p:nvPr/>
        </p:nvSpPr>
        <p:spPr>
          <a:xfrm>
            <a:off x="3357720" y="36194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500720" y="36194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8"/>
          <p:cNvSpPr/>
          <p:nvPr/>
        </p:nvSpPr>
        <p:spPr>
          <a:xfrm>
            <a:off x="5643720" y="36194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9"/>
          <p:cNvSpPr/>
          <p:nvPr/>
        </p:nvSpPr>
        <p:spPr>
          <a:xfrm>
            <a:off x="6786720" y="36194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0"/>
          <p:cNvSpPr/>
          <p:nvPr/>
        </p:nvSpPr>
        <p:spPr>
          <a:xfrm>
            <a:off x="7858080" y="3619440"/>
            <a:ext cx="7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Box 3"/>
          <p:cNvSpPr/>
          <p:nvPr/>
        </p:nvSpPr>
        <p:spPr>
          <a:xfrm>
            <a:off x="357120" y="1425600"/>
            <a:ext cx="839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先判断下面各题的商是几位数，再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"/>
          <p:cNvSpPr/>
          <p:nvPr/>
        </p:nvSpPr>
        <p:spPr>
          <a:xfrm>
            <a:off x="642960" y="2714760"/>
            <a:ext cx="23572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28÷3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46÷7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5"/>
          <p:cNvSpPr/>
          <p:nvPr/>
        </p:nvSpPr>
        <p:spPr>
          <a:xfrm>
            <a:off x="3214800" y="4429080"/>
            <a:ext cx="23572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38÷8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60÷58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6"/>
          <p:cNvSpPr/>
          <p:nvPr/>
        </p:nvSpPr>
        <p:spPr>
          <a:xfrm>
            <a:off x="4786200" y="2714760"/>
            <a:ext cx="235764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25÷2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85÷4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7"/>
          <p:cNvSpPr/>
          <p:nvPr/>
        </p:nvSpPr>
        <p:spPr>
          <a:xfrm>
            <a:off x="2714760" y="27860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1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8"/>
          <p:cNvSpPr/>
          <p:nvPr/>
        </p:nvSpPr>
        <p:spPr>
          <a:xfrm>
            <a:off x="6858000" y="278604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9"/>
          <p:cNvSpPr/>
          <p:nvPr/>
        </p:nvSpPr>
        <p:spPr>
          <a:xfrm>
            <a:off x="2714760" y="335772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0"/>
          <p:cNvSpPr/>
          <p:nvPr/>
        </p:nvSpPr>
        <p:spPr>
          <a:xfrm>
            <a:off x="6858000" y="335772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5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11"/>
          <p:cNvSpPr/>
          <p:nvPr/>
        </p:nvSpPr>
        <p:spPr>
          <a:xfrm>
            <a:off x="5286240" y="44974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2"/>
          <p:cNvSpPr/>
          <p:nvPr/>
        </p:nvSpPr>
        <p:spPr>
          <a:xfrm>
            <a:off x="5286240" y="5068800"/>
            <a:ext cx="20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11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Box 3"/>
          <p:cNvSpPr/>
          <p:nvPr/>
        </p:nvSpPr>
        <p:spPr>
          <a:xfrm>
            <a:off x="642960" y="10717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  36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粒胶囊用下面两种样式包装，各能装多少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"/>
          <p:cNvPicPr/>
          <p:nvPr/>
        </p:nvPicPr>
        <p:blipFill>
          <a:blip r:embed="rId1"/>
          <a:stretch/>
        </p:blipFill>
        <p:spPr>
          <a:xfrm>
            <a:off x="785880" y="2214720"/>
            <a:ext cx="7786800" cy="2189160"/>
          </a:xfrm>
          <a:prstGeom prst="rect">
            <a:avLst/>
          </a:prstGeom>
          <a:ln w="0">
            <a:noFill/>
          </a:ln>
        </p:spPr>
      </p:pic>
      <p:sp>
        <p:nvSpPr>
          <p:cNvPr id="580" name="TextBox 5"/>
          <p:cNvSpPr/>
          <p:nvPr/>
        </p:nvSpPr>
        <p:spPr>
          <a:xfrm>
            <a:off x="571680" y="44258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一种能装：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0÷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×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板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6"/>
          <p:cNvSpPr/>
          <p:nvPr/>
        </p:nvSpPr>
        <p:spPr>
          <a:xfrm>
            <a:off x="571680" y="514044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二种能装：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0÷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×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板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7"/>
          <p:cNvSpPr/>
          <p:nvPr/>
        </p:nvSpPr>
        <p:spPr>
          <a:xfrm>
            <a:off x="571680" y="5854680"/>
            <a:ext cx="807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第一种能装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板，第二种能装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Box 3"/>
          <p:cNvSpPr/>
          <p:nvPr/>
        </p:nvSpPr>
        <p:spPr>
          <a:xfrm>
            <a:off x="642960" y="12142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水波小学每间教室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窗户，每个窗户安装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玻璃。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间教室一共需安装多少块玻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5"/>
          <p:cNvSpPr/>
          <p:nvPr/>
        </p:nvSpPr>
        <p:spPr>
          <a:xfrm>
            <a:off x="2928960" y="29685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×3×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6"/>
          <p:cNvSpPr/>
          <p:nvPr/>
        </p:nvSpPr>
        <p:spPr>
          <a:xfrm>
            <a:off x="2500200" y="368316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6×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7"/>
          <p:cNvSpPr/>
          <p:nvPr/>
        </p:nvSpPr>
        <p:spPr>
          <a:xfrm>
            <a:off x="2500200" y="439416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32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8"/>
          <p:cNvSpPr/>
          <p:nvPr/>
        </p:nvSpPr>
        <p:spPr>
          <a:xfrm>
            <a:off x="857160" y="525132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间教室一共需安装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2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玻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Box 3"/>
          <p:cNvSpPr/>
          <p:nvPr/>
        </p:nvSpPr>
        <p:spPr>
          <a:xfrm>
            <a:off x="642960" y="121428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杨柳小学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间教室，每间教室有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窗户，一共安装了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24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玻璃。平均每个窗户安装了多少块玻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4"/>
          <p:cNvSpPr/>
          <p:nvPr/>
        </p:nvSpPr>
        <p:spPr>
          <a:xfrm>
            <a:off x="2928960" y="296856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24÷12÷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5"/>
          <p:cNvSpPr/>
          <p:nvPr/>
        </p:nvSpPr>
        <p:spPr>
          <a:xfrm>
            <a:off x="2500200" y="368316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7÷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6"/>
          <p:cNvSpPr/>
          <p:nvPr/>
        </p:nvSpPr>
        <p:spPr>
          <a:xfrm>
            <a:off x="2500200" y="439416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7"/>
          <p:cNvSpPr/>
          <p:nvPr/>
        </p:nvSpPr>
        <p:spPr>
          <a:xfrm>
            <a:off x="857160" y="525132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平均每个窗户安装了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块玻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Box 3"/>
          <p:cNvSpPr/>
          <p:nvPr/>
        </p:nvSpPr>
        <p:spPr>
          <a:xfrm>
            <a:off x="428760" y="121428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找出下列算式的规律，在方框里填上合适的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500040" y="2638440"/>
            <a:ext cx="8215200" cy="2004840"/>
          </a:xfrm>
          <a:prstGeom prst="rect">
            <a:avLst/>
          </a:prstGeom>
          <a:ln w="0">
            <a:noFill/>
          </a:ln>
        </p:spPr>
      </p:pic>
      <p:sp>
        <p:nvSpPr>
          <p:cNvPr id="595" name="TextBox 5"/>
          <p:cNvSpPr/>
          <p:nvPr/>
        </p:nvSpPr>
        <p:spPr>
          <a:xfrm>
            <a:off x="4214880" y="2714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Box 6"/>
          <p:cNvSpPr/>
          <p:nvPr/>
        </p:nvSpPr>
        <p:spPr>
          <a:xfrm>
            <a:off x="6357960" y="2714760"/>
            <a:ext cx="71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7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7"/>
          <p:cNvSpPr/>
          <p:nvPr/>
        </p:nvSpPr>
        <p:spPr>
          <a:xfrm>
            <a:off x="4214880" y="34052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8"/>
          <p:cNvSpPr/>
          <p:nvPr/>
        </p:nvSpPr>
        <p:spPr>
          <a:xfrm>
            <a:off x="6357960" y="3405240"/>
            <a:ext cx="71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8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9"/>
          <p:cNvSpPr/>
          <p:nvPr/>
        </p:nvSpPr>
        <p:spPr>
          <a:xfrm>
            <a:off x="4214880" y="41194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10"/>
          <p:cNvSpPr/>
          <p:nvPr/>
        </p:nvSpPr>
        <p:spPr>
          <a:xfrm>
            <a:off x="7358040" y="411948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"/>
          <p:cNvSpPr/>
          <p:nvPr/>
        </p:nvSpPr>
        <p:spPr>
          <a:xfrm>
            <a:off x="523800" y="2832120"/>
            <a:ext cx="847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经历对本单元知识与技能复习、整理和巩固提高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能熟练的笔算除数是两位数的除法和连除运算，能运用商不变的性质进行简便运算，能解决简单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培养回顾总结的良好习惯，提高计算能力，树立学好数学的信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"/>
          <p:cNvSpPr/>
          <p:nvPr/>
        </p:nvSpPr>
        <p:spPr>
          <a:xfrm>
            <a:off x="3166920" y="785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Box 3"/>
          <p:cNvSpPr/>
          <p:nvPr/>
        </p:nvSpPr>
        <p:spPr>
          <a:xfrm>
            <a:off x="785880" y="1773360"/>
            <a:ext cx="74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先判断下面各题的商是几位数，再计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3"/>
          <p:cNvSpPr/>
          <p:nvPr/>
        </p:nvSpPr>
        <p:spPr>
          <a:xfrm>
            <a:off x="804960" y="2971800"/>
            <a:ext cx="21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28÷36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46÷8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Box 4"/>
          <p:cNvSpPr/>
          <p:nvPr/>
        </p:nvSpPr>
        <p:spPr>
          <a:xfrm>
            <a:off x="3357720" y="2971800"/>
            <a:ext cx="21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25÷2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75÷7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5"/>
          <p:cNvSpPr/>
          <p:nvPr/>
        </p:nvSpPr>
        <p:spPr>
          <a:xfrm>
            <a:off x="6000840" y="2971800"/>
            <a:ext cx="21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20÷4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06÷5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3" descr="slide0002_image027.png"/>
          <p:cNvPicPr/>
          <p:nvPr/>
        </p:nvPicPr>
        <p:blipFill>
          <a:blip r:embed="rId1"/>
          <a:stretch/>
        </p:blipFill>
        <p:spPr>
          <a:xfrm>
            <a:off x="785880" y="1214280"/>
            <a:ext cx="1244520" cy="1400400"/>
          </a:xfrm>
          <a:prstGeom prst="rect">
            <a:avLst/>
          </a:prstGeom>
          <a:ln w="0">
            <a:noFill/>
          </a:ln>
        </p:spPr>
      </p:pic>
      <p:sp>
        <p:nvSpPr>
          <p:cNvPr id="532" name="TextBox 4"/>
          <p:cNvSpPr/>
          <p:nvPr/>
        </p:nvSpPr>
        <p:spPr>
          <a:xfrm>
            <a:off x="1071720" y="2857680"/>
            <a:ext cx="664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怎样计算除数是两位数的除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5"/>
          <p:cNvSpPr/>
          <p:nvPr/>
        </p:nvSpPr>
        <p:spPr>
          <a:xfrm>
            <a:off x="1071720" y="378288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怎样验算没有余数的除法？有余数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Box 3"/>
          <p:cNvSpPr/>
          <p:nvPr/>
        </p:nvSpPr>
        <p:spPr>
          <a:xfrm>
            <a:off x="571680" y="15001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下面的谈话信息，提出问题，并解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1928880" y="2214720"/>
            <a:ext cx="559116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3"/>
          <p:cNvSpPr/>
          <p:nvPr/>
        </p:nvSpPr>
        <p:spPr>
          <a:xfrm>
            <a:off x="571680" y="1143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虹光宾馆购进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条毛巾，每条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元。如果用这些钱购买下面的毛巾，可以买多少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928800" y="2500200"/>
            <a:ext cx="2523960" cy="120996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5" descr="兔博士2.png"/>
          <p:cNvPicPr/>
          <p:nvPr/>
        </p:nvPicPr>
        <p:blipFill>
          <a:blip r:embed="rId2"/>
          <a:stretch/>
        </p:blipFill>
        <p:spPr>
          <a:xfrm>
            <a:off x="7143840" y="2214720"/>
            <a:ext cx="1197000" cy="152064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6" descr="QQ截图20140831135903.png"/>
          <p:cNvPicPr/>
          <p:nvPr/>
        </p:nvPicPr>
        <p:blipFill>
          <a:blip r:embed="rId3"/>
          <a:stretch/>
        </p:blipFill>
        <p:spPr>
          <a:xfrm>
            <a:off x="2928960" y="2428920"/>
            <a:ext cx="4324320" cy="804960"/>
          </a:xfrm>
          <a:prstGeom prst="rect">
            <a:avLst/>
          </a:prstGeom>
          <a:ln w="0">
            <a:noFill/>
          </a:ln>
        </p:spPr>
      </p:pic>
      <p:sp>
        <p:nvSpPr>
          <p:cNvPr id="540" name="TextBox 7"/>
          <p:cNvSpPr/>
          <p:nvPr/>
        </p:nvSpPr>
        <p:spPr>
          <a:xfrm>
            <a:off x="3143160" y="371484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×8÷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8"/>
          <p:cNvSpPr/>
          <p:nvPr/>
        </p:nvSpPr>
        <p:spPr>
          <a:xfrm>
            <a:off x="2714760" y="428292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800÷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9"/>
          <p:cNvSpPr/>
          <p:nvPr/>
        </p:nvSpPr>
        <p:spPr>
          <a:xfrm>
            <a:off x="2714760" y="485460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条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10"/>
          <p:cNvSpPr/>
          <p:nvPr/>
        </p:nvSpPr>
        <p:spPr>
          <a:xfrm>
            <a:off x="2714760" y="542592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可以买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Box 3"/>
          <p:cNvSpPr/>
          <p:nvPr/>
        </p:nvSpPr>
        <p:spPr>
          <a:xfrm>
            <a:off x="571680" y="11430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服装加工车间平均每个小组每天加工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服装。照这样计算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小组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可以加工多少套服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4"/>
          <p:cNvSpPr/>
          <p:nvPr/>
        </p:nvSpPr>
        <p:spPr>
          <a:xfrm>
            <a:off x="2928960" y="285768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×3×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5"/>
          <p:cNvSpPr/>
          <p:nvPr/>
        </p:nvSpPr>
        <p:spPr>
          <a:xfrm>
            <a:off x="2500200" y="357192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0×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2500200" y="42829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90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"/>
          <p:cNvSpPr/>
          <p:nvPr/>
        </p:nvSpPr>
        <p:spPr>
          <a:xfrm>
            <a:off x="857160" y="514044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小组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可以加工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服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3"/>
          <p:cNvSpPr/>
          <p:nvPr/>
        </p:nvSpPr>
        <p:spPr>
          <a:xfrm>
            <a:off x="571680" y="127944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服装加工车间有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小组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加工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服装。平均每个小组每天加工多少套服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4"/>
          <p:cNvSpPr/>
          <p:nvPr/>
        </p:nvSpPr>
        <p:spPr>
          <a:xfrm>
            <a:off x="2928960" y="2857680"/>
            <a:ext cx="35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00÷5÷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5"/>
          <p:cNvSpPr/>
          <p:nvPr/>
        </p:nvSpPr>
        <p:spPr>
          <a:xfrm>
            <a:off x="2500200" y="3571920"/>
            <a:ext cx="35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0÷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6"/>
          <p:cNvSpPr/>
          <p:nvPr/>
        </p:nvSpPr>
        <p:spPr>
          <a:xfrm>
            <a:off x="2500200" y="428292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＝</a:t>
            </a:r>
            <a:r>
              <a:rPr b="1" lang="en-US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套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"/>
          <p:cNvSpPr/>
          <p:nvPr/>
        </p:nvSpPr>
        <p:spPr>
          <a:xfrm>
            <a:off x="857160" y="51404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答：平均每个小组每天加工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套服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图片 1" descr="抠图、练一练.png"/>
          <p:cNvPicPr/>
          <p:nvPr/>
        </p:nvPicPr>
        <p:blipFill>
          <a:blip r:embed="rId1"/>
          <a:stretch/>
        </p:blipFill>
        <p:spPr>
          <a:xfrm>
            <a:off x="533520" y="990720"/>
            <a:ext cx="2307960" cy="1447560"/>
          </a:xfrm>
          <a:prstGeom prst="rect">
            <a:avLst/>
          </a:prstGeom>
          <a:ln w="0">
            <a:noFill/>
          </a:ln>
        </p:spPr>
      </p:pic>
      <p:sp>
        <p:nvSpPr>
          <p:cNvPr id="555" name="TextBox 2"/>
          <p:cNvSpPr/>
          <p:nvPr/>
        </p:nvSpPr>
        <p:spPr>
          <a:xfrm>
            <a:off x="1219320" y="1752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3"/>
          <p:cNvSpPr/>
          <p:nvPr/>
        </p:nvSpPr>
        <p:spPr>
          <a:xfrm>
            <a:off x="609480" y="2514600"/>
            <a:ext cx="589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自己喜欢的方法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6"/>
          <p:cNvSpPr/>
          <p:nvPr/>
        </p:nvSpPr>
        <p:spPr>
          <a:xfrm>
            <a:off x="1714680" y="3300480"/>
            <a:ext cx="23572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40÷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20÷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7"/>
          <p:cNvSpPr/>
          <p:nvPr/>
        </p:nvSpPr>
        <p:spPr>
          <a:xfrm>
            <a:off x="1714680" y="4786200"/>
            <a:ext cx="23572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40÷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50÷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8"/>
          <p:cNvSpPr/>
          <p:nvPr/>
        </p:nvSpPr>
        <p:spPr>
          <a:xfrm>
            <a:off x="4643280" y="3286080"/>
            <a:ext cx="235764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50÷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10÷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9"/>
          <p:cNvSpPr/>
          <p:nvPr/>
        </p:nvSpPr>
        <p:spPr>
          <a:xfrm>
            <a:off x="4643280" y="4772160"/>
            <a:ext cx="235764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50÷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25÷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31T08:45:34Z</dcterms:created>
  <dc:creator/>
  <dc:description/>
  <cp:keywords/>
  <dc:language>en-US</dc:language>
  <cp:lastModifiedBy/>
  <dcterms:modified xsi:type="dcterms:W3CDTF">2016-12-02T15:58:52Z</dcterms:modified>
  <cp:revision>5</cp:revision>
  <dc:subject/>
  <dc:title/>
</cp:coreProperties>
</file>