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6C12-CC63-44A8-821F-7E0B4EABD8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29D9-1FF2-4F00-8D10-D9A29A34C4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C1FC-C5E4-44CD-BED6-4458195948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A318-A6EC-40EA-AD7A-0E3C7E1986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C16-3393-4D30-88A5-41782AB4D2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316A-B1D9-4AE9-A8E4-B0B2BF6AA5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B9C-E360-43CF-84DA-CBCB306DC7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B16F-BC17-4BC8-95AF-DA928DF26A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86A-D9D7-4908-AED5-57FC092780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7A8-528C-444F-A121-FCD8F61DBB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526-F945-4AF5-9EA0-CA10026AF9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6304-39A4-4F47-89A5-38A1FD5B01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B009-F2FB-45C8-8CDC-DFCCF75664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825-4037-484C-8AF6-1D5C9774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B42-B4A7-458F-A5BC-D25AE36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B36E5-651B-4C49-A112-8B5B794B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801CB-E498-4E41-9890-7863A9E0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C71D7-7D6C-489E-9BD2-DE9EFDA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53859-9D2F-4418-B990-18A5C9BC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97E21-FC3B-4A21-99D6-71DA986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01E89-F455-4E7F-97A1-A183DBC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2E275-AD1E-4994-979B-456A1D8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77443-D5CD-4D23-B52E-A8A9A8AB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D7152-8A66-4C7E-B121-73D575E3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40FC-7902-495E-9422-B7265607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05D-7ECB-432C-AE30-BCB90686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980B8-B1C6-4326-8704-54C4A742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F3063-9F9C-4CA4-8C63-6ACE2D19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CAF33-3D85-40A2-877F-630CDDA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A14DB-46EA-49D2-AB32-095F5F05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C5787-C35E-4047-BF24-A3CB348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6E7F0-E771-48C4-AF43-F0AB37B2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F835A-3A5D-44EE-A358-40C7632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9FA4A-2B6B-4B07-A3E0-DC37154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C1829-01EF-4191-972B-ADF906F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C935B-BDA3-4DD9-B7E1-AFCE59DC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FDD-904C-432D-8B3F-53FC64F9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7D2DE-B6D5-4CED-8BF5-E7734957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F0DC5-7B30-418B-B2CA-6155DDAB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3A25A-EE35-4A13-BE22-9EE7B9AB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4DA4-0574-4976-AEEB-C08CD9B0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E3C99-2072-4560-9770-31268AE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4E5D-A5B1-4E86-902E-C383B0C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A649-830C-4956-BF3C-DCDBF87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0B91B-7970-48E4-A2A2-78A5D337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A161-EBD6-4F59-B826-65BA097D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CC56F-8032-4670-92ED-D85BE26D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1B7D-8A97-48C1-B1F3-6B9C5832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7644B-4183-4996-B1BD-43369EE5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E6A8B-C591-4558-948B-A38E4A68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C779D-3152-44C4-92E1-CE242F24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497BE-3471-4D0F-882E-D44E455EE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25884-0834-492D-A47C-A1859961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404F8-D44F-44E1-B875-3C31DC91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25536-8364-4E04-A017-F37C22D6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6009D-605C-415D-BB48-FD48521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0EF35-A19D-411D-9097-A7ABF1F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F0FF5-D9A8-4CE5-9CCF-12D53858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D13D-BCFA-4F6D-A054-6A6E087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7AAF8-4A8A-443C-8E1F-18F0EF2A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E3DD3-A5FB-45E4-B038-5CFF05B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7B62F-FF06-469A-8DBC-0B1F2C8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8C1B5-F3D2-41DF-B9A8-589C41D7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6C091-077C-4219-B760-E0AD273D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2A1E-DD7D-418F-B292-73FA932D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CB73-A6BE-477F-BB6C-D6BFFD6B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461E-8464-4E35-9162-E031C923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7CB-9185-4229-8DF8-16850DB7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F02F-C599-4523-A28E-615A9A34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224-DCB9-447C-BAB7-280DB5DC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C3E2-5E54-43DB-AC3C-F5AB1A4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40F7-2608-437B-B9EE-69632AD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9CF7-6EC2-469B-BA09-9AD3179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31A7-E469-49F2-A901-99FC49FA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20C2-74D3-4AA7-A456-BB7357CD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3A0F-FC49-43D9-B589-C75EAD9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F34B-A982-4A58-A8CA-2CFB8A3B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3D88-D126-4B25-8E48-DC71AC47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D1B3-8266-40BE-BF55-01762625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710C-5845-4310-ADA8-79608F96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9FB-D9D5-4838-8DE9-3D050FF1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3572F-7902-41C3-A906-6A1C372D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5A7E-7492-493A-A4DF-F2A7644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11B2-A3DD-4290-BAAA-9587AB74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1C7C7-6D73-4E03-B50E-10EEADD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1DDF-0DC8-4069-996F-5BED9DF3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CABF-9A72-4867-BCD4-37471D63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CFF8B-B575-4405-9EC5-106E0C91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782A-E78F-4921-83C9-8B4E1B70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4677-5CA9-4FAD-B537-BC66281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D3A7-94FB-4B01-88EF-5507845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455-F319-4408-883B-23EBD4C5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0874-E02F-4E98-9998-552DC296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AF73-5548-406B-9F64-00C9B37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DD90-0DDF-4902-949C-6900A1D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9834-32FB-4544-97A0-FF0F2136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846C-62BF-42BA-8426-298A617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3AF5F-3349-424F-8F71-4D3C89AD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8A72-FAF3-404C-A2D6-FC2C6820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9669-777F-4EFE-9CF2-3C3991E0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7843-E71C-42B3-9E7F-A9F02E21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BD3B4-F5DE-459A-8CBB-6524A666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0D8-9FA7-4F46-A903-E8E97ECA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8525-0AAD-4293-9821-59977357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C249-20D3-45D1-9045-FDEEB2D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2B9B-D67C-4D0B-B5E6-A18A2B83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A371-4263-469D-9794-284B4F95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FA4E9-7874-404B-B3E9-1072A24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BF58A-F9EA-4022-AB44-E97F60C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34F9-2A3E-42A9-AB48-3855A03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34C70-3395-4F1A-A172-B316769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CCA42-8AFC-4062-A14C-0D6D5F5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2E88-837B-4B15-A107-B8F95D76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D2B-B37C-41B7-95ED-25DB59AD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E111-269C-4435-B35C-C968D633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4CFF5-1444-4B12-827D-2E82DAD2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FCBA7-0207-43C0-B7D5-E09E9DF0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3337D-2C51-4B89-BC19-49CD26C1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84A15-CEF6-4833-86E8-B374E276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393EF-9DFC-4903-AFF2-07E3FE43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71A2-D9AA-4E67-B438-634A5224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35E3-67EB-483E-9666-C419A74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9048E-45FD-48AC-AC28-78C47599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5F8F-6447-4AF8-BDE9-D11E9AC0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ACE-0898-4BF3-A4D6-98BF860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210CC-A45C-40BB-8FF5-B819945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E59AB-DA01-4994-9A1F-06F57FF5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ACAD-EF4A-443D-880E-5DF0DEBD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98D3-9536-4F77-9209-1478DACF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D9362-02A8-442F-A738-4B63312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7EB48-0252-4119-8928-7C5591F6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51BDD-A684-4A57-9845-4EB740C4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421A1-0639-4FB6-9BE0-FD6E2B05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BB589-EFBC-429E-9C39-D1FF3CE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00015-46B8-4B87-8B77-28CC300F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9FC-01D9-4F46-A644-5D975793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BD405-0792-407C-A1A7-B407051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8C792-211C-451B-ADD8-9B64B779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6CBD7-DDA6-43E9-829C-C7BC065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B600-7153-4780-941D-1E6A2EA0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ABBDB-B4C5-4390-8478-41B03894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FCD2-FB9D-4A26-B558-93558BC6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5AC15-DFCC-496A-B940-1616A88F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9E57E-B21A-4FA9-928C-A3C25F12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C8DBB-7559-418D-A640-BABBB302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237B3-6EB6-4FCD-8FC8-03CDE22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AFC-9919-4292-9019-06E8184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AF42C-1135-4211-83D8-2FE46EE6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96D6E-0DC4-4C7C-B22D-57EFC032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5CDE9-A4FC-4488-A11A-2D3A286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3B06-3F9E-4E0D-978B-1CD3792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18EF-3AA3-4A43-85B6-2F14422F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B2DFE-534E-4E81-967B-DD0D99C0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798E-AE1B-4DB5-9BE3-8E9CDF55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369FE-C46F-4AE3-A146-59F4760B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C0C60-B67C-4544-BC64-6C56ED11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DA772-95EC-4F73-A97A-6A038FDF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AF1-7B86-4925-91A7-BBA1672E43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DFA1-61D7-491D-9D28-B242BE93CE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90AA-27C0-4EFF-A973-D5E2EB352B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284A-1EBC-4956-82F9-251EA85013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E34F-34BD-4528-AAC1-38767E16CB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7D90-75B2-4537-8DBA-95E1914BC4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5662-120A-4CD4-AF78-56556EF647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7BDC-5D09-40D8-BE20-99760BCB83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181-E933-424E-BF77-0013BA426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F35E-3BCC-48B6-A260-82848215DD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7833-2DF8-4AF9-A644-166D51C57A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3922-69B9-4AB7-9E97-EE8E8B964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4"/>
          <p:cNvSpPr/>
          <p:nvPr/>
        </p:nvSpPr>
        <p:spPr>
          <a:xfrm>
            <a:off x="2071800" y="2071800"/>
            <a:ext cx="5952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解决问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            ——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课时</a:t>
            </a: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三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3"/>
          <p:cNvSpPr/>
          <p:nvPr/>
        </p:nvSpPr>
        <p:spPr>
          <a:xfrm>
            <a:off x="857160" y="199404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冬冬家在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平方米的土地上共育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。照这样计算，要育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棵，需要多大面积的土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3"/>
          <p:cNvSpPr/>
          <p:nvPr/>
        </p:nvSpPr>
        <p:spPr>
          <a:xfrm>
            <a:off x="857160" y="135720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奶牛每星期要吃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饲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4"/>
          <p:cNvSpPr/>
          <p:nvPr/>
        </p:nvSpPr>
        <p:spPr>
          <a:xfrm>
            <a:off x="857160" y="228600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王大爷养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奶牛，每天要吃多少千克饲料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857160" y="4103640"/>
            <a:ext cx="77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王大爷刚买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千克饲料，够这些奶牛吃几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3"/>
          <p:cNvSpPr/>
          <p:nvPr/>
        </p:nvSpPr>
        <p:spPr>
          <a:xfrm>
            <a:off x="714240" y="115236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.*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某化工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节约用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吨。照这样计算，第三季一共可以节约用水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3214800" y="3714840"/>
            <a:ext cx="4924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428760" y="286956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具体事例，经历用自己的方法解决问题并与他人交流自己算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用自己的方法解答乘除两步计算的简单问题，体会解决问题方法和策略的多样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与他人交流的过程中，能较好地理解他人的解题思路和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3024360" y="9558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3" descr="QQ截图20140913141553.png"/>
          <p:cNvPicPr/>
          <p:nvPr/>
        </p:nvPicPr>
        <p:blipFill>
          <a:blip r:embed="rId1"/>
          <a:stretch/>
        </p:blipFill>
        <p:spPr>
          <a:xfrm>
            <a:off x="500040" y="1071720"/>
            <a:ext cx="762120" cy="7999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7"/>
          <p:cNvSpPr/>
          <p:nvPr/>
        </p:nvSpPr>
        <p:spPr>
          <a:xfrm>
            <a:off x="1214280" y="1211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电视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"/>
          <p:cNvSpPr/>
          <p:nvPr/>
        </p:nvSpPr>
        <p:spPr>
          <a:xfrm>
            <a:off x="357120" y="18716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半个月能生产电视机多少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2500200" y="38577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500200" y="47862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×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1214280" y="32148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QQ截图20140913141553.png"/>
          <p:cNvPicPr/>
          <p:nvPr/>
        </p:nvPicPr>
        <p:blipFill>
          <a:blip r:embed="rId1"/>
          <a:stretch/>
        </p:blipFill>
        <p:spPr>
          <a:xfrm>
            <a:off x="500040" y="1071720"/>
            <a:ext cx="762120" cy="7999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7"/>
          <p:cNvSpPr/>
          <p:nvPr/>
        </p:nvSpPr>
        <p:spPr>
          <a:xfrm>
            <a:off x="1214280" y="1211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电视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357120" y="18716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半个月能生产电视机多少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2500200" y="385776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2500200" y="50688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×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1214280" y="321480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9" descr="QQ截图20140913141934.png"/>
          <p:cNvPicPr/>
          <p:nvPr/>
        </p:nvPicPr>
        <p:blipFill>
          <a:blip r:embed="rId2"/>
          <a:stretch/>
        </p:blipFill>
        <p:spPr>
          <a:xfrm>
            <a:off x="4429080" y="2928960"/>
            <a:ext cx="41623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5"/>
          <p:cNvSpPr/>
          <p:nvPr/>
        </p:nvSpPr>
        <p:spPr>
          <a:xfrm>
            <a:off x="1357200" y="17827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1357200" y="27115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×1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642960" y="11397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8"/>
          <p:cNvSpPr/>
          <p:nvPr/>
        </p:nvSpPr>
        <p:spPr>
          <a:xfrm>
            <a:off x="1357200" y="414324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1357200" y="499752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×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714240" y="35002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方法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1"/>
          <p:cNvSpPr/>
          <p:nvPr/>
        </p:nvSpPr>
        <p:spPr>
          <a:xfrm>
            <a:off x="1428840" y="57834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列出一个算式，算一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3" descr="QQ截图20140913141553.png"/>
          <p:cNvPicPr/>
          <p:nvPr/>
        </p:nvPicPr>
        <p:blipFill>
          <a:blip r:embed="rId1"/>
          <a:stretch/>
        </p:blipFill>
        <p:spPr>
          <a:xfrm>
            <a:off x="500040" y="1071720"/>
            <a:ext cx="762120" cy="7999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7"/>
          <p:cNvSpPr/>
          <p:nvPr/>
        </p:nvSpPr>
        <p:spPr>
          <a:xfrm>
            <a:off x="1214280" y="12114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电视机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生产电视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357120" y="18716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上面的情况，完成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台电视机的生产任务，需要多少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785880" y="32148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"/>
          <p:cNvSpPr/>
          <p:nvPr/>
        </p:nvSpPr>
        <p:spPr>
          <a:xfrm>
            <a:off x="857160" y="420228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00÷36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8"/>
          <p:cNvSpPr/>
          <p:nvPr/>
        </p:nvSpPr>
        <p:spPr>
          <a:xfrm>
            <a:off x="5143680" y="321480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÷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8÷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9"/>
          <p:cNvSpPr/>
          <p:nvPr/>
        </p:nvSpPr>
        <p:spPr>
          <a:xfrm>
            <a:off x="4786200" y="421164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÷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0"/>
          <p:cNvSpPr/>
          <p:nvPr/>
        </p:nvSpPr>
        <p:spPr>
          <a:xfrm>
            <a:off x="4786200" y="506880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2000160" y="57150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需要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3" descr="抠图、练一练.png"/>
          <p:cNvPicPr/>
          <p:nvPr/>
        </p:nvPicPr>
        <p:blipFill>
          <a:blip r:embed="rId1"/>
          <a:stretch/>
        </p:blipFill>
        <p:spPr>
          <a:xfrm>
            <a:off x="571680" y="934920"/>
            <a:ext cx="2600280" cy="1632240"/>
          </a:xfrm>
          <a:prstGeom prst="rect">
            <a:avLst/>
          </a:prstGeom>
          <a:ln w="0">
            <a:noFill/>
          </a:ln>
        </p:spPr>
      </p:pic>
      <p:sp>
        <p:nvSpPr>
          <p:cNvPr id="557" name="TextBox 4"/>
          <p:cNvSpPr/>
          <p:nvPr/>
        </p:nvSpPr>
        <p:spPr>
          <a:xfrm>
            <a:off x="1285920" y="17924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714240" y="26431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阿姨是一位做儿童服装的巧手，一周可以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2"/>
          <a:stretch/>
        </p:blipFill>
        <p:spPr>
          <a:xfrm>
            <a:off x="5572080" y="2143080"/>
            <a:ext cx="3162240" cy="2600280"/>
          </a:xfrm>
          <a:prstGeom prst="rect">
            <a:avLst/>
          </a:prstGeom>
          <a:ln w="0">
            <a:noFill/>
          </a:ln>
        </p:spPr>
      </p:pic>
      <p:sp>
        <p:nvSpPr>
          <p:cNvPr id="560" name="TextBox 7"/>
          <p:cNvSpPr/>
          <p:nvPr/>
        </p:nvSpPr>
        <p:spPr>
          <a:xfrm>
            <a:off x="714240" y="42163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可以做多少套儿童服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"/>
          <p:cNvSpPr/>
          <p:nvPr/>
        </p:nvSpPr>
        <p:spPr>
          <a:xfrm>
            <a:off x="1928880" y="520524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÷5×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9"/>
          <p:cNvSpPr/>
          <p:nvPr/>
        </p:nvSpPr>
        <p:spPr>
          <a:xfrm>
            <a:off x="1500120" y="56307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×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0"/>
          <p:cNvSpPr/>
          <p:nvPr/>
        </p:nvSpPr>
        <p:spPr>
          <a:xfrm>
            <a:off x="1428840" y="6072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11"/>
          <p:cNvSpPr/>
          <p:nvPr/>
        </p:nvSpPr>
        <p:spPr>
          <a:xfrm>
            <a:off x="3857760" y="556560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可以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2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3"/>
          <p:cNvSpPr/>
          <p:nvPr/>
        </p:nvSpPr>
        <p:spPr>
          <a:xfrm>
            <a:off x="714240" y="14288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王阿姨是一位做儿童服装的巧手，一周可以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5572080" y="1214280"/>
            <a:ext cx="3162240" cy="2600640"/>
          </a:xfrm>
          <a:prstGeom prst="rect">
            <a:avLst/>
          </a:prstGeom>
          <a:ln w="0">
            <a:noFill/>
          </a:ln>
        </p:spPr>
      </p:pic>
      <p:sp>
        <p:nvSpPr>
          <p:cNvPr id="567" name="TextBox 5"/>
          <p:cNvSpPr/>
          <p:nvPr/>
        </p:nvSpPr>
        <p:spPr>
          <a:xfrm>
            <a:off x="642960" y="292896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需要多少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1928880" y="414324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÷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7"/>
          <p:cNvSpPr/>
          <p:nvPr/>
        </p:nvSpPr>
        <p:spPr>
          <a:xfrm>
            <a:off x="1500120" y="47023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÷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428840" y="52736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3714840" y="50655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儿童服装需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3"/>
          <p:cNvSpPr/>
          <p:nvPr/>
        </p:nvSpPr>
        <p:spPr>
          <a:xfrm>
            <a:off x="714240" y="1139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一辆货车运苹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4838760" cy="14576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"/>
          <p:cNvPicPr/>
          <p:nvPr/>
        </p:nvPicPr>
        <p:blipFill>
          <a:blip r:embed="rId2"/>
          <a:stretch/>
        </p:blipFill>
        <p:spPr>
          <a:xfrm>
            <a:off x="5643720" y="2057400"/>
            <a:ext cx="3066840" cy="1085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6"/>
          <p:cNvSpPr/>
          <p:nvPr/>
        </p:nvSpPr>
        <p:spPr>
          <a:xfrm>
            <a:off x="428760" y="342576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照这样计算，这辆货车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运多少箱苹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428760" y="4800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要把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箱苹果运到库房，这辆货车要运多少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06:49:19Z</dcterms:created>
  <dc:creator/>
  <dc:description/>
  <cp:keywords/>
  <dc:language>en-US</dc:language>
  <cp:lastModifiedBy/>
  <dcterms:modified xsi:type="dcterms:W3CDTF">2016-12-02T16:01:42Z</dcterms:modified>
  <cp:revision>5</cp:revision>
  <dc:subject/>
  <dc:title/>
</cp:coreProperties>
</file>