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1961-2BF8-45BB-9964-45F8BA936A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9D82-4661-4DFF-BAB9-B9A9C2FB08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008D-A8BF-45FC-9CCE-4CBFAD5487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98D-E597-4F31-B339-55DC65F52B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2CAD-417F-4F2A-A45E-0310ED2B3F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E9CC-599B-46AE-AFE0-BE6DB30A35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2786-0CA8-4891-A355-0B8C475FF3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9C3-4AD8-415F-B08B-B9F5AA3913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84C-A255-4180-92CA-FFC9ED9BCF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9FA0-CD1D-4649-9471-D4456FB423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3EB-5AF4-47E6-93B2-3EC5EA3269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495-CCE6-4C8A-ABD8-12AC2ACEAF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090-3BB6-4054-8AE3-36BD3EE632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931-437B-45B1-8849-89120F8A12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386-8275-49DF-A8AA-16E43F28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B6F-49DB-4B52-98CE-F33A2FF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9FB-4CDF-47C6-B2F3-DA119414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D47-FBAB-4C4F-B39A-6574E94D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52E-2357-4255-AEEF-CE954E53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69C-2BDF-4AF0-A9AB-ACA4F79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044-45FE-4531-9B86-6DC87327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2CB-B3D8-4D18-A4C0-9C3F3070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0EB-18A9-4E5A-B5BA-6E65143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1B1-3A1F-4B28-8AB5-54C8E74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D0F-320F-4D9F-95A0-DAA1204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2D6-7E5D-452D-AD29-A05A328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7A26-C508-4E5C-8F4C-141918A69D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2071800" y="2071800"/>
            <a:ext cx="5952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解决问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            ——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课时</a:t>
            </a: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三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107172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园张大伯摘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筐苹果，每筐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为了运输方便，要把苹果分装在纸箱中，共需要多少个纸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5715000" cy="1927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2000160" y="4572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×28÷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500120" y="52833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40÷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500120" y="59259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4071960" y="5711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共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纸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500040" y="146844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李大叔的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冬枣摘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。照这样计算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冬枣树能摘多少千克冬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286080" y="32860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32÷8×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86040" y="39974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9×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786040" y="46404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75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214280" y="557208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冬枣树能摘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5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冬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92880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光明小学买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磁性给办，花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学校计划每个班都配一块，需要再花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643280" y="2643120"/>
            <a:ext cx="397224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14308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32÷6×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643040" y="442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×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643040" y="50688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9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214280" y="571500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再花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9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228600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体育用品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车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乒乓求排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照这样计算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车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多少个乒乓球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28760" y="286956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自主解答问题并学习乘除混合运算顺序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知道乘除混合运算的顺序，能正确进行运算，能解答乘除两步计算的简单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了解分析问题和解决问题的基本方法，能说明每一步计算结果的实际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24360" y="9558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复习回顾.png"/>
          <p:cNvPicPr/>
          <p:nvPr/>
        </p:nvPicPr>
        <p:blipFill>
          <a:blip r:embed="rId1"/>
          <a:stretch/>
        </p:blipFill>
        <p:spPr>
          <a:xfrm>
            <a:off x="785880" y="1000080"/>
            <a:ext cx="2452680" cy="197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357200" y="28544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42÷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857160" y="36370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42÷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857160" y="435132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572080" y="28544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72÷3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072040" y="363996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4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072040" y="43545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57160" y="2786040"/>
            <a:ext cx="7350120" cy="2500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857160" y="55594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观察上图，说一说你了解到什么数学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6" descr="QQ截图20140913095025.png"/>
          <p:cNvPicPr/>
          <p:nvPr/>
        </p:nvPicPr>
        <p:blipFill>
          <a:blip r:embed="rId2"/>
          <a:stretch/>
        </p:blipFill>
        <p:spPr>
          <a:xfrm>
            <a:off x="642960" y="1143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1143000" y="10717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塔村计划修一条水渠，如果每天修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就能修完。照第一天的进度计算，多少天能修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857160" y="2786040"/>
            <a:ext cx="735012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" descr="图片1.png"/>
          <p:cNvPicPr/>
          <p:nvPr/>
        </p:nvPicPr>
        <p:blipFill>
          <a:blip r:embed="rId2"/>
          <a:stretch/>
        </p:blipFill>
        <p:spPr>
          <a:xfrm>
            <a:off x="571680" y="4514760"/>
            <a:ext cx="1428480" cy="1629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714680" y="514368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428920" y="5929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先算什么，再算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1" descr="QQ截图20140913095025.png"/>
          <p:cNvPicPr/>
          <p:nvPr/>
        </p:nvPicPr>
        <p:blipFill>
          <a:blip r:embed="rId3"/>
          <a:stretch/>
        </p:blipFill>
        <p:spPr>
          <a:xfrm>
            <a:off x="642960" y="1143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2"/>
          <p:cNvSpPr/>
          <p:nvPr/>
        </p:nvSpPr>
        <p:spPr>
          <a:xfrm>
            <a:off x="1143000" y="10717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塔村计划修一条水渠，如果每天修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米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就能修完。照第一天的进度计算，多少天能修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3"/>
          <p:cNvSpPr/>
          <p:nvPr/>
        </p:nvSpPr>
        <p:spPr>
          <a:xfrm>
            <a:off x="4000680" y="1571760"/>
            <a:ext cx="37861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4857840" y="2190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7"/>
          <p:cNvSpPr/>
          <p:nvPr/>
        </p:nvSpPr>
        <p:spPr>
          <a:xfrm>
            <a:off x="1071720" y="17827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×9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857160" y="107172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先算出这条水渠有多少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1071720" y="321156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÷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857160" y="250020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再算出修这条水渠用多少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2"/>
          <p:cNvSpPr/>
          <p:nvPr/>
        </p:nvSpPr>
        <p:spPr>
          <a:xfrm>
            <a:off x="4500720" y="2071800"/>
            <a:ext cx="22143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4"/>
          <p:cNvSpPr/>
          <p:nvPr/>
        </p:nvSpPr>
        <p:spPr>
          <a:xfrm flipV="1">
            <a:off x="4500720" y="2714400"/>
            <a:ext cx="221436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6715080" y="221472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列成一个算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1214280" y="4071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×90÷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714240" y="4782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0÷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714240" y="5425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右箭头 23"/>
          <p:cNvSpPr/>
          <p:nvPr/>
        </p:nvSpPr>
        <p:spPr>
          <a:xfrm rot="10800000">
            <a:off x="3214800" y="428616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4000680" y="4000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按照从左到右的顺序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5"/>
          <p:cNvSpPr/>
          <p:nvPr/>
        </p:nvSpPr>
        <p:spPr>
          <a:xfrm>
            <a:off x="3214800" y="522936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照第一天的进度计算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能修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QQ截图20140913105107.png"/>
          <p:cNvPicPr/>
          <p:nvPr/>
        </p:nvPicPr>
        <p:blipFill>
          <a:blip r:embed="rId1"/>
          <a:stretch/>
        </p:blipFill>
        <p:spPr>
          <a:xfrm>
            <a:off x="642960" y="1119240"/>
            <a:ext cx="574560" cy="59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1143000" y="10717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养蜂专业户，今年饲养蜜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箱，。照去年每箱的酿蜜量计算，今年可以酿多少千克蜂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57160" y="2786040"/>
            <a:ext cx="3929040" cy="246384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7"/>
          <p:cNvSpPr/>
          <p:nvPr/>
        </p:nvSpPr>
        <p:spPr>
          <a:xfrm>
            <a:off x="1214280" y="1571760"/>
            <a:ext cx="45007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3571920" y="2143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9" descr="QQ截图20140913132743.png"/>
          <p:cNvPicPr/>
          <p:nvPr/>
        </p:nvPicPr>
        <p:blipFill>
          <a:blip r:embed="rId3"/>
          <a:stretch/>
        </p:blipFill>
        <p:spPr>
          <a:xfrm>
            <a:off x="4286160" y="3429000"/>
            <a:ext cx="4500720" cy="1392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3643200" y="4572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75÷5×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3143160" y="52833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×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143160" y="59259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00840" y="52610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今年可以酿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0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蜂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抠图、练一练.png"/>
          <p:cNvPicPr/>
          <p:nvPr/>
        </p:nvPicPr>
        <p:blipFill>
          <a:blip r:embed="rId1"/>
          <a:stretch/>
        </p:blipFill>
        <p:spPr>
          <a:xfrm>
            <a:off x="571680" y="934920"/>
            <a:ext cx="2600280" cy="1632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285920" y="17924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714240" y="264312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说一说运算顺序，再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81579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10717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买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件上衣的钱可以买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裙子。每条裙子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57120" y="2313000"/>
            <a:ext cx="8358120" cy="2044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000160" y="42148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×2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500120" y="49258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4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1500120" y="55688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4143240" y="535464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每条裙子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05:43:19Z</dcterms:created>
  <dc:creator/>
  <dc:description/>
  <cp:keywords/>
  <dc:language>en-US</dc:language>
  <cp:lastModifiedBy/>
  <dcterms:modified xsi:type="dcterms:W3CDTF">2016-12-02T16:00:07Z</dcterms:modified>
  <cp:revision>5</cp:revision>
  <dc:subject/>
  <dc:title/>
</cp:coreProperties>
</file>