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4C61-15A6-4FC5-A459-077D7120AD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9D1C-41FD-491F-AF71-034FD99DA3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D14-1F1D-46F3-AA43-DACFD5BEFF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1143-19C4-4C00-B04A-0063A1E2BC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D7D-9281-4077-B92C-3B2169E8E3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2EA5-5D34-486F-B069-17A214497A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4F83-E9F9-433B-8A65-BBA5A33FAB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B11-7A93-427C-B0DA-6A7FF421AD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AC7-7EBB-47FA-B63D-6C379A2532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3F95-C91D-4074-B3F0-F04D5CDCFA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AEF9-5F81-4135-BF64-7A3696B097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A1D-5CD0-48C7-93AE-9AA37D52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185-5021-4165-AC40-CF789520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13D-91A6-43F9-A742-33D484F9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4B1-428C-4185-A140-9B25DBA4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51F-CA6C-4805-BF51-CE73EE3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99E-3D31-45C5-BBFC-455B2EA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4CD-961F-46F2-BBA8-B773BF65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1D0-9468-425C-B1B7-E55BFCE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77-CC4A-4E93-81CC-6C785D80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707-9462-491A-88C8-269F82A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0AA-5D33-4820-9E3A-6F13D4A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71-CE3E-4461-8AF6-0DCEB87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71B-39B5-4984-BDF6-FBC522CF2D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643120" y="2643120"/>
            <a:ext cx="400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画     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5"/>
          <p:cNvSpPr/>
          <p:nvPr/>
        </p:nvSpPr>
        <p:spPr>
          <a:xfrm>
            <a:off x="684360" y="18446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3*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着用三角板画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84360" y="400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*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张正方形的纸，折出下面度数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484360" y="4869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772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用量角器、三角板画角并交流画角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会用量角器画指定度数的角；会用三角板画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0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45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0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90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激发学生画角的兴趣，培养认真、细心的良好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95640" y="8841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13"/>
          <p:cNvSpPr/>
          <p:nvPr/>
        </p:nvSpPr>
        <p:spPr>
          <a:xfrm>
            <a:off x="3416400" y="9176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怎样画一个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°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4"/>
          <p:cNvSpPr/>
          <p:nvPr/>
        </p:nvSpPr>
        <p:spPr>
          <a:xfrm>
            <a:off x="611280" y="1901880"/>
            <a:ext cx="3317760" cy="647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用三角尺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3"/>
          <p:cNvGrpSpPr/>
          <p:nvPr/>
        </p:nvGrpSpPr>
        <p:grpSpPr>
          <a:xfrm>
            <a:off x="4214880" y="2560680"/>
            <a:ext cx="2357280" cy="3786120"/>
            <a:chOff x="4214880" y="2560680"/>
            <a:chExt cx="2357280" cy="3786120"/>
          </a:xfrm>
        </p:grpSpPr>
        <p:sp>
          <p:nvSpPr>
            <p:cNvPr id="57" name="直角三角形 6"/>
            <p:cNvSpPr/>
            <p:nvPr/>
          </p:nvSpPr>
          <p:spPr>
            <a:xfrm>
              <a:off x="4214880" y="2560680"/>
              <a:ext cx="2357280" cy="3786120"/>
            </a:xfrm>
            <a:prstGeom prst="rtTriangle">
              <a:avLst/>
            </a:prstGeom>
            <a:solidFill>
              <a:srgbClr val="f2dcdb"/>
            </a:solidFill>
            <a:ln w="1908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12"/>
            <p:cNvSpPr/>
            <p:nvPr/>
          </p:nvSpPr>
          <p:spPr>
            <a:xfrm>
              <a:off x="4643280" y="5132520"/>
              <a:ext cx="785520" cy="78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8"/>
          <p:cNvSpPr/>
          <p:nvPr/>
        </p:nvSpPr>
        <p:spPr>
          <a:xfrm flipH="1" flipV="1">
            <a:off x="5076360" y="3933360"/>
            <a:ext cx="1500120" cy="241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"/>
          <p:cNvSpPr/>
          <p:nvPr/>
        </p:nvSpPr>
        <p:spPr>
          <a:xfrm flipH="1">
            <a:off x="3632040" y="6357960"/>
            <a:ext cx="294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2453235_164718287191_2"/>
          <p:cNvPicPr/>
          <p:nvPr/>
        </p:nvPicPr>
        <p:blipFill>
          <a:blip r:embed="rId1"/>
          <a:stretch/>
        </p:blipFill>
        <p:spPr>
          <a:xfrm>
            <a:off x="1187280" y="3381480"/>
            <a:ext cx="5040360" cy="3216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" descr="QQ截图20140926151311.png"/>
          <p:cNvPicPr/>
          <p:nvPr/>
        </p:nvPicPr>
        <p:blipFill>
          <a:blip r:embed="rId2"/>
          <a:stretch/>
        </p:blipFill>
        <p:spPr>
          <a:xfrm>
            <a:off x="571680" y="1071720"/>
            <a:ext cx="809280" cy="933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3"/>
          <p:cNvSpPr/>
          <p:nvPr/>
        </p:nvSpPr>
        <p:spPr>
          <a:xfrm>
            <a:off x="1500120" y="128592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画一个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5"/>
          <p:cNvSpPr/>
          <p:nvPr/>
        </p:nvSpPr>
        <p:spPr>
          <a:xfrm>
            <a:off x="571680" y="231624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画一条射线，使量角器的中心和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端点重合、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°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刻度线和射线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637080" y="584208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2453235_164718287191_2"/>
          <p:cNvPicPr/>
          <p:nvPr/>
        </p:nvPicPr>
        <p:blipFill>
          <a:blip r:embed="rId1"/>
          <a:stretch/>
        </p:blipFill>
        <p:spPr>
          <a:xfrm>
            <a:off x="1187280" y="3068640"/>
            <a:ext cx="50403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780200" y="2000160"/>
            <a:ext cx="55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在量角器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°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刻度线的位置画一个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637080" y="5526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 flipV="1">
            <a:off x="5560920" y="3842640"/>
            <a:ext cx="9072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6"/>
          <p:cNvSpPr/>
          <p:nvPr/>
        </p:nvSpPr>
        <p:spPr>
          <a:xfrm>
            <a:off x="3637080" y="5526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 flipV="1">
            <a:off x="5560920" y="3842640"/>
            <a:ext cx="9072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3635280" y="3645000"/>
            <a:ext cx="2232000" cy="18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弧形 9"/>
          <p:cNvSpPr/>
          <p:nvPr/>
        </p:nvSpPr>
        <p:spPr>
          <a:xfrm flipH="1" rot="5626200">
            <a:off x="3707280" y="5249160"/>
            <a:ext cx="412560" cy="410760"/>
          </a:xfrm>
          <a:custGeom>
            <a:avLst/>
            <a:gdLst>
              <a:gd name="textAreaLeft" fmla="*/ 108720 w 412560"/>
              <a:gd name="textAreaRight" fmla="*/ 406800 w 412560"/>
              <a:gd name="textAreaTop" fmla="*/ 0 h 410760"/>
              <a:gd name="textAreaBottom" fmla="*/ 156240 h 410760"/>
            </a:gdLst>
            <a:ahLst/>
            <a:rect l="textAreaLeft" t="textAreaTop" r="textAreaRight" b="textAreaBottom"/>
            <a:pathLst>
              <a:path stroke="0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  <a:lnTo>
                  <a:pt x="206198" y="205769"/>
                </a:lnTo>
                <a:close/>
              </a:path>
              <a:path fill="none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211640" y="49417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00040" y="17859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以画出的射线的端点为端点，通过刚画的点，再画一条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0" descr="抠图、图片2.png"/>
          <p:cNvPicPr/>
          <p:nvPr/>
        </p:nvPicPr>
        <p:blipFill>
          <a:blip r:embed="rId1"/>
          <a:stretch/>
        </p:blipFill>
        <p:spPr>
          <a:xfrm>
            <a:off x="357120" y="857160"/>
            <a:ext cx="1857600" cy="1995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1"/>
          <p:cNvSpPr/>
          <p:nvPr/>
        </p:nvSpPr>
        <p:spPr>
          <a:xfrm>
            <a:off x="6429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归纳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539640" y="256536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量角器画指定度数的角的方法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先画出一条射线，使量角器的中心点与射线的端点重合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0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刻度线与射线重合，然后找出指定的度数，即所画的射线对应的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0°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刻度线在哪一圈，就对照哪一圈的刻度找度数，对应这个度数画一个点，再拿走量角器，以射线的端点为端点，通过刚画的点，画一条射线，最后在所画的角中标出角的符号及度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抠图、试一试.png"/>
          <p:cNvPicPr/>
          <p:nvPr/>
        </p:nvPicPr>
        <p:blipFill>
          <a:blip r:embed="rId1"/>
          <a:stretch/>
        </p:blipFill>
        <p:spPr>
          <a:xfrm>
            <a:off x="428760" y="857160"/>
            <a:ext cx="2571480" cy="1538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071720" y="151596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84360" y="25686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三角板画一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，再用量角器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3"/>
          <p:cNvGrpSpPr/>
          <p:nvPr/>
        </p:nvGrpSpPr>
        <p:grpSpPr>
          <a:xfrm>
            <a:off x="2357280" y="3571920"/>
            <a:ext cx="3786480" cy="2357280"/>
            <a:chOff x="2357280" y="3571920"/>
            <a:chExt cx="3786480" cy="2357280"/>
          </a:xfrm>
        </p:grpSpPr>
        <p:sp>
          <p:nvSpPr>
            <p:cNvPr id="83" name="直角三角形 5"/>
            <p:cNvSpPr/>
            <p:nvPr/>
          </p:nvSpPr>
          <p:spPr>
            <a:xfrm rot="16200000">
              <a:off x="3071880" y="2857320"/>
              <a:ext cx="2357280" cy="3786480"/>
            </a:xfrm>
            <a:prstGeom prst="rtTriangle">
              <a:avLst/>
            </a:prstGeom>
            <a:solidFill>
              <a:srgbClr val="f2dcdb"/>
            </a:solidFill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12"/>
            <p:cNvSpPr/>
            <p:nvPr/>
          </p:nvSpPr>
          <p:spPr>
            <a:xfrm rot="16200000">
              <a:off x="4929120" y="4714920"/>
              <a:ext cx="785520" cy="785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7"/>
          <p:cNvSpPr/>
          <p:nvPr/>
        </p:nvSpPr>
        <p:spPr>
          <a:xfrm>
            <a:off x="2357280" y="5929200"/>
            <a:ext cx="39294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"/>
          <p:cNvSpPr/>
          <p:nvPr/>
        </p:nvSpPr>
        <p:spPr>
          <a:xfrm flipV="1">
            <a:off x="2357280" y="3499920"/>
            <a:ext cx="3929400" cy="2428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抠图、练一练.png"/>
          <p:cNvPicPr/>
          <p:nvPr/>
        </p:nvPicPr>
        <p:blipFill>
          <a:blip r:embed="rId1"/>
          <a:stretch/>
        </p:blipFill>
        <p:spPr>
          <a:xfrm>
            <a:off x="428760" y="928800"/>
            <a:ext cx="2428920" cy="15238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000080" y="164304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684360" y="32846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量角器分别画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684360" y="47102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三角板分别画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00:31:07Z</dcterms:created>
  <dc:creator/>
  <dc:description/>
  <cp:keywords/>
  <dc:language>en-US</dc:language>
  <cp:lastModifiedBy/>
  <dcterms:modified xsi:type="dcterms:W3CDTF">2016-12-02T16:03:16Z</dcterms:modified>
  <cp:revision>5</cp:revision>
  <dc:subject/>
  <dc:title/>
</cp:coreProperties>
</file>