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65F9-6C54-457F-BD99-CDC320A0D8B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3E23-BECB-4E32-B71D-42A41519B54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606F-B799-4FF1-9C93-98AA60E3D8D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A8E3-8E9A-414D-B629-871BFC75C5F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8081-659C-4380-A9ED-89726754AF6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2D06-3646-4805-BFD2-A50D353DCC1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DC1D-5953-4FC8-AAF5-A4AF612648A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DDAF-C5EB-483E-A557-F188FA7160E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AD07-1CC7-4219-B7FB-85A5682F67D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2891-1337-4A5C-BCC2-EF144F04F64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ECCE-A928-4793-B170-ABB5B8B3CB5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E5CC-0ED4-46DF-8814-620D6F5662C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B176-742B-4696-ACB2-4B87430C0AC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CBFB-C6AF-4A82-A52D-E1B02333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83AB-5E88-4760-8439-73879B27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1CDB-08DE-423F-900A-CC24A183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2532-FD4E-4F63-BBF3-C76EB7354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9E36-0089-4946-8C5D-483B9E3D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E94A-D71F-4EE3-B653-AE656561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3A2E-827D-4F68-B4DC-79B9078E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A211-2412-43AD-BA13-177CC104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226C-4732-4810-83A2-D76D38A6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B532-CC7A-4AB2-9F65-35E4CD37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B24D-2ECD-4EC5-B095-DA331CC7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C5A2-A7D6-40A8-9511-394EDD7A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FA06-68A7-4CDE-B529-E2A4BFE7FA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4"/>
          <p:cNvSpPr/>
          <p:nvPr/>
        </p:nvSpPr>
        <p:spPr>
          <a:xfrm>
            <a:off x="3071880" y="2500200"/>
            <a:ext cx="25718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1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角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857160" y="12016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a10"/>
                </a:solidFill>
                <a:latin typeface="华文楷体"/>
                <a:ea typeface="华文楷体"/>
              </a:rPr>
              <a:t>冀教版小学数学四年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4"/>
          <p:cNvSpPr/>
          <p:nvPr/>
        </p:nvSpPr>
        <p:spPr>
          <a:xfrm>
            <a:off x="642960" y="100008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8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帮小熊写出下面各角的名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2" descr="QQ截图20140926091343.png"/>
          <p:cNvPicPr/>
          <p:nvPr/>
        </p:nvPicPr>
        <p:blipFill>
          <a:blip r:embed="rId1"/>
          <a:stretch/>
        </p:blipFill>
        <p:spPr>
          <a:xfrm>
            <a:off x="1419120" y="2052720"/>
            <a:ext cx="6438960" cy="3876480"/>
          </a:xfrm>
          <a:prstGeom prst="rect">
            <a:avLst/>
          </a:prstGeom>
          <a:ln w="0">
            <a:noFill/>
          </a:ln>
        </p:spPr>
      </p:pic>
      <p:sp>
        <p:nvSpPr>
          <p:cNvPr id="132" name="TextBox 4"/>
          <p:cNvSpPr/>
          <p:nvPr/>
        </p:nvSpPr>
        <p:spPr>
          <a:xfrm>
            <a:off x="928800" y="35132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3071880" y="3500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5429160" y="3500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1571760" y="52736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4000680" y="52610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>
            <a:off x="1428840" y="3500280"/>
            <a:ext cx="107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锐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9"/>
          <p:cNvSpPr/>
          <p:nvPr/>
        </p:nvSpPr>
        <p:spPr>
          <a:xfrm>
            <a:off x="3571920" y="3500280"/>
            <a:ext cx="107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直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0"/>
          <p:cNvSpPr/>
          <p:nvPr/>
        </p:nvSpPr>
        <p:spPr>
          <a:xfrm>
            <a:off x="5929200" y="350028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钝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1"/>
          <p:cNvSpPr/>
          <p:nvPr/>
        </p:nvSpPr>
        <p:spPr>
          <a:xfrm>
            <a:off x="2071800" y="5273640"/>
            <a:ext cx="107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平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2"/>
          <p:cNvSpPr/>
          <p:nvPr/>
        </p:nvSpPr>
        <p:spPr>
          <a:xfrm>
            <a:off x="4500720" y="5286240"/>
            <a:ext cx="107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周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4"/>
          <p:cNvSpPr/>
          <p:nvPr/>
        </p:nvSpPr>
        <p:spPr>
          <a:xfrm>
            <a:off x="642960" y="85716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填一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642960" y="163044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已知∠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5°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∠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6"/>
          <p:cNvSpPr/>
          <p:nvPr/>
        </p:nvSpPr>
        <p:spPr>
          <a:xfrm flipH="1">
            <a:off x="2927520" y="2357280"/>
            <a:ext cx="1440" cy="150192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8"/>
          <p:cNvSpPr/>
          <p:nvPr/>
        </p:nvSpPr>
        <p:spPr>
          <a:xfrm>
            <a:off x="2928960" y="3857760"/>
            <a:ext cx="1714320" cy="144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11"/>
          <p:cNvSpPr/>
          <p:nvPr/>
        </p:nvSpPr>
        <p:spPr>
          <a:xfrm>
            <a:off x="2928960" y="3500280"/>
            <a:ext cx="357120" cy="180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直接连接符 13"/>
          <p:cNvSpPr/>
          <p:nvPr/>
        </p:nvSpPr>
        <p:spPr>
          <a:xfrm flipH="1">
            <a:off x="3284640" y="3502080"/>
            <a:ext cx="1440" cy="35712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 15"/>
          <p:cNvSpPr/>
          <p:nvPr/>
        </p:nvSpPr>
        <p:spPr>
          <a:xfrm flipV="1">
            <a:off x="2928960" y="2714400"/>
            <a:ext cx="1571760" cy="114300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弧形 17"/>
          <p:cNvSpPr/>
          <p:nvPr/>
        </p:nvSpPr>
        <p:spPr>
          <a:xfrm>
            <a:off x="2857680" y="3214800"/>
            <a:ext cx="571320" cy="428400"/>
          </a:xfrm>
          <a:custGeom>
            <a:avLst/>
            <a:gdLst>
              <a:gd name="textAreaLeft" fmla="*/ 74160 w 571320"/>
              <a:gd name="textAreaRight" fmla="*/ 571680 w 571320"/>
              <a:gd name="textAreaTop" fmla="*/ 0 h 428400"/>
              <a:gd name="textAreaBottom" fmla="*/ 250560 h 428400"/>
            </a:gdLst>
            <a:ahLst/>
            <a:rect l="textAreaLeft" t="textAreaTop" r="textAreaRight" b="textAreaBottom"/>
            <a:pathLst>
              <a:path stroke="0" w="571500" h="428625">
                <a:moveTo>
                  <a:pt x="74214" y="70232"/>
                </a:moveTo>
                <a:lnTo>
                  <a:pt x="74214" y="70232"/>
                </a:lnTo>
                <a:arcTo wR="285750" hR="214313" stAng="-8744438" swAng="9183515"/>
                <a:lnTo>
                  <a:pt x="285750" y="214313"/>
                </a:lnTo>
                <a:close/>
              </a:path>
              <a:path fill="none" w="571500" h="428625">
                <a:moveTo>
                  <a:pt x="74214" y="70232"/>
                </a:moveTo>
                <a:lnTo>
                  <a:pt x="74214" y="70232"/>
                </a:lnTo>
                <a:arcTo wR="285750" hR="214313" stAng="-8744438" swAng="9183515"/>
              </a:path>
            </a:pathLst>
          </a:custGeom>
          <a:noFill/>
          <a:ln w="381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弧形 18"/>
          <p:cNvSpPr/>
          <p:nvPr/>
        </p:nvSpPr>
        <p:spPr>
          <a:xfrm rot="1071000">
            <a:off x="3230280" y="3541680"/>
            <a:ext cx="423720" cy="476280"/>
          </a:xfrm>
          <a:custGeom>
            <a:avLst/>
            <a:gdLst>
              <a:gd name="textAreaLeft" fmla="*/ 102960 w 423720"/>
              <a:gd name="textAreaRight" fmla="*/ 424080 w 423720"/>
              <a:gd name="textAreaTop" fmla="*/ 0 h 476280"/>
              <a:gd name="textAreaBottom" fmla="*/ 242280 h 476280"/>
            </a:gdLst>
            <a:ahLst/>
            <a:rect l="textAreaLeft" t="textAreaTop" r="textAreaRight" b="textAreaBottom"/>
            <a:pathLst>
              <a:path stroke="0" w="423862" h="476250">
                <a:moveTo>
                  <a:pt x="103050" y="33829"/>
                </a:moveTo>
                <a:lnTo>
                  <a:pt x="103050" y="33829"/>
                </a:lnTo>
                <a:arcTo wR="211931" hR="238125" stAng="-7083342" swAng="7150045"/>
                <a:lnTo>
                  <a:pt x="211931" y="238125"/>
                </a:lnTo>
                <a:close/>
              </a:path>
              <a:path fill="none" w="423862" h="476250">
                <a:moveTo>
                  <a:pt x="103050" y="33829"/>
                </a:moveTo>
                <a:lnTo>
                  <a:pt x="103050" y="33829"/>
                </a:lnTo>
                <a:arcTo wR="211931" hR="238125" stAng="-7083342" swAng="7150045"/>
              </a:path>
            </a:pathLst>
          </a:custGeom>
          <a:noFill/>
          <a:ln w="381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9"/>
          <p:cNvSpPr/>
          <p:nvPr/>
        </p:nvSpPr>
        <p:spPr>
          <a:xfrm>
            <a:off x="3000240" y="264312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0"/>
          <p:cNvSpPr/>
          <p:nvPr/>
        </p:nvSpPr>
        <p:spPr>
          <a:xfrm>
            <a:off x="3643200" y="32734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1"/>
          <p:cNvSpPr/>
          <p:nvPr/>
        </p:nvSpPr>
        <p:spPr>
          <a:xfrm>
            <a:off x="642960" y="4000680"/>
            <a:ext cx="76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已知∠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0°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∠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0°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22"/>
          <p:cNvSpPr/>
          <p:nvPr/>
        </p:nvSpPr>
        <p:spPr>
          <a:xfrm>
            <a:off x="2071800" y="6357960"/>
            <a:ext cx="4714920" cy="144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24"/>
          <p:cNvSpPr/>
          <p:nvPr/>
        </p:nvSpPr>
        <p:spPr>
          <a:xfrm flipV="1">
            <a:off x="4357800" y="5000760"/>
            <a:ext cx="2143080" cy="135720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26"/>
          <p:cNvSpPr/>
          <p:nvPr/>
        </p:nvSpPr>
        <p:spPr>
          <a:xfrm flipH="1" flipV="1">
            <a:off x="2214360" y="5072040"/>
            <a:ext cx="2143080" cy="128592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弧形 30"/>
          <p:cNvSpPr/>
          <p:nvPr/>
        </p:nvSpPr>
        <p:spPr>
          <a:xfrm>
            <a:off x="4000680" y="6072120"/>
            <a:ext cx="714240" cy="285840"/>
          </a:xfrm>
          <a:custGeom>
            <a:avLst/>
            <a:gdLst>
              <a:gd name="textAreaLeft" fmla="*/ 39960 w 714240"/>
              <a:gd name="textAreaRight" fmla="*/ 677520 w 714240"/>
              <a:gd name="textAreaTop" fmla="*/ 0 h 285840"/>
              <a:gd name="textAreaBottom" fmla="*/ 79560 h 285840"/>
            </a:gdLst>
            <a:ahLst/>
            <a:rect l="textAreaLeft" t="textAreaTop" r="textAreaRight" b="textAreaBottom"/>
            <a:pathLst>
              <a:path stroke="0" w="714375" h="285750">
                <a:moveTo>
                  <a:pt x="40210" y="77016"/>
                </a:moveTo>
                <a:lnTo>
                  <a:pt x="40210" y="77016"/>
                </a:lnTo>
                <a:arcTo wR="357188" hR="142875" stAng="-10095752" swAng="9427151"/>
                <a:lnTo>
                  <a:pt x="357188" y="142875"/>
                </a:lnTo>
                <a:close/>
              </a:path>
              <a:path fill="none" w="714375" h="285750">
                <a:moveTo>
                  <a:pt x="40210" y="77016"/>
                </a:moveTo>
                <a:lnTo>
                  <a:pt x="40210" y="77016"/>
                </a:lnTo>
                <a:arcTo wR="357188" hR="142875" stAng="-10095752" swAng="9427151"/>
              </a:path>
            </a:pathLst>
          </a:custGeom>
          <a:noFill/>
          <a:ln w="381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弧形 31"/>
          <p:cNvSpPr/>
          <p:nvPr/>
        </p:nvSpPr>
        <p:spPr>
          <a:xfrm rot="1071000">
            <a:off x="4706640" y="6054840"/>
            <a:ext cx="423720" cy="476280"/>
          </a:xfrm>
          <a:custGeom>
            <a:avLst/>
            <a:gdLst>
              <a:gd name="textAreaLeft" fmla="*/ 102960 w 423720"/>
              <a:gd name="textAreaRight" fmla="*/ 424080 w 423720"/>
              <a:gd name="textAreaTop" fmla="*/ 0 h 476280"/>
              <a:gd name="textAreaBottom" fmla="*/ 242280 h 476280"/>
            </a:gdLst>
            <a:ahLst/>
            <a:rect l="textAreaLeft" t="textAreaTop" r="textAreaRight" b="textAreaBottom"/>
            <a:pathLst>
              <a:path stroke="0" w="423862" h="476250">
                <a:moveTo>
                  <a:pt x="103050" y="33829"/>
                </a:moveTo>
                <a:lnTo>
                  <a:pt x="103050" y="33829"/>
                </a:lnTo>
                <a:arcTo wR="211931" hR="238125" stAng="-7083342" swAng="7150045"/>
                <a:lnTo>
                  <a:pt x="211931" y="238125"/>
                </a:lnTo>
                <a:close/>
              </a:path>
              <a:path fill="none" w="423862" h="476250">
                <a:moveTo>
                  <a:pt x="103050" y="33829"/>
                </a:moveTo>
                <a:lnTo>
                  <a:pt x="103050" y="33829"/>
                </a:lnTo>
                <a:arcTo wR="211931" hR="238125" stAng="-7083342" swAng="7150045"/>
              </a:path>
            </a:pathLst>
          </a:custGeom>
          <a:noFill/>
          <a:ln w="381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弧形 32"/>
          <p:cNvSpPr/>
          <p:nvPr/>
        </p:nvSpPr>
        <p:spPr>
          <a:xfrm rot="15416400">
            <a:off x="3579480" y="5950800"/>
            <a:ext cx="425160" cy="476280"/>
          </a:xfrm>
          <a:custGeom>
            <a:avLst/>
            <a:gdLst>
              <a:gd name="textAreaLeft" fmla="*/ 103680 w 425160"/>
              <a:gd name="textAreaRight" fmla="*/ 425520 w 425160"/>
              <a:gd name="textAreaTop" fmla="*/ 0 h 476280"/>
              <a:gd name="textAreaBottom" fmla="*/ 242280 h 476280"/>
            </a:gdLst>
            <a:ahLst/>
            <a:rect l="textAreaLeft" t="textAreaTop" r="textAreaRight" b="textAreaBottom"/>
            <a:pathLst>
              <a:path stroke="0" w="425450" h="476250">
                <a:moveTo>
                  <a:pt x="103737" y="33628"/>
                </a:moveTo>
                <a:lnTo>
                  <a:pt x="103737" y="33628"/>
                </a:lnTo>
                <a:arcTo wR="212725" hR="238125" stAng="-7083340" swAng="7150053"/>
                <a:lnTo>
                  <a:pt x="212725" y="238125"/>
                </a:lnTo>
                <a:close/>
              </a:path>
              <a:path fill="none" w="425450" h="476250">
                <a:moveTo>
                  <a:pt x="103737" y="33628"/>
                </a:moveTo>
                <a:lnTo>
                  <a:pt x="103737" y="33628"/>
                </a:lnTo>
                <a:arcTo wR="212725" hR="238125" stAng="-7083340" swAng="7150053"/>
              </a:path>
            </a:pathLst>
          </a:custGeom>
          <a:noFill/>
          <a:ln w="381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3"/>
          <p:cNvSpPr/>
          <p:nvPr/>
        </p:nvSpPr>
        <p:spPr>
          <a:xfrm>
            <a:off x="3000240" y="57862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4"/>
          <p:cNvSpPr/>
          <p:nvPr/>
        </p:nvSpPr>
        <p:spPr>
          <a:xfrm>
            <a:off x="4143240" y="55008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5"/>
          <p:cNvSpPr/>
          <p:nvPr/>
        </p:nvSpPr>
        <p:spPr>
          <a:xfrm>
            <a:off x="5357880" y="57736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36"/>
          <p:cNvSpPr/>
          <p:nvPr/>
        </p:nvSpPr>
        <p:spPr>
          <a:xfrm>
            <a:off x="6000840" y="155880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5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7"/>
          <p:cNvSpPr/>
          <p:nvPr/>
        </p:nvSpPr>
        <p:spPr>
          <a:xfrm>
            <a:off x="2928960" y="44164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3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4"/>
          <p:cNvSpPr/>
          <p:nvPr/>
        </p:nvSpPr>
        <p:spPr>
          <a:xfrm>
            <a:off x="642960" y="134460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判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357120" y="235728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平角是一条直线。（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357120" y="320184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角的边越长，角越大。（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6"/>
          <p:cNvSpPr/>
          <p:nvPr/>
        </p:nvSpPr>
        <p:spPr>
          <a:xfrm>
            <a:off x="357120" y="4143240"/>
            <a:ext cx="921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两条射线，组成的图形一定是角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357120" y="5351400"/>
            <a:ext cx="921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量角的大小，要用量角器。 （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5357880" y="234468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6143760" y="320184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0"/>
          <p:cNvSpPr/>
          <p:nvPr/>
        </p:nvSpPr>
        <p:spPr>
          <a:xfrm>
            <a:off x="7715160" y="463068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1"/>
          <p:cNvSpPr/>
          <p:nvPr/>
        </p:nvSpPr>
        <p:spPr>
          <a:xfrm>
            <a:off x="7072200" y="534528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4"/>
          <p:cNvSpPr/>
          <p:nvPr/>
        </p:nvSpPr>
        <p:spPr>
          <a:xfrm>
            <a:off x="642960" y="92880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找一找，把序号填在相应的圈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4" descr="QQ截图20140925165737.png"/>
          <p:cNvPicPr/>
          <p:nvPr/>
        </p:nvPicPr>
        <p:blipFill>
          <a:blip r:embed="rId1"/>
          <a:stretch/>
        </p:blipFill>
        <p:spPr>
          <a:xfrm>
            <a:off x="1714680" y="1662120"/>
            <a:ext cx="5838480" cy="4410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2000160" y="478620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3786120" y="478620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钝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5500800" y="478620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周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2571840" y="604836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锐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4786200" y="60721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平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1428840" y="171468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3500280" y="171468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5143680" y="171468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3"/>
          <p:cNvSpPr/>
          <p:nvPr/>
        </p:nvSpPr>
        <p:spPr>
          <a:xfrm>
            <a:off x="6429240" y="171468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4"/>
          <p:cNvSpPr/>
          <p:nvPr/>
        </p:nvSpPr>
        <p:spPr>
          <a:xfrm>
            <a:off x="1428840" y="278604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5"/>
          <p:cNvSpPr/>
          <p:nvPr/>
        </p:nvSpPr>
        <p:spPr>
          <a:xfrm>
            <a:off x="3357720" y="278604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6"/>
          <p:cNvSpPr/>
          <p:nvPr/>
        </p:nvSpPr>
        <p:spPr>
          <a:xfrm>
            <a:off x="5143680" y="278604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7"/>
          <p:cNvSpPr/>
          <p:nvPr/>
        </p:nvSpPr>
        <p:spPr>
          <a:xfrm>
            <a:off x="6429240" y="278604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8"/>
          <p:cNvSpPr/>
          <p:nvPr/>
        </p:nvSpPr>
        <p:spPr>
          <a:xfrm>
            <a:off x="1928880" y="4071960"/>
            <a:ext cx="7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9"/>
          <p:cNvSpPr/>
          <p:nvPr/>
        </p:nvSpPr>
        <p:spPr>
          <a:xfrm>
            <a:off x="2428920" y="4071960"/>
            <a:ext cx="7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0"/>
          <p:cNvSpPr/>
          <p:nvPr/>
        </p:nvSpPr>
        <p:spPr>
          <a:xfrm>
            <a:off x="3724200" y="4071960"/>
            <a:ext cx="7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1"/>
          <p:cNvSpPr/>
          <p:nvPr/>
        </p:nvSpPr>
        <p:spPr>
          <a:xfrm>
            <a:off x="4224240" y="4071960"/>
            <a:ext cx="7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2"/>
          <p:cNvSpPr/>
          <p:nvPr/>
        </p:nvSpPr>
        <p:spPr>
          <a:xfrm>
            <a:off x="5724360" y="4071960"/>
            <a:ext cx="7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3"/>
          <p:cNvSpPr/>
          <p:nvPr/>
        </p:nvSpPr>
        <p:spPr>
          <a:xfrm>
            <a:off x="2438280" y="5345280"/>
            <a:ext cx="7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4"/>
          <p:cNvSpPr/>
          <p:nvPr/>
        </p:nvSpPr>
        <p:spPr>
          <a:xfrm>
            <a:off x="2938320" y="5345280"/>
            <a:ext cx="7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5"/>
          <p:cNvSpPr/>
          <p:nvPr/>
        </p:nvSpPr>
        <p:spPr>
          <a:xfrm>
            <a:off x="4929120" y="5357880"/>
            <a:ext cx="7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4"/>
          <p:cNvSpPr/>
          <p:nvPr/>
        </p:nvSpPr>
        <p:spPr>
          <a:xfrm>
            <a:off x="642960" y="113040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说得对的同学的□里打“√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4" descr="QQ截图20140925165737.png"/>
          <p:cNvPicPr/>
          <p:nvPr/>
        </p:nvPicPr>
        <p:blipFill>
          <a:blip r:embed="rId1"/>
          <a:stretch/>
        </p:blipFill>
        <p:spPr>
          <a:xfrm>
            <a:off x="1428840" y="2071800"/>
            <a:ext cx="6400800" cy="3981240"/>
          </a:xfrm>
          <a:prstGeom prst="rect">
            <a:avLst/>
          </a:prstGeom>
          <a:ln w="0">
            <a:noFill/>
          </a:ln>
        </p:spPr>
      </p:pic>
      <p:sp>
        <p:nvSpPr>
          <p:cNvPr id="77" name="TextBox 5"/>
          <p:cNvSpPr/>
          <p:nvPr/>
        </p:nvSpPr>
        <p:spPr>
          <a:xfrm>
            <a:off x="5715000" y="5059440"/>
            <a:ext cx="7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4"/>
          <p:cNvSpPr/>
          <p:nvPr/>
        </p:nvSpPr>
        <p:spPr>
          <a:xfrm>
            <a:off x="642960" y="127332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看一看，填一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4" descr="QQ截图20140925174224.png"/>
          <p:cNvPicPr/>
          <p:nvPr/>
        </p:nvPicPr>
        <p:blipFill>
          <a:blip r:embed="rId1"/>
          <a:stretch/>
        </p:blipFill>
        <p:spPr>
          <a:xfrm>
            <a:off x="800280" y="2448000"/>
            <a:ext cx="7543800" cy="1962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1000080" y="500076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（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5000760" y="500076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（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2714760" y="5000760"/>
            <a:ext cx="107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6572160" y="5000760"/>
            <a:ext cx="12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4"/>
          <p:cNvSpPr/>
          <p:nvPr/>
        </p:nvSpPr>
        <p:spPr>
          <a:xfrm>
            <a:off x="642960" y="100008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下面钟面上的时针和分针组成的角各是多少度？填一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4" descr="QQ截图20140925174224.png"/>
          <p:cNvPicPr/>
          <p:nvPr/>
        </p:nvPicPr>
        <p:blipFill>
          <a:blip r:embed="rId1"/>
          <a:stretch/>
        </p:blipFill>
        <p:spPr>
          <a:xfrm>
            <a:off x="2071800" y="2155680"/>
            <a:ext cx="5019480" cy="378648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1857240" y="3798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5286240" y="3786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1857240" y="5883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5286240" y="5870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2571840" y="378612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9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5857920" y="3786120"/>
            <a:ext cx="12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2643120" y="591660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5857920" y="5916600"/>
            <a:ext cx="12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4"/>
          <p:cNvSpPr/>
          <p:nvPr/>
        </p:nvSpPr>
        <p:spPr>
          <a:xfrm>
            <a:off x="642960" y="113040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用一副三角尺拼出下面度数的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1357200" y="225900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75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2500200" y="227340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5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4000680" y="2273400"/>
            <a:ext cx="14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5429160" y="227340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35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2500200" y="313992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5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4000680" y="3139920"/>
            <a:ext cx="14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8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4"/>
          <p:cNvSpPr/>
          <p:nvPr/>
        </p:nvSpPr>
        <p:spPr>
          <a:xfrm>
            <a:off x="642960" y="113040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想一想，填一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357120" y="185724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平角＝（         ）个直角＝（         ）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357120" y="270180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直角＝（         ）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357120" y="355932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周角＝（         ）个平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357120" y="441648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直角的（         ）倍是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60°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3938760" y="1857240"/>
            <a:ext cx="4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7081920" y="1844640"/>
            <a:ext cx="84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3857760" y="270180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3929040" y="3500280"/>
            <a:ext cx="4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1"/>
          <p:cNvSpPr/>
          <p:nvPr/>
        </p:nvSpPr>
        <p:spPr>
          <a:xfrm>
            <a:off x="3367080" y="4416480"/>
            <a:ext cx="4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4"/>
          <p:cNvSpPr/>
          <p:nvPr/>
        </p:nvSpPr>
        <p:spPr>
          <a:xfrm>
            <a:off x="642960" y="100008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看图数出每种角的度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片 2" descr="QQ截图20140926091343.png"/>
          <p:cNvPicPr/>
          <p:nvPr/>
        </p:nvPicPr>
        <p:blipFill>
          <a:blip r:embed="rId1"/>
          <a:stretch/>
        </p:blipFill>
        <p:spPr>
          <a:xfrm>
            <a:off x="2643120" y="2071800"/>
            <a:ext cx="2629080" cy="18288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4"/>
          <p:cNvSpPr/>
          <p:nvPr/>
        </p:nvSpPr>
        <p:spPr>
          <a:xfrm>
            <a:off x="2286000" y="4143240"/>
            <a:ext cx="435780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直角有（       ）个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锐角有（       ）个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钝角有（       ）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4143240" y="4214880"/>
            <a:ext cx="4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143240" y="4844880"/>
            <a:ext cx="4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4143240" y="5559480"/>
            <a:ext cx="4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4"/>
          <p:cNvSpPr/>
          <p:nvPr/>
        </p:nvSpPr>
        <p:spPr>
          <a:xfrm>
            <a:off x="642960" y="100008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8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连一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1857240" y="205884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锐     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1857240" y="320184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平     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1857240" y="427356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直     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1857240" y="541656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周     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5214960" y="205884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等于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9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5214960" y="320184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等于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6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5214960" y="427356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小于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9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5214960" y="541656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等于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11"/>
          <p:cNvSpPr/>
          <p:nvPr/>
        </p:nvSpPr>
        <p:spPr>
          <a:xfrm>
            <a:off x="3214080" y="2428920"/>
            <a:ext cx="2143080" cy="2143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13"/>
          <p:cNvSpPr/>
          <p:nvPr/>
        </p:nvSpPr>
        <p:spPr>
          <a:xfrm>
            <a:off x="3214080" y="3500280"/>
            <a:ext cx="2143080" cy="2143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14"/>
          <p:cNvSpPr/>
          <p:nvPr/>
        </p:nvSpPr>
        <p:spPr>
          <a:xfrm flipV="1">
            <a:off x="3285360" y="2428560"/>
            <a:ext cx="2071800" cy="2143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16"/>
          <p:cNvSpPr/>
          <p:nvPr/>
        </p:nvSpPr>
        <p:spPr>
          <a:xfrm flipV="1">
            <a:off x="3285360" y="3571560"/>
            <a:ext cx="2071800" cy="2143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6T01:44:36Z</dcterms:created>
  <dc:creator/>
  <dc:description/>
  <cp:keywords/>
  <dc:language>en-US</dc:language>
  <cp:lastModifiedBy/>
  <dcterms:modified xsi:type="dcterms:W3CDTF">2016-12-02T16:03:58Z</dcterms:modified>
  <cp:revision>5</cp:revision>
  <dc:subject/>
  <dc:title/>
</cp:coreProperties>
</file>