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4C8-5F17-43F2-89F3-DB47377FAAA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797-C044-40AA-94F8-4ED11F834191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1B89-822E-494B-8BF1-0C22C153688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B82A-46CB-46E5-A08B-1EC31D41303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B28A-DE31-4BBF-AC3F-40E06E81FB2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2388-779D-4522-86A9-18EBB895A60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995E-2ADC-4A76-A017-1E04AE848F4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C58E-0E42-4DA2-B5EE-4C48ABB1B574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73DE-7689-40BF-824D-DB4FF61F6F29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2EEC-FC1B-4C91-985F-BCCAE8B69F2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7074-98E0-4E49-ADD7-A4EF46C8D78F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A79-9926-4030-8CB4-87106CE10C3A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31ED-58CC-4FE8-AD1F-E4A7BEFE9736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C4A5-0717-45B2-8881-8BBCA160BB75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7812-6019-4C0E-9D7D-3FB6FFE517A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DE1-92BE-49F1-B78B-8CA94304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B1E-7400-483C-AC5F-42F4F240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A2A-2C22-4177-9DF9-3267F449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63E-F0E0-42E2-93F9-BC3D6E08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81B-7410-4B3A-B49E-ECFB1CA6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E12-ACA2-4E41-A988-F448B9C6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BED-AF46-475E-92F0-F83511F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334-FFA5-46B8-A34E-C7DE59C5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FCE-A4E4-453D-8407-DF29552D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986-1BAD-438B-A216-94513E7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F20B-C2DE-418F-8F5A-1DC4C68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F6A-7C9C-45EF-AF85-E159CA1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2C83-B8C0-447E-B33E-61D236F4E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1143000" y="2549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角的分类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857160" y="1201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冀教版小学数学四年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抠图、做一做"/>
          <p:cNvPicPr/>
          <p:nvPr/>
        </p:nvPicPr>
        <p:blipFill>
          <a:blip r:embed="rId1"/>
          <a:stretch/>
        </p:blipFill>
        <p:spPr>
          <a:xfrm>
            <a:off x="324000" y="765000"/>
            <a:ext cx="2735280" cy="1570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062000" y="155088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做一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42960" y="2286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一个活动角，边操作边观察，说说各是什么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1015920" y="3470040"/>
            <a:ext cx="1512720" cy="901800"/>
            <a:chOff x="1015920" y="3470040"/>
            <a:chExt cx="1512720" cy="901800"/>
          </a:xfrm>
        </p:grpSpPr>
        <p:sp>
          <p:nvSpPr>
            <p:cNvPr id="152" name="Line 10"/>
            <p:cNvSpPr/>
            <p:nvPr/>
          </p:nvSpPr>
          <p:spPr>
            <a:xfrm flipV="1">
              <a:off x="1087200" y="3470040"/>
              <a:ext cx="122400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图片 47" descr="图片3.png"/>
            <p:cNvPicPr/>
            <p:nvPr/>
          </p:nvPicPr>
          <p:blipFill>
            <a:blip r:embed="rId2"/>
            <a:stretch/>
          </p:blipFill>
          <p:spPr>
            <a:xfrm>
              <a:off x="1015920" y="426240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AutoShape 13"/>
          <p:cNvSpPr/>
          <p:nvPr/>
        </p:nvSpPr>
        <p:spPr>
          <a:xfrm>
            <a:off x="2600280" y="390204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9"/>
          <p:cNvGrpSpPr/>
          <p:nvPr/>
        </p:nvGrpSpPr>
        <p:grpSpPr>
          <a:xfrm>
            <a:off x="3463920" y="3143160"/>
            <a:ext cx="1512720" cy="1261800"/>
            <a:chOff x="3463920" y="3143160"/>
            <a:chExt cx="1512720" cy="1261800"/>
          </a:xfrm>
        </p:grpSpPr>
        <p:sp>
          <p:nvSpPr>
            <p:cNvPr id="156" name="Line 17"/>
            <p:cNvSpPr/>
            <p:nvPr/>
          </p:nvSpPr>
          <p:spPr>
            <a:xfrm flipV="1">
              <a:off x="3535200" y="3143160"/>
              <a:ext cx="0" cy="122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图片 47" descr="图片3.png"/>
            <p:cNvPicPr/>
            <p:nvPr/>
          </p:nvPicPr>
          <p:blipFill>
            <a:blip r:embed="rId3"/>
            <a:stretch/>
          </p:blipFill>
          <p:spPr>
            <a:xfrm>
              <a:off x="3463920" y="429552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AutoShape 20"/>
          <p:cNvSpPr/>
          <p:nvPr/>
        </p:nvSpPr>
        <p:spPr>
          <a:xfrm>
            <a:off x="5119560" y="390204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767560" y="3358800"/>
            <a:ext cx="2233440" cy="1046520"/>
            <a:chOff x="5767560" y="3358800"/>
            <a:chExt cx="2233440" cy="1046520"/>
          </a:xfrm>
        </p:grpSpPr>
        <p:sp>
          <p:nvSpPr>
            <p:cNvPr id="160" name="Line 24"/>
            <p:cNvSpPr/>
            <p:nvPr/>
          </p:nvSpPr>
          <p:spPr>
            <a:xfrm flipH="1" flipV="1">
              <a:off x="5767560" y="3358800"/>
              <a:ext cx="792000" cy="100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图片 47" descr="图片3.png"/>
            <p:cNvPicPr/>
            <p:nvPr/>
          </p:nvPicPr>
          <p:blipFill>
            <a:blip r:embed="rId4"/>
            <a:stretch/>
          </p:blipFill>
          <p:spPr>
            <a:xfrm>
              <a:off x="6488280" y="429588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AutoShape 27"/>
          <p:cNvSpPr/>
          <p:nvPr/>
        </p:nvSpPr>
        <p:spPr>
          <a:xfrm>
            <a:off x="1015920" y="51991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8"/>
          <p:cNvGrpSpPr/>
          <p:nvPr/>
        </p:nvGrpSpPr>
        <p:grpSpPr>
          <a:xfrm>
            <a:off x="2023920" y="5303880"/>
            <a:ext cx="2881440" cy="109440"/>
            <a:chOff x="2023920" y="5303880"/>
            <a:chExt cx="2881440" cy="109440"/>
          </a:xfrm>
        </p:grpSpPr>
        <p:sp>
          <p:nvSpPr>
            <p:cNvPr id="164" name="Line 36"/>
            <p:cNvSpPr/>
            <p:nvPr/>
          </p:nvSpPr>
          <p:spPr>
            <a:xfrm>
              <a:off x="2023920" y="5375160"/>
              <a:ext cx="1440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图片 47" descr="图片3.png"/>
            <p:cNvPicPr/>
            <p:nvPr/>
          </p:nvPicPr>
          <p:blipFill>
            <a:blip r:embed="rId5"/>
            <a:stretch/>
          </p:blipFill>
          <p:spPr>
            <a:xfrm>
              <a:off x="3392640" y="5303880"/>
              <a:ext cx="151272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下弧形箭头 21"/>
          <p:cNvSpPr/>
          <p:nvPr/>
        </p:nvSpPr>
        <p:spPr>
          <a:xfrm rot="14352600">
            <a:off x="1698120" y="3931560"/>
            <a:ext cx="398520" cy="252360"/>
          </a:xfrm>
          <a:custGeom>
            <a:avLst/>
            <a:gdLst>
              <a:gd name="textAreaLeft" fmla="*/ 78120 w 398520"/>
              <a:gd name="textAreaRight" fmla="*/ 298440 w 398520"/>
              <a:gd name="textAreaTop" fmla="*/ 33840 h 252360"/>
              <a:gd name="textAreaBottom" fmla="*/ 2185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499" hR="21600" stAng="10800000" swAng="-5400000"/>
                <a:lnTo>
                  <a:pt x="11923" y="21600"/>
                </a:lnTo>
                <a:arcTo wR="8499" hR="21600" stAng="5400000" swAng="-3403612"/>
                <a:lnTo>
                  <a:pt x="21330" y="5400"/>
                </a:lnTo>
                <a:lnTo>
                  <a:pt x="18710" y="0"/>
                </a:lnTo>
                <a:lnTo>
                  <a:pt x="15550" y="5400"/>
                </a:lnTo>
                <a:lnTo>
                  <a:pt x="16728" y="5400"/>
                </a:lnTo>
                <a:arcTo wR="8499" hR="21600" stAng="1996388" swAng="3126042"/>
                <a:lnTo>
                  <a:pt x="10211" y="21157"/>
                </a:lnTo>
                <a:arcTo wR="8499" hR="21600" stAng="5677571" swAng="5122429"/>
                <a:close/>
              </a:path>
              <a:path fill="darkenLess" w="21600" h="21600">
                <a:moveTo>
                  <a:pt x="0" y="0"/>
                </a:moveTo>
                <a:arcTo wR="8499" hR="21600" stAng="10800000" swAng="-5400000"/>
                <a:lnTo>
                  <a:pt x="11923" y="21600"/>
                </a:lnTo>
                <a:arcTo wR="8499" hR="21600" stAng="5400000" swAng="277571"/>
                <a:lnTo>
                  <a:pt x="10211" y="21157"/>
                </a:lnTo>
                <a:arcTo wR="8499" hR="21600" stAng="5677571" swAng="5122429"/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下弧形箭头 22"/>
          <p:cNvSpPr/>
          <p:nvPr/>
        </p:nvSpPr>
        <p:spPr>
          <a:xfrm rot="13692000">
            <a:off x="3555720" y="3886200"/>
            <a:ext cx="486000" cy="301320"/>
          </a:xfrm>
          <a:custGeom>
            <a:avLst/>
            <a:gdLst>
              <a:gd name="textAreaLeft" fmla="*/ 96120 w 486000"/>
              <a:gd name="textAreaRight" fmla="*/ 363960 w 486000"/>
              <a:gd name="textAreaTop" fmla="*/ 40320 h 301320"/>
              <a:gd name="textAreaBottom" fmla="*/ 26100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48" hR="21600" stAng="10800000" swAng="-5400000"/>
                <a:lnTo>
                  <a:pt x="11899" y="21600"/>
                </a:lnTo>
                <a:arcTo wR="8548" hR="21600" stAng="5400000" swAng="-3412575"/>
                <a:lnTo>
                  <a:pt x="21329" y="5400"/>
                </a:lnTo>
                <a:lnTo>
                  <a:pt x="18771" y="0"/>
                </a:lnTo>
                <a:lnTo>
                  <a:pt x="15670" y="5400"/>
                </a:lnTo>
                <a:lnTo>
                  <a:pt x="16824" y="5400"/>
                </a:lnTo>
                <a:arcTo wR="8548" hR="21600" stAng="1987425" swAng="3141200"/>
                <a:lnTo>
                  <a:pt x="10223" y="21181"/>
                </a:lnTo>
                <a:arcTo wR="8548" hR="21600" stAng="5671375" swAng="5128625"/>
                <a:close/>
              </a:path>
              <a:path fill="darkenLess" w="21600" h="21600">
                <a:moveTo>
                  <a:pt x="0" y="0"/>
                </a:moveTo>
                <a:arcTo wR="8548" hR="21600" stAng="10800000" swAng="-5400000"/>
                <a:lnTo>
                  <a:pt x="11899" y="21600"/>
                </a:lnTo>
                <a:arcTo wR="8548" hR="21600" stAng="5400000" swAng="271375"/>
                <a:lnTo>
                  <a:pt x="10223" y="21181"/>
                </a:lnTo>
                <a:arcTo wR="8548" hR="21600" stAng="5671375" swAng="5128625"/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下弧形箭头 23"/>
          <p:cNvSpPr/>
          <p:nvPr/>
        </p:nvSpPr>
        <p:spPr>
          <a:xfrm rot="12415800">
            <a:off x="6362280" y="3884400"/>
            <a:ext cx="663480" cy="301320"/>
          </a:xfrm>
          <a:custGeom>
            <a:avLst/>
            <a:gdLst>
              <a:gd name="textAreaLeft" fmla="*/ 140400 w 663480"/>
              <a:gd name="textAreaRight" fmla="*/ 497160 w 663480"/>
              <a:gd name="textAreaTop" fmla="*/ 40320 h 301320"/>
              <a:gd name="textAreaBottom" fmla="*/ 261000 h 30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9" hR="21600" stAng="10800000" swAng="-5400000"/>
                <a:lnTo>
                  <a:pt x="11606" y="21600"/>
                </a:lnTo>
                <a:arcTo wR="9149" hR="21600" stAng="5400000" swAng="-3518048"/>
                <a:lnTo>
                  <a:pt x="21309" y="5400"/>
                </a:lnTo>
                <a:lnTo>
                  <a:pt x="19527" y="0"/>
                </a:lnTo>
                <a:lnTo>
                  <a:pt x="17162" y="5400"/>
                </a:lnTo>
                <a:lnTo>
                  <a:pt x="18007" y="5400"/>
                </a:lnTo>
                <a:arcTo wR="9149" hR="21600" stAng="1881952" swAng="3320955"/>
                <a:lnTo>
                  <a:pt x="10378" y="21404"/>
                </a:lnTo>
                <a:arcTo wR="9149" hR="21600" stAng="5597092" swAng="5202908"/>
                <a:close/>
              </a:path>
              <a:path fill="darkenLess" w="21600" h="21600">
                <a:moveTo>
                  <a:pt x="0" y="0"/>
                </a:moveTo>
                <a:arcTo wR="9149" hR="21600" stAng="10800000" swAng="-5400000"/>
                <a:lnTo>
                  <a:pt x="11606" y="21600"/>
                </a:lnTo>
                <a:arcTo wR="9149" hR="21600" stAng="5400000" swAng="197092"/>
                <a:lnTo>
                  <a:pt x="10378" y="21404"/>
                </a:lnTo>
                <a:arcTo wR="9149" hR="21600" stAng="5597092" swAng="5202908"/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下弧形箭头 24"/>
          <p:cNvSpPr/>
          <p:nvPr/>
        </p:nvSpPr>
        <p:spPr>
          <a:xfrm rot="10800000">
            <a:off x="3115800" y="5037120"/>
            <a:ext cx="662040" cy="301680"/>
          </a:xfrm>
          <a:custGeom>
            <a:avLst/>
            <a:gdLst>
              <a:gd name="textAreaLeft" fmla="*/ 140040 w 662040"/>
              <a:gd name="textAreaRight" fmla="*/ 496080 w 662040"/>
              <a:gd name="textAreaTop" fmla="*/ 40320 h 301680"/>
              <a:gd name="textAreaBottom" fmla="*/ 26136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9" hR="21600" stAng="10800000" swAng="-5400000"/>
                <a:lnTo>
                  <a:pt x="11606" y="21600"/>
                </a:lnTo>
                <a:arcTo wR="9149" hR="21600" stAng="5400000" swAng="-3518048"/>
                <a:lnTo>
                  <a:pt x="21309" y="5400"/>
                </a:lnTo>
                <a:lnTo>
                  <a:pt x="19527" y="0"/>
                </a:lnTo>
                <a:lnTo>
                  <a:pt x="17162" y="5400"/>
                </a:lnTo>
                <a:lnTo>
                  <a:pt x="18007" y="5400"/>
                </a:lnTo>
                <a:arcTo wR="9149" hR="21600" stAng="1881952" swAng="3320955"/>
                <a:lnTo>
                  <a:pt x="10378" y="21404"/>
                </a:lnTo>
                <a:arcTo wR="9149" hR="21600" stAng="5597092" swAng="5202908"/>
                <a:close/>
              </a:path>
              <a:path fill="darkenLess" w="21600" h="21600">
                <a:moveTo>
                  <a:pt x="0" y="0"/>
                </a:moveTo>
                <a:arcTo wR="9149" hR="21600" stAng="10800000" swAng="-5400000"/>
                <a:lnTo>
                  <a:pt x="11606" y="21600"/>
                </a:lnTo>
                <a:arcTo wR="9149" hR="21600" stAng="5400000" swAng="197092"/>
                <a:lnTo>
                  <a:pt x="10378" y="21404"/>
                </a:lnTo>
                <a:arcTo wR="9149" hR="21600" stAng="5597092" swAng="5202908"/>
                <a:close/>
              </a:path>
            </a:pathLst>
          </a:cu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7"/>
          <p:cNvGrpSpPr/>
          <p:nvPr/>
        </p:nvGrpSpPr>
        <p:grpSpPr>
          <a:xfrm>
            <a:off x="1000080" y="5643720"/>
            <a:ext cx="7000920" cy="928800"/>
            <a:chOff x="1000080" y="5643720"/>
            <a:chExt cx="7000920" cy="928800"/>
          </a:xfrm>
        </p:grpSpPr>
        <p:sp>
          <p:nvSpPr>
            <p:cNvPr id="171" name="圆角矩形 26"/>
            <p:cNvSpPr/>
            <p:nvPr/>
          </p:nvSpPr>
          <p:spPr>
            <a:xfrm>
              <a:off x="1000080" y="5643720"/>
              <a:ext cx="7000920" cy="9288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5"/>
            <p:cNvSpPr/>
            <p:nvPr/>
          </p:nvSpPr>
          <p:spPr>
            <a:xfrm>
              <a:off x="1071360" y="5643720"/>
              <a:ext cx="68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小于</a:t>
              </a:r>
              <a:r>
                <a:rPr b="1" lang="en-US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90°</a:t>
              </a:r>
              <a:r>
                <a:rPr b="1" lang="zh-CN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的角叫做锐角，大于</a:t>
              </a:r>
              <a:r>
                <a:rPr b="1" lang="en-US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90°</a:t>
              </a:r>
              <a:r>
                <a:rPr b="1" lang="zh-CN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而小于</a:t>
              </a:r>
              <a:r>
                <a:rPr b="1" lang="en-US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180°</a:t>
              </a:r>
              <a:r>
                <a:rPr b="1" lang="zh-CN" sz="28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的角叫做钝角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571680" y="121140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角的分类及其特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1714680" y="23335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锐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6"/>
          <p:cNvSpPr/>
          <p:nvPr/>
        </p:nvSpPr>
        <p:spPr>
          <a:xfrm>
            <a:off x="642960" y="2286000"/>
            <a:ext cx="7858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7"/>
          <p:cNvSpPr/>
          <p:nvPr/>
        </p:nvSpPr>
        <p:spPr>
          <a:xfrm>
            <a:off x="642960" y="2855880"/>
            <a:ext cx="785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8"/>
          <p:cNvSpPr/>
          <p:nvPr/>
        </p:nvSpPr>
        <p:spPr>
          <a:xfrm>
            <a:off x="642960" y="4213080"/>
            <a:ext cx="7858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9"/>
          <p:cNvSpPr/>
          <p:nvPr/>
        </p:nvSpPr>
        <p:spPr>
          <a:xfrm>
            <a:off x="642960" y="4856040"/>
            <a:ext cx="7858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11"/>
          <p:cNvSpPr/>
          <p:nvPr/>
        </p:nvSpPr>
        <p:spPr>
          <a:xfrm flipH="1">
            <a:off x="641520" y="2286000"/>
            <a:ext cx="1440" cy="257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12"/>
          <p:cNvSpPr/>
          <p:nvPr/>
        </p:nvSpPr>
        <p:spPr>
          <a:xfrm flipH="1">
            <a:off x="8499600" y="2286000"/>
            <a:ext cx="1440" cy="257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13"/>
          <p:cNvSpPr/>
          <p:nvPr/>
        </p:nvSpPr>
        <p:spPr>
          <a:xfrm flipH="1">
            <a:off x="1428840" y="2286000"/>
            <a:ext cx="1440" cy="257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14"/>
          <p:cNvSpPr/>
          <p:nvPr/>
        </p:nvSpPr>
        <p:spPr>
          <a:xfrm flipH="1">
            <a:off x="2857680" y="2286000"/>
            <a:ext cx="1440" cy="257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5"/>
          <p:cNvSpPr/>
          <p:nvPr/>
        </p:nvSpPr>
        <p:spPr>
          <a:xfrm flipH="1">
            <a:off x="4284720" y="2286000"/>
            <a:ext cx="1440" cy="257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6"/>
          <p:cNvSpPr/>
          <p:nvPr/>
        </p:nvSpPr>
        <p:spPr>
          <a:xfrm flipH="1">
            <a:off x="5641560" y="228600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7"/>
          <p:cNvSpPr/>
          <p:nvPr/>
        </p:nvSpPr>
        <p:spPr>
          <a:xfrm flipH="1">
            <a:off x="7071840" y="2286000"/>
            <a:ext cx="1800" cy="257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571680" y="23335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71680" y="333360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571680" y="42861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3071880" y="23335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4500720" y="23335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钝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5857920" y="23335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7286760" y="233352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1643040" y="3285720"/>
            <a:ext cx="1055880" cy="601560"/>
            <a:chOff x="1643040" y="3285720"/>
            <a:chExt cx="1055880" cy="601560"/>
          </a:xfrm>
        </p:grpSpPr>
        <p:sp>
          <p:nvSpPr>
            <p:cNvPr id="194" name="Line 10"/>
            <p:cNvSpPr/>
            <p:nvPr/>
          </p:nvSpPr>
          <p:spPr>
            <a:xfrm flipV="1">
              <a:off x="1692720" y="3285720"/>
              <a:ext cx="85428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图片 47" descr="图片3.png"/>
            <p:cNvPicPr/>
            <p:nvPr/>
          </p:nvPicPr>
          <p:blipFill>
            <a:blip r:embed="rId1"/>
            <a:stretch/>
          </p:blipFill>
          <p:spPr>
            <a:xfrm>
              <a:off x="1643040" y="3814560"/>
              <a:ext cx="1055880" cy="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9"/>
          <p:cNvGrpSpPr/>
          <p:nvPr/>
        </p:nvGrpSpPr>
        <p:grpSpPr>
          <a:xfrm>
            <a:off x="3214800" y="3071520"/>
            <a:ext cx="857160" cy="786240"/>
            <a:chOff x="3214800" y="3071520"/>
            <a:chExt cx="857160" cy="786240"/>
          </a:xfrm>
        </p:grpSpPr>
        <p:sp>
          <p:nvSpPr>
            <p:cNvPr id="197" name="Line 17"/>
            <p:cNvSpPr/>
            <p:nvPr/>
          </p:nvSpPr>
          <p:spPr>
            <a:xfrm flipV="1">
              <a:off x="3255120" y="307152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图片 47" descr="图片3.png"/>
            <p:cNvPicPr/>
            <p:nvPr/>
          </p:nvPicPr>
          <p:blipFill>
            <a:blip r:embed="rId2"/>
            <a:stretch/>
          </p:blipFill>
          <p:spPr>
            <a:xfrm>
              <a:off x="3214800" y="3789720"/>
              <a:ext cx="857160" cy="6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26"/>
          <p:cNvGrpSpPr/>
          <p:nvPr/>
        </p:nvGrpSpPr>
        <p:grpSpPr>
          <a:xfrm>
            <a:off x="4429080" y="3142800"/>
            <a:ext cx="1142640" cy="714600"/>
            <a:chOff x="4429080" y="3142800"/>
            <a:chExt cx="1142640" cy="714600"/>
          </a:xfrm>
        </p:grpSpPr>
        <p:sp>
          <p:nvSpPr>
            <p:cNvPr id="200" name="Line 24"/>
            <p:cNvSpPr/>
            <p:nvPr/>
          </p:nvSpPr>
          <p:spPr>
            <a:xfrm flipH="1" flipV="1">
              <a:off x="4429080" y="3142800"/>
              <a:ext cx="405360" cy="68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图片 47" descr="图片3.png"/>
            <p:cNvPicPr/>
            <p:nvPr/>
          </p:nvPicPr>
          <p:blipFill>
            <a:blip r:embed="rId3"/>
            <a:stretch/>
          </p:blipFill>
          <p:spPr>
            <a:xfrm>
              <a:off x="4797720" y="3782880"/>
              <a:ext cx="774000" cy="7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38"/>
          <p:cNvGrpSpPr/>
          <p:nvPr/>
        </p:nvGrpSpPr>
        <p:grpSpPr>
          <a:xfrm>
            <a:off x="5715000" y="3571920"/>
            <a:ext cx="1285920" cy="71280"/>
            <a:chOff x="5715000" y="3571920"/>
            <a:chExt cx="1285920" cy="71280"/>
          </a:xfrm>
        </p:grpSpPr>
        <p:sp>
          <p:nvSpPr>
            <p:cNvPr id="203" name="Line 36"/>
            <p:cNvSpPr/>
            <p:nvPr/>
          </p:nvSpPr>
          <p:spPr>
            <a:xfrm>
              <a:off x="5715000" y="3612240"/>
              <a:ext cx="642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图片 39" descr="图片3.png"/>
            <p:cNvPicPr/>
            <p:nvPr/>
          </p:nvPicPr>
          <p:blipFill>
            <a:blip r:embed="rId4"/>
            <a:stretch/>
          </p:blipFill>
          <p:spPr>
            <a:xfrm>
              <a:off x="6325920" y="3571920"/>
              <a:ext cx="675000" cy="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5" name="Picture 15" descr="56"/>
          <p:cNvPicPr/>
          <p:nvPr/>
        </p:nvPicPr>
        <p:blipFill>
          <a:blip r:embed="rId5"/>
          <a:stretch/>
        </p:blipFill>
        <p:spPr>
          <a:xfrm>
            <a:off x="7072200" y="3357720"/>
            <a:ext cx="1387440" cy="5000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2"/>
          <p:cNvSpPr/>
          <p:nvPr/>
        </p:nvSpPr>
        <p:spPr>
          <a:xfrm>
            <a:off x="1428840" y="42624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小于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9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3"/>
          <p:cNvSpPr/>
          <p:nvPr/>
        </p:nvSpPr>
        <p:spPr>
          <a:xfrm>
            <a:off x="2786040" y="42624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等于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9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4"/>
          <p:cNvSpPr/>
          <p:nvPr/>
        </p:nvSpPr>
        <p:spPr>
          <a:xfrm>
            <a:off x="5572080" y="4286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等于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8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5"/>
          <p:cNvSpPr/>
          <p:nvPr/>
        </p:nvSpPr>
        <p:spPr>
          <a:xfrm>
            <a:off x="7000920" y="4286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等于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360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4214880" y="422100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大于</a:t>
            </a:r>
            <a:r>
              <a:rPr b="1" lang="en-US" sz="2000" spc="-1" strike="noStrike">
                <a:solidFill>
                  <a:srgbClr val="0000ff"/>
                </a:solidFill>
                <a:latin typeface="华文楷体"/>
                <a:ea typeface="华文楷体"/>
              </a:rPr>
              <a:t>90°</a:t>
            </a:r>
            <a:r>
              <a:rPr b="1" lang="zh-CN" sz="2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而小于</a:t>
            </a:r>
            <a:r>
              <a:rPr b="1" lang="en-US" sz="2000" spc="-1" strike="noStrike">
                <a:solidFill>
                  <a:srgbClr val="0000ff"/>
                </a:solidFill>
                <a:latin typeface="华文楷体"/>
                <a:ea typeface="华文楷体"/>
              </a:rPr>
              <a:t>180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8"/>
          <p:cNvSpPr/>
          <p:nvPr/>
        </p:nvSpPr>
        <p:spPr>
          <a:xfrm>
            <a:off x="500040" y="1033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锐角、直角、钝角、平角和周角之间有什么关系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"/>
          <p:cNvSpPr/>
          <p:nvPr/>
        </p:nvSpPr>
        <p:spPr>
          <a:xfrm>
            <a:off x="3120480" y="2714760"/>
            <a:ext cx="2619000" cy="253188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周二平四直角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关系密切不得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钝角介于直平间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锐角不大比直小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3" descr="抠图、练一练.png"/>
          <p:cNvPicPr/>
          <p:nvPr/>
        </p:nvPicPr>
        <p:blipFill>
          <a:blip r:embed="rId1"/>
          <a:stretch/>
        </p:blipFill>
        <p:spPr>
          <a:xfrm>
            <a:off x="428760" y="928800"/>
            <a:ext cx="242892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1000080" y="1643040"/>
            <a:ext cx="221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练一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900000" y="2712960"/>
            <a:ext cx="7605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下面的角按从小到大的顺序排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32000" y="3720960"/>
            <a:ext cx="662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  钝角  平角  锐角  周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539640" y="4657680"/>
            <a:ext cx="324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）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2987640" y="465300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5364000" y="4653000"/>
            <a:ext cx="324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539640" y="5376960"/>
            <a:ext cx="324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）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987640" y="537372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 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116000" y="4657680"/>
            <a:ext cx="151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锐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564000" y="4653000"/>
            <a:ext cx="151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直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5940360" y="4653000"/>
            <a:ext cx="151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钝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116000" y="5376960"/>
            <a:ext cx="151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平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564000" y="5376960"/>
            <a:ext cx="151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周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00000" y="1341360"/>
            <a:ext cx="76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下图中，已知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°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求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度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187280" y="4076640"/>
            <a:ext cx="23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 flipH="1">
            <a:off x="2050560" y="2924280"/>
            <a:ext cx="576360" cy="223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弧形 9"/>
          <p:cNvSpPr/>
          <p:nvPr/>
        </p:nvSpPr>
        <p:spPr>
          <a:xfrm flipH="1" rot="5626200">
            <a:off x="2194560" y="3737160"/>
            <a:ext cx="412920" cy="410760"/>
          </a:xfrm>
          <a:custGeom>
            <a:avLst/>
            <a:gdLst>
              <a:gd name="textAreaLeft" fmla="*/ 108720 w 412920"/>
              <a:gd name="textAreaRight" fmla="*/ 407160 w 412920"/>
              <a:gd name="textAreaTop" fmla="*/ 0 h 410760"/>
              <a:gd name="textAreaBottom" fmla="*/ 156240 h 410760"/>
            </a:gdLst>
            <a:ahLst/>
            <a:rect l="textAreaLeft" t="textAreaTop" r="textAreaRight" b="textAreaBottom"/>
            <a:pathLst>
              <a:path stroke="0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  <a:lnTo>
                  <a:pt x="206198" y="205769"/>
                </a:lnTo>
                <a:close/>
              </a:path>
              <a:path fill="none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弧形 9"/>
          <p:cNvSpPr/>
          <p:nvPr/>
        </p:nvSpPr>
        <p:spPr>
          <a:xfrm flipH="1" rot="9504000">
            <a:off x="2049840" y="3933720"/>
            <a:ext cx="509760" cy="411120"/>
          </a:xfrm>
          <a:custGeom>
            <a:avLst/>
            <a:gdLst>
              <a:gd name="textAreaLeft" fmla="*/ 134640 w 509760"/>
              <a:gd name="textAreaRight" fmla="*/ 502920 w 509760"/>
              <a:gd name="textAreaTop" fmla="*/ 0 h 411120"/>
              <a:gd name="textAreaBottom" fmla="*/ 156240 h 411120"/>
            </a:gdLst>
            <a:ahLst/>
            <a:rect l="textAreaLeft" t="textAreaTop" r="textAreaRight" b="textAreaBottom"/>
            <a:pathLst>
              <a:path stroke="0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  <a:lnTo>
                  <a:pt x="206198" y="205769"/>
                </a:lnTo>
                <a:close/>
              </a:path>
              <a:path fill="none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弧形 9"/>
          <p:cNvSpPr/>
          <p:nvPr/>
        </p:nvSpPr>
        <p:spPr>
          <a:xfrm flipH="1" rot="15619200">
            <a:off x="2049120" y="3953520"/>
            <a:ext cx="412920" cy="411120"/>
          </a:xfrm>
          <a:custGeom>
            <a:avLst/>
            <a:gdLst>
              <a:gd name="textAreaLeft" fmla="*/ 108720 w 412920"/>
              <a:gd name="textAreaRight" fmla="*/ 407160 w 412920"/>
              <a:gd name="textAreaTop" fmla="*/ 0 h 411120"/>
              <a:gd name="textAreaBottom" fmla="*/ 156240 h 411120"/>
            </a:gdLst>
            <a:ahLst/>
            <a:rect l="textAreaLeft" t="textAreaTop" r="textAreaRight" b="textAreaBottom"/>
            <a:pathLst>
              <a:path stroke="0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  <a:lnTo>
                  <a:pt x="206198" y="205769"/>
                </a:lnTo>
                <a:close/>
              </a:path>
              <a:path fill="none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弧形 9"/>
          <p:cNvSpPr/>
          <p:nvPr/>
        </p:nvSpPr>
        <p:spPr>
          <a:xfrm flipH="1" rot="20357400">
            <a:off x="2050200" y="3789360"/>
            <a:ext cx="510120" cy="411120"/>
          </a:xfrm>
          <a:custGeom>
            <a:avLst/>
            <a:gdLst>
              <a:gd name="textAreaLeft" fmla="*/ 133920 w 510120"/>
              <a:gd name="textAreaRight" fmla="*/ 502560 w 510120"/>
              <a:gd name="textAreaTop" fmla="*/ 0 h 411120"/>
              <a:gd name="textAreaBottom" fmla="*/ 156240 h 411120"/>
            </a:gdLst>
            <a:ahLst/>
            <a:rect l="textAreaLeft" t="textAreaTop" r="textAreaRight" b="textAreaBottom"/>
            <a:pathLst>
              <a:path stroke="0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  <a:lnTo>
                  <a:pt x="206198" y="205769"/>
                </a:lnTo>
                <a:close/>
              </a:path>
              <a:path fill="none" w="412396" h="411538">
                <a:moveTo>
                  <a:pt x="108638" y="24489"/>
                </a:moveTo>
                <a:lnTo>
                  <a:pt x="108637" y="24488"/>
                </a:lnTo>
                <a:cubicBezTo>
                  <a:pt x="138633" y="8413"/>
                  <a:pt x="172150" y="-1"/>
                  <a:pt x="206198" y="0"/>
                </a:cubicBezTo>
                <a:cubicBezTo>
                  <a:pt x="301097" y="0"/>
                  <a:pt x="383742" y="64636"/>
                  <a:pt x="406421" y="156594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2556000" y="3429000"/>
            <a:ext cx="503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692360" y="3429000"/>
            <a:ext cx="503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556000" y="4152960"/>
            <a:ext cx="503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1692360" y="4149720"/>
            <a:ext cx="503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3995640" y="2997360"/>
            <a:ext cx="338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995640" y="3792600"/>
            <a:ext cx="338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95640" y="4584600"/>
            <a:ext cx="338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（   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5580000" y="3000240"/>
            <a:ext cx="122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5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724360" y="3792600"/>
            <a:ext cx="1152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75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5580000" y="4584600"/>
            <a:ext cx="122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5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12720" y="1268280"/>
            <a:ext cx="79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要求在钟面上画时针和分针，量出时针和分针组成的度数，并读出钟面上的时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QQ截图20140927213925"/>
          <p:cNvPicPr/>
          <p:nvPr/>
        </p:nvPicPr>
        <p:blipFill>
          <a:blip r:embed="rId1"/>
          <a:stretch/>
        </p:blipFill>
        <p:spPr>
          <a:xfrm>
            <a:off x="826920" y="2637000"/>
            <a:ext cx="7574040" cy="1549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044720" y="4292640"/>
            <a:ext cx="122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锐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132000" y="4292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5148360" y="429264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钝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7236000" y="4292640"/>
            <a:ext cx="1223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250920" y="274392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动手折角、用活动角作角的过程中，认识各种角以及它们之间的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认识平角和周角，知道锐角、直角、钝角、平角、周角之间的大小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积极参与动手操作活动，获得愉快的情感体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95640" y="785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>
            <a:off x="1352520" y="2117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认识这几个角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46"/>
          <p:cNvGrpSpPr/>
          <p:nvPr/>
        </p:nvGrpSpPr>
        <p:grpSpPr>
          <a:xfrm>
            <a:off x="713880" y="2966760"/>
            <a:ext cx="7428600" cy="2934360"/>
            <a:chOff x="713880" y="2966760"/>
            <a:chExt cx="7428600" cy="2934360"/>
          </a:xfrm>
        </p:grpSpPr>
        <p:grpSp>
          <p:nvGrpSpPr>
            <p:cNvPr id="56" name="Group 63"/>
            <p:cNvGrpSpPr/>
            <p:nvPr/>
          </p:nvGrpSpPr>
          <p:grpSpPr>
            <a:xfrm>
              <a:off x="713880" y="2966760"/>
              <a:ext cx="7428600" cy="2934360"/>
              <a:chOff x="713880" y="2966760"/>
              <a:chExt cx="7428600" cy="2934360"/>
            </a:xfrm>
          </p:grpSpPr>
          <p:grpSp>
            <p:nvGrpSpPr>
              <p:cNvPr id="57" name="Group 62"/>
              <p:cNvGrpSpPr/>
              <p:nvPr/>
            </p:nvGrpSpPr>
            <p:grpSpPr>
              <a:xfrm>
                <a:off x="1297800" y="3600000"/>
                <a:ext cx="1453680" cy="804600"/>
                <a:chOff x="1297800" y="3600000"/>
                <a:chExt cx="1453680" cy="804600"/>
              </a:xfrm>
            </p:grpSpPr>
            <p:sp>
              <p:nvSpPr>
                <p:cNvPr id="58" name="Line 13"/>
                <p:cNvSpPr/>
                <p:nvPr/>
              </p:nvSpPr>
              <p:spPr>
                <a:xfrm>
                  <a:off x="1297800" y="4386960"/>
                  <a:ext cx="145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Line 14"/>
                <p:cNvSpPr/>
                <p:nvPr/>
              </p:nvSpPr>
              <p:spPr>
                <a:xfrm flipV="1">
                  <a:off x="1297800" y="3600000"/>
                  <a:ext cx="1017360" cy="78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Arc 15"/>
                <p:cNvSpPr/>
                <p:nvPr/>
              </p:nvSpPr>
              <p:spPr>
                <a:xfrm>
                  <a:off x="1586520" y="4161240"/>
                  <a:ext cx="144720" cy="22572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225720"/>
                    <a:gd name="textAreaBottom" fmla="*/ 226080 h 225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Text Box 16"/>
                <p:cNvSpPr/>
                <p:nvPr/>
              </p:nvSpPr>
              <p:spPr>
                <a:xfrm>
                  <a:off x="1769760" y="3823200"/>
                  <a:ext cx="872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楷体"/>
                      <a:ea typeface="华文楷体"/>
                    </a:rPr>
                    <a:t>1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61"/>
              <p:cNvGrpSpPr/>
              <p:nvPr/>
            </p:nvGrpSpPr>
            <p:grpSpPr>
              <a:xfrm>
                <a:off x="3870360" y="2966760"/>
                <a:ext cx="1452240" cy="1462320"/>
                <a:chOff x="3870360" y="2966760"/>
                <a:chExt cx="1452240" cy="1462320"/>
              </a:xfrm>
            </p:grpSpPr>
            <p:grpSp>
              <p:nvGrpSpPr>
                <p:cNvPr id="63" name="Group 23"/>
                <p:cNvGrpSpPr/>
                <p:nvPr/>
              </p:nvGrpSpPr>
              <p:grpSpPr>
                <a:xfrm>
                  <a:off x="3870360" y="2966760"/>
                  <a:ext cx="1452240" cy="1462320"/>
                  <a:chOff x="3870360" y="2966760"/>
                  <a:chExt cx="1452240" cy="1462320"/>
                </a:xfrm>
              </p:grpSpPr>
              <p:sp>
                <p:nvSpPr>
                  <p:cNvPr id="64" name="Line 17"/>
                  <p:cNvSpPr/>
                  <p:nvPr/>
                </p:nvSpPr>
                <p:spPr>
                  <a:xfrm>
                    <a:off x="3870360" y="4429080"/>
                    <a:ext cx="1452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Line 18"/>
                  <p:cNvSpPr/>
                  <p:nvPr/>
                </p:nvSpPr>
                <p:spPr>
                  <a:xfrm flipV="1">
                    <a:off x="3870360" y="2966760"/>
                    <a:ext cx="0" cy="1461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" name="Text Box 25"/>
                <p:cNvSpPr/>
                <p:nvPr/>
              </p:nvSpPr>
              <p:spPr>
                <a:xfrm>
                  <a:off x="4075560" y="3642120"/>
                  <a:ext cx="872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楷体"/>
                      <a:ea typeface="华文楷体"/>
                    </a:rPr>
                    <a:t>2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58"/>
              <p:cNvGrpSpPr/>
              <p:nvPr/>
            </p:nvGrpSpPr>
            <p:grpSpPr>
              <a:xfrm>
                <a:off x="6104880" y="3416400"/>
                <a:ext cx="1324440" cy="1037520"/>
                <a:chOff x="6104880" y="3416400"/>
                <a:chExt cx="1324440" cy="1037520"/>
              </a:xfrm>
            </p:grpSpPr>
            <p:sp>
              <p:nvSpPr>
                <p:cNvPr id="68" name="Line 20"/>
                <p:cNvSpPr/>
                <p:nvPr/>
              </p:nvSpPr>
              <p:spPr>
                <a:xfrm flipH="1" flipV="1">
                  <a:off x="6829200" y="3416400"/>
                  <a:ext cx="436680" cy="1013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1"/>
                <p:cNvSpPr/>
                <p:nvPr/>
              </p:nvSpPr>
              <p:spPr>
                <a:xfrm flipH="1" flipV="1">
                  <a:off x="6104880" y="3980160"/>
                  <a:ext cx="1161360" cy="44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Arc 22"/>
                <p:cNvSpPr/>
                <p:nvPr/>
              </p:nvSpPr>
              <p:spPr>
                <a:xfrm rot="17100000">
                  <a:off x="7062120" y="4059000"/>
                  <a:ext cx="248040" cy="436680"/>
                </a:xfrm>
                <a:custGeom>
                  <a:avLst/>
                  <a:gdLst>
                    <a:gd name="textAreaLeft" fmla="*/ 0 w 248040"/>
                    <a:gd name="textAreaRight" fmla="*/ 248400 w 248040"/>
                    <a:gd name="textAreaTop" fmla="*/ 0 h 436680"/>
                    <a:gd name="textAreaBottom" fmla="*/ 437040 h 436680"/>
                  </a:gdLst>
                  <a:ahLst/>
                  <a:rect l="textAreaLeft" t="textAreaTop" r="textAreaRight" b="textAreaBottom"/>
                  <a:pathLst>
                    <a:path fill="none" w="15903" h="21397">
                      <a:moveTo>
                        <a:pt x="2951" y="-1"/>
                      </a:moveTo>
                      <a:cubicBezTo>
                        <a:pt x="7925" y="685"/>
                        <a:pt x="12505" y="3083"/>
                        <a:pt x="15902" y="6780"/>
                      </a:cubicBezTo>
                    </a:path>
                    <a:path stroke="0" w="15903" h="21397">
                      <a:moveTo>
                        <a:pt x="2951" y="-1"/>
                      </a:moveTo>
                      <a:cubicBezTo>
                        <a:pt x="7925" y="685"/>
                        <a:pt x="12505" y="3083"/>
                        <a:pt x="15902" y="6780"/>
                      </a:cubicBezTo>
                      <a:lnTo>
                        <a:pt x="0" y="21397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26"/>
                <p:cNvSpPr/>
                <p:nvPr/>
              </p:nvSpPr>
              <p:spPr>
                <a:xfrm>
                  <a:off x="6537600" y="3677040"/>
                  <a:ext cx="872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楷体"/>
                      <a:ea typeface="华文楷体"/>
                    </a:rPr>
                    <a:t>3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52"/>
              <p:cNvGrpSpPr/>
              <p:nvPr/>
            </p:nvGrpSpPr>
            <p:grpSpPr>
              <a:xfrm>
                <a:off x="713880" y="5038920"/>
                <a:ext cx="2329200" cy="862200"/>
                <a:chOff x="713880" y="5038920"/>
                <a:chExt cx="2329200" cy="862200"/>
              </a:xfrm>
            </p:grpSpPr>
            <p:grpSp>
              <p:nvGrpSpPr>
                <p:cNvPr id="73" name="Group 35"/>
                <p:cNvGrpSpPr/>
                <p:nvPr/>
              </p:nvGrpSpPr>
              <p:grpSpPr>
                <a:xfrm>
                  <a:off x="713880" y="5331600"/>
                  <a:ext cx="2329200" cy="569520"/>
                  <a:chOff x="713880" y="5331600"/>
                  <a:chExt cx="2329200" cy="569520"/>
                </a:xfrm>
              </p:grpSpPr>
              <p:sp>
                <p:nvSpPr>
                  <p:cNvPr id="74" name="Line 32"/>
                  <p:cNvSpPr/>
                  <p:nvPr/>
                </p:nvSpPr>
                <p:spPr>
                  <a:xfrm flipV="1">
                    <a:off x="1878120" y="5331600"/>
                    <a:ext cx="1164960" cy="56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Line 33"/>
                  <p:cNvSpPr/>
                  <p:nvPr/>
                </p:nvSpPr>
                <p:spPr>
                  <a:xfrm flipH="1" flipV="1">
                    <a:off x="713880" y="5331600"/>
                    <a:ext cx="1163880" cy="56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Arc 34"/>
                  <p:cNvSpPr/>
                  <p:nvPr/>
                </p:nvSpPr>
                <p:spPr>
                  <a:xfrm flipV="1" rot="11741400">
                    <a:off x="1640880" y="5690880"/>
                    <a:ext cx="584280" cy="133560"/>
                  </a:xfrm>
                  <a:custGeom>
                    <a:avLst/>
                    <a:gdLst>
                      <a:gd name="textAreaLeft" fmla="*/ 0 w 584280"/>
                      <a:gd name="textAreaRight" fmla="*/ 584640 w 584280"/>
                      <a:gd name="textAreaTop" fmla="*/ -360 h 133560"/>
                      <a:gd name="textAreaBottom" fmla="*/ 133560 h 133560"/>
                    </a:gdLst>
                    <a:ahLst/>
                    <a:rect l="textAreaLeft" t="textAreaTop" r="textAreaRight" b="textAreaBottom"/>
                    <a:pathLst>
                      <a:path fill="none" w="21600" h="21479">
                        <a:moveTo>
                          <a:pt x="2281" y="-1"/>
                        </a:moveTo>
                        <a:cubicBezTo>
                          <a:pt x="13265" y="1166"/>
                          <a:pt x="21600" y="10432"/>
                          <a:pt x="21600" y="21479"/>
                        </a:cubicBezTo>
                      </a:path>
                      <a:path stroke="0" w="21600" h="21479">
                        <a:moveTo>
                          <a:pt x="2281" y="-1"/>
                        </a:moveTo>
                        <a:cubicBezTo>
                          <a:pt x="13265" y="1166"/>
                          <a:pt x="21600" y="10432"/>
                          <a:pt x="21600" y="21479"/>
                        </a:cubicBezTo>
                        <a:lnTo>
                          <a:pt x="0" y="21479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" name="Text Box 47"/>
                <p:cNvSpPr/>
                <p:nvPr/>
              </p:nvSpPr>
              <p:spPr>
                <a:xfrm>
                  <a:off x="1711800" y="5038920"/>
                  <a:ext cx="728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楷体"/>
                      <a:ea typeface="华文楷体"/>
                    </a:rPr>
                    <a:t>4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59"/>
              <p:cNvGrpSpPr/>
              <p:nvPr/>
            </p:nvGrpSpPr>
            <p:grpSpPr>
              <a:xfrm>
                <a:off x="3918240" y="4993560"/>
                <a:ext cx="1455840" cy="839880"/>
                <a:chOff x="3918240" y="4993560"/>
                <a:chExt cx="1455840" cy="839880"/>
              </a:xfrm>
            </p:grpSpPr>
            <p:grpSp>
              <p:nvGrpSpPr>
                <p:cNvPr id="79" name="Group 45"/>
                <p:cNvGrpSpPr/>
                <p:nvPr/>
              </p:nvGrpSpPr>
              <p:grpSpPr>
                <a:xfrm>
                  <a:off x="3918240" y="4993560"/>
                  <a:ext cx="1455840" cy="789840"/>
                  <a:chOff x="3918240" y="4993560"/>
                  <a:chExt cx="1455840" cy="789840"/>
                </a:xfrm>
              </p:grpSpPr>
              <p:sp>
                <p:nvSpPr>
                  <p:cNvPr id="80" name="Line 39"/>
                  <p:cNvSpPr/>
                  <p:nvPr/>
                </p:nvSpPr>
                <p:spPr>
                  <a:xfrm>
                    <a:off x="3918240" y="5783400"/>
                    <a:ext cx="1455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40"/>
                  <p:cNvSpPr/>
                  <p:nvPr/>
                </p:nvSpPr>
                <p:spPr>
                  <a:xfrm flipV="1">
                    <a:off x="3918240" y="4993560"/>
                    <a:ext cx="1019520" cy="78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Arc 41"/>
                  <p:cNvSpPr/>
                  <p:nvPr/>
                </p:nvSpPr>
                <p:spPr>
                  <a:xfrm>
                    <a:off x="4209840" y="5557680"/>
                    <a:ext cx="144000" cy="225720"/>
                  </a:xfrm>
                  <a:custGeom>
                    <a:avLst/>
                    <a:gdLst>
                      <a:gd name="textAreaLeft" fmla="*/ 0 w 144000"/>
                      <a:gd name="textAreaRight" fmla="*/ 144360 w 144000"/>
                      <a:gd name="textAreaTop" fmla="*/ 0 h 225720"/>
                      <a:gd name="textAreaBottom" fmla="*/ 226080 h 22572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" name="Text Box 48"/>
                <p:cNvSpPr/>
                <p:nvPr/>
              </p:nvSpPr>
              <p:spPr>
                <a:xfrm>
                  <a:off x="4341600" y="5252040"/>
                  <a:ext cx="728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楷体"/>
                      <a:ea typeface="华文楷体"/>
                    </a:rPr>
                    <a:t>5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60"/>
              <p:cNvGrpSpPr/>
              <p:nvPr/>
            </p:nvGrpSpPr>
            <p:grpSpPr>
              <a:xfrm>
                <a:off x="5812200" y="4767480"/>
                <a:ext cx="2330280" cy="1015920"/>
                <a:chOff x="5812200" y="4767480"/>
                <a:chExt cx="2330280" cy="1015920"/>
              </a:xfrm>
            </p:grpSpPr>
            <p:sp>
              <p:nvSpPr>
                <p:cNvPr id="85" name="Line 42"/>
                <p:cNvSpPr/>
                <p:nvPr/>
              </p:nvSpPr>
              <p:spPr>
                <a:xfrm>
                  <a:off x="6685560" y="5783400"/>
                  <a:ext cx="1456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43"/>
                <p:cNvSpPr/>
                <p:nvPr/>
              </p:nvSpPr>
              <p:spPr>
                <a:xfrm flipH="1" flipV="1">
                  <a:off x="5812200" y="4767480"/>
                  <a:ext cx="873360" cy="101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rc 44"/>
                <p:cNvSpPr/>
                <p:nvPr/>
              </p:nvSpPr>
              <p:spPr>
                <a:xfrm>
                  <a:off x="6496200" y="5556960"/>
                  <a:ext cx="487440" cy="213840"/>
                </a:xfrm>
                <a:custGeom>
                  <a:avLst/>
                  <a:gdLst>
                    <a:gd name="textAreaLeft" fmla="*/ 0 w 487440"/>
                    <a:gd name="textAreaRight" fmla="*/ 487800 w 4874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Text Box 49"/>
                <p:cNvSpPr/>
                <p:nvPr/>
              </p:nvSpPr>
              <p:spPr>
                <a:xfrm>
                  <a:off x="6556680" y="5003640"/>
                  <a:ext cx="728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华文楷体"/>
                      <a:ea typeface="华文楷体"/>
                    </a:rPr>
                    <a:t>6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" name="任意多边形 45"/>
            <p:cNvSpPr/>
            <p:nvPr/>
          </p:nvSpPr>
          <p:spPr>
            <a:xfrm>
              <a:off x="3882240" y="4172040"/>
              <a:ext cx="296640" cy="2610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96883" h="261257">
                  <a:moveTo>
                    <a:pt x="0" y="0"/>
                  </a:moveTo>
                  <a:lnTo>
                    <a:pt x="296883" y="0"/>
                  </a:lnTo>
                  <a:lnTo>
                    <a:pt x="296883" y="261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40"/>
          <p:cNvSpPr/>
          <p:nvPr/>
        </p:nvSpPr>
        <p:spPr>
          <a:xfrm>
            <a:off x="1741320" y="4395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锐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"/>
          <p:cNvSpPr/>
          <p:nvPr/>
        </p:nvSpPr>
        <p:spPr>
          <a:xfrm>
            <a:off x="6884640" y="4324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锐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2"/>
          <p:cNvSpPr/>
          <p:nvPr/>
        </p:nvSpPr>
        <p:spPr>
          <a:xfrm>
            <a:off x="4170240" y="5753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锐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3"/>
          <p:cNvSpPr/>
          <p:nvPr/>
        </p:nvSpPr>
        <p:spPr>
          <a:xfrm>
            <a:off x="4170240" y="4395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直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4"/>
          <p:cNvSpPr/>
          <p:nvPr/>
        </p:nvSpPr>
        <p:spPr>
          <a:xfrm>
            <a:off x="1669680" y="5824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钝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5"/>
          <p:cNvSpPr/>
          <p:nvPr/>
        </p:nvSpPr>
        <p:spPr>
          <a:xfrm>
            <a:off x="6978240" y="577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钝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48" descr="复习回顾.png"/>
          <p:cNvPicPr/>
          <p:nvPr/>
        </p:nvPicPr>
        <p:blipFill>
          <a:blip r:embed="rId1"/>
          <a:stretch/>
        </p:blipFill>
        <p:spPr>
          <a:xfrm>
            <a:off x="333360" y="669960"/>
            <a:ext cx="24526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QQ截图20140927152314"/>
          <p:cNvPicPr/>
          <p:nvPr/>
        </p:nvPicPr>
        <p:blipFill>
          <a:blip r:embed="rId1"/>
          <a:stretch/>
        </p:blipFill>
        <p:spPr>
          <a:xfrm>
            <a:off x="539640" y="1052640"/>
            <a:ext cx="657360" cy="72072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1332000" y="11206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把一张纸按照下面的方法折一折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QQ截图20140927161459"/>
          <p:cNvPicPr/>
          <p:nvPr/>
        </p:nvPicPr>
        <p:blipFill>
          <a:blip r:embed="rId2"/>
          <a:stretch/>
        </p:blipFill>
        <p:spPr>
          <a:xfrm>
            <a:off x="1004760" y="2133720"/>
            <a:ext cx="7132680" cy="1181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图片1"/>
          <p:cNvPicPr/>
          <p:nvPr/>
        </p:nvPicPr>
        <p:blipFill>
          <a:blip r:embed="rId3"/>
          <a:stretch/>
        </p:blipFill>
        <p:spPr>
          <a:xfrm>
            <a:off x="684360" y="3645000"/>
            <a:ext cx="1428480" cy="1628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1714680" y="4500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说一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835280" y="551340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折成的是什么角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7"/>
          <p:cNvSpPr/>
          <p:nvPr/>
        </p:nvSpPr>
        <p:spPr>
          <a:xfrm>
            <a:off x="642960" y="7858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把刚才折成直角的纸打开（如下图），两个直角组成一个新的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929120" y="2500200"/>
            <a:ext cx="2266920" cy="752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42960" y="321624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角的两条边在一条直线上，这样的角叫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平角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650880" y="4714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角有什么样的特点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928880" y="5429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平角的两条边在同一条直线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1500120" y="2214720"/>
            <a:ext cx="2286000" cy="1265040"/>
          </a:xfrm>
          <a:prstGeom prst="rect">
            <a:avLst/>
          </a:prstGeom>
          <a:ln w="0">
            <a:noFill/>
          </a:ln>
        </p:spPr>
      </p:pic>
      <p:sp>
        <p:nvSpPr>
          <p:cNvPr id="109" name="右箭头 10"/>
          <p:cNvSpPr/>
          <p:nvPr/>
        </p:nvSpPr>
        <p:spPr>
          <a:xfrm>
            <a:off x="3929040" y="2786040"/>
            <a:ext cx="85716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785880" y="7858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再打开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直角又组成一个新的角，这样的角叫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周角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1"/>
          <p:cNvGrpSpPr/>
          <p:nvPr/>
        </p:nvGrpSpPr>
        <p:grpSpPr>
          <a:xfrm>
            <a:off x="2857680" y="2430360"/>
            <a:ext cx="3580920" cy="1855440"/>
            <a:chOff x="2857680" y="2430360"/>
            <a:chExt cx="3580920" cy="1855440"/>
          </a:xfrm>
        </p:grpSpPr>
        <p:sp>
          <p:nvSpPr>
            <p:cNvPr id="112" name="Rectangle 5"/>
            <p:cNvSpPr/>
            <p:nvPr/>
          </p:nvSpPr>
          <p:spPr>
            <a:xfrm>
              <a:off x="2857680" y="2430360"/>
              <a:ext cx="3580920" cy="185544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2857680" y="3356640"/>
              <a:ext cx="358092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"/>
            <p:cNvSpPr/>
            <p:nvPr/>
          </p:nvSpPr>
          <p:spPr>
            <a:xfrm>
              <a:off x="4647960" y="2430360"/>
              <a:ext cx="0" cy="18554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"/>
            <p:cNvSpPr/>
            <p:nvPr/>
          </p:nvSpPr>
          <p:spPr>
            <a:xfrm>
              <a:off x="4391640" y="3093480"/>
              <a:ext cx="512640" cy="5284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7"/>
          <p:cNvSpPr/>
          <p:nvPr/>
        </p:nvSpPr>
        <p:spPr>
          <a:xfrm>
            <a:off x="650880" y="4572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角有什么样的特点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1857240" y="528624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周角的两条边重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5" descr="平角"/>
          <p:cNvPicPr/>
          <p:nvPr/>
        </p:nvPicPr>
        <p:blipFill>
          <a:blip r:embed="rId1"/>
          <a:stretch/>
        </p:blipFill>
        <p:spPr>
          <a:xfrm>
            <a:off x="500040" y="2031840"/>
            <a:ext cx="4714920" cy="17542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7"/>
          <p:cNvSpPr/>
          <p:nvPr/>
        </p:nvSpPr>
        <p:spPr>
          <a:xfrm>
            <a:off x="714240" y="112068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你能在下面找到角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周角"/>
          <p:cNvPicPr/>
          <p:nvPr/>
        </p:nvPicPr>
        <p:blipFill>
          <a:blip r:embed="rId2"/>
          <a:stretch/>
        </p:blipFill>
        <p:spPr>
          <a:xfrm>
            <a:off x="5572080" y="2459160"/>
            <a:ext cx="2722680" cy="211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55"/>
          <p:cNvPicPr/>
          <p:nvPr/>
        </p:nvPicPr>
        <p:blipFill>
          <a:blip r:embed="rId3"/>
          <a:stretch/>
        </p:blipFill>
        <p:spPr>
          <a:xfrm>
            <a:off x="500040" y="4738680"/>
            <a:ext cx="4929120" cy="619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2357280" y="5357880"/>
            <a:ext cx="16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平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56"/>
          <p:cNvPicPr/>
          <p:nvPr/>
        </p:nvPicPr>
        <p:blipFill>
          <a:blip r:embed="rId4"/>
          <a:stretch/>
        </p:blipFill>
        <p:spPr>
          <a:xfrm>
            <a:off x="5572080" y="4643280"/>
            <a:ext cx="2971800" cy="10717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1"/>
          <p:cNvSpPr/>
          <p:nvPr/>
        </p:nvSpPr>
        <p:spPr>
          <a:xfrm>
            <a:off x="6143760" y="564984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周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抠图、议一议"/>
          <p:cNvPicPr/>
          <p:nvPr/>
        </p:nvPicPr>
        <p:blipFill>
          <a:blip r:embed="rId1"/>
          <a:stretch/>
        </p:blipFill>
        <p:spPr>
          <a:xfrm>
            <a:off x="577800" y="2643120"/>
            <a:ext cx="2708280" cy="15955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650880" y="43639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、平角、周角各是多少度的角？它们之间有什么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2322000" y="9748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现在为止，我们一共学习了哪些角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214280" y="185436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锐角、直角、钝角、平角、周角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7"/>
          <p:cNvSpPr/>
          <p:nvPr/>
        </p:nvSpPr>
        <p:spPr>
          <a:xfrm>
            <a:off x="722160" y="915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角、平角、周角的度数和它们之的关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7"/>
          <p:cNvGrpSpPr/>
          <p:nvPr/>
        </p:nvGrpSpPr>
        <p:grpSpPr>
          <a:xfrm>
            <a:off x="1071720" y="1643040"/>
            <a:ext cx="2643120" cy="1357200"/>
            <a:chOff x="1071720" y="1643040"/>
            <a:chExt cx="2643120" cy="1357200"/>
          </a:xfrm>
        </p:grpSpPr>
        <p:sp>
          <p:nvSpPr>
            <p:cNvPr id="131" name="圆角矩形 6"/>
            <p:cNvSpPr/>
            <p:nvPr/>
          </p:nvSpPr>
          <p:spPr>
            <a:xfrm>
              <a:off x="1071720" y="1643040"/>
              <a:ext cx="2225880" cy="13572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3"/>
            <p:cNvSpPr/>
            <p:nvPr/>
          </p:nvSpPr>
          <p:spPr>
            <a:xfrm>
              <a:off x="1071720" y="1714320"/>
              <a:ext cx="26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平角＝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80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5"/>
            <p:cNvSpPr/>
            <p:nvPr/>
          </p:nvSpPr>
          <p:spPr>
            <a:xfrm>
              <a:off x="1071720" y="2343960"/>
              <a:ext cx="26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直角＝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0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右箭头 8"/>
          <p:cNvSpPr/>
          <p:nvPr/>
        </p:nvSpPr>
        <p:spPr>
          <a:xfrm>
            <a:off x="364320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4714920" y="20718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平角＝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直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0"/>
          <p:cNvGrpSpPr/>
          <p:nvPr/>
        </p:nvGrpSpPr>
        <p:grpSpPr>
          <a:xfrm>
            <a:off x="1071720" y="3071880"/>
            <a:ext cx="2643120" cy="1357200"/>
            <a:chOff x="1071720" y="3071880"/>
            <a:chExt cx="2643120" cy="1357200"/>
          </a:xfrm>
        </p:grpSpPr>
        <p:sp>
          <p:nvSpPr>
            <p:cNvPr id="137" name="圆角矩形 11"/>
            <p:cNvSpPr/>
            <p:nvPr/>
          </p:nvSpPr>
          <p:spPr>
            <a:xfrm>
              <a:off x="1071720" y="3071880"/>
              <a:ext cx="2225880" cy="13572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2"/>
            <p:cNvSpPr/>
            <p:nvPr/>
          </p:nvSpPr>
          <p:spPr>
            <a:xfrm>
              <a:off x="1071720" y="3143160"/>
              <a:ext cx="26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周角＝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360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3"/>
            <p:cNvSpPr/>
            <p:nvPr/>
          </p:nvSpPr>
          <p:spPr>
            <a:xfrm>
              <a:off x="1071720" y="3772800"/>
              <a:ext cx="26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平角＝</a:t>
              </a:r>
              <a:r>
                <a:rPr b="1" lang="en-US" sz="32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80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右箭头 14"/>
          <p:cNvSpPr/>
          <p:nvPr/>
        </p:nvSpPr>
        <p:spPr>
          <a:xfrm>
            <a:off x="3643200" y="35719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4714920" y="35002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周角＝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平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箭头 20"/>
          <p:cNvSpPr/>
          <p:nvPr/>
        </p:nvSpPr>
        <p:spPr>
          <a:xfrm>
            <a:off x="4143240" y="50007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5072040" y="492912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周角＝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个直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4"/>
          <p:cNvGrpSpPr/>
          <p:nvPr/>
        </p:nvGrpSpPr>
        <p:grpSpPr>
          <a:xfrm>
            <a:off x="571680" y="4572000"/>
            <a:ext cx="3929040" cy="1152720"/>
            <a:chOff x="571680" y="4572000"/>
            <a:chExt cx="3929040" cy="1152720"/>
          </a:xfrm>
        </p:grpSpPr>
        <p:sp>
          <p:nvSpPr>
            <p:cNvPr id="145" name="TextBox 22"/>
            <p:cNvSpPr/>
            <p:nvPr/>
          </p:nvSpPr>
          <p:spPr>
            <a:xfrm>
              <a:off x="571680" y="4572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个周角＝</a:t>
              </a:r>
              <a:r>
                <a:rPr b="1" lang="en-US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个平角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3"/>
            <p:cNvSpPr/>
            <p:nvPr/>
          </p:nvSpPr>
          <p:spPr>
            <a:xfrm>
              <a:off x="571680" y="514332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个平角＝</a:t>
              </a:r>
              <a:r>
                <a:rPr b="1" lang="en-US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华文楷体"/>
                  <a:ea typeface="华文楷体"/>
                </a:rPr>
                <a:t>个直角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25"/>
          <p:cNvSpPr/>
          <p:nvPr/>
        </p:nvSpPr>
        <p:spPr>
          <a:xfrm>
            <a:off x="1428840" y="585792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结：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周角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平角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个直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8T02:07:56Z</dcterms:created>
  <dc:creator/>
  <dc:description/>
  <cp:keywords/>
  <dc:language>en-US</dc:language>
  <cp:lastModifiedBy/>
  <dcterms:modified xsi:type="dcterms:W3CDTF">2016-12-02T16:04:49Z</dcterms:modified>
  <cp:revision>5</cp:revision>
  <dc:subject/>
  <dc:title/>
</cp:coreProperties>
</file>