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886-73D4-4A59-B18B-0283F1EA1F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5833-691A-4037-B372-851F241951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8A67-0372-4479-AA00-6DEEA68863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3E2-CFB8-4B0D-B8A8-E154878255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EE4E-7347-44A0-8C15-4EB053BBEB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16E3-A8A2-4EA3-9F02-70B4E1DA9F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136E-66B9-4DC5-9034-561BB6F472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94D-C0AF-48B3-9296-5516CF1149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2846-0AB6-4493-AA7D-920D79410A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214A-9FCE-4ADB-A553-11191F6CF5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66AC-80E7-4DF9-83C7-BD9840C668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3AB-F9DC-49B6-981A-9A591560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8F0-46FA-4E91-9DA2-82C3C79A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3A2-F4A6-49F5-A663-D515CF47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D8D-0471-4A44-A524-FBB70EC5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DEC-383B-4D42-B56A-C1158DD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C3C-9630-4FC7-B8C2-92BD2EE8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844-70D6-4BA5-AEE9-EBDDEDD2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D02-55BB-4C37-BB20-5C5E0319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230-BD5A-4914-9BAB-79138B0C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6B7-9F0B-4652-9671-A4F0F6A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DF3-FF7B-46E2-806F-38905C5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70E-A320-45C5-945C-F07F98E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D84-F326-4ABC-874D-A61E52F11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1143000" y="2549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点间的距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857160" y="1201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1373040"/>
            <a:ext cx="84247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点间画出三条线，并分别测量这三条线的长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776240" y="2909880"/>
            <a:ext cx="55915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85840" y="277236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和动手测量的过程，体会两点间所有连线中线段最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知道两点间线段的长度叫做距离，会测量两点间的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能运用两点间线段最短的知识描述生活中的事物，感受数学与生活的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00240" y="8841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QQ截图20140927151405"/>
          <p:cNvPicPr/>
          <p:nvPr/>
        </p:nvPicPr>
        <p:blipFill>
          <a:blip r:embed="rId1"/>
          <a:stretch/>
        </p:blipFill>
        <p:spPr>
          <a:xfrm>
            <a:off x="539640" y="981000"/>
            <a:ext cx="752760" cy="792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316160" y="537048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观察图片，说一说图中有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332000" y="112068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图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图片1"/>
          <p:cNvPicPr/>
          <p:nvPr/>
        </p:nvPicPr>
        <p:blipFill>
          <a:blip r:embed="rId2"/>
          <a:stretch/>
        </p:blipFill>
        <p:spPr>
          <a:xfrm>
            <a:off x="1187280" y="1844640"/>
            <a:ext cx="68295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QQ截图20140927151405"/>
          <p:cNvPicPr/>
          <p:nvPr/>
        </p:nvPicPr>
        <p:blipFill>
          <a:blip r:embed="rId1"/>
          <a:stretch/>
        </p:blipFill>
        <p:spPr>
          <a:xfrm>
            <a:off x="539640" y="981000"/>
            <a:ext cx="752760" cy="792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316160" y="5370480"/>
            <a:ext cx="75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从图中你了解到哪些和数学有关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332000" y="112068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图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图片1"/>
          <p:cNvPicPr/>
          <p:nvPr/>
        </p:nvPicPr>
        <p:blipFill>
          <a:blip r:embed="rId2"/>
          <a:stretch/>
        </p:blipFill>
        <p:spPr>
          <a:xfrm>
            <a:off x="1187280" y="1844640"/>
            <a:ext cx="68295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图片2"/>
          <p:cNvPicPr/>
          <p:nvPr/>
        </p:nvPicPr>
        <p:blipFill>
          <a:blip r:embed="rId1"/>
          <a:stretch/>
        </p:blipFill>
        <p:spPr>
          <a:xfrm>
            <a:off x="809640" y="1038240"/>
            <a:ext cx="7578720" cy="32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QQ截图20140927152113"/>
          <p:cNvPicPr/>
          <p:nvPr/>
        </p:nvPicPr>
        <p:blipFill>
          <a:blip r:embed="rId2"/>
          <a:stretch/>
        </p:blipFill>
        <p:spPr>
          <a:xfrm>
            <a:off x="709560" y="4670280"/>
            <a:ext cx="78948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QQ截图20140927152524"/>
          <p:cNvPicPr/>
          <p:nvPr/>
        </p:nvPicPr>
        <p:blipFill>
          <a:blip r:embed="rId1"/>
          <a:stretch/>
        </p:blipFill>
        <p:spPr>
          <a:xfrm>
            <a:off x="1619280" y="1916280"/>
            <a:ext cx="5761080" cy="204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QQ截图20140927152314"/>
          <p:cNvPicPr/>
          <p:nvPr/>
        </p:nvPicPr>
        <p:blipFill>
          <a:blip r:embed="rId2"/>
          <a:stretch/>
        </p:blipFill>
        <p:spPr>
          <a:xfrm>
            <a:off x="539640" y="981000"/>
            <a:ext cx="722520" cy="79236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1332000" y="112536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三条连线中，哪条最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QQ截图20140927152633"/>
          <p:cNvPicPr/>
          <p:nvPr/>
        </p:nvPicPr>
        <p:blipFill>
          <a:blip r:embed="rId3"/>
          <a:stretch/>
        </p:blipFill>
        <p:spPr>
          <a:xfrm>
            <a:off x="6372360" y="4005360"/>
            <a:ext cx="2447640" cy="2239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684360" y="42894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①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84360" y="5157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②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684360" y="59500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③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8" descr="图片1.jpg"/>
          <p:cNvPicPr/>
          <p:nvPr/>
        </p:nvPicPr>
        <p:blipFill>
          <a:blip r:embed="rId4"/>
          <a:stretch/>
        </p:blipFill>
        <p:spPr>
          <a:xfrm>
            <a:off x="2050920" y="2924280"/>
            <a:ext cx="683280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2343240" y="50817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8" descr="图片1.jpg"/>
          <p:cNvPicPr/>
          <p:nvPr/>
        </p:nvPicPr>
        <p:blipFill>
          <a:blip r:embed="rId5"/>
          <a:stretch/>
        </p:blipFill>
        <p:spPr>
          <a:xfrm rot="20200800">
            <a:off x="1979280" y="1577520"/>
            <a:ext cx="683244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8" descr="图片1.jpg"/>
          <p:cNvPicPr/>
          <p:nvPr/>
        </p:nvPicPr>
        <p:blipFill>
          <a:blip r:embed="rId6"/>
          <a:stretch/>
        </p:blipFill>
        <p:spPr>
          <a:xfrm rot="840600">
            <a:off x="3492360" y="2997000"/>
            <a:ext cx="68328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8" descr="图片1.jpg"/>
          <p:cNvPicPr/>
          <p:nvPr/>
        </p:nvPicPr>
        <p:blipFill>
          <a:blip r:embed="rId7"/>
          <a:stretch/>
        </p:blipFill>
        <p:spPr>
          <a:xfrm rot="20724600">
            <a:off x="5076360" y="1722240"/>
            <a:ext cx="68328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8" descr="图片1.jpg"/>
          <p:cNvPicPr/>
          <p:nvPr/>
        </p:nvPicPr>
        <p:blipFill>
          <a:blip r:embed="rId8"/>
          <a:stretch/>
        </p:blipFill>
        <p:spPr>
          <a:xfrm rot="3694200">
            <a:off x="4060800" y="4803840"/>
            <a:ext cx="6832800" cy="914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2343240" y="4221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.2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8" descr="图片1.jpg"/>
          <p:cNvPicPr/>
          <p:nvPr/>
        </p:nvPicPr>
        <p:blipFill>
          <a:blip r:embed="rId9"/>
          <a:stretch/>
        </p:blipFill>
        <p:spPr>
          <a:xfrm rot="887400">
            <a:off x="1843200" y="3738600"/>
            <a:ext cx="68324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8" descr="图片1.jpg"/>
          <p:cNvPicPr/>
          <p:nvPr/>
        </p:nvPicPr>
        <p:blipFill>
          <a:blip r:embed="rId10"/>
          <a:stretch/>
        </p:blipFill>
        <p:spPr>
          <a:xfrm rot="19615200">
            <a:off x="5148360" y="1915920"/>
            <a:ext cx="6832440" cy="914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2343240" y="58737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.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QQ截图20140927152524"/>
          <p:cNvPicPr/>
          <p:nvPr/>
        </p:nvPicPr>
        <p:blipFill>
          <a:blip r:embed="rId1"/>
          <a:stretch/>
        </p:blipFill>
        <p:spPr>
          <a:xfrm>
            <a:off x="1619280" y="1916280"/>
            <a:ext cx="5761080" cy="204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QQ截图20140927152314"/>
          <p:cNvPicPr/>
          <p:nvPr/>
        </p:nvPicPr>
        <p:blipFill>
          <a:blip r:embed="rId2"/>
          <a:stretch/>
        </p:blipFill>
        <p:spPr>
          <a:xfrm>
            <a:off x="539640" y="981000"/>
            <a:ext cx="722520" cy="792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332000" y="112536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三条连线中，哪条最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03280" y="42894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①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403280" y="51577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②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1403280" y="59500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③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3057480" y="50817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057480" y="4221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2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057480" y="58737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629240" y="416232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点之间所有连线中，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线段最短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643280" y="545796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点之间线段的长度，叫做两点间的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距离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抠图、练一练.png"/>
          <p:cNvPicPr/>
          <p:nvPr/>
        </p:nvPicPr>
        <p:blipFill>
          <a:blip r:embed="rId1"/>
          <a:stretch/>
        </p:blipFill>
        <p:spPr>
          <a:xfrm>
            <a:off x="428760" y="836640"/>
            <a:ext cx="242892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000080" y="155088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85840" y="2500200"/>
            <a:ext cx="888984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从北京到广州的铁路长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8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从北京到广州的高速公路长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14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从北京到广州的空中航线长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从上面的数据中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68360" y="1373040"/>
            <a:ext cx="84247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测量，你知道走哪条路最近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图片3"/>
          <p:cNvPicPr/>
          <p:nvPr/>
        </p:nvPicPr>
        <p:blipFill>
          <a:blip r:embed="rId1"/>
          <a:stretch/>
        </p:blipFill>
        <p:spPr>
          <a:xfrm>
            <a:off x="723960" y="2563920"/>
            <a:ext cx="7520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00:15:50Z</dcterms:created>
  <dc:creator/>
  <dc:description/>
  <cp:keywords/>
  <dc:language>en-US</dc:language>
  <cp:lastModifiedBy/>
  <dcterms:modified xsi:type="dcterms:W3CDTF">2016-12-02T16:06:35Z</dcterms:modified>
  <cp:revision>5</cp:revision>
  <dc:subject/>
  <dc:title/>
</cp:coreProperties>
</file>