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3CA-DC30-4537-817A-2659CABD15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446F-0CBE-4FF5-A2C0-7C31C3BD72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DADF-A0F1-49CB-AFAE-B02BF8BCE4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286-04D4-4509-93CA-7BC180AFEA5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80F6-AC19-4075-88AC-E35CB8C7D7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C2EE-26E4-489A-824C-AFCA05C521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F657-AB9D-46EF-B257-488527C4E2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F66-8DFA-4D06-91A9-D9C03B8B47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253-9843-4243-9F55-14EB2BE248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04A-24F7-411F-84B2-F6BBC61DC3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A65-8B22-42BD-92E0-533C671C3B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0C4-7604-4B2A-ADE2-2773C25D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EF8-3151-43EC-BA7F-F7FD935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4C5-4AE8-47FB-9B5F-4E483312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F50-F8AF-4AFB-9B56-61B1E8C7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CC-5722-4F5E-8F43-9EB8ED75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A87-E31F-479B-B8A7-0E268AAA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F83-48EA-4FED-BE5F-F6C66984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A27-1C22-40E1-9602-38754699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42B6-3F30-4903-BA7D-187EB111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53D7-13E3-4496-8FBF-FDAAD57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CE10-1ECB-4D10-A281-E411E3C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EE0-7BFA-4511-8D6C-81FB0C0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A371-73F1-460A-9B67-8ACAECA092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6"/>
          <p:cNvGrpSpPr/>
          <p:nvPr/>
        </p:nvGrpSpPr>
        <p:grpSpPr>
          <a:xfrm>
            <a:off x="500040" y="1195560"/>
            <a:ext cx="8575560" cy="2810880"/>
            <a:chOff x="500040" y="1195560"/>
            <a:chExt cx="8575560" cy="2810880"/>
          </a:xfrm>
        </p:grpSpPr>
        <p:sp>
          <p:nvSpPr>
            <p:cNvPr id="51" name="圆角矩形 9"/>
            <p:cNvSpPr/>
            <p:nvPr/>
          </p:nvSpPr>
          <p:spPr>
            <a:xfrm>
              <a:off x="785520" y="1214280"/>
              <a:ext cx="4572000" cy="5713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"/>
            <p:cNvSpPr/>
            <p:nvPr/>
          </p:nvSpPr>
          <p:spPr>
            <a:xfrm>
              <a:off x="890280" y="1195560"/>
              <a:ext cx="43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冀教版小学数学四年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Box 4"/>
            <p:cNvSpPr/>
            <p:nvPr/>
          </p:nvSpPr>
          <p:spPr>
            <a:xfrm>
              <a:off x="500040" y="2571840"/>
              <a:ext cx="85755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计算工具的演变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c:\documents and settings\administrator\application data\360se6\User Data\temp\101002082540965.jpg"/>
          <p:cNvPicPr/>
          <p:nvPr/>
        </p:nvPicPr>
        <p:blipFill>
          <a:blip r:embed="rId1"/>
          <a:stretch/>
        </p:blipFill>
        <p:spPr>
          <a:xfrm>
            <a:off x="857160" y="1714680"/>
            <a:ext cx="2357640" cy="4598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71840" y="999720"/>
            <a:ext cx="372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 算 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429000" y="3454920"/>
            <a:ext cx="50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人们在进行一般计算时普遍使用计算器，计算器体积小，运算快，操作简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161440" y="1571760"/>
            <a:ext cx="397980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石子计数和结绳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715040" y="2708280"/>
            <a:ext cx="255780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算筹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505520" y="3860640"/>
            <a:ext cx="194796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算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57200" y="4941720"/>
            <a:ext cx="478656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计算机和计算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识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石头计数"/>
          <p:cNvPicPr/>
          <p:nvPr/>
        </p:nvPicPr>
        <p:blipFill>
          <a:blip r:embed="rId1"/>
          <a:stretch/>
        </p:blipFill>
        <p:spPr>
          <a:xfrm>
            <a:off x="785880" y="2357280"/>
            <a:ext cx="4286160" cy="2511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779280" y="1071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头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072040" y="3143160"/>
            <a:ext cx="32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石子的数量表示物体的数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结绳"/>
          <p:cNvPicPr/>
          <p:nvPr/>
        </p:nvPicPr>
        <p:blipFill>
          <a:blip r:embed="rId1"/>
          <a:stretch/>
        </p:blipFill>
        <p:spPr>
          <a:xfrm>
            <a:off x="971640" y="2349360"/>
            <a:ext cx="3600360" cy="279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760200" y="1071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绳计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118120" y="2428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原理和石子计数类似，以在绳子上打结的个数来表示物体的数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6360" y="1071360"/>
            <a:ext cx="2727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   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算筹1"/>
          <p:cNvPicPr/>
          <p:nvPr/>
        </p:nvPicPr>
        <p:blipFill>
          <a:blip r:embed="rId1"/>
          <a:stretch/>
        </p:blipFill>
        <p:spPr>
          <a:xfrm>
            <a:off x="4905360" y="198900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85840" y="2000160"/>
            <a:ext cx="46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算筹是中国古代的计算工具，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多年前的春秋战国时期就已经普遍使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786120" y="4149720"/>
            <a:ext cx="503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树枝或竹条来表示数字。如：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用一根枝条来表示，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用两根枝条来表示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……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根枝条来表示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tool2"/>
          <p:cNvPicPr/>
          <p:nvPr/>
        </p:nvPicPr>
        <p:blipFill>
          <a:blip r:embed="rId2"/>
          <a:stretch/>
        </p:blipFill>
        <p:spPr>
          <a:xfrm>
            <a:off x="357120" y="4467240"/>
            <a:ext cx="33116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028960" y="2349360"/>
            <a:ext cx="257040" cy="390600"/>
            <a:chOff x="2028960" y="2349360"/>
            <a:chExt cx="257040" cy="390600"/>
          </a:xfrm>
        </p:grpSpPr>
        <p:sp>
          <p:nvSpPr>
            <p:cNvPr id="75" name="Line 4"/>
            <p:cNvSpPr/>
            <p:nvPr/>
          </p:nvSpPr>
          <p:spPr>
            <a:xfrm>
              <a:off x="202896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>
              <a:off x="215676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"/>
            <p:cNvSpPr/>
            <p:nvPr/>
          </p:nvSpPr>
          <p:spPr>
            <a:xfrm>
              <a:off x="228600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7"/>
          <p:cNvGrpSpPr/>
          <p:nvPr/>
        </p:nvGrpSpPr>
        <p:grpSpPr>
          <a:xfrm>
            <a:off x="1258920" y="2421000"/>
            <a:ext cx="576360" cy="144360"/>
            <a:chOff x="1258920" y="2421000"/>
            <a:chExt cx="576360" cy="144360"/>
          </a:xfrm>
        </p:grpSpPr>
        <p:sp>
          <p:nvSpPr>
            <p:cNvPr id="79" name="Line 8"/>
            <p:cNvSpPr/>
            <p:nvPr/>
          </p:nvSpPr>
          <p:spPr>
            <a:xfrm>
              <a:off x="1258920" y="242100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>
              <a:off x="1258920" y="256536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3643200" y="2270160"/>
            <a:ext cx="642960" cy="344520"/>
            <a:chOff x="3643200" y="2270160"/>
            <a:chExt cx="642960" cy="344520"/>
          </a:xfrm>
        </p:grpSpPr>
        <p:sp>
          <p:nvSpPr>
            <p:cNvPr id="82" name="Line 11"/>
            <p:cNvSpPr/>
            <p:nvPr/>
          </p:nvSpPr>
          <p:spPr>
            <a:xfrm>
              <a:off x="3643200" y="235620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2"/>
            <p:cNvSpPr/>
            <p:nvPr/>
          </p:nvSpPr>
          <p:spPr>
            <a:xfrm>
              <a:off x="3643200" y="244188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3"/>
            <p:cNvSpPr/>
            <p:nvPr/>
          </p:nvSpPr>
          <p:spPr>
            <a:xfrm>
              <a:off x="3643200" y="22701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4"/>
            <p:cNvSpPr/>
            <p:nvPr/>
          </p:nvSpPr>
          <p:spPr>
            <a:xfrm>
              <a:off x="3643200" y="252828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3643200" y="261468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6"/>
          <p:cNvGrpSpPr/>
          <p:nvPr/>
        </p:nvGrpSpPr>
        <p:grpSpPr>
          <a:xfrm>
            <a:off x="4363920" y="2270160"/>
            <a:ext cx="642960" cy="387360"/>
            <a:chOff x="4363920" y="2270160"/>
            <a:chExt cx="642960" cy="387360"/>
          </a:xfrm>
        </p:grpSpPr>
        <p:sp>
          <p:nvSpPr>
            <p:cNvPr id="88" name="Line 17"/>
            <p:cNvSpPr/>
            <p:nvPr/>
          </p:nvSpPr>
          <p:spPr>
            <a:xfrm>
              <a:off x="4685400" y="227016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4363920" y="22701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9"/>
          <p:cNvGrpSpPr/>
          <p:nvPr/>
        </p:nvGrpSpPr>
        <p:grpSpPr>
          <a:xfrm>
            <a:off x="6588000" y="2349360"/>
            <a:ext cx="642960" cy="390600"/>
            <a:chOff x="6588000" y="2349360"/>
            <a:chExt cx="642960" cy="390600"/>
          </a:xfrm>
        </p:grpSpPr>
        <p:sp>
          <p:nvSpPr>
            <p:cNvPr id="91" name="Line 20"/>
            <p:cNvSpPr/>
            <p:nvPr/>
          </p:nvSpPr>
          <p:spPr>
            <a:xfrm>
              <a:off x="6588000" y="234936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671688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>
              <a:off x="684576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>
              <a:off x="697320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4"/>
            <p:cNvSpPr/>
            <p:nvPr/>
          </p:nvSpPr>
          <p:spPr>
            <a:xfrm>
              <a:off x="7102080" y="23493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5867280" y="2133720"/>
            <a:ext cx="642960" cy="558720"/>
            <a:chOff x="5867280" y="2133720"/>
            <a:chExt cx="642960" cy="558720"/>
          </a:xfrm>
        </p:grpSpPr>
        <p:sp>
          <p:nvSpPr>
            <p:cNvPr id="97" name="Line 26"/>
            <p:cNvSpPr/>
            <p:nvPr/>
          </p:nvSpPr>
          <p:spPr>
            <a:xfrm>
              <a:off x="5867280" y="252072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7"/>
            <p:cNvSpPr/>
            <p:nvPr/>
          </p:nvSpPr>
          <p:spPr>
            <a:xfrm>
              <a:off x="5867280" y="260604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8"/>
            <p:cNvSpPr/>
            <p:nvPr/>
          </p:nvSpPr>
          <p:spPr>
            <a:xfrm>
              <a:off x="5867280" y="2692440"/>
              <a:ext cx="642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9"/>
            <p:cNvSpPr/>
            <p:nvPr/>
          </p:nvSpPr>
          <p:spPr>
            <a:xfrm>
              <a:off x="6188760" y="2133720"/>
              <a:ext cx="0" cy="38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0"/>
          <p:cNvSpPr/>
          <p:nvPr/>
        </p:nvSpPr>
        <p:spPr>
          <a:xfrm>
            <a:off x="1408320" y="1484280"/>
            <a:ext cx="109512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3551400" y="1477800"/>
            <a:ext cx="140004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 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2"/>
          <p:cNvSpPr/>
          <p:nvPr/>
        </p:nvSpPr>
        <p:spPr>
          <a:xfrm>
            <a:off x="5920920" y="1484280"/>
            <a:ext cx="140004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 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1042560" y="3292560"/>
            <a:ext cx="2100960" cy="64260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  2 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3419280" y="3292560"/>
            <a:ext cx="2100960" cy="64260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 8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5"/>
          <p:cNvSpPr/>
          <p:nvPr/>
        </p:nvSpPr>
        <p:spPr>
          <a:xfrm>
            <a:off x="5929200" y="3284640"/>
            <a:ext cx="1919520" cy="11912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  0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6"/>
          <p:cNvGrpSpPr/>
          <p:nvPr/>
        </p:nvGrpSpPr>
        <p:grpSpPr>
          <a:xfrm>
            <a:off x="4210200" y="3940200"/>
            <a:ext cx="576000" cy="558720"/>
            <a:chOff x="4210200" y="3940200"/>
            <a:chExt cx="576000" cy="558720"/>
          </a:xfrm>
        </p:grpSpPr>
        <p:sp>
          <p:nvSpPr>
            <p:cNvPr id="108" name="Line 37"/>
            <p:cNvSpPr/>
            <p:nvPr/>
          </p:nvSpPr>
          <p:spPr>
            <a:xfrm>
              <a:off x="4467240" y="3940200"/>
              <a:ext cx="0" cy="38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8"/>
            <p:cNvSpPr/>
            <p:nvPr/>
          </p:nvSpPr>
          <p:spPr>
            <a:xfrm>
              <a:off x="4210200" y="449892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9"/>
            <p:cNvSpPr/>
            <p:nvPr/>
          </p:nvSpPr>
          <p:spPr>
            <a:xfrm>
              <a:off x="4210200" y="441252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0"/>
            <p:cNvSpPr/>
            <p:nvPr/>
          </p:nvSpPr>
          <p:spPr>
            <a:xfrm>
              <a:off x="4210200" y="432684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1"/>
          <p:cNvGrpSpPr/>
          <p:nvPr/>
        </p:nvGrpSpPr>
        <p:grpSpPr>
          <a:xfrm>
            <a:off x="4781520" y="4084560"/>
            <a:ext cx="576360" cy="387360"/>
            <a:chOff x="4781520" y="4084560"/>
            <a:chExt cx="576360" cy="387360"/>
          </a:xfrm>
        </p:grpSpPr>
        <p:sp>
          <p:nvSpPr>
            <p:cNvPr id="113" name="Line 42"/>
            <p:cNvSpPr/>
            <p:nvPr/>
          </p:nvSpPr>
          <p:spPr>
            <a:xfrm>
              <a:off x="5038560" y="408456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43"/>
            <p:cNvSpPr/>
            <p:nvPr/>
          </p:nvSpPr>
          <p:spPr>
            <a:xfrm>
              <a:off x="4781520" y="408456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44"/>
          <p:cNvGrpSpPr/>
          <p:nvPr/>
        </p:nvGrpSpPr>
        <p:grpSpPr>
          <a:xfrm>
            <a:off x="3635280" y="4084560"/>
            <a:ext cx="257400" cy="390600"/>
            <a:chOff x="3635280" y="4084560"/>
            <a:chExt cx="257400" cy="390600"/>
          </a:xfrm>
        </p:grpSpPr>
        <p:sp>
          <p:nvSpPr>
            <p:cNvPr id="116" name="Line 45"/>
            <p:cNvSpPr/>
            <p:nvPr/>
          </p:nvSpPr>
          <p:spPr>
            <a:xfrm>
              <a:off x="3635280" y="40845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>
              <a:off x="3763080" y="40845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3892680" y="408456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48"/>
          <p:cNvGrpSpPr/>
          <p:nvPr/>
        </p:nvGrpSpPr>
        <p:grpSpPr>
          <a:xfrm>
            <a:off x="6073920" y="4005360"/>
            <a:ext cx="193680" cy="431640"/>
            <a:chOff x="6073920" y="4005360"/>
            <a:chExt cx="193680" cy="431640"/>
          </a:xfrm>
        </p:grpSpPr>
        <p:sp>
          <p:nvSpPr>
            <p:cNvPr id="120" name="Line 49"/>
            <p:cNvSpPr/>
            <p:nvPr/>
          </p:nvSpPr>
          <p:spPr>
            <a:xfrm>
              <a:off x="6073920" y="40053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0"/>
            <p:cNvSpPr/>
            <p:nvPr/>
          </p:nvSpPr>
          <p:spPr>
            <a:xfrm>
              <a:off x="6267600" y="40053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1"/>
          <p:cNvGrpSpPr/>
          <p:nvPr/>
        </p:nvGrpSpPr>
        <p:grpSpPr>
          <a:xfrm>
            <a:off x="7202520" y="4005360"/>
            <a:ext cx="576360" cy="431640"/>
            <a:chOff x="7202520" y="4005360"/>
            <a:chExt cx="576360" cy="431640"/>
          </a:xfrm>
        </p:grpSpPr>
        <p:sp>
          <p:nvSpPr>
            <p:cNvPr id="123" name="Line 52"/>
            <p:cNvSpPr/>
            <p:nvPr/>
          </p:nvSpPr>
          <p:spPr>
            <a:xfrm>
              <a:off x="7394760" y="40053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3"/>
            <p:cNvSpPr/>
            <p:nvPr/>
          </p:nvSpPr>
          <p:spPr>
            <a:xfrm>
              <a:off x="7587000" y="400536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4"/>
            <p:cNvSpPr/>
            <p:nvPr/>
          </p:nvSpPr>
          <p:spPr>
            <a:xfrm>
              <a:off x="7202520" y="400536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55"/>
          <p:cNvGrpSpPr/>
          <p:nvPr/>
        </p:nvGrpSpPr>
        <p:grpSpPr>
          <a:xfrm>
            <a:off x="2546280" y="4013280"/>
            <a:ext cx="382680" cy="387360"/>
            <a:chOff x="2546280" y="4013280"/>
            <a:chExt cx="382680" cy="387360"/>
          </a:xfrm>
        </p:grpSpPr>
        <p:sp>
          <p:nvSpPr>
            <p:cNvPr id="127" name="Line 56"/>
            <p:cNvSpPr/>
            <p:nvPr/>
          </p:nvSpPr>
          <p:spPr>
            <a:xfrm>
              <a:off x="2800800" y="401328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57"/>
            <p:cNvSpPr/>
            <p:nvPr/>
          </p:nvSpPr>
          <p:spPr>
            <a:xfrm>
              <a:off x="2674080" y="401328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58"/>
            <p:cNvSpPr/>
            <p:nvPr/>
          </p:nvSpPr>
          <p:spPr>
            <a:xfrm>
              <a:off x="2546280" y="401328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59"/>
            <p:cNvSpPr/>
            <p:nvPr/>
          </p:nvSpPr>
          <p:spPr>
            <a:xfrm>
              <a:off x="2928960" y="4013280"/>
              <a:ext cx="0" cy="38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0"/>
          <p:cNvGrpSpPr/>
          <p:nvPr/>
        </p:nvGrpSpPr>
        <p:grpSpPr>
          <a:xfrm>
            <a:off x="1785960" y="4229280"/>
            <a:ext cx="503280" cy="72720"/>
            <a:chOff x="1785960" y="4229280"/>
            <a:chExt cx="503280" cy="72720"/>
          </a:xfrm>
        </p:grpSpPr>
        <p:sp>
          <p:nvSpPr>
            <p:cNvPr id="132" name="Line 61"/>
            <p:cNvSpPr/>
            <p:nvPr/>
          </p:nvSpPr>
          <p:spPr>
            <a:xfrm>
              <a:off x="1785960" y="4229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2"/>
            <p:cNvSpPr/>
            <p:nvPr/>
          </p:nvSpPr>
          <p:spPr>
            <a:xfrm>
              <a:off x="1785960" y="43020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Line 63"/>
          <p:cNvSpPr/>
          <p:nvPr/>
        </p:nvSpPr>
        <p:spPr>
          <a:xfrm>
            <a:off x="1332000" y="4013280"/>
            <a:ext cx="3240" cy="387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4"/>
          <p:cNvSpPr/>
          <p:nvPr/>
        </p:nvSpPr>
        <p:spPr>
          <a:xfrm>
            <a:off x="3031560" y="5506920"/>
            <a:ext cx="3533400" cy="70344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78   73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5" descr="疑问"/>
          <p:cNvPicPr/>
          <p:nvPr/>
        </p:nvPicPr>
        <p:blipFill>
          <a:blip r:embed="rId1"/>
          <a:stretch/>
        </p:blipFill>
        <p:spPr>
          <a:xfrm>
            <a:off x="1500120" y="4786200"/>
            <a:ext cx="13413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28760" y="249300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后来，人们用小棍把珠子穿起来当做计算工具。这种计算工具慢慢改进成现在的算盘。用算盘来计算称为珠算。珠算在我国，至今已有六百多年的历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71840" y="999720"/>
            <a:ext cx="372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盘的由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908000" y="4016520"/>
            <a:ext cx="48294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00240" y="1928880"/>
            <a:ext cx="3429000" cy="2017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643040" y="5283360"/>
            <a:ext cx="4791240" cy="52056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于算盘，你还知道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720360" y="2349360"/>
            <a:ext cx="1643760" cy="581400"/>
          </a:xfrm>
          <a:prstGeom prst="rect">
            <a:avLst/>
          </a:prstGeom>
          <a:solidFill>
            <a:srgbClr val="eef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盘计数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1593720" y="6004080"/>
            <a:ext cx="5693040" cy="520560"/>
          </a:xfrm>
          <a:prstGeom prst="rect">
            <a:avLst/>
          </a:prstGeom>
          <a:solidFill>
            <a:srgbClr val="ee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用算盘计算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+2+3+……+1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17"/>
          <p:cNvGrpSpPr/>
          <p:nvPr/>
        </p:nvGrpSpPr>
        <p:grpSpPr>
          <a:xfrm>
            <a:off x="5243040" y="1000080"/>
            <a:ext cx="1759680" cy="1319400"/>
            <a:chOff x="5243040" y="1000080"/>
            <a:chExt cx="1759680" cy="1319400"/>
          </a:xfrm>
        </p:grpSpPr>
        <p:sp>
          <p:nvSpPr>
            <p:cNvPr id="147" name="Line 3"/>
            <p:cNvSpPr/>
            <p:nvPr/>
          </p:nvSpPr>
          <p:spPr>
            <a:xfrm>
              <a:off x="6133680" y="1557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6"/>
            <p:cNvSpPr/>
            <p:nvPr/>
          </p:nvSpPr>
          <p:spPr>
            <a:xfrm>
              <a:off x="5243040" y="100008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每颗珠子代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0"/>
          <p:cNvGrpSpPr/>
          <p:nvPr/>
        </p:nvGrpSpPr>
        <p:grpSpPr>
          <a:xfrm>
            <a:off x="4314240" y="3500280"/>
            <a:ext cx="1759680" cy="1235520"/>
            <a:chOff x="4314240" y="3500280"/>
            <a:chExt cx="1759680" cy="1235520"/>
          </a:xfrm>
        </p:grpSpPr>
        <p:sp>
          <p:nvSpPr>
            <p:cNvPr id="150" name="矩形 18"/>
            <p:cNvSpPr/>
            <p:nvPr/>
          </p:nvSpPr>
          <p:spPr>
            <a:xfrm>
              <a:off x="4314240" y="421524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每颗珠子代表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4"/>
            <p:cNvSpPr/>
            <p:nvPr/>
          </p:nvSpPr>
          <p:spPr>
            <a:xfrm flipV="1">
              <a:off x="5203800" y="3500280"/>
              <a:ext cx="0" cy="838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65" descr="疑问"/>
          <p:cNvPicPr/>
          <p:nvPr/>
        </p:nvPicPr>
        <p:blipFill>
          <a:blip r:embed="rId2"/>
          <a:stretch/>
        </p:blipFill>
        <p:spPr>
          <a:xfrm>
            <a:off x="142920" y="4071960"/>
            <a:ext cx="14731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286000" y="1582560"/>
            <a:ext cx="4429080" cy="3203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396720" y="5383800"/>
            <a:ext cx="85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4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美国宾夕法尼亚大学经过几年的艰苦努力，研制出世界上第一台电子计算机。随着科学技术的进步，计算机不断更新。目前，速度快的计算机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钟能计算几百万亿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71840" y="999720"/>
            <a:ext cx="3727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 算 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知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1:35:09Z</dcterms:created>
  <dc:creator/>
  <dc:description/>
  <cp:keywords/>
  <dc:language>en-US</dc:language>
  <cp:lastModifiedBy/>
  <dcterms:modified xsi:type="dcterms:W3CDTF">2016-12-02T16:16:58Z</dcterms:modified>
  <cp:revision>5</cp:revision>
  <dc:subject/>
  <dc:title/>
</cp:coreProperties>
</file>